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D5B-80D3-4C1D-A350-E96DEA85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5315-5C18-4208-A7D7-6ABC27A0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94D-036F-4AA8-BC22-5D5D6136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AB2-2A4C-4C02-AE2C-D8EB345C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968-101E-4D49-987F-F24938EA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BBE-8BFD-464A-A165-CA998156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46D-2C9E-4822-BF97-092BB45B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52B-DDCE-4AF5-B75A-8F8D7476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CEB-BFA3-4040-B3F3-5D0E9021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202-0DCA-4F69-B57E-821FF9C4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706-4E00-40AD-B506-D8CAA9CB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F49-3D36-465B-94C1-6CD23298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C793-B9BE-492C-B295-53DE1337B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Презентация на тему «Неопределённая форма глагола» 3 класс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Хуанова К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8520" y="2120760"/>
            <a:ext cx="3200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64160" y="2119320"/>
            <a:ext cx="320040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3168720" cy="359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240360" cy="3600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ая соединительная линия 9"/>
          <p:cNvSpPr/>
          <p:nvPr/>
        </p:nvSpPr>
        <p:spPr>
          <a:xfrm flipH="1">
            <a:off x="4932360" y="1052640"/>
            <a:ext cx="216000" cy="2156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201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оявился –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появиться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явился -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явиться 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тгадайте -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отгада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3889440" cy="475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983120" y="692280"/>
            <a:ext cx="3260880" cy="2544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859280" y="3500280"/>
            <a:ext cx="315108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040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данных имен существительных образуйте глаголы  неопределенной форм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х, помощь, свет, свист, плата, письмо, смотр, стрельба, просьба, гово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мешить, помогать, светить, платить, писать, смотреть, стрелять, просить, говор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3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пиши слова, отвечающие на вопрос «Что делать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87280" y="2133360"/>
            <a:ext cx="670104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пт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дерев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соба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раст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гряд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 лишний глагол в каждой группе. Объяс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Играть,гулять,думал,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читает,пишет,считает,д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ривезти,привести,отпустил,вы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рассказал,поссорил,расцвести,расса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сегодня 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мн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рудня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8,стр.1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272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нные словосочетания замените одним слово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99640" y="2852640"/>
            <a:ext cx="741708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Оказывать помощь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Давать совет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Издавать крик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ести службу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900000" y="1413000"/>
            <a:ext cx="73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казывать помощь -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омога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авать совет -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советова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здавать крик -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крича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ести службу-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служи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88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чь вести-не лапти плест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5450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определенная форма глаго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2421000"/>
            <a:ext cx="36007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1640" y="2421000"/>
            <a:ext cx="38876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Что сделать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7"/>
          <p:cNvCxnSpPr/>
          <p:nvPr/>
        </p:nvCxnSpPr>
        <p:spPr>
          <a:xfrm flipH="1">
            <a:off x="2987280" y="2060640"/>
            <a:ext cx="721440" cy="505440"/>
          </a:xfrm>
          <a:prstGeom prst="straightConnector1">
            <a:avLst/>
          </a:prstGeom>
          <a:ln w="93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52" name="Прямая со стрелкой 19"/>
          <p:cNvCxnSpPr/>
          <p:nvPr/>
        </p:nvCxnSpPr>
        <p:spPr>
          <a:xfrm>
            <a:off x="4932000" y="2060640"/>
            <a:ext cx="577080" cy="505440"/>
          </a:xfrm>
          <a:prstGeom prst="straightConnector1">
            <a:avLst/>
          </a:prstGeom>
          <a:ln w="93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иши глаголы  в неопределённой  форм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16000" y="2565360"/>
            <a:ext cx="712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ишут, говорил, наказывать, смотреть, появляться, плакать, выживать, поест, пьют, охран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907920"/>
            <a:ext cx="712944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казывать, смотреть, появляться, плакать, выжи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712944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вьте оставшиеся глаголы в неопределенную форм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ишут –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пис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говорил –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говор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оест –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пое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охраняет -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охран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3454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з камней он появился,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Зёрнами на свет явился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Жёлтый, красный, белый,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Или светло-серый.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То морской он, то – речной.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Отгадайте, что  эт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9T10:39:28Z</dcterms:created>
  <dc:creator>Админ</dc:creator>
  <dc:description/>
  <dc:language>en-US</dc:language>
  <cp:lastModifiedBy>Админ</cp:lastModifiedBy>
  <dcterms:modified xsi:type="dcterms:W3CDTF">2021-04-19T10:57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