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177-B91D-4C35-8F5E-428E52EB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CFE-1529-4AF7-B792-7E1CFCE3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B24-1BCA-43CC-9889-D5AFE591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D50-B821-4618-A46E-DDAFA7A1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9B0-E9A8-4BF1-9524-7680934C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2CB4-93D4-4DE3-B591-E836B117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228D-CB1C-4EAD-9230-416C6327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9A9E-0328-4DBB-A3CF-D7EC9006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9138-0830-4B91-8CE9-6416348F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A765-3C9F-479E-930B-10990461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413-3E0F-4E16-806B-D455543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756-7441-4C06-AB09-279CC292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28D-798E-46C4-A470-E456D9A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28A-F6A1-4392-B63F-BBF676E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CD94-E1E7-4E6E-BE47-1CA750DD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E940-8884-423C-B3B4-83283E34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329B-85FD-47BA-8BDE-7AA82BB4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4895-5246-4262-9191-D72D8819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57A6-D446-4A6F-A178-8EFE250C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75AA-09F6-4C8F-B444-100A8C84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8149-E5FB-4291-9812-4982BD2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E284-DD36-494C-95EF-99C31D82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A54-4500-40D6-B12C-84FF383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20A6-C1B8-44C4-83AA-300EB3C0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3D86-129B-44E9-82A7-4808274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D6A8-E489-445C-83DF-678EFAB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B734-F90B-420C-8221-FCF3B66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162C-DDFA-4A2F-88EC-470CBCA7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B371-5C43-488A-8B20-9EC8ADE6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413F-54CF-4C97-8579-A177BFCC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9448-6161-473C-B946-F2EF7053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2B93-552C-474F-A6F7-82601296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3004-F79E-47D5-8E44-C856EA88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D02-B144-45C7-8DAD-E1F548D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7DFC-0467-46B5-9555-E5B6764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B41C-2E05-491E-8E65-32015E6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BA95-4479-440E-9856-94003DF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7993-8BAC-41B7-A70E-3FFBB3F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5664-E345-447F-A656-1FDE5B7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442D-0E9D-4DDA-BED0-C9BF9412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978C-0FF3-4C34-93C8-EC1FA189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2D36-B2DD-4114-8982-A9AC416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8E25-9A1E-4E69-A256-A5024D88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FBBC-95ED-4CD4-8FD8-FAEC3D75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AF7-B7B5-44FA-931E-9B60C1B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2213-DF3F-4968-B031-DA1DA6A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A362-C408-485A-BFC8-E5E45A8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4667-C44F-41E8-9F9A-D8AAA92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868D-B2DE-486A-8C2D-E9B4044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FC62-6271-4926-A735-E4AB7AE6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7CD5-351E-464C-B71D-F58F648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FB019-8EED-4814-8CE4-CB0F7A5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DBA0-90BF-4A8A-9533-5C466CC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37CB5-AC7B-4156-B65B-D81467C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BD941-D526-4910-A7F9-C7F3B49B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C0D-F034-45C9-A218-7743E608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F845-3657-4F79-9658-E5F0551E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2AC-14B8-4FC3-AEDA-B24FF1D0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BD2-6814-49F7-974C-ADCD17F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B89-5ECE-4542-B44A-4571F1E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5D0-EA91-4974-BFD3-3C3951448D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CCC9-5CB0-4F86-A28B-7505EC02F5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EA7A-6380-4415-9706-97EF57E40E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731-8E00-4108-BF89-05D8F318C8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A488-7AE5-43D5-81BF-D41197FA1F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714320"/>
            <a:ext cx="777240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Bookman Old Style"/>
              </a:rPr>
              <a:t>Стимулирование игрового интереса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Bookman Old Style"/>
              </a:rPr>
              <a:t>как условие и фактор развития дошкольника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Блок-схема: перфолента 3"/>
          <p:cNvSpPr/>
          <p:nvPr/>
        </p:nvSpPr>
        <p:spPr>
          <a:xfrm>
            <a:off x="1928880" y="428760"/>
            <a:ext cx="6143400" cy="12142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853"/>
                </a:solidFill>
                <a:latin typeface="Corbel"/>
              </a:rPr>
              <a:t>Воспитание целеустремленност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853"/>
                </a:solidFill>
                <a:latin typeface="Corbel"/>
              </a:rPr>
              <a:t>и актив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1500120" y="214308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каз воспитателем разнообразных действий с игрушками в соответствии с той или иной роль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ведение главных и второстепенных ро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блюдение за играми активных, инициативных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ение планированию иг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се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ат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готовление и обыгрывание атрибутов к С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жиссерские иг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нализ и поощ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32-конечная звезда 4"/>
          <p:cNvSpPr/>
          <p:nvPr/>
        </p:nvSpPr>
        <p:spPr>
          <a:xfrm>
            <a:off x="2500200" y="428760"/>
            <a:ext cx="4643640" cy="1500120"/>
          </a:xfrm>
          <a:custGeom>
            <a:avLst/>
            <a:gdLst>
              <a:gd name="textAreaLeft" fmla="*/ 1059840 w 4643640"/>
              <a:gd name="textAreaRight" fmla="*/ 3583800 w 4643640"/>
              <a:gd name="textAreaTop" fmla="*/ 342360 h 1500120"/>
              <a:gd name="textAreaBottom" fmla="*/ 11577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58d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Положительные эмо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4-конечная звезда 5"/>
          <p:cNvSpPr/>
          <p:nvPr/>
        </p:nvSpPr>
        <p:spPr>
          <a:xfrm>
            <a:off x="1500120" y="242892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1928880" y="235728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каз воспитателем новых способов игровых действий с одним и тем же предметом, создание многообразных игровых ситуаци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4-конечная звезда 8"/>
          <p:cNvSpPr/>
          <p:nvPr/>
        </p:nvSpPr>
        <p:spPr>
          <a:xfrm>
            <a:off x="1928880" y="321480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4-конечная звезда 9"/>
          <p:cNvSpPr/>
          <p:nvPr/>
        </p:nvSpPr>
        <p:spPr>
          <a:xfrm>
            <a:off x="1500120" y="400068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4-конечная звезда 11"/>
          <p:cNvSpPr/>
          <p:nvPr/>
        </p:nvSpPr>
        <p:spPr>
          <a:xfrm>
            <a:off x="1928880" y="478620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4-конечная звезда 12"/>
          <p:cNvSpPr/>
          <p:nvPr/>
        </p:nvSpPr>
        <p:spPr>
          <a:xfrm>
            <a:off x="1500120" y="564372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2500200" y="314316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бота с сюжетом (выбор тем, театрализация, обыгрывание, реплик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22147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ение художественной литературы, введение в игру образных игруше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TextBox 16"/>
          <p:cNvSpPr/>
          <p:nvPr/>
        </p:nvSpPr>
        <p:spPr>
          <a:xfrm>
            <a:off x="2500200" y="485784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олевое участие, рассказывание и обыгрывание сказо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2214720" y="550080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бор игр с разными сторонами эмоционального опыта, с обязательными эмоциональными контактами между участникам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Лента лицом вниз 3"/>
          <p:cNvSpPr/>
          <p:nvPr/>
        </p:nvSpPr>
        <p:spPr>
          <a:xfrm>
            <a:off x="1571760" y="500040"/>
            <a:ext cx="7286400" cy="928800"/>
          </a:xfrm>
          <a:custGeom>
            <a:avLst/>
            <a:gdLst>
              <a:gd name="textAreaLeft" fmla="*/ 1821600 w 7286400"/>
              <a:gd name="textAreaRight" fmla="*/ 5464800 w 7286400"/>
              <a:gd name="textAreaTop" fmla="*/ 15480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70c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Руководство поведением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714680" y="2071800"/>
            <a:ext cx="72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вместное обсуждение воспитателя с детьми иг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ование предметов-заменит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учение игровых интере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ение детей приемам реализации игрового замыс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блюдение за играми других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язательное конкретное обсуждение конфликтных ситуаций в иг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356840" y="5713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гра сама по себе универсальный стимулят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вное, в поддержании игрового интереса – чуткость, наблюдательность педагога, проявление творческого подхода в организации игры, умение заинтересовать ребенка игровым сюж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5" descr=""/>
          <p:cNvPicPr/>
          <p:nvPr/>
        </p:nvPicPr>
        <p:blipFill>
          <a:blip r:embed="rId1"/>
          <a:stretch/>
        </p:blipFill>
        <p:spPr>
          <a:xfrm>
            <a:off x="853920" y="291960"/>
            <a:ext cx="6888240" cy="5218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PH02058U"/>
          <p:cNvPicPr/>
          <p:nvPr/>
        </p:nvPicPr>
        <p:blipFill>
          <a:blip r:embed="rId2"/>
          <a:stretch/>
        </p:blipFill>
        <p:spPr>
          <a:xfrm rot="1167000">
            <a:off x="6575400" y="4254480"/>
            <a:ext cx="2008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43000" y="642960"/>
            <a:ext cx="7500960" cy="59292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нцепция дошкольного воспитания определяет игру как самоценную деятельность, дающую дошкольнику свободу выбора, возможность реализовать себя, достичь состояния эмоционального комфорта, причастности к детскому обществу, получить опыт взаимодействия. Именно в игре происходит становление ребенка как личности, его психическое развитие, формирование учебной и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развития игровой деятельности необходимы определенные условия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 rot="21015600">
            <a:off x="2293560" y="345600"/>
            <a:ext cx="2562120" cy="1149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есто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Прямоугольник 4"/>
          <p:cNvSpPr/>
          <p:nvPr/>
        </p:nvSpPr>
        <p:spPr>
          <a:xfrm rot="660600">
            <a:off x="1226880" y="2246400"/>
            <a:ext cx="1928880" cy="107136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Время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5"/>
          <p:cNvSpPr/>
          <p:nvPr/>
        </p:nvSpPr>
        <p:spPr>
          <a:xfrm rot="648600">
            <a:off x="1423800" y="4416120"/>
            <a:ext cx="3000240" cy="1000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уководств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7-конечная звезда 6"/>
          <p:cNvSpPr/>
          <p:nvPr/>
        </p:nvSpPr>
        <p:spPr>
          <a:xfrm>
            <a:off x="3143160" y="1428840"/>
            <a:ext cx="3786120" cy="2857320"/>
          </a:xfrm>
          <a:prstGeom prst="pi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ловия для развития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Прямоугольник 8"/>
          <p:cNvSpPr/>
          <p:nvPr/>
        </p:nvSpPr>
        <p:spPr>
          <a:xfrm rot="20887200">
            <a:off x="5676840" y="4186080"/>
            <a:ext cx="2714760" cy="20005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Единство требований детского сада и семь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Прямоугольник 9"/>
          <p:cNvSpPr/>
          <p:nvPr/>
        </p:nvSpPr>
        <p:spPr>
          <a:xfrm rot="20879400">
            <a:off x="6627600" y="194760"/>
            <a:ext cx="2098440" cy="2129040"/>
          </a:xfrm>
          <a:prstGeom prst="rect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rbel"/>
              </a:rPr>
              <a:t>Предметно-развивающая игровая сре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Овальная выноска 4"/>
          <p:cNvSpPr/>
          <p:nvPr/>
        </p:nvSpPr>
        <p:spPr>
          <a:xfrm>
            <a:off x="1785960" y="500040"/>
            <a:ext cx="2286000" cy="1643040"/>
          </a:xfrm>
          <a:prstGeom prst="wedgeEllipseCallout">
            <a:avLst>
              <a:gd name="adj1" fmla="val -48893"/>
              <a:gd name="adj2" fmla="val 7163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rbel"/>
              </a:rPr>
              <a:t>МЕС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Овальная выноска 5"/>
          <p:cNvSpPr/>
          <p:nvPr/>
        </p:nvSpPr>
        <p:spPr>
          <a:xfrm>
            <a:off x="5429160" y="500040"/>
            <a:ext cx="2286000" cy="1643040"/>
          </a:xfrm>
          <a:prstGeom prst="wedgeEllipseCallout">
            <a:avLst>
              <a:gd name="adj1" fmla="val 50810"/>
              <a:gd name="adj2" fmla="val 66652"/>
            </a:avLst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Блок-схема: перфолента 6"/>
          <p:cNvSpPr/>
          <p:nvPr/>
        </p:nvSpPr>
        <p:spPr>
          <a:xfrm>
            <a:off x="4857840" y="2500200"/>
            <a:ext cx="3000240" cy="121464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Специально отведенное в режиме д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Блок-схема: перфолента 7"/>
          <p:cNvSpPr/>
          <p:nvPr/>
        </p:nvSpPr>
        <p:spPr>
          <a:xfrm>
            <a:off x="5072040" y="3857760"/>
            <a:ext cx="3000240" cy="121428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о всех видах деятельности в течение д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Блок-схема: перфолента 8"/>
          <p:cNvSpPr/>
          <p:nvPr/>
        </p:nvSpPr>
        <p:spPr>
          <a:xfrm>
            <a:off x="5286240" y="5143680"/>
            <a:ext cx="3286440" cy="121428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о всех формах организации деятельности детей в течение д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Вертикальный свиток 9"/>
          <p:cNvSpPr/>
          <p:nvPr/>
        </p:nvSpPr>
        <p:spPr>
          <a:xfrm>
            <a:off x="1143000" y="2571840"/>
            <a:ext cx="2000160" cy="1785960"/>
          </a:xfrm>
          <a:prstGeom prst="vertic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Групповое помещ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Вертикальный свиток 10"/>
          <p:cNvSpPr/>
          <p:nvPr/>
        </p:nvSpPr>
        <p:spPr>
          <a:xfrm>
            <a:off x="2786040" y="3000240"/>
            <a:ext cx="1928880" cy="1785960"/>
          </a:xfrm>
          <a:prstGeom prst="vertic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Другие помещения ДО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Вертикальный свиток 11"/>
          <p:cNvSpPr/>
          <p:nvPr/>
        </p:nvSpPr>
        <p:spPr>
          <a:xfrm>
            <a:off x="1214280" y="4857840"/>
            <a:ext cx="1857600" cy="1785960"/>
          </a:xfrm>
          <a:prstGeom prst="vertic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Участок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уководство игровой деятельность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848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нирование игровой дея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ающи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изирующее общение со взросл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я комплексного руковод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огащение опыта, впечатл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менение игровой сре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Принципы организации игровой деятельности в семье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6" name="Схема 3" descr=""/>
          <p:cNvPicPr/>
          <p:nvPr/>
        </p:nvPicPr>
        <p:blipFill>
          <a:blip r:embed="rId1"/>
          <a:stretch/>
        </p:blipFill>
        <p:spPr>
          <a:xfrm>
            <a:off x="1268280" y="1352520"/>
            <a:ext cx="7467840" cy="3584520"/>
          </a:xfrm>
          <a:prstGeom prst="rect">
            <a:avLst/>
          </a:prstGeom>
          <a:ln w="0">
            <a:noFill/>
          </a:ln>
        </p:spPr>
      </p:pic>
      <p:sp>
        <p:nvSpPr>
          <p:cNvPr id="277" name="Правая фигурная скобка 4"/>
          <p:cNvSpPr/>
          <p:nvPr/>
        </p:nvSpPr>
        <p:spPr>
          <a:xfrm rot="5400000">
            <a:off x="4678920" y="1249920"/>
            <a:ext cx="357480" cy="7429680"/>
          </a:xfrm>
          <a:custGeom>
            <a:avLst/>
            <a:gdLst>
              <a:gd name="textAreaLeft" fmla="*/ 0 w 357480"/>
              <a:gd name="textAreaRight" fmla="*/ 128880 w 357480"/>
              <a:gd name="textAreaTop" fmla="*/ 9360 h 7429680"/>
              <a:gd name="textAreaBottom" fmla="*/ 7420320 h 742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7"/>
                </a:cubicBezTo>
                <a:lnTo>
                  <a:pt x="10800" y="10594"/>
                </a:lnTo>
                <a:cubicBezTo>
                  <a:pt x="10800" y="10638"/>
                  <a:pt x="16200" y="10681"/>
                  <a:pt x="21600" y="10681"/>
                </a:cubicBezTo>
                <a:cubicBezTo>
                  <a:pt x="16200" y="10681"/>
                  <a:pt x="10800" y="10725"/>
                  <a:pt x="10800" y="10768"/>
                </a:cubicBezTo>
                <a:lnTo>
                  <a:pt x="10800" y="21513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3891a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571760" y="53578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Результа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Если ребенок увлеченно и подолгу играет, родители могут быть спокойны: малыш развивается правильн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емы руководства играм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Табличка 5"/>
          <p:cNvSpPr/>
          <p:nvPr/>
        </p:nvSpPr>
        <p:spPr>
          <a:xfrm>
            <a:off x="1214280" y="1428840"/>
            <a:ext cx="3357720" cy="1428840"/>
          </a:xfrm>
          <a:custGeom>
            <a:avLst/>
            <a:gdLst>
              <a:gd name="textAreaLeft" fmla="*/ 168120 w 3357720"/>
              <a:gd name="textAreaRight" fmla="*/ 3189600 w 335772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507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152" y="21600"/>
                </a:lnTo>
                <a:arcTo wR="3600" hR="3600" stAng="10800000" swAng="5400000"/>
                <a:lnTo>
                  <a:pt x="50752" y="3600"/>
                </a:lnTo>
                <a:arcTo wR="3600" hR="3600" stAng="5400000" swAng="5400000"/>
                <a:close/>
              </a:path>
            </a:pathLst>
          </a:custGeom>
          <a:solidFill>
            <a:srgbClr val="a9d7e2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Приемы воздействия на игровую деятельность, способствующие развитию игр 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Табличка 6"/>
          <p:cNvSpPr/>
          <p:nvPr/>
        </p:nvSpPr>
        <p:spPr>
          <a:xfrm>
            <a:off x="5357880" y="1428840"/>
            <a:ext cx="3429000" cy="1428840"/>
          </a:xfrm>
          <a:custGeom>
            <a:avLst/>
            <a:gdLst>
              <a:gd name="textAreaLeft" fmla="*/ 168120 w 3429000"/>
              <a:gd name="textAreaRight" fmla="*/ 3260880 w 342900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518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229" y="21600"/>
                </a:lnTo>
                <a:arcTo wR="3600" hR="3600" stAng="10800000" swAng="5400000"/>
                <a:lnTo>
                  <a:pt x="51829" y="3600"/>
                </a:lnTo>
                <a:arcTo wR="3600" hR="3600" stAng="5400000" swAng="5400000"/>
                <a:close/>
              </a:path>
            </a:pathLst>
          </a:custGeom>
          <a:solidFill>
            <a:srgbClr val="637f2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риемы, используемые для оказания помощи детям в осуществлении игровых замыс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Табличка 7"/>
          <p:cNvSpPr/>
          <p:nvPr/>
        </p:nvSpPr>
        <p:spPr>
          <a:xfrm>
            <a:off x="3357720" y="3000240"/>
            <a:ext cx="3286080" cy="1428840"/>
          </a:xfrm>
          <a:custGeom>
            <a:avLst/>
            <a:gdLst>
              <a:gd name="textAreaLeft" fmla="*/ 168120 w 3286080"/>
              <a:gd name="textAreaRight" fmla="*/ 3117960 w 328608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49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6069" y="21600"/>
                </a:lnTo>
                <a:arcTo wR="3600" hR="3600" stAng="10800000" swAng="5400000"/>
                <a:lnTo>
                  <a:pt x="49669" y="3600"/>
                </a:lnTo>
                <a:arcTo wR="3600" hR="3600" stAng="5400000" swAng="5400000"/>
                <a:close/>
              </a:path>
            </a:pathLst>
          </a:custGeom>
          <a:solidFill>
            <a:srgbClr val="2a6d7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риемы, направленные на воспитание целеустремленности и активности в игр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Табличка 8"/>
          <p:cNvSpPr/>
          <p:nvPr/>
        </p:nvSpPr>
        <p:spPr>
          <a:xfrm>
            <a:off x="1285920" y="4643280"/>
            <a:ext cx="3286080" cy="1428840"/>
          </a:xfrm>
          <a:custGeom>
            <a:avLst/>
            <a:gdLst>
              <a:gd name="textAreaLeft" fmla="*/ 168120 w 3286080"/>
              <a:gd name="textAreaRight" fmla="*/ 3117960 w 328608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49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6069" y="21600"/>
                </a:lnTo>
                <a:arcTo wR="3600" hR="3600" stAng="10800000" swAng="5400000"/>
                <a:lnTo>
                  <a:pt x="49669" y="3600"/>
                </a:lnTo>
                <a:arcTo wR="3600" hR="3600" stAng="5400000" swAng="5400000"/>
                <a:close/>
              </a:path>
            </a:pathLst>
          </a:custGeom>
          <a:solidFill>
            <a:srgbClr val="b9d77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rbel"/>
              </a:rPr>
              <a:t>Приемы, используемые для формирования положительных эмоций у детей в игр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Табличка 9"/>
          <p:cNvSpPr/>
          <p:nvPr/>
        </p:nvSpPr>
        <p:spPr>
          <a:xfrm>
            <a:off x="5286240" y="4572000"/>
            <a:ext cx="3357720" cy="1428840"/>
          </a:xfrm>
          <a:custGeom>
            <a:avLst/>
            <a:gdLst>
              <a:gd name="textAreaLeft" fmla="*/ 168120 w 3357720"/>
              <a:gd name="textAreaRight" fmla="*/ 3189600 w 335772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507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152" y="21600"/>
                </a:lnTo>
                <a:arcTo wR="3600" hR="3600" stAng="10800000" swAng="5400000"/>
                <a:lnTo>
                  <a:pt x="50752" y="3600"/>
                </a:lnTo>
                <a:arcTo wR="3600" hR="3600" stAng="5400000" swAng="540000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rbel"/>
              </a:rPr>
              <a:t>Приемы, используемые для руководства поведением детей в игр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Облако 4"/>
          <p:cNvSpPr/>
          <p:nvPr/>
        </p:nvSpPr>
        <p:spPr>
          <a:xfrm>
            <a:off x="2928960" y="571680"/>
            <a:ext cx="4286160" cy="1643040"/>
          </a:xfrm>
          <a:prstGeom prst="pie">
            <a:avLst/>
          </a:prstGeom>
          <a:solidFill>
            <a:srgbClr val="d4ebf1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rbel"/>
              </a:rPr>
              <a:t>Развитие иг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1285920" y="2286000"/>
            <a:ext cx="7429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ведение в игру предметов-заменител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нообразие игровых замыс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ение в дидактических играх, трудовых поручениях развернутым игровым действия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огащение предметной среды (предметный материа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астие в детских играх с целью показа игровых действ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 и обучение в театрализованных играх эмоционально-выразительным движениям, жестам, мимик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буждение к ролевому диалог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буждение к коллективным играм, к самостоятельному проявлению умения ставить друг другу игровую цель, принимать ее, договаривать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лнце 3"/>
          <p:cNvSpPr/>
          <p:nvPr/>
        </p:nvSpPr>
        <p:spPr>
          <a:xfrm>
            <a:off x="3214800" y="214200"/>
            <a:ext cx="3929040" cy="2071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rbel"/>
              </a:rPr>
              <a:t>Помощь детя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4"/>
          <p:cNvSpPr/>
          <p:nvPr/>
        </p:nvSpPr>
        <p:spPr>
          <a:xfrm>
            <a:off x="1071720" y="2286000"/>
            <a:ext cx="428616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Показ способов действий (театра, СР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5"/>
          <p:cNvSpPr/>
          <p:nvPr/>
        </p:nvSpPr>
        <p:spPr>
          <a:xfrm>
            <a:off x="4857840" y="2786040"/>
            <a:ext cx="428616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Проведение экскурсий, наблюдение за трудом взросл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6"/>
          <p:cNvSpPr/>
          <p:nvPr/>
        </p:nvSpPr>
        <p:spPr>
          <a:xfrm>
            <a:off x="1214280" y="3429000"/>
            <a:ext cx="428652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Игры воспитателя с детьми (образец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Овал 7"/>
          <p:cNvSpPr/>
          <p:nvPr/>
        </p:nvSpPr>
        <p:spPr>
          <a:xfrm>
            <a:off x="4643280" y="4071960"/>
            <a:ext cx="428652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Рассматривание иллюстрированного материа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Овал 8"/>
          <p:cNvSpPr/>
          <p:nvPr/>
        </p:nvSpPr>
        <p:spPr>
          <a:xfrm>
            <a:off x="1357200" y="4786200"/>
            <a:ext cx="4286520" cy="85752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Изготовление игровых пособ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Овал 9"/>
          <p:cNvSpPr/>
          <p:nvPr/>
        </p:nvSpPr>
        <p:spPr>
          <a:xfrm>
            <a:off x="4071960" y="5572080"/>
            <a:ext cx="478620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Чтение художественной литературы, рассказы взросл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лавик</cp:lastModifiedBy>
  <dcterms:modified xsi:type="dcterms:W3CDTF">2009-11-24T20:53:11Z</dcterms:modified>
  <cp:revision>16</cp:revision>
  <dc:subject/>
  <dc:title>Стимулирование игрового интереса  как условие и фактор развития дошкольника.</dc:title>
</cp:coreProperties>
</file>