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9C5-C3F4-4C6E-82CE-50EBDEC3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5DF-5068-4DE5-A097-0305CA6F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707-2BE3-43CD-8EF4-EC787DBF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DA1-9B5A-43C8-A9E7-5E0E0FD0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332C-14A0-4FB0-B710-92952CD0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538C-C4EB-4355-B095-63808C36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9EAB-9E13-4F56-A094-AE2D492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120B-7BCF-4E85-AE35-3B82FEE9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412B-57D6-476A-90C8-57DEC4A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DC8F-7024-4C4D-8D4C-2EDFB18B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78B5-00E2-4950-B0B1-8F38F28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B64-7B6C-44A8-A10F-27183AA7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5403-6179-4831-9075-18DD6C1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B495-0809-42D1-804D-7F5E079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7CC6-2FE0-4F75-979A-7A7453E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AF1F-A104-450A-B49A-3CCA429A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1AD7-125C-4A37-B9AA-E062EE4D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9320-3D51-4851-BB7D-18B9E409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E831-6B6D-44A4-AAC4-CD81408E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B2B4-B449-44FC-A8AE-39890E54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2A1C-1AAE-4706-AC95-1D61B095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F77B-2CE7-4E03-9D1E-1FC5B18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906-7E59-4D7B-9825-FA2ABD8D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E985-4CF4-4B7C-B5FB-E6D244C0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DF67-A188-43B1-B0B7-40670BE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090C-052F-4B89-A8A8-49EDF4B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7E5A-E117-4E56-A7BF-895D5590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4B2B-AB25-4242-A15E-A37E1B45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78EA-C63E-406B-86EF-CA0A8C95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AED0-8096-481C-8241-1662E52E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C458-E2BF-454F-B928-862C44C8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3B6F-4755-46A2-8BA6-1AB236DF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B1BD-6F8A-4C8B-88C2-5095A3D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B81-AD76-479D-AC4A-79226D7A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7793-5151-4D8E-AD89-895C0397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FFD9-9C1F-4FFF-A11A-16443B1C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BDEE-63F7-4914-AC02-462CB75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C480-3E12-4E82-A9FC-1C311BA3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7C08D-8CBE-4926-A163-DDE88D8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F3D5-B41F-4852-89F1-454540D5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AC3C-F9FF-43B2-A0D0-F2167BD5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473CF-C6DA-462F-A362-B10C72F0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6AF3-A2B4-4F94-8E4F-65DF76CD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3A26-4C51-4C18-8246-6A71CC13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335-8E8D-4FAB-A5A4-063057BF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58B6-ED8F-4381-B9BE-A10F950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99C44-6700-46D7-B730-9D43D5C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41CC-D954-44D5-931E-8C03ACC8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A809-3EB9-48EA-BF8D-72FE902E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F38E-2EA0-45D2-90D8-85D69BE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467D-634B-42DB-B44E-DD6708F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A1FBB-FCF8-4D44-9266-E9E543E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265D-FB4C-41BB-91EB-A54AF67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29A74-1959-44D1-98ED-78CCA91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25989-1FB7-48D2-A3DB-6E20926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C47-4A6D-4C11-8133-EA4FC5A4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538E-64D6-4234-9C2A-093394BD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A0C-90D5-491F-93A5-0406ADCA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8DA-8A83-43E4-8F7A-499E97A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58F-473F-4A9D-BB98-33794B4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C4F5-5FC4-4726-9313-F10B024B20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4F48-F9DF-413C-BC5C-C18BBBB0AD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15EA-05FB-46F8-9AC1-A3639A628B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C12E-33A8-4B27-8CF5-66E3944BC7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7294-A73D-4F71-95FD-08ECE3DBF9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714320"/>
            <a:ext cx="777240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Bookman Old Style"/>
              </a:rPr>
              <a:t>Стимулирование игрового интереса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Bookman Old Style"/>
              </a:rPr>
              <a:t>как условие и фактор развития дошкольника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Блок-схема: перфолента 3"/>
          <p:cNvSpPr/>
          <p:nvPr/>
        </p:nvSpPr>
        <p:spPr>
          <a:xfrm>
            <a:off x="1928880" y="428760"/>
            <a:ext cx="6143400" cy="1214280"/>
          </a:xfrm>
          <a:prstGeom prst="flowChartPunchedTape">
            <a:avLst/>
          </a:prstGeom>
          <a:solidFill>
            <a:srgbClr val="92d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853"/>
                </a:solidFill>
                <a:latin typeface="Corbel"/>
              </a:rPr>
              <a:t>Воспитание целеустремленност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853"/>
                </a:solidFill>
                <a:latin typeface="Corbel"/>
              </a:rPr>
              <a:t>и актив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1500120" y="214308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каз воспитателем разнообразных действий с игрушками в соответствии с той или иной роль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ведение главных и второстепенных ро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блюдение за играми активных, инициативных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ение планированию иг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се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ат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готовление и обыгрывание атрибутов к С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жиссерские иг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нализ и поощ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32-конечная звезда 4"/>
          <p:cNvSpPr/>
          <p:nvPr/>
        </p:nvSpPr>
        <p:spPr>
          <a:xfrm>
            <a:off x="2500200" y="428760"/>
            <a:ext cx="4643640" cy="1500120"/>
          </a:xfrm>
          <a:custGeom>
            <a:avLst/>
            <a:gdLst>
              <a:gd name="textAreaLeft" fmla="*/ 1059840 w 4643640"/>
              <a:gd name="textAreaRight" fmla="*/ 3583800 w 4643640"/>
              <a:gd name="textAreaTop" fmla="*/ 342360 h 1500120"/>
              <a:gd name="textAreaBottom" fmla="*/ 11577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58d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Положительные эмо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4-конечная звезда 5"/>
          <p:cNvSpPr/>
          <p:nvPr/>
        </p:nvSpPr>
        <p:spPr>
          <a:xfrm>
            <a:off x="1500120" y="242892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1928880" y="235728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каз воспитателем новых способов игровых действий с одним и тем же предметом, создание многообразных игровых ситуаци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4-конечная звезда 8"/>
          <p:cNvSpPr/>
          <p:nvPr/>
        </p:nvSpPr>
        <p:spPr>
          <a:xfrm>
            <a:off x="1928880" y="321480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4-конечная звезда 9"/>
          <p:cNvSpPr/>
          <p:nvPr/>
        </p:nvSpPr>
        <p:spPr>
          <a:xfrm>
            <a:off x="1500120" y="400068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4-конечная звезда 11"/>
          <p:cNvSpPr/>
          <p:nvPr/>
        </p:nvSpPr>
        <p:spPr>
          <a:xfrm>
            <a:off x="1928880" y="478620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4-конечная звезда 12"/>
          <p:cNvSpPr/>
          <p:nvPr/>
        </p:nvSpPr>
        <p:spPr>
          <a:xfrm>
            <a:off x="1500120" y="5643720"/>
            <a:ext cx="357120" cy="500040"/>
          </a:xfrm>
          <a:custGeom>
            <a:avLst/>
            <a:gdLst>
              <a:gd name="textAreaLeft" fmla="*/ 147240 w 357120"/>
              <a:gd name="textAreaRight" fmla="*/ 209880 w 357120"/>
              <a:gd name="textAreaTop" fmla="*/ 205920 h 500040"/>
              <a:gd name="textAreaBottom" fmla="*/ 294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2500200" y="314316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бота с сюжетом (выбор тем, театрализация, обыгрывание, реплики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22147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ение художественной литературы, введение в игру образных игруше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TextBox 16"/>
          <p:cNvSpPr/>
          <p:nvPr/>
        </p:nvSpPr>
        <p:spPr>
          <a:xfrm>
            <a:off x="2500200" y="485784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олевое участие, рассказывание и обыгрывание сказо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2214720" y="550080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бор игр с разными сторонами эмоционального опыта, с обязательными эмоциональными контактами между участникам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Лента лицом вниз 3"/>
          <p:cNvSpPr/>
          <p:nvPr/>
        </p:nvSpPr>
        <p:spPr>
          <a:xfrm>
            <a:off x="1571760" y="500040"/>
            <a:ext cx="7286400" cy="928800"/>
          </a:xfrm>
          <a:custGeom>
            <a:avLst/>
            <a:gdLst>
              <a:gd name="textAreaLeft" fmla="*/ 1821600 w 7286400"/>
              <a:gd name="textAreaRight" fmla="*/ 5464800 w 7286400"/>
              <a:gd name="textAreaTop" fmla="*/ 15480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70c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Руководство поведением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714680" y="2071800"/>
            <a:ext cx="72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вместное обсуждение воспитателя с детьми иг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пользование предметов-заменит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учение игровых интерес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ение детей приемам реализации игрового замыс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блюдение за играми других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язательное конкретное обсуждение конфликтных ситуаций в иг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356840" y="5713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гра сама по себе универсальный стимулят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вное, в поддержании игрового интереса – чуткость, наблюдательность педагога, проявление творческого подхода в организации игры, умение заинтересовать ребенка игровым сюжет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рямоугольник 5" descr=""/>
          <p:cNvPicPr/>
          <p:nvPr/>
        </p:nvPicPr>
        <p:blipFill>
          <a:blip r:embed="rId1"/>
          <a:stretch/>
        </p:blipFill>
        <p:spPr>
          <a:xfrm>
            <a:off x="853920" y="291960"/>
            <a:ext cx="6888240" cy="5218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PH02058U"/>
          <p:cNvPicPr/>
          <p:nvPr/>
        </p:nvPicPr>
        <p:blipFill>
          <a:blip r:embed="rId2"/>
          <a:stretch/>
        </p:blipFill>
        <p:spPr>
          <a:xfrm rot="1167000">
            <a:off x="6575400" y="4254480"/>
            <a:ext cx="2008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43000" y="642960"/>
            <a:ext cx="7500960" cy="59292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нцепция дошкольного воспитания определяет игру как самоценную деятельность, дающую дошкольнику свободу выбора, возможность реализовать себя, достичь состояния эмоционального комфорта, причастности к детскому обществу, получить опыт взаимодействия. Именно в игре происходит становление ребенка как личности, его психическое развитие, формирование учебной и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развития игровой деятельности необходимы определенные условия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3"/>
          <p:cNvSpPr/>
          <p:nvPr/>
        </p:nvSpPr>
        <p:spPr>
          <a:xfrm rot="21015600">
            <a:off x="2293560" y="345600"/>
            <a:ext cx="2562120" cy="1149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есто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Прямоугольник 4"/>
          <p:cNvSpPr/>
          <p:nvPr/>
        </p:nvSpPr>
        <p:spPr>
          <a:xfrm rot="660600">
            <a:off x="1226880" y="2246400"/>
            <a:ext cx="1928880" cy="107136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Время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5"/>
          <p:cNvSpPr/>
          <p:nvPr/>
        </p:nvSpPr>
        <p:spPr>
          <a:xfrm rot="648600">
            <a:off x="1423800" y="4416120"/>
            <a:ext cx="3000240" cy="1000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Руководств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7-конечная звезда 6"/>
          <p:cNvSpPr/>
          <p:nvPr/>
        </p:nvSpPr>
        <p:spPr>
          <a:xfrm>
            <a:off x="3143160" y="1428840"/>
            <a:ext cx="3786120" cy="2857320"/>
          </a:xfrm>
          <a:prstGeom prst="pie">
            <a:avLst/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ловия для развития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Прямоугольник 8"/>
          <p:cNvSpPr/>
          <p:nvPr/>
        </p:nvSpPr>
        <p:spPr>
          <a:xfrm rot="20887200">
            <a:off x="5676840" y="4186080"/>
            <a:ext cx="2714760" cy="20005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Единство требований детского сада и семь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Прямоугольник 9"/>
          <p:cNvSpPr/>
          <p:nvPr/>
        </p:nvSpPr>
        <p:spPr>
          <a:xfrm rot="20879400">
            <a:off x="6627600" y="194760"/>
            <a:ext cx="2098440" cy="2129040"/>
          </a:xfrm>
          <a:prstGeom prst="rect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rbel"/>
              </a:rPr>
              <a:t>Предметно-развивающая игровая сре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Овальная выноска 4"/>
          <p:cNvSpPr/>
          <p:nvPr/>
        </p:nvSpPr>
        <p:spPr>
          <a:xfrm>
            <a:off x="1785960" y="500040"/>
            <a:ext cx="2286000" cy="1643040"/>
          </a:xfrm>
          <a:prstGeom prst="wedgeEllipseCallout">
            <a:avLst>
              <a:gd name="adj1" fmla="val -48893"/>
              <a:gd name="adj2" fmla="val 7163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rbel"/>
              </a:rPr>
              <a:t>МЕС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Овальная выноска 5"/>
          <p:cNvSpPr/>
          <p:nvPr/>
        </p:nvSpPr>
        <p:spPr>
          <a:xfrm>
            <a:off x="5429160" y="500040"/>
            <a:ext cx="2286000" cy="1643040"/>
          </a:xfrm>
          <a:prstGeom prst="wedgeEllipseCallout">
            <a:avLst>
              <a:gd name="adj1" fmla="val 50810"/>
              <a:gd name="adj2" fmla="val 66652"/>
            </a:avLst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Блок-схема: перфолента 6"/>
          <p:cNvSpPr/>
          <p:nvPr/>
        </p:nvSpPr>
        <p:spPr>
          <a:xfrm>
            <a:off x="4857840" y="2500200"/>
            <a:ext cx="3000240" cy="121464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Специально отведенное в режиме д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Блок-схема: перфолента 7"/>
          <p:cNvSpPr/>
          <p:nvPr/>
        </p:nvSpPr>
        <p:spPr>
          <a:xfrm>
            <a:off x="5072040" y="3857760"/>
            <a:ext cx="3000240" cy="121428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Во всех видах деятельности в течение д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Блок-схема: перфолента 8"/>
          <p:cNvSpPr/>
          <p:nvPr/>
        </p:nvSpPr>
        <p:spPr>
          <a:xfrm>
            <a:off x="5286240" y="5143680"/>
            <a:ext cx="3286440" cy="1214280"/>
          </a:xfrm>
          <a:prstGeom prst="flowChartPunchedTape">
            <a:avLst/>
          </a:prstGeom>
          <a:solidFill>
            <a:srgbClr val="ffe39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Во всех формах организации деятельности детей в течение д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Вертикальный свиток 9"/>
          <p:cNvSpPr/>
          <p:nvPr/>
        </p:nvSpPr>
        <p:spPr>
          <a:xfrm>
            <a:off x="1143000" y="2571840"/>
            <a:ext cx="2000160" cy="1785960"/>
          </a:xfrm>
          <a:prstGeom prst="vertic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Групповое помещ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Вертикальный свиток 10"/>
          <p:cNvSpPr/>
          <p:nvPr/>
        </p:nvSpPr>
        <p:spPr>
          <a:xfrm>
            <a:off x="2786040" y="3000240"/>
            <a:ext cx="1928880" cy="1785960"/>
          </a:xfrm>
          <a:prstGeom prst="vertic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Другие помещения ДО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Вертикальный свиток 11"/>
          <p:cNvSpPr/>
          <p:nvPr/>
        </p:nvSpPr>
        <p:spPr>
          <a:xfrm>
            <a:off x="1214280" y="4857840"/>
            <a:ext cx="1857600" cy="1785960"/>
          </a:xfrm>
          <a:prstGeom prst="vertic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Участок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уководство игровой деятельность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8480" y="1571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нирование игровой дея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ающие иг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ктивизирующее общение со взросл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ация комплексного руковод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огащение опыта, впечатл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менение игровой сре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Принципы организации игровой деятельности в семье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6" name="Схема 3" descr=""/>
          <p:cNvPicPr/>
          <p:nvPr/>
        </p:nvPicPr>
        <p:blipFill>
          <a:blip r:embed="rId1"/>
          <a:stretch/>
        </p:blipFill>
        <p:spPr>
          <a:xfrm>
            <a:off x="1268280" y="1352520"/>
            <a:ext cx="7467840" cy="3584520"/>
          </a:xfrm>
          <a:prstGeom prst="rect">
            <a:avLst/>
          </a:prstGeom>
          <a:ln w="0">
            <a:noFill/>
          </a:ln>
        </p:spPr>
      </p:pic>
      <p:sp>
        <p:nvSpPr>
          <p:cNvPr id="277" name="Правая фигурная скобка 4"/>
          <p:cNvSpPr/>
          <p:nvPr/>
        </p:nvSpPr>
        <p:spPr>
          <a:xfrm rot="5400000">
            <a:off x="4678920" y="1249920"/>
            <a:ext cx="357480" cy="7429680"/>
          </a:xfrm>
          <a:custGeom>
            <a:avLst/>
            <a:gdLst>
              <a:gd name="textAreaLeft" fmla="*/ 0 w 357480"/>
              <a:gd name="textAreaRight" fmla="*/ 128880 w 357480"/>
              <a:gd name="textAreaTop" fmla="*/ 9360 h 7429680"/>
              <a:gd name="textAreaBottom" fmla="*/ 7420320 h 742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"/>
                  <a:pt x="10800" y="87"/>
                </a:cubicBezTo>
                <a:lnTo>
                  <a:pt x="10800" y="10594"/>
                </a:lnTo>
                <a:cubicBezTo>
                  <a:pt x="10800" y="10638"/>
                  <a:pt x="16200" y="10681"/>
                  <a:pt x="21600" y="10681"/>
                </a:cubicBezTo>
                <a:cubicBezTo>
                  <a:pt x="16200" y="10681"/>
                  <a:pt x="10800" y="10725"/>
                  <a:pt x="10800" y="10768"/>
                </a:cubicBezTo>
                <a:lnTo>
                  <a:pt x="10800" y="21513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3891a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571760" y="53578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rbel"/>
              </a:rPr>
              <a:t>Результат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rbel"/>
              </a:rPr>
              <a:t>Если ребенок увлеченно и подолгу играет, родители могут быть спокойны: малыш развивается правильн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емы руководства играм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Табличка 5"/>
          <p:cNvSpPr/>
          <p:nvPr/>
        </p:nvSpPr>
        <p:spPr>
          <a:xfrm>
            <a:off x="1214280" y="1428840"/>
            <a:ext cx="3357720" cy="1428840"/>
          </a:xfrm>
          <a:custGeom>
            <a:avLst/>
            <a:gdLst>
              <a:gd name="textAreaLeft" fmla="*/ 168120 w 3357720"/>
              <a:gd name="textAreaRight" fmla="*/ 3189600 w 335772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507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152" y="21600"/>
                </a:lnTo>
                <a:arcTo wR="3600" hR="3600" stAng="10800000" swAng="5400000"/>
                <a:lnTo>
                  <a:pt x="50752" y="3600"/>
                </a:lnTo>
                <a:arcTo wR="3600" hR="3600" stAng="5400000" swAng="5400000"/>
                <a:close/>
              </a:path>
            </a:pathLst>
          </a:custGeom>
          <a:solidFill>
            <a:srgbClr val="a9d7e2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Приемы воздействия на игровую деятельность, способствующие развитию игр де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Табличка 6"/>
          <p:cNvSpPr/>
          <p:nvPr/>
        </p:nvSpPr>
        <p:spPr>
          <a:xfrm>
            <a:off x="5357880" y="1428840"/>
            <a:ext cx="3429000" cy="1428840"/>
          </a:xfrm>
          <a:custGeom>
            <a:avLst/>
            <a:gdLst>
              <a:gd name="textAreaLeft" fmla="*/ 168120 w 3429000"/>
              <a:gd name="textAreaRight" fmla="*/ 3260880 w 342900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5182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229" y="21600"/>
                </a:lnTo>
                <a:arcTo wR="3600" hR="3600" stAng="10800000" swAng="5400000"/>
                <a:lnTo>
                  <a:pt x="51829" y="3600"/>
                </a:lnTo>
                <a:arcTo wR="3600" hR="3600" stAng="5400000" swAng="5400000"/>
                <a:close/>
              </a:path>
            </a:pathLst>
          </a:custGeom>
          <a:solidFill>
            <a:srgbClr val="637f2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риемы, используемые для оказания помощи детям в осуществлении игровых замыс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Табличка 7"/>
          <p:cNvSpPr/>
          <p:nvPr/>
        </p:nvSpPr>
        <p:spPr>
          <a:xfrm>
            <a:off x="3357720" y="3000240"/>
            <a:ext cx="3286080" cy="1428840"/>
          </a:xfrm>
          <a:custGeom>
            <a:avLst/>
            <a:gdLst>
              <a:gd name="textAreaLeft" fmla="*/ 168120 w 3286080"/>
              <a:gd name="textAreaRight" fmla="*/ 3117960 w 328608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49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6069" y="21600"/>
                </a:lnTo>
                <a:arcTo wR="3600" hR="3600" stAng="10800000" swAng="5400000"/>
                <a:lnTo>
                  <a:pt x="49669" y="3600"/>
                </a:lnTo>
                <a:arcTo wR="3600" hR="3600" stAng="5400000" swAng="5400000"/>
                <a:close/>
              </a:path>
            </a:pathLst>
          </a:custGeom>
          <a:solidFill>
            <a:srgbClr val="2a6d7d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риемы, направленные на воспитание целеустремленности и активности в игр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Табличка 8"/>
          <p:cNvSpPr/>
          <p:nvPr/>
        </p:nvSpPr>
        <p:spPr>
          <a:xfrm>
            <a:off x="1285920" y="4643280"/>
            <a:ext cx="3286080" cy="1428840"/>
          </a:xfrm>
          <a:custGeom>
            <a:avLst/>
            <a:gdLst>
              <a:gd name="textAreaLeft" fmla="*/ 168120 w 3286080"/>
              <a:gd name="textAreaRight" fmla="*/ 3117960 w 328608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49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6069" y="21600"/>
                </a:lnTo>
                <a:arcTo wR="3600" hR="3600" stAng="10800000" swAng="5400000"/>
                <a:lnTo>
                  <a:pt x="49669" y="3600"/>
                </a:lnTo>
                <a:arcTo wR="3600" hR="3600" stAng="5400000" swAng="5400000"/>
                <a:close/>
              </a:path>
            </a:pathLst>
          </a:custGeom>
          <a:solidFill>
            <a:srgbClr val="b9d77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rbel"/>
              </a:rPr>
              <a:t>Приемы, используемые для формирования положительных эмоций у детей в игр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Табличка 9"/>
          <p:cNvSpPr/>
          <p:nvPr/>
        </p:nvSpPr>
        <p:spPr>
          <a:xfrm>
            <a:off x="5286240" y="4572000"/>
            <a:ext cx="3357720" cy="1428840"/>
          </a:xfrm>
          <a:custGeom>
            <a:avLst/>
            <a:gdLst>
              <a:gd name="textAreaLeft" fmla="*/ 168120 w 3357720"/>
              <a:gd name="textAreaRight" fmla="*/ 3189600 w 3357720"/>
              <a:gd name="textAreaTop" fmla="*/ 168120 h 1428840"/>
              <a:gd name="textAreaBottom" fmla="*/ 1260720 h 1428840"/>
            </a:gdLst>
            <a:ahLst/>
            <a:rect l="textAreaLeft" t="textAreaTop" r="textAreaRight" b="textAreaBottom"/>
            <a:pathLst>
              <a:path w="507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7152" y="21600"/>
                </a:lnTo>
                <a:arcTo wR="3600" hR="3600" stAng="10800000" swAng="5400000"/>
                <a:lnTo>
                  <a:pt x="50752" y="3600"/>
                </a:lnTo>
                <a:arcTo wR="3600" hR="3600" stAng="5400000" swAng="5400000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rbel"/>
              </a:rPr>
              <a:t>Приемы, используемые для руководства поведением детей в игра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Облако 4"/>
          <p:cNvSpPr/>
          <p:nvPr/>
        </p:nvSpPr>
        <p:spPr>
          <a:xfrm>
            <a:off x="2928960" y="571680"/>
            <a:ext cx="4286160" cy="1643040"/>
          </a:xfrm>
          <a:prstGeom prst="pie">
            <a:avLst/>
          </a:prstGeom>
          <a:solidFill>
            <a:srgbClr val="d4ebf1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rbel"/>
              </a:rPr>
              <a:t>Развитие иг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1285920" y="2286000"/>
            <a:ext cx="7429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ведение в игру предметов-заменител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нообразие игровых замыс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учение в дидактических играх, трудовых поручениях развернутым игровым действия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огащение предметной среды (предметный материал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астие в детских играх с целью показа игровых действ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з и обучение в театрализованных играх эмоционально-выразительным движениям, жестам, мимик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буждение к ролевому диалог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буждение к коллективным играм, к самостоятельному проявлению умения ставить друг другу игровую цель, принимать ее, договаривать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лнце 3"/>
          <p:cNvSpPr/>
          <p:nvPr/>
        </p:nvSpPr>
        <p:spPr>
          <a:xfrm>
            <a:off x="3214800" y="214200"/>
            <a:ext cx="3929040" cy="2071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rbel"/>
              </a:rPr>
              <a:t>Помощь детя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4"/>
          <p:cNvSpPr/>
          <p:nvPr/>
        </p:nvSpPr>
        <p:spPr>
          <a:xfrm>
            <a:off x="1071720" y="2286000"/>
            <a:ext cx="428616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Показ способов действий (театра, СР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5"/>
          <p:cNvSpPr/>
          <p:nvPr/>
        </p:nvSpPr>
        <p:spPr>
          <a:xfrm>
            <a:off x="4857840" y="2786040"/>
            <a:ext cx="428616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Проведение экскурсий, наблюдение за трудом взрослы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6"/>
          <p:cNvSpPr/>
          <p:nvPr/>
        </p:nvSpPr>
        <p:spPr>
          <a:xfrm>
            <a:off x="1214280" y="3429000"/>
            <a:ext cx="428652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Игры воспитателя с детьми (образец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Овал 7"/>
          <p:cNvSpPr/>
          <p:nvPr/>
        </p:nvSpPr>
        <p:spPr>
          <a:xfrm>
            <a:off x="4643280" y="4071960"/>
            <a:ext cx="428652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Рассматривание иллюстрированного материа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Овал 8"/>
          <p:cNvSpPr/>
          <p:nvPr/>
        </p:nvSpPr>
        <p:spPr>
          <a:xfrm>
            <a:off x="1357200" y="4786200"/>
            <a:ext cx="4286520" cy="85752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Изготовление игровых пособ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Овал 9"/>
          <p:cNvSpPr/>
          <p:nvPr/>
        </p:nvSpPr>
        <p:spPr>
          <a:xfrm>
            <a:off x="4071960" y="5572080"/>
            <a:ext cx="4786200" cy="857160"/>
          </a:xfrm>
          <a:prstGeom prst="ellipse">
            <a:avLst/>
          </a:prstGeom>
          <a:solidFill>
            <a:srgbClr val="d4ebf1"/>
          </a:solidFill>
          <a:ln w="25560">
            <a:solidFill>
              <a:srgbClr val="2a6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853"/>
                </a:solidFill>
                <a:latin typeface="Corbel"/>
              </a:rPr>
              <a:t>Чтение художественной литературы, рассказы взрослы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лавик</cp:lastModifiedBy>
  <dcterms:modified xsi:type="dcterms:W3CDTF">2009-11-24T20:53:11Z</dcterms:modified>
  <cp:revision>16</cp:revision>
  <dc:subject/>
  <dc:title>Стимулирование игрового интереса  как условие и фактор развития дошкольника.</dc:title>
</cp:coreProperties>
</file>