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7D2C-8066-4FB1-85E1-E902BDFCAA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6821-A495-44C5-B8F1-A6E7C8EC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4F04-ED71-46C9-8540-6792547E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FAE4-1F46-4319-95EA-86B021A994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DC8D-C6FA-40EF-8D77-08E0EA7C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0C0B-FDFD-4C67-9A9E-5365ECF6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0FE7-BF0A-4326-88C7-4B646F06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27CC-0BF4-4838-A3AB-5A596F22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3C5D-5EFF-42E4-B0EF-2DA58036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71CB-48F8-46F4-9BA4-4E569F49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0E09-3395-4BBC-B668-25BCA81F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E6DA-E652-4AD6-8B51-664FDEA5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37080"/>
            <a:ext cx="21304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37080"/>
            <a:ext cx="21304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2B1DD9-5EC8-41F5-8F50-A9B3E463266F}" type="slidenum">
              <a:rPr b="0" lang="ru-RU" sz="18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79280" y="1628640"/>
            <a:ext cx="84963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талинградская битва</a:t>
            </a:r>
            <a:endParaRPr b="1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32000" y="34290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17.07.1942 г.</a:t>
            </a:r>
            <a:endParaRPr b="1" lang="en-US" sz="7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02.02.1943 г. </a:t>
            </a:r>
            <a:endParaRPr b="1" lang="en-US" sz="7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-479520" y="-176040"/>
            <a:ext cx="3969000" cy="2155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500280" y="6072120"/>
            <a:ext cx="54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Разработала: Вдовцева А.М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Учитель МОУ «СОШ №39» г.Магнитогорска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 взрослым, детям  пришлось пережить и голод, и холод, и гибель родных и все это в таком малом возрасте.  А они не только держались, но и делали все, что было в их силах, ради выживания, ради победы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81080" y="-363600"/>
            <a:ext cx="4221360" cy="229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2050920" y="2708280"/>
            <a:ext cx="4619880" cy="387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-108000" y="-316080"/>
            <a:ext cx="3976560" cy="2160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4128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 каждом воспоминании повзрослевшего «ребенка военного Сталинграда» можно увидеть описание голода. Голода, заставляющего ежедневно рисковать и так неспокойной жизнью в норах, окопах. Под обстрелами и бомбежками, в мороз и стужу, дети, хоть как-то стремясь помочь близким и себе, и наравне со взрослыми отыскивали пищу, порой становившуюся пригодной только после многих усил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90920" cy="406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… Голодная зима 1942-го. Наверное, ее никогда не забудешь. Разве можно забыть, как ходили на развалины бывшего кожзавода и выдирали, а вернее вырубали топором из ям просоленные и мороженые шкуры? Разрубив такую шкуру на куски и опалив в печке, варили, а затем пропускали через мясорубку. Полученную таким образом студенистую массу ели. О вкусовых качествах не думали – важно было выжить. Именно благодаря этой пище нам удалось остаться в живых…»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8" name="Group 2"/>
          <p:cNvGrpSpPr/>
          <p:nvPr/>
        </p:nvGrpSpPr>
        <p:grpSpPr>
          <a:xfrm>
            <a:off x="395280" y="260280"/>
            <a:ext cx="2101680" cy="1139760"/>
            <a:chOff x="395280" y="260280"/>
            <a:chExt cx="2101680" cy="1139760"/>
          </a:xfrm>
        </p:grpSpPr>
        <p:pic>
          <p:nvPicPr>
            <p:cNvPr id="79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21016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4"/>
            <p:cNvSpPr/>
            <p:nvPr/>
          </p:nvSpPr>
          <p:spPr>
            <a:xfrm>
              <a:off x="395280" y="260280"/>
              <a:ext cx="210168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1744560"/>
            <a:ext cx="82296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жество и отвагу проявляли сталинградские пионеры в борьбе с врагом во время Сталинградской битвы. Да не сотрутся в нашей памяти имена юных патриотов, пионеров—героев.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73160" y="-243000"/>
            <a:ext cx="3770280" cy="2048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971880" y="3716280"/>
            <a:ext cx="3048120" cy="2847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СЯ РАДЫНО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оказалась в Сталинграде после долгих поисков родных.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Люся 13-ти летняя находчивая пионерка из Ленинграда, добровольно стала разведчицей, когда в сталинградский детский приёмник пришёл офицер, который искал детей для работы в разведке. Так Люся оказалась в боевой части. Командир разведчиков учил, давал наставления, как вести наблюдения, что отмечать в памяти, как вести себя в плену. В первой половине августа 1942 г. Люся вместе с Еленой Константиновной Алексеевой под видом матери и дочери были заброшены в тыл врага. Семь раз Люся переходила линию фронта, добывая всё новые сведения о противнике. За образцовое выполнение заданий она награждена медалями «За отвагу» и «За оборону Сталинграда». Ей посчастливилось остаться в живых.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61920" y="-171360"/>
            <a:ext cx="2762280" cy="150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846840" y="5805360"/>
            <a:ext cx="1254240" cy="100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1197000"/>
            <a:ext cx="8229600" cy="53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МОТЯ БАРСОВА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ионерка Мотя Барсова помогла уничтожить 20 немецких солдат, пробившихся из окружения под Сталинградом. Голодные солдаты угрожали её семье, вынудили маму приготовить пищу. Мотя, сославшись на отсутствие воды, побежала в сельсовет, и подняла людей. Дом окружили, фашистов уничтожили.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08000" y="-243000"/>
            <a:ext cx="2762280" cy="1500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6948360" y="5445000"/>
            <a:ext cx="1254240" cy="10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15667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АНЯ ГУРЕЕВ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ал в Ильёвке ребят для ухода за 18 ранеными бойцами и командирами. Подростки затем помогли красноармейцам выбраться из окружения.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948360" y="5445000"/>
            <a:ext cx="1254240" cy="10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08000" y="-243000"/>
            <a:ext cx="276228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142416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ЛЮСЯ РЕМИЗОВА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еподалёку от Сталинграда фашисты схватили в плен в ноябре 1942 года школьницу и заставили её стирать бельё, убирать помещения, где жили немецкие офицеры. Люсе удалось выкрасть важные документы, сбежать и доставить их своим. За мужественный поступок Люся Ремизова награждена медалью «За отвагу».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948360" y="5445000"/>
            <a:ext cx="1254240" cy="10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08000" y="-243000"/>
            <a:ext cx="276228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9528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В 1942 году у стен Сталинграда </a:t>
            </a:r>
            <a:r>
              <a:rPr b="0" lang="ru-RU" sz="1200" spc="-1" strike="noStrike">
                <a:solidFill>
                  <a:srgbClr val="984807"/>
                </a:solidFill>
                <a:latin typeface="Arial"/>
              </a:rPr>
              <a:t>решалась</a:t>
            </a:r>
            <a:r>
              <a:rPr b="0" lang="en-US" sz="14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судьба всего цивилизованного мира. В междуречье Волги и Дона развернулось величайшее в истории сражение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84807"/>
                </a:solidFill>
                <a:latin typeface="Calibri"/>
              </a:rPr>
              <a:t>12 июля 1942 года был образован Сталинградский фронт, а день 17 июля вошел в историю как начало Сталинградской битвы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050920" y="1523880"/>
            <a:ext cx="4259520" cy="466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913360" y="4745160"/>
            <a:ext cx="387360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238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По своим масштабам и ожесточенности она превзошла все прошлые битвы : на территории почти в сто тысяч квадратных километров, сражались более двух  миллионов человек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4125960" cy="224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826920" y="3235320"/>
            <a:ext cx="4386600" cy="328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Цель фашистских захватчиков: овладеть промышленным городом, предприятия которого выпускали военную продукцию; выйти к Волге, по которой в кратчайшие сроки можно было попасть в Каспийское море, на Кавказ, где добывалась необходимая для фронта нефть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3957480" cy="296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3627720" cy="1969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Этот замысел Гитлер планировал осуществить силами одной 6-й полевой армии Паулюса всего за неделю.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55640" y="4095720"/>
            <a:ext cx="3311640" cy="227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-252360" y="-316080"/>
            <a:ext cx="4751280" cy="2581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432160"/>
            <a:ext cx="822960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уровые дни битвы на Волге советские войска сохранили и преумножили лучшие традиции российского воинства.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14440" y="3975120"/>
            <a:ext cx="3481200" cy="2406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-324000" y="-316080"/>
            <a:ext cx="4824720" cy="262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1671480"/>
            <a:ext cx="82296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акие ценности, как любовь к Родине, честь и воинский долг, несгибаемая воля к победе, стойкость в обороне, твердая решительность в наступлении, беззаветное мужество и храбрость, воинское братство народов нашей страны, стали священными для защитников Сталинграда...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03720" y="4221000"/>
            <a:ext cx="3225960" cy="237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-396720" y="-247680"/>
            <a:ext cx="3985920" cy="21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ыл на передово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ом на шинели насчитал 50 пулевых дыр. Но не отлили ещё той пули, которая сразила бы меня. Обо мне, мама, не беспокойся, я вернусь!»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Сашенька! Ты спрашиваешь, как там наша школа. Ничего живём. Десятиклассники учатся в 3-ю смену. Кончаем уроки в одиннадцать ночи. А днём работаем на заводе по 12 часов. Делаем снаряды для «катюш». Так спать охота! Иногда даже на станках, на стружках засыпаем!»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206280" y="-236520"/>
            <a:ext cx="3698640" cy="20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411280" y="4149720"/>
            <a:ext cx="3097440" cy="263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1816200"/>
            <a:ext cx="8229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Знаешь, Саш! А в школе у нас сейчас ансамбль, и руководит им настоящий композитор Михаил Владимирович Черняк. Ходим с концертами по госпиталям. Уже 70 концертов дали. Наш подшефный госпиталь в 30-й школе. Так мы там можно сказать, всё свободное время»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81080" y="-314280"/>
            <a:ext cx="4130640" cy="22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484360" y="3645000"/>
            <a:ext cx="36799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22:15Z</dcterms:created>
  <dc:creator>Анисимова Екатерина Дмитриевна</dc:creator>
  <dc:description/>
  <dc:language>en-US</dc:language>
  <cp:lastModifiedBy>Un1t</cp:lastModifiedBy>
  <dcterms:modified xsi:type="dcterms:W3CDTF">2022-02-16T05:38:00Z</dcterms:modified>
  <cp:revision>22</cp:revision>
  <dc:subject/>
  <dc:title>Презентацию подготовил Ученик 4 класса Анисимов Никита</dc:title>
</cp:coreProperties>
</file>