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50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61.jpeg" ContentType="image/jpeg"/>
  <Override PartName="/ppt/media/image4.jpeg" ContentType="image/jpeg"/>
  <Override PartName="/ppt/media/image69.jpeg" ContentType="image/jpeg"/>
  <Override PartName="/ppt/media/image68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9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F34-4F04-41C2-AD65-DEC07B7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B68-32ED-434D-B9ED-72C74571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777-C0AF-417B-93C0-CCD72DB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29A-16D0-4E69-BC78-1974DEF8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7A0-EC50-4D4A-BBF0-E46738F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C6D-3670-42A6-80A4-B32C0E4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E3D-F903-44FB-B898-3EED60EA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EF2-591A-4BC9-9B4E-F69FEAC2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B37-1440-4424-8984-3A29A90C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8D8-928B-46F9-AF66-FA8C000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FA9-8C3F-4E27-816B-7550EA6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CBC-06AC-4EE2-9D1E-F02A01C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D61A-CF83-4246-BC5A-35E87923E48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B68F-37CD-475C-B050-420E05DECCD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Министерство образования Пензенской област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ГОСУДАРСТВЕННОЕ АВТОНОМНОЕ ОБРАЗОВАТЕЛЬНОЕ УЧРЕЖДЕНИЕ ДОПОЛНИТЕЛЬНОГО ПРОФЕССИОНАЛЬНОГО ОБРАЗОВАНИЯ</a:t>
            </a: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«ИНСТИТУТ РЕГИОНАЛЬНОГО РАЗВИТИЯ ПЕНЗЕНСКОЙ ОБЛАСТ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Филиал «Непоседы» Муниципального бюджетного дошкольного образовательного учреждения </a:t>
            </a: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детский сад № 149 г. Пензы «Город детства»</a:t>
            </a:r>
            <a:br>
              <a:rPr sz="1200"/>
            </a:b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Областной семинар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«Воспитание толерантности у дошкольников»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D489-4742-45D1-8F05-30A4CCB9C93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E540-8027-4255-8BFC-44C7B2C19C7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071720" y="3214800"/>
            <a:ext cx="71434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ВОСПИТАНИЕ ОСНОВ ТОЛЕРАНТНОСТИ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 ВОСПИТАННИКОВ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ИЛИАЛА «НЕПОСЕДЫ»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Воспитатель высшей квалификационной категории: Л.Ф. Логинова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9F8E-6137-436E-9822-B1AB277D691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916-B686-4F88-85C9-D575A7BA5BB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Picture 8" descr="C:\Users\Наталья Львовна\Desktop\толерантность\Логинова\DSC_3572.JPG"/>
          <p:cNvPicPr/>
          <p:nvPr/>
        </p:nvPicPr>
        <p:blipFill>
          <a:blip r:embed="rId1"/>
          <a:stretch/>
        </p:blipFill>
        <p:spPr>
          <a:xfrm>
            <a:off x="357120" y="3286080"/>
            <a:ext cx="4681440" cy="312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Наталья Львовна\Desktop\толерантность\Логинова\DSC_3573.JPG"/>
          <p:cNvPicPr/>
          <p:nvPr/>
        </p:nvPicPr>
        <p:blipFill>
          <a:blip r:embed="rId2"/>
          <a:stretch/>
        </p:blipFill>
        <p:spPr>
          <a:xfrm>
            <a:off x="4214880" y="976320"/>
            <a:ext cx="4395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3" name="Содержимое 7" descr="p1.jpg"/>
          <p:cNvPicPr/>
          <p:nvPr/>
        </p:nvPicPr>
        <p:blipFill>
          <a:blip r:embed="rId1"/>
          <a:stretch/>
        </p:blipFill>
        <p:spPr>
          <a:xfrm>
            <a:off x="571680" y="857160"/>
            <a:ext cx="3929040" cy="2613240"/>
          </a:xfrm>
          <a:prstGeom prst="rect">
            <a:avLst/>
          </a:prstGeom>
          <a:ln w="0">
            <a:noFill/>
          </a:ln>
        </p:spPr>
      </p:pic>
      <p:sp>
        <p:nvSpPr>
          <p:cNvPr id="10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E853-E900-4465-ABF3-F3E2B0296B1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33AA-4D99-4234-B2E4-51F0C1B5C5F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Picture 8" descr="C:\Users\Наталья Львовна\Desktop\толерантность\Логинова\DSC_3577.JPG"/>
          <p:cNvPicPr/>
          <p:nvPr/>
        </p:nvPicPr>
        <p:blipFill>
          <a:blip r:embed="rId2"/>
          <a:stretch/>
        </p:blipFill>
        <p:spPr>
          <a:xfrm>
            <a:off x="4714920" y="928800"/>
            <a:ext cx="38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Users\Наталья Львовна\Desktop\толерантность\Логинова\DSC_3597.JPG"/>
          <p:cNvPicPr/>
          <p:nvPr/>
        </p:nvPicPr>
        <p:blipFill>
          <a:blip r:embed="rId3"/>
          <a:stretch/>
        </p:blipFill>
        <p:spPr>
          <a:xfrm>
            <a:off x="642960" y="3714840"/>
            <a:ext cx="3786120" cy="27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Наталья Львовна\Desktop\фото\физ праздник\20180213_113754.jpg"/>
          <p:cNvPicPr/>
          <p:nvPr/>
        </p:nvPicPr>
        <p:blipFill>
          <a:blip r:embed="rId4"/>
          <a:stretch/>
        </p:blipFill>
        <p:spPr>
          <a:xfrm>
            <a:off x="4714920" y="3714840"/>
            <a:ext cx="36100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1" name="Содержимое 7" descr="DSC05604.jpg"/>
          <p:cNvPicPr/>
          <p:nvPr/>
        </p:nvPicPr>
        <p:blipFill>
          <a:blip r:embed="rId1"/>
          <a:stretch/>
        </p:blipFill>
        <p:spPr>
          <a:xfrm>
            <a:off x="571680" y="357120"/>
            <a:ext cx="4038480" cy="2727360"/>
          </a:xfrm>
          <a:prstGeom prst="rect">
            <a:avLst/>
          </a:prstGeom>
          <a:ln w="0">
            <a:noFill/>
          </a:ln>
        </p:spPr>
      </p:pic>
      <p:sp>
        <p:nvSpPr>
          <p:cNvPr id="11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55E3-A79D-4128-8CB0-B497BD9FF6C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6824-9050-4400-A8C3-F62DF629174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Picture 8" descr="C:\Users\Наталья Львовна\Desktop\толерантность\26\masl3.jpg"/>
          <p:cNvPicPr/>
          <p:nvPr/>
        </p:nvPicPr>
        <p:blipFill>
          <a:blip r:embed="rId2"/>
          <a:stretch/>
        </p:blipFill>
        <p:spPr>
          <a:xfrm>
            <a:off x="5214960" y="571680"/>
            <a:ext cx="3371760" cy="252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Users\Наталья Львовна\Desktop\толерантность\26\masl5.jpg"/>
          <p:cNvPicPr/>
          <p:nvPr/>
        </p:nvPicPr>
        <p:blipFill>
          <a:blip r:embed="rId3"/>
          <a:stretch/>
        </p:blipFill>
        <p:spPr>
          <a:xfrm>
            <a:off x="5572080" y="3214800"/>
            <a:ext cx="2517840" cy="33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:\Users\Наталья Львовна\Desktop\толерантность\26\zhavor.jpg"/>
          <p:cNvPicPr/>
          <p:nvPr/>
        </p:nvPicPr>
        <p:blipFill>
          <a:blip r:embed="rId4"/>
          <a:stretch/>
        </p:blipFill>
        <p:spPr>
          <a:xfrm>
            <a:off x="642960" y="3500280"/>
            <a:ext cx="342900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9" name="Содержимое 7" descr="1m.jpg"/>
          <p:cNvPicPr/>
          <p:nvPr/>
        </p:nvPicPr>
        <p:blipFill>
          <a:blip r:embed="rId1"/>
          <a:stretch/>
        </p:blipFill>
        <p:spPr>
          <a:xfrm>
            <a:off x="571680" y="5000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1F7-320B-4D09-9AC1-C7C2E1813F3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960-D933-4681-9DCC-4DA7F014213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3" name="Picture 8" descr="C:\Users\Наталья Львовна\Desktop\толерантность\26\obol_6.jpg"/>
          <p:cNvPicPr/>
          <p:nvPr/>
        </p:nvPicPr>
        <p:blipFill>
          <a:blip r:embed="rId2"/>
          <a:stretch/>
        </p:blipFill>
        <p:spPr>
          <a:xfrm>
            <a:off x="3908520" y="3571920"/>
            <a:ext cx="4773600" cy="278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Users\Наталья Львовна\Desktop\фото\20171229_105157.jpg"/>
          <p:cNvPicPr/>
          <p:nvPr/>
        </p:nvPicPr>
        <p:blipFill>
          <a:blip r:embed="rId3"/>
          <a:stretch/>
        </p:blipFill>
        <p:spPr>
          <a:xfrm>
            <a:off x="5000760" y="642960"/>
            <a:ext cx="3562200" cy="2671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:\Users\Наталья Львовна\Desktop\толерантность\26\pochta.jpg"/>
          <p:cNvPicPr/>
          <p:nvPr/>
        </p:nvPicPr>
        <p:blipFill>
          <a:blip r:embed="rId4"/>
          <a:stretch/>
        </p:blipFill>
        <p:spPr>
          <a:xfrm>
            <a:off x="571680" y="4143240"/>
            <a:ext cx="29667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D20B-6585-4A83-A82F-5015F284D2B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0F61-6CE5-4077-901C-99B9F64A797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0" name="Picture 9" descr="C:\Users\Наталья Львовна\Desktop\фото\20180507_101415.jpg"/>
          <p:cNvPicPr/>
          <p:nvPr/>
        </p:nvPicPr>
        <p:blipFill>
          <a:blip r:embed="rId1"/>
          <a:stretch/>
        </p:blipFill>
        <p:spPr>
          <a:xfrm>
            <a:off x="428760" y="428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Users\Наталья Львовна\Desktop\фото\20180507_110023.jpg"/>
          <p:cNvPicPr/>
          <p:nvPr/>
        </p:nvPicPr>
        <p:blipFill>
          <a:blip r:embed="rId2"/>
          <a:stretch/>
        </p:blipFill>
        <p:spPr>
          <a:xfrm>
            <a:off x="4643280" y="42876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C:\Users\Наталья Львовна\Desktop\толерантность\26\20180507_111332.jpg"/>
          <p:cNvPicPr/>
          <p:nvPr/>
        </p:nvPicPr>
        <p:blipFill>
          <a:blip r:embed="rId3"/>
          <a:stretch/>
        </p:blipFill>
        <p:spPr>
          <a:xfrm>
            <a:off x="428760" y="3643200"/>
            <a:ext cx="4071960" cy="286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C:\Users\Наталья Львовна\Desktop\фото\20180507_112142.jpg"/>
          <p:cNvPicPr/>
          <p:nvPr/>
        </p:nvPicPr>
        <p:blipFill>
          <a:blip r:embed="rId4"/>
          <a:stretch/>
        </p:blipFill>
        <p:spPr>
          <a:xfrm>
            <a:off x="4786200" y="3643200"/>
            <a:ext cx="3786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5" name="Содержимое 9" descr="9.3.jpg"/>
          <p:cNvPicPr/>
          <p:nvPr/>
        </p:nvPicPr>
        <p:blipFill>
          <a:blip r:embed="rId1"/>
          <a:stretch/>
        </p:blipFill>
        <p:spPr>
          <a:xfrm>
            <a:off x="4643280" y="3286080"/>
            <a:ext cx="4038840" cy="303048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BEB7-BCE9-4702-8014-DE303E641FB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14EC-5B8A-4143-BEA4-A84826DA0ED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9" name="Picture 8" descr="C:\Users\Наталья Львовна\Desktop\фото\20180609_100449.jpg"/>
          <p:cNvPicPr/>
          <p:nvPr/>
        </p:nvPicPr>
        <p:blipFill>
          <a:blip r:embed="rId2"/>
          <a:stretch/>
        </p:blipFill>
        <p:spPr>
          <a:xfrm>
            <a:off x="500040" y="428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Наталья Львовна\Desktop\фото ЛЕТО\20180829_101210.jpg"/>
          <p:cNvPicPr/>
          <p:nvPr/>
        </p:nvPicPr>
        <p:blipFill>
          <a:blip r:embed="rId3"/>
          <a:stretch/>
        </p:blipFill>
        <p:spPr>
          <a:xfrm>
            <a:off x="5143680" y="7142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Наталья Львовна\Desktop\фото ЛЕТО\20180829_101002.jpg"/>
          <p:cNvPicPr/>
          <p:nvPr/>
        </p:nvPicPr>
        <p:blipFill>
          <a:blip r:embed="rId4"/>
          <a:stretch/>
        </p:blipFill>
        <p:spPr>
          <a:xfrm>
            <a:off x="785880" y="38577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36D6-24E5-4B2E-88A5-AB0C0AC76D2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549C-2F77-4874-A31C-1527A0E5171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6" name="Picture 9" descr="C:\Users\Наталья Львовна\Desktop\фото\снятие блокады ленинграда\DSC00461.JPG"/>
          <p:cNvPicPr/>
          <p:nvPr/>
        </p:nvPicPr>
        <p:blipFill>
          <a:blip r:embed="rId1"/>
          <a:stretch/>
        </p:blipFill>
        <p:spPr>
          <a:xfrm>
            <a:off x="500040" y="3857760"/>
            <a:ext cx="403848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Users\Наталья Львовна\Desktop\фото\снятие блокады ленинграда\DSC00467.JPG"/>
          <p:cNvPicPr/>
          <p:nvPr/>
        </p:nvPicPr>
        <p:blipFill>
          <a:blip r:embed="rId2"/>
          <a:stretch/>
        </p:blipFill>
        <p:spPr>
          <a:xfrm>
            <a:off x="4643280" y="3857760"/>
            <a:ext cx="4038840" cy="25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C:\Users\Наталья Львовна\Desktop\фото\снятие блокады ленинграда\DSC00434.JPG"/>
          <p:cNvPicPr/>
          <p:nvPr/>
        </p:nvPicPr>
        <p:blipFill>
          <a:blip r:embed="rId3"/>
          <a:stretch/>
        </p:blipFill>
        <p:spPr>
          <a:xfrm>
            <a:off x="1643040" y="428760"/>
            <a:ext cx="5643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9AFA-D5E1-4F94-813E-7049EE74926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402-392F-4CD8-AEC1-7B4AE3AF269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3" name="Picture 8" descr="C:\Users\Наталья Львовна\Desktop\фото\масленица\20180209_103404.jpg"/>
          <p:cNvPicPr/>
          <p:nvPr/>
        </p:nvPicPr>
        <p:blipFill>
          <a:blip r:embed="rId1"/>
          <a:stretch/>
        </p:blipFill>
        <p:spPr>
          <a:xfrm>
            <a:off x="500040" y="42876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Наталья Львовна\Desktop\фото\масленица\IMG_20180209_093508.jpg"/>
          <p:cNvPicPr/>
          <p:nvPr/>
        </p:nvPicPr>
        <p:blipFill>
          <a:blip r:embed="rId2"/>
          <a:stretch/>
        </p:blipFill>
        <p:spPr>
          <a:xfrm>
            <a:off x="4429080" y="3429000"/>
            <a:ext cx="4310280" cy="32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C:\Users\Наталья Львовна\Desktop\фото\масленица\IMG_20180209_094011.jpg"/>
          <p:cNvPicPr/>
          <p:nvPr/>
        </p:nvPicPr>
        <p:blipFill>
          <a:blip r:embed="rId3"/>
          <a:stretch/>
        </p:blipFill>
        <p:spPr>
          <a:xfrm>
            <a:off x="928800" y="3071880"/>
            <a:ext cx="2601720" cy="347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:\Users\Наталья Львовна\Desktop\фото\масленица\IMG_20180209_094502.jpg"/>
          <p:cNvPicPr/>
          <p:nvPr/>
        </p:nvPicPr>
        <p:blipFill>
          <a:blip r:embed="rId4"/>
          <a:stretch/>
        </p:blipFill>
        <p:spPr>
          <a:xfrm>
            <a:off x="6000840" y="357120"/>
            <a:ext cx="21254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A9C7-87AA-413A-899B-F0470435A09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98C-30E3-4776-9527-7B41E1B4EC4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1" name="Picture 8" descr="C:\Users\Наталья Львовна\Desktop\фото\ДЕТСКИЙ САД\DSC00399.JPG"/>
          <p:cNvPicPr/>
          <p:nvPr/>
        </p:nvPicPr>
        <p:blipFill>
          <a:blip r:embed="rId1"/>
          <a:stretch/>
        </p:blipFill>
        <p:spPr>
          <a:xfrm>
            <a:off x="428760" y="57168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Наталья Львовна\Desktop\фото\ДЕТСКИЙ САД\DSCN1545.JPG"/>
          <p:cNvPicPr/>
          <p:nvPr/>
        </p:nvPicPr>
        <p:blipFill>
          <a:blip r:embed="rId2"/>
          <a:stretch/>
        </p:blipFill>
        <p:spPr>
          <a:xfrm>
            <a:off x="3786120" y="3214800"/>
            <a:ext cx="4395960" cy="329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Наталья Львовна\Desktop\фото\ДЕТСКИЙ САД\DSC00405.JPG"/>
          <p:cNvPicPr/>
          <p:nvPr/>
        </p:nvPicPr>
        <p:blipFill>
          <a:blip r:embed="rId3"/>
          <a:stretch/>
        </p:blipFill>
        <p:spPr>
          <a:xfrm>
            <a:off x="785880" y="3357720"/>
            <a:ext cx="1743120" cy="3098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C:\Users\Наталья Львовна\Desktop\фото\ДЕТСКИЙ САД\DSC00422.JPG"/>
          <p:cNvPicPr/>
          <p:nvPr/>
        </p:nvPicPr>
        <p:blipFill>
          <a:blip r:embed="rId4"/>
          <a:stretch/>
        </p:blipFill>
        <p:spPr>
          <a:xfrm>
            <a:off x="7000920" y="357120"/>
            <a:ext cx="1538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9D6E-9AA8-4B6A-A190-793B54FDA88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9EEF-F5CE-4FBD-B3CD-962EA2CEF63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Picture 8" descr="C:\Users\Наталья Львовна\Desktop\толерантность\Логинова\DSC_3600.JPG"/>
          <p:cNvPicPr/>
          <p:nvPr/>
        </p:nvPicPr>
        <p:blipFill>
          <a:blip r:embed="rId1"/>
          <a:stretch/>
        </p:blipFill>
        <p:spPr>
          <a:xfrm>
            <a:off x="500040" y="178596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C:\Users\Наталья Львовна\Desktop\толерантность\Логинова\DSC_3607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C:\Users\Наталья Львовна\Desktop\толерантность\Логинова\DSC_3611.JPG"/>
          <p:cNvPicPr/>
          <p:nvPr/>
        </p:nvPicPr>
        <p:blipFill>
          <a:blip r:embed="rId3"/>
          <a:stretch/>
        </p:blipFill>
        <p:spPr>
          <a:xfrm>
            <a:off x="4643280" y="64296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7406-05C6-4DFB-B387-023344B4C8E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F954-C91C-4AFB-8518-EE6E1686CF9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Picture 2" descr="C:\Users\Наталья Львовна\Desktop\толерантность\1510946960_tolerantnost.jpg"/>
          <p:cNvPicPr/>
          <p:nvPr/>
        </p:nvPicPr>
        <p:blipFill>
          <a:blip r:embed="rId1"/>
          <a:stretch/>
        </p:blipFill>
        <p:spPr>
          <a:xfrm>
            <a:off x="428760" y="357120"/>
            <a:ext cx="8259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82D-BD56-43FB-8B02-3AF1470F280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581-6C50-468B-8473-D45A8B2BAAA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Picture 8" descr="C:\Users\Наталья Львовна\Desktop\толерантность\26\zoo2.jpg"/>
          <p:cNvPicPr/>
          <p:nvPr/>
        </p:nvPicPr>
        <p:blipFill>
          <a:blip r:embed="rId1"/>
          <a:stretch/>
        </p:blipFill>
        <p:spPr>
          <a:xfrm>
            <a:off x="571680" y="78588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Наталья Львовна\Desktop\толерантность\26\1.jpg"/>
          <p:cNvPicPr/>
          <p:nvPr/>
        </p:nvPicPr>
        <p:blipFill>
          <a:blip r:embed="rId2"/>
          <a:stretch/>
        </p:blipFill>
        <p:spPr>
          <a:xfrm>
            <a:off x="4714920" y="3857760"/>
            <a:ext cx="3752640" cy="250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Наталья Львовна\Desktop\Мой друг 1 группа\20181004_135219.jpg"/>
          <p:cNvPicPr/>
          <p:nvPr/>
        </p:nvPicPr>
        <p:blipFill>
          <a:blip r:embed="rId3"/>
          <a:stretch/>
        </p:blipFill>
        <p:spPr>
          <a:xfrm>
            <a:off x="928800" y="407196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5357880" y="35712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5C8-0C05-40A6-8B39-0791F80C403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5902-FED9-456D-B905-1D83A425A95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4" name="Picture 2" descr="D:\Диск С\Рабочий стол\Новая папка\в кругу семьи\P1180023.JPG"/>
          <p:cNvPicPr/>
          <p:nvPr/>
        </p:nvPicPr>
        <p:blipFill>
          <a:blip r:embed="rId1"/>
          <a:stretch/>
        </p:blipFill>
        <p:spPr>
          <a:xfrm>
            <a:off x="428760" y="500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4786200" y="400068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4572000" y="1000080"/>
            <a:ext cx="4286160" cy="241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4"/>
          <a:stretch/>
        </p:blipFill>
        <p:spPr>
          <a:xfrm>
            <a:off x="571680" y="364320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F2C8-4375-43B6-AFA7-C50A01EB640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1F3-F339-40C7-88B6-9DD966CE8EA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2608200" cy="3478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5429160" y="357120"/>
            <a:ext cx="2822760" cy="376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1000080" y="35712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4"/>
          <a:stretch/>
        </p:blipFill>
        <p:spPr>
          <a:xfrm>
            <a:off x="5357880" y="435780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ОТРУДНИК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D873-D5EF-4355-B71A-E57D9A992F5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996-A386-4467-8779-A1548F22250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0" name="Picture 8" descr="C:\Users\Наталья Львовна\Desktop\толерантность\26\4f.jpg"/>
          <p:cNvPicPr/>
          <p:nvPr/>
        </p:nvPicPr>
        <p:blipFill>
          <a:blip r:embed="rId1"/>
          <a:stretch/>
        </p:blipFill>
        <p:spPr>
          <a:xfrm>
            <a:off x="500040" y="57168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:\Users\Наталья Львовна\Desktop\толерантность\26\IMG_0062.jpg"/>
          <p:cNvPicPr/>
          <p:nvPr/>
        </p:nvPicPr>
        <p:blipFill>
          <a:blip r:embed="rId2"/>
          <a:stretch/>
        </p:blipFill>
        <p:spPr>
          <a:xfrm>
            <a:off x="4643280" y="3643200"/>
            <a:ext cx="4038840" cy="2695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C:\Users\Наталья Львовна\Desktop\толерантность\26\IMG_0090.jpg"/>
          <p:cNvPicPr/>
          <p:nvPr/>
        </p:nvPicPr>
        <p:blipFill>
          <a:blip r:embed="rId3"/>
          <a:stretch/>
        </p:blipFill>
        <p:spPr>
          <a:xfrm>
            <a:off x="285840" y="3714840"/>
            <a:ext cx="4267080" cy="2847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C:\Users\Наталья Львовна\Desktop\толерантность\26\plav_2.jpg"/>
          <p:cNvPicPr/>
          <p:nvPr/>
        </p:nvPicPr>
        <p:blipFill>
          <a:blip r:embed="rId4"/>
          <a:stretch/>
        </p:blipFill>
        <p:spPr>
          <a:xfrm>
            <a:off x="4643280" y="714240"/>
            <a:ext cx="3878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8EE-66B3-43E1-84DB-D59F83EF68B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A7BF-142F-45D6-BFE5-01963C13C5D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071960" y="3714840"/>
            <a:ext cx="46735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КОЛЛЕКТИВ ФИЛИАЛА «НЕПОСЕДЫ» МБДОУ № 149 г. ПЕНЗЫ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06E8-698B-409B-921A-C62C91007A6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4B1A-5B4B-4649-A87F-59D0E9EEF9C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5" name="Picture 8" descr="C:\Users\Наталья Львовна\Desktop\DSC_0031_1иии.jpg"/>
          <p:cNvPicPr/>
          <p:nvPr/>
        </p:nvPicPr>
        <p:blipFill>
          <a:blip r:embed="rId2"/>
          <a:stretch/>
        </p:blipFill>
        <p:spPr>
          <a:xfrm>
            <a:off x="642960" y="928800"/>
            <a:ext cx="790092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f0df7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61A-28E3-43D9-9294-381BBCA220C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FBB1-FD0D-42E4-8E19-73E83E5E04D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1" name="Picture 2" descr="C:\Users\Наталья Львовна\Desktop\толерантность\hello_html_3c0fe39d.jpg"/>
          <p:cNvPicPr/>
          <p:nvPr/>
        </p:nvPicPr>
        <p:blipFill>
          <a:blip r:embed="rId2"/>
          <a:stretch/>
        </p:blipFill>
        <p:spPr>
          <a:xfrm>
            <a:off x="928800" y="1643040"/>
            <a:ext cx="7215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785920" y="356760"/>
            <a:ext cx="2900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англий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готовность быть терпимым, снисходительным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о француз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отношение, когда человек думает и действует иначе, чем ты сам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китай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быть по отношению к другим великодушным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араб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милосердие, терпение, сострадание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рус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умение принять другого таким, какой он есть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3" name="Picture 4" descr="C:\Users\Наталья Львовна\Desktop\толерантность\hello_html_32eea128.png"/>
          <p:cNvPicPr/>
          <p:nvPr/>
        </p:nvPicPr>
        <p:blipFill>
          <a:blip r:embed="rId1"/>
          <a:stretch/>
        </p:blipFill>
        <p:spPr>
          <a:xfrm>
            <a:off x="457200" y="428760"/>
            <a:ext cx="5383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Calibri"/>
              </a:rPr>
              <a:t>«Толерантность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терпение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ответственност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Л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любов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единство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радост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активност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надежность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товарищество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нравственность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общение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сострадани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терпимость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мягкость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A498-4F7D-4946-8D28-594B0F13FA5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D35-313B-420E-9710-BF3168755A8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9" name="Picture 8" descr="C:\Users\Наталья Львовна\Desktop\толерантность\64270381.jpg"/>
          <p:cNvPicPr/>
          <p:nvPr/>
        </p:nvPicPr>
        <p:blipFill>
          <a:blip r:embed="rId1"/>
          <a:stretch/>
        </p:blipFill>
        <p:spPr>
          <a:xfrm>
            <a:off x="3643200" y="1874880"/>
            <a:ext cx="49672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93DB-FA23-43A6-A6B1-5AF2AB2CEC9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82CD-713B-4BF6-94E5-A529C3F183E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Picture 8" descr="C:\Users\Наталья Львовна\Desktop\толерантность\1467026159_103388_html_m7b218718.jpg"/>
          <p:cNvPicPr/>
          <p:nvPr/>
        </p:nvPicPr>
        <p:blipFill>
          <a:blip r:embed="rId1"/>
          <a:stretch/>
        </p:blipFill>
        <p:spPr>
          <a:xfrm>
            <a:off x="571680" y="571680"/>
            <a:ext cx="816444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Calibri"/>
              </a:rPr>
              <a:t>Основы толерантности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7" name="Содержимое 7" descr=""/>
          <p:cNvPicPr/>
          <p:nvPr/>
        </p:nvPicPr>
        <p:blipFill>
          <a:blip r:embed="rId1"/>
          <a:stretch/>
        </p:blipFill>
        <p:spPr>
          <a:xfrm>
            <a:off x="1060560" y="1200240"/>
            <a:ext cx="7370640" cy="4597200"/>
          </a:xfrm>
          <a:prstGeom prst="rect">
            <a:avLst/>
          </a:prstGeom>
          <a:ln w="0">
            <a:noFill/>
          </a:ln>
        </p:spPr>
      </p:pic>
      <p:sp>
        <p:nvSpPr>
          <p:cNvPr id="6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C1A-1A16-40A2-AE05-B70C0DCB7D0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698F-41DB-4A73-9C30-B774B64F9EC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Скругленный прямоугольник 9"/>
          <p:cNvSpPr/>
          <p:nvPr/>
        </p:nvSpPr>
        <p:spPr>
          <a:xfrm>
            <a:off x="928800" y="478620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СКУРСИИ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Скругленный прямоугольник 10"/>
          <p:cNvSpPr/>
          <p:nvPr/>
        </p:nvSpPr>
        <p:spPr>
          <a:xfrm>
            <a:off x="6429240" y="4572000"/>
            <a:ext cx="1928880" cy="1428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ЖЕДНЕВНО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ТЯЖЕНИИ ВСЕГО ДНЯ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Стрелка влево 12"/>
          <p:cNvSpPr/>
          <p:nvPr/>
        </p:nvSpPr>
        <p:spPr>
          <a:xfrm rot="20688000">
            <a:off x="3308040" y="5290920"/>
            <a:ext cx="693720" cy="564840"/>
          </a:xfrm>
          <a:prstGeom prst="leftArrow">
            <a:avLst>
              <a:gd name="adj1" fmla="val 60000"/>
              <a:gd name="adj2" fmla="val 50025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Стрелка влево 13"/>
          <p:cNvSpPr/>
          <p:nvPr/>
        </p:nvSpPr>
        <p:spPr>
          <a:xfrm rot="12552600">
            <a:off x="5522040" y="5276520"/>
            <a:ext cx="693720" cy="565200"/>
          </a:xfrm>
          <a:prstGeom prst="leftArrow">
            <a:avLst>
              <a:gd name="adj1" fmla="val 60000"/>
              <a:gd name="adj2" fmla="val 49993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6" name="Содержимое 7" descr="1 (1).jpg"/>
          <p:cNvPicPr/>
          <p:nvPr/>
        </p:nvPicPr>
        <p:blipFill>
          <a:blip r:embed="rId1"/>
          <a:stretch/>
        </p:blipFill>
        <p:spPr>
          <a:xfrm>
            <a:off x="642960" y="571680"/>
            <a:ext cx="3643200" cy="2430360"/>
          </a:xfrm>
          <a:prstGeom prst="rect">
            <a:avLst/>
          </a:prstGeom>
          <a:ln w="0">
            <a:noFill/>
          </a:ln>
        </p:spPr>
      </p:pic>
      <p:sp>
        <p:nvSpPr>
          <p:cNvPr id="7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6971-79DB-446E-9A4C-0320B1BCD85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3366-3869-44B7-9989-5BC5B0A792C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Picture 8" descr="C:\Users\Наталья Львовна\Desktop\толерантность\26\lego.jpg"/>
          <p:cNvPicPr/>
          <p:nvPr/>
        </p:nvPicPr>
        <p:blipFill>
          <a:blip r:embed="rId2"/>
          <a:stretch/>
        </p:blipFill>
        <p:spPr>
          <a:xfrm>
            <a:off x="5000760" y="500040"/>
            <a:ext cx="3681360" cy="25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Users\Наталья Львовна\Desktop\толерантность\26\pozhar.jpg"/>
          <p:cNvPicPr/>
          <p:nvPr/>
        </p:nvPicPr>
        <p:blipFill>
          <a:blip r:embed="rId3"/>
          <a:stretch/>
        </p:blipFill>
        <p:spPr>
          <a:xfrm>
            <a:off x="714240" y="3286080"/>
            <a:ext cx="3643560" cy="308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Users\Наталья Львовна\Desktop\толерантность\Логинова\DSC_3543.JPG"/>
          <p:cNvPicPr/>
          <p:nvPr/>
        </p:nvPicPr>
        <p:blipFill>
          <a:blip r:embed="rId4"/>
          <a:stretch/>
        </p:blipFill>
        <p:spPr>
          <a:xfrm>
            <a:off x="4786200" y="3357720"/>
            <a:ext cx="3881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0F3-5568-4501-9C78-C66BD175391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AF8A-2D6F-4D1F-BA1A-18869F506CC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7" name="Picture 9" descr="C:\Users\Наталья Львовна\Desktop\толерантность\Логинова\DSC_3567.JPG"/>
          <p:cNvPicPr/>
          <p:nvPr/>
        </p:nvPicPr>
        <p:blipFill>
          <a:blip r:embed="rId1"/>
          <a:stretch/>
        </p:blipFill>
        <p:spPr>
          <a:xfrm>
            <a:off x="500040" y="428760"/>
            <a:ext cx="4608360" cy="307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2"/>
          <a:stretch/>
        </p:blipFill>
        <p:spPr>
          <a:xfrm>
            <a:off x="5357880" y="17146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D:\Диск С\Рабочий стол\Новая папка\обж\20171108_092840.jpg"/>
          <p:cNvPicPr/>
          <p:nvPr/>
        </p:nvPicPr>
        <p:blipFill>
          <a:blip r:embed="rId3"/>
          <a:stretch/>
        </p:blipFill>
        <p:spPr>
          <a:xfrm>
            <a:off x="785880" y="3786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0867-5F0F-4DF6-8D42-73FC253E485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E54-C55B-4938-ABAB-4FB3310AE61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Picture 11" descr="C:\Users\Наталья Львовна\Desktop\фото\20171229_104518.jpg"/>
          <p:cNvPicPr/>
          <p:nvPr/>
        </p:nvPicPr>
        <p:blipFill>
          <a:blip r:embed="rId1"/>
          <a:stretch/>
        </p:blipFill>
        <p:spPr>
          <a:xfrm>
            <a:off x="642960" y="1143000"/>
            <a:ext cx="3876480" cy="516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Наталья Львовна\Desktop\фото\20171229_104809.jpg"/>
          <p:cNvPicPr/>
          <p:nvPr/>
        </p:nvPicPr>
        <p:blipFill>
          <a:blip r:embed="rId2"/>
          <a:stretch/>
        </p:blipFill>
        <p:spPr>
          <a:xfrm>
            <a:off x="4786200" y="1143000"/>
            <a:ext cx="39290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8:01:33Z</dcterms:created>
  <dc:creator>про</dc:creator>
  <dc:description>http://aida.ucoz.ru</dc:description>
  <dc:language>en-US</dc:language>
  <cp:lastModifiedBy>Елена Кевдина</cp:lastModifiedBy>
  <dcterms:modified xsi:type="dcterms:W3CDTF">2022-02-16T18:31:15Z</dcterms:modified>
  <cp:revision>56</cp:revision>
  <dc:subject/>
  <dc:title>Муниципальное дошкольное образовательное учреждение детский сад комбинированного вида  № 13 г. Пензы</dc:title>
</cp:coreProperties>
</file>