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932-2A5A-4372-9F2B-B3065829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EB4-ED33-4C6E-B237-EED9DD9F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A44-7E7C-4039-B209-4454D6C9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AE7-DC70-4E9E-947A-4112501D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1CF-AD7A-46BA-90BF-C9D9819E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676-EEC6-4680-9396-F5A9A97B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B0B-94AB-49B3-BE4C-3F10266C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736-3334-48BE-8080-EA23D585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76A-AAFF-4C05-86FA-CEC18512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8C8-89BD-4153-BC1F-F5D7CB0B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D46-4BD9-478D-8FAF-3F817745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F01-8A8A-4C7E-B313-3C2A4DEF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CD95-1FBD-4019-88E0-461437741F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Литературное чтение 3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alibri"/>
              </a:rPr>
              <a:t>И. Тургенев «Воробей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Составила: Шевыркова Л.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ГБОУ СОШ№2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Санкт-Петербур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ИСТОЧНИК ИЛЛЮСТРАЦИИ</a:t>
            </a:r>
            <a:r>
              <a:rPr b="1" lang="ru-RU" sz="3600" spc="-1" strike="noStrike">
                <a:solidFill>
                  <a:srgbClr val="008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76092"/>
                </a:solidFill>
                <a:uFillTx/>
                <a:latin typeface="Calibri"/>
              </a:rPr>
              <a:t>http://whynotra.moy.su/_nw/5/33098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933c"/>
                </a:solidFill>
                <a:latin typeface="Calibri"/>
              </a:rPr>
              <a:t>http://books-scan.ru/2012/02/2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dompolnajachasa.at.ua/p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proshkolu.ru/user/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ufuhycud.ucoz.ru/news/2012-08-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76092"/>
                </a:solidFill>
                <a:uFillTx/>
                <a:latin typeface="Calibri"/>
              </a:rPr>
              <a:t>http://обои.картинки-мира.рф/aston-martin-d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7933c"/>
                </a:solidFill>
                <a:latin typeface="Calibri"/>
              </a:rPr>
              <a:t>Эпиграф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46c0a"/>
                </a:solidFill>
                <a:latin typeface="Arial Black"/>
              </a:rPr>
              <a:t>Любовь, думал я, сильнее смерти и сильнее страха смерти. Только ею, только любовью держится и движется мир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.Турген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ЛЮБОВЬ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 склонность, пристрастие к чему-                                      нибудь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. к музыке. Л.   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к музыке                                     искус                            к искусств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C:\Users\Sony\Pictures\ast1033605big[1].jpg"/>
          <p:cNvPicPr/>
          <p:nvPr/>
        </p:nvPicPr>
        <p:blipFill>
          <a:blip r:embed="rId2"/>
          <a:stretch/>
        </p:blipFill>
        <p:spPr>
          <a:xfrm>
            <a:off x="1332000" y="2060640"/>
            <a:ext cx="374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т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СТРАХ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: очень сильный испуг. сильная боязнь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Задрожать от страха ”со страху”. Навести страх на кого-нибудь. Нагнать страх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Sony\Pictures\18ead29965b775a168ce13e95e7[1].jpg"/>
          <p:cNvPicPr/>
          <p:nvPr/>
        </p:nvPicPr>
        <p:blipFill>
          <a:blip r:embed="rId1"/>
          <a:stretch/>
        </p:blipFill>
        <p:spPr>
          <a:xfrm>
            <a:off x="324000" y="1700280"/>
            <a:ext cx="43923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ван Сергеевич Турген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Sony\Pictures\gogolpage6[1].jpg"/>
          <p:cNvPicPr/>
          <p:nvPr/>
        </p:nvPicPr>
        <p:blipFill>
          <a:blip r:embed="rId2"/>
          <a:stretch/>
        </p:blipFill>
        <p:spPr>
          <a:xfrm>
            <a:off x="2771640" y="1413000"/>
            <a:ext cx="417672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чем писатель рассказал      нам эту историю о воробь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Sony\Pictures\619878-481287b957688773[1].jpg"/>
          <p:cNvPicPr/>
          <p:nvPr/>
        </p:nvPicPr>
        <p:blipFill>
          <a:blip r:embed="rId2"/>
          <a:stretch/>
        </p:blipFill>
        <p:spPr>
          <a:xfrm>
            <a:off x="1619280" y="1700280"/>
            <a:ext cx="6913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042560" y="980640"/>
            <a:ext cx="7643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1 группа – дать свое название тексту, используя изученные фразеологиз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2 группа – составить план к текст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3 группа – выписать эпитеты, олицетворения, гипербол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4 группа – лексическое значение слов: жертвов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смущение, благогов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187280" y="907560"/>
            <a:ext cx="7499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Составить синквей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1  группа о молодом воробь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2  группа о старом воробь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3  группа о Трезо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4  группа отредактировать текст, т.е. заменить слово «я» на слова «писатель», «Тургенев», «Иван Сергеевич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Рефлексия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Любовь – это чувство, идущее из самой глубины сердц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:\Users\Sony\Pictures\iCACRY4C6.jpg"/>
          <p:cNvPicPr/>
          <p:nvPr/>
        </p:nvPicPr>
        <p:blipFill>
          <a:blip r:embed="rId2"/>
          <a:stretch/>
        </p:blipFill>
        <p:spPr>
          <a:xfrm>
            <a:off x="1692360" y="3068640"/>
            <a:ext cx="5904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0:13:37Z</dcterms:created>
  <dc:creator>Ольга</dc:creator>
  <dc:description/>
  <dc:language>en-US</dc:language>
  <cp:lastModifiedBy>Лариса Николаевна</cp:lastModifiedBy>
  <dcterms:modified xsi:type="dcterms:W3CDTF">2012-10-14T18:57:54Z</dcterms:modified>
  <cp:revision>16</cp:revision>
  <dc:subject/>
  <dc:title>Слайд 1</dc:title>
</cp:coreProperties>
</file>