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C73-049D-47A9-A1FF-7DB8155B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4DA-D893-46BE-BDB8-518D5E1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C42-F8E1-46C0-9ED1-0AD83B32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37C-88CE-4970-9617-18F9C7EA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796-47CF-4ACA-AD5F-A748D2D6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135-7FBD-4DE0-A6AE-F33B884A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844-5F30-4E99-9B96-CD1805B7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F7B-419A-4599-B4E7-4CA8E5A1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669-CF28-41F1-A77D-8E2939D1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283-7D5E-4EAF-885C-97795D2B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DFF-1943-4E68-923D-ECBFFAF8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FE4-912C-485E-9EE3-D1C5BBB0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B0ED-0591-41F6-B361-0102FC989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Литературное чтение 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alibri"/>
              </a:rPr>
              <a:t>И. Тургенев «Воробей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Составила: Шевыркова Л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ГБОУ СОШ№2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СТОЧНИК ИЛЛЮСТРАЦИИ</a:t>
            </a: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76092"/>
                </a:solidFill>
                <a:uFillTx/>
                <a:latin typeface="Calibri"/>
              </a:rPr>
              <a:t>http://whynotra.moy.su/_nw/5/33098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933c"/>
                </a:solidFill>
                <a:latin typeface="Calibri"/>
              </a:rPr>
              <a:t>http://books-scan.ru/2012/02/2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dompolnajachasa.at.ua/p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proshkolu.ru/user/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ufuhycud.ucoz.ru/news/2012-08-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76092"/>
                </a:solidFill>
                <a:uFillTx/>
                <a:latin typeface="Calibri"/>
              </a:rPr>
              <a:t>http://обои.картинки-мира.рф/aston-martin-d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933c"/>
                </a:solidFill>
                <a:latin typeface="Calibri"/>
              </a:rPr>
              <a:t>Эпигра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46c0a"/>
                </a:solidFill>
                <a:latin typeface="Arial Black"/>
              </a:rPr>
              <a:t>Любовь, думал я, сильнее смерти и сильнее страха смерти. Только ею, только любовью держится и движется мир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.Турген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ЮБОВЬ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склонность, пристрастие к чему-                                      нибудь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 к музыке. Л.   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к музыке                                     искус                            к искусств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Users\Sony\Pictures\ast1033605big[1].jpg"/>
          <p:cNvPicPr/>
          <p:nvPr/>
        </p:nvPicPr>
        <p:blipFill>
          <a:blip r:embed="rId2"/>
          <a:stretch/>
        </p:blipFill>
        <p:spPr>
          <a:xfrm>
            <a:off x="1332000" y="2060640"/>
            <a:ext cx="374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ТРАХ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: очень сильный испуг. сильная боязнь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Задрожать от страха ”со страху”. Навести страх на кого-нибудь. Нагнать страх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Sony\Pictures\18ead29965b775a168ce13e95e7[1].jpg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ван Сергеевич Турген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Sony\Pictures\gogolpage6[1].jpg"/>
          <p:cNvPicPr/>
          <p:nvPr/>
        </p:nvPicPr>
        <p:blipFill>
          <a:blip r:embed="rId2"/>
          <a:stretch/>
        </p:blipFill>
        <p:spPr>
          <a:xfrm>
            <a:off x="2771640" y="1413000"/>
            <a:ext cx="417672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чем писатель рассказал      нам эту историю о воробь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Sony\Pictures\619878-481287b957688773[1].jpg"/>
          <p:cNvPicPr/>
          <p:nvPr/>
        </p:nvPicPr>
        <p:blipFill>
          <a:blip r:embed="rId2"/>
          <a:stretch/>
        </p:blipFill>
        <p:spPr>
          <a:xfrm>
            <a:off x="1619280" y="1700280"/>
            <a:ext cx="691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042560" y="980640"/>
            <a:ext cx="7643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1 группа – дать свое название тексту, используя изученные фразеологиз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2 группа – составить план к текс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3 группа – выписать эпитеты, олицетворения, гипербол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4 группа – лексическое значение слов: жертвов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смущение, благогов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187280" y="907560"/>
            <a:ext cx="7499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Составить синквей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1  группа о молодом воробь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2  группа о старом воробь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3  группа о Трез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4  группа отредактировать текст, т.е. заменить слово «я» на слова «писатель», «Тургенев», «Иван Сергеевич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ефлексия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Любовь – это чувство, идущее из самой глубины сердц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Users\Sony\Pictures\iCACRY4C6.jpg"/>
          <p:cNvPicPr/>
          <p:nvPr/>
        </p:nvPicPr>
        <p:blipFill>
          <a:blip r:embed="rId2"/>
          <a:stretch/>
        </p:blipFill>
        <p:spPr>
          <a:xfrm>
            <a:off x="1692360" y="3068640"/>
            <a:ext cx="5904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0:13:37Z</dcterms:created>
  <dc:creator>Ольга</dc:creator>
  <dc:description/>
  <dc:language>en-US</dc:language>
  <cp:lastModifiedBy>Лариса Николаевна</cp:lastModifiedBy>
  <dcterms:modified xsi:type="dcterms:W3CDTF">2012-10-14T18:57:54Z</dcterms:modified>
  <cp:revision>16</cp:revision>
  <dc:subject/>
  <dc:title>Слайд 1</dc:title>
</cp:coreProperties>
</file>