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FB3-CDD7-400F-AE95-E0B1C3F3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F5E-DDAC-415A-9830-11DD8524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D86-80F8-4157-B41A-C90BFEF8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CAB-D982-422F-84F5-79A668CC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03D-BCD5-418D-996F-3855F5E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69B-6636-47B5-8F09-3A96F341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4BB-E850-45A2-82D3-76A1B91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E99-F435-44E8-AE25-FE4A8187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520" y="2743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8AB-C98A-4080-8E1A-6F6EEF57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DFE-4B34-428D-95D2-79638C2C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2BA-A921-4B0F-914C-A428B76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3E2-EA1A-475B-B9AB-9EF9958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tScript"/>
              </a:rPr>
              <a:t>Click to edit the title text format</a:t>
            </a:r>
            <a:endParaRPr b="1" lang="en-US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sellaris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9d9"/>
                </a:solidFill>
                <a:latin typeface="Cansellaris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903C-AAD8-4A75-9D9C-FACB7FD585B1}" type="slidenum">
              <a:rPr b="0" lang="ru-RU" sz="1200" spc="-1" strike="noStrike">
                <a:solidFill>
                  <a:srgbClr val="d9d9d9"/>
                </a:solidFill>
                <a:latin typeface="Cansellaris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0718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tScript"/>
              </a:rPr>
              <a:t>Использование краеведческого материала на уроках русского языка и литературы для повышения речевой культуры обучающихся</a:t>
            </a:r>
            <a:endParaRPr b="1" lang="en-US" sz="44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500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30e"/>
                </a:solidFill>
                <a:latin typeface="Cansellarist"/>
              </a:rPr>
              <a:t>Учитель русского языка и литературы Жумагалиева Алия Караевна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130e"/>
                </a:solidFill>
                <a:latin typeface="Cansellarist"/>
              </a:rPr>
              <a:t>2021 год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857680" y="357120"/>
            <a:ext cx="43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nsellarist"/>
              </a:rPr>
              <a:t>МКОУ «Комсомольская СШ»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Фрагменты «Словаря фамилий поселка Комсомольского»</a:t>
            </a:r>
            <a:br>
              <a:rPr sz="5400"/>
            </a:b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8840" y="1428840"/>
            <a:ext cx="7286400" cy="530604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Пятериков-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1. Пятак, Пятой и др. - так часто называли пятого ребенка в семье. 2. Пятуня (и некоторыне другие) - либо пятый ребенок в семье, либо фонетический вариант личного имени Петуня (уменьшительное от Петр) в так называемых якающих говорах. Пяткин. Отчество от формы Пятка - 'пяткин сын' - из нецерковного мужского имени Пятой, т.е. 'пятый ребенок в семье', и уничижительного суффикса -к-(а). С нарицательным пятка (задняя часть ступни) имя никак не связано. Близкая фамилия Пятибратов. Отчество от прозвища Пятибрат - из пять и брат, из семьи, где было пять братьев. (а есть еще Семибратов). Фамилия Пятайкин из запросов посетителй. Вероятно, имеет тоже объяснение. Можно добавить, что фамилии на -айкин образованы от прозвищ или имен на -айка - Пятайка. По мнению Никонова, подобные прозвища часты для мордовского языка (известен, например, Девятайкин. А вот предок Пятницына , скорее всего, родился в пятницу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Фрагменты «Словаря фамилий поселка Комсомольского»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786120" y="1643040"/>
            <a:ext cx="4572000" cy="173988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sellarist"/>
              </a:rPr>
              <a:t>Коровин</a:t>
            </a: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образовано от некрестильного имени или прозвища Коровиа, Коровко. Такие имена от названий домашних животных были популярны в старину и образовали множество фамилий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714240" y="4214880"/>
            <a:ext cx="5286600" cy="2562840"/>
          </a:xfrm>
          <a:prstGeom prst="rect">
            <a:avLst/>
          </a:prstGeom>
          <a:solidFill>
            <a:srgbClr val="d0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sellarist"/>
              </a:rPr>
              <a:t>Сафьянов</a:t>
            </a: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существует немного фамилий, образованных от названий тканей, кож. Саржин - саржа, ткань для подкладки, но кроме того в новгородских и тверских говорах - крестьянская домотканина со льняной основой, Сафьянов - сафьян, выделенная козья шкура и обувь из нее (Даль).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9009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tScript"/>
              </a:rPr>
              <a:t>Распространенные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tScript"/>
              </a:rPr>
              <a:t>мужские и женские имена </a:t>
            </a:r>
            <a:br>
              <a:rPr sz="2800"/>
            </a:br>
            <a:endParaRPr b="1" lang="en-US" sz="2800" spc="-1" strike="noStrike">
              <a:solidFill>
                <a:srgbClr val="c00000"/>
              </a:solidFill>
              <a:latin typeface="ArtScript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85920" y="2857680"/>
          <a:ext cx="6929280" cy="1071360"/>
        </p:xfrm>
        <a:graphic>
          <a:graphicData uri="http://schemas.openxmlformats.org/drawingml/2006/table">
            <a:tbl>
              <a:tblPr/>
              <a:tblGrid>
                <a:gridCol w="841320"/>
                <a:gridCol w="863640"/>
                <a:gridCol w="669960"/>
                <a:gridCol w="668160"/>
                <a:gridCol w="963720"/>
                <a:gridCol w="1101600"/>
                <a:gridCol w="755640"/>
                <a:gridCol w="1065240"/>
              </a:tblGrid>
              <a:tr h="70308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тья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таль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ль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деж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екса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рг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лади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nDrEy.ADMIN-47F0C96AB\Рабочий стол\на презентацию 11\SAM_1955.JPG"/>
          <p:cNvPicPr/>
          <p:nvPr/>
        </p:nvPicPr>
        <p:blipFill>
          <a:blip r:embed="rId1"/>
          <a:stretch/>
        </p:blipFill>
        <p:spPr>
          <a:xfrm>
            <a:off x="5643720" y="928800"/>
            <a:ext cx="3143160" cy="46846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sp>
        <p:nvSpPr>
          <p:cNvPr id="83" name="TextBox 4"/>
          <p:cNvSpPr/>
          <p:nvPr/>
        </p:nvSpPr>
        <p:spPr>
          <a:xfrm>
            <a:off x="142920" y="2000160"/>
            <a:ext cx="535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nsellarist"/>
              </a:rPr>
              <a:t>Среди учащихся 5 – 11 классов: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1. Отношусь положительно. Часто использую в речи  -  9 человек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2. Использую, но  не  часто;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стараюсь употреблять только необидные   - 7 человек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3. Отношусь  отрицательно. Никогда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не использую – 4 человека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514368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nsellarist"/>
              </a:rPr>
              <a:t>Опрос взрослых (20 человек)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1. Отношусь положительно -0.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2. Использую , но  не  часто- 2 человека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sellarist"/>
              </a:rPr>
              <a:t>3. Отношусь  отрицательно- 18 человек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534960" y="142920"/>
            <a:ext cx="86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nsellarist"/>
              </a:rPr>
              <a:t>Опрос «Твое отношение к прозвищам»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 на уроках русского язык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87" name="Picture 2" descr="C:\Documents and Settings\AnDrEy.ADMIN-47F0C96AB\Рабочий стол\на презентацию 11\SAM_1964.JPG"/>
          <p:cNvPicPr/>
          <p:nvPr/>
        </p:nvPicPr>
        <p:blipFill>
          <a:blip r:embed="rId1"/>
          <a:stretch/>
        </p:blipFill>
        <p:spPr>
          <a:xfrm>
            <a:off x="285840" y="3857760"/>
            <a:ext cx="3709800" cy="24289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1143000" y="15717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nsellarist"/>
              </a:rPr>
              <a:t>Выделены смысловые группы: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учебных предметов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физра, литра, матем, био, гео, природа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учителей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училка, англичанка, физичка, биологичка, классная, физручка и др.);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предметов и вещей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шпоры, спортивка, домашка,идр.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sellarist"/>
              </a:rPr>
              <a:t>Названия школьных отметок </a:t>
            </a:r>
            <a:r>
              <a:rPr b="0" i="1" lang="ru-RU" sz="1800" spc="-1" strike="noStrike">
                <a:solidFill>
                  <a:srgbClr val="000000"/>
                </a:solidFill>
                <a:latin typeface="Cansellarist"/>
              </a:rPr>
              <a:t>(пятак, тройбан, трояк, кол, пара и др.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71960" y="371664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 часто употребляют школьники 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обные слова?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143240" y="4572000"/>
          <a:ext cx="4572000" cy="1284120"/>
        </p:xfrm>
        <a:graphic>
          <a:graphicData uri="http://schemas.openxmlformats.org/drawingml/2006/table">
            <a:tbl>
              <a:tblPr/>
              <a:tblGrid>
                <a:gridCol w="1108080"/>
                <a:gridCol w="1177920"/>
                <a:gridCol w="1214640"/>
                <a:gridCol w="107136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ю всег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ю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ю ред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потребля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8"/>
          <p:cNvSpPr/>
          <p:nvPr/>
        </p:nvSpPr>
        <p:spPr>
          <a:xfrm>
            <a:off x="5429160" y="14288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«Школьный жаргон»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85840"/>
            <a:ext cx="43578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русского языка и литературы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4500720" y="357120"/>
            <a:ext cx="4267080" cy="28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85840" y="3000240"/>
          <a:ext cx="5357880" cy="3681720"/>
        </p:xfrm>
        <a:graphic>
          <a:graphicData uri="http://schemas.openxmlformats.org/drawingml/2006/table">
            <a:tbl>
              <a:tblPr/>
              <a:tblGrid>
                <a:gridCol w="361800"/>
                <a:gridCol w="2498760"/>
                <a:gridCol w="480960"/>
                <a:gridCol w="1535040"/>
                <a:gridCol w="481320"/>
              </a:tblGrid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раб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 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мятные места Волгоградской области. Шукшинский утес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дькина Анастас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амятные места Волгоградской области. Максим Горький на станц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тая» в Царицыне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шина Снеж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ловарь фамилий жителей поселка Комсомольского Палласовского район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ьмина Екатерина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ваева 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64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кольный жаргон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лка Комсомольско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асовского район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емыкина Владисл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Характеристика местного говора (поселок Комсомоль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асовского района)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галина Екатерина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ваева 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нтропонимы поселка Комсомольско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асовского район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ьмина Екатерина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ваева 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nsellarist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8" descr="http://agroturismo.ru/photosites/volg_1_4.jpg"/>
          <p:cNvPicPr/>
          <p:nvPr/>
        </p:nvPicPr>
        <p:blipFill>
          <a:blip r:embed="rId1"/>
          <a:stretch/>
        </p:blipFill>
        <p:spPr>
          <a:xfrm>
            <a:off x="6858000" y="5133960"/>
            <a:ext cx="2286000" cy="1720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99800" y="-1432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Легенда об озере Эльтон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643120" y="785880"/>
            <a:ext cx="6215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sellarist"/>
              </a:rPr>
              <a:t>Среди казахов до сих пор бытует легенда, согласно которой в воды озера Эльтон спускается небесный владыка Тенгри-хан, чтобы продлить вечную молодость.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sellarist"/>
              </a:rPr>
              <a:t>Ещё одна легенда, дошедшая до наших дней, повествует о том, что татаро-монгольский хан Мамай, потерпев пора-жение на Куликовом поле и возвращаясь в Золотую Орду, спрятал в водах озера Эльтон золото и драгоцен-ности. Их со временем разъела соль, и оттого вода в озере приобрела золотистый оттенок.   Существует народная легенда, связанная с деятельностью санатория «Эльтон», который был основан в 1910 году и располагался на самом озере, а в 1945 году переехал в одноимённый посёлок. Рассказывают, что при санатории был музей оставленных костылей. Люди приезжали на костылях и через месяц - другой возвращались домой, оставив костыли в санатории. Спустя какое-то время их накопилось столько, что было принято решение избавиться от музея. Один из жителей посёлка забрал костыли и сделал из них забор вокруг своего огорода.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98" name="Рисунок 4" descr="http://agroturismo.ru/photosites/volg_1_1.jpg"/>
          <p:cNvPicPr/>
          <p:nvPr/>
        </p:nvPicPr>
        <p:blipFill>
          <a:blip r:embed="rId2"/>
          <a:stretch/>
        </p:blipFill>
        <p:spPr>
          <a:xfrm>
            <a:off x="0" y="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http://agroturismo.ru/photosites/volg_1_6.jpg"/>
          <p:cNvPicPr/>
          <p:nvPr/>
        </p:nvPicPr>
        <p:blipFill>
          <a:blip r:embed="rId3"/>
          <a:stretch/>
        </p:blipFill>
        <p:spPr>
          <a:xfrm>
            <a:off x="125280" y="2349360"/>
            <a:ext cx="2286000" cy="1721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http://agroturismo.ru/photosites/volg_1_3.jpg"/>
          <p:cNvPicPr/>
          <p:nvPr/>
        </p:nvPicPr>
        <p:blipFill>
          <a:blip r:embed="rId4"/>
          <a:stretch/>
        </p:blipFill>
        <p:spPr>
          <a:xfrm>
            <a:off x="179280" y="4508640"/>
            <a:ext cx="22860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пользование местного фольклора на уроках русского языка и литературы</a:t>
            </a:r>
            <a:br>
              <a:rPr sz="5400"/>
            </a:b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214720" y="157176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ansellarist"/>
              </a:rPr>
              <a:t>Частушки 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500120" y="2143080"/>
            <a:ext cx="3214800" cy="119124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Что вы девки не поете,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Не слыхать ваших речей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Или печку не сложили, 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Не хватило кирпичей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85880" y="5214960"/>
            <a:ext cx="3071880" cy="119124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У миленочка мово Поговорочка на О.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Ну и пусть она на О, 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Все равно люблю его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214200" y="3643200"/>
            <a:ext cx="3357720" cy="119124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Я на Колину гармошку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Понавешаю сирень,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Чтобы Колина гармошка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Заиграла веселей.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106" name="Picture 2" descr="C:\Documents and Settings\AnDrEy.ADMIN-47F0C96AB\Мои документы\Мои рисунки\img070.jpg"/>
          <p:cNvPicPr/>
          <p:nvPr/>
        </p:nvPicPr>
        <p:blipFill>
          <a:blip r:embed="rId1"/>
          <a:stretch/>
        </p:blipFill>
        <p:spPr>
          <a:xfrm>
            <a:off x="4145040" y="3498840"/>
            <a:ext cx="2286000" cy="321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AnDrEy.ADMIN-47F0C96AB\Мои документы\Мои рисунки\img069.jpg"/>
          <p:cNvPicPr/>
          <p:nvPr/>
        </p:nvPicPr>
        <p:blipFill>
          <a:blip r:embed="rId2"/>
          <a:stretch/>
        </p:blipFill>
        <p:spPr>
          <a:xfrm>
            <a:off x="5857920" y="1359000"/>
            <a:ext cx="2835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пользование местного фольклора на уроках русского языка и литературы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3080" y="17859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Cansellarist"/>
              </a:rPr>
              <a:t>Загадки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643040" y="23572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Язык без костей, что хочет, то и лопочет. (Болтовня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928800" y="357192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Что на свете слаще всего? (Сон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214280" y="50007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Сам с вершок, голова с горшок.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sellarist"/>
              </a:rPr>
              <a:t>(Самовар)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113" name="Picture 2" descr="D:\Documents and Settings\Психолог\Рабочий стол\vtesnote400.gif"/>
          <p:cNvPicPr/>
          <p:nvPr/>
        </p:nvPicPr>
        <p:blipFill>
          <a:blip r:embed="rId1"/>
          <a:stretch/>
        </p:blipFill>
        <p:spPr>
          <a:xfrm>
            <a:off x="5072040" y="2000160"/>
            <a:ext cx="3429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зучение творчества земляка-писателя Бориса Екимова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литературы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15" name="Picture 3" descr="Екимов 6"/>
          <p:cNvPicPr/>
          <p:nvPr/>
        </p:nvPicPr>
        <p:blipFill>
          <a:blip r:embed="rId1"/>
          <a:stretch/>
        </p:blipFill>
        <p:spPr>
          <a:xfrm>
            <a:off x="2214720" y="2214720"/>
            <a:ext cx="4744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00080" y="1142640"/>
            <a:ext cx="7858080" cy="728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«Малая родина» - это не только природа в деревне 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и история в городе, но еще уклад и традиции живущих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Это и язык, и мечты, и определенные склонности,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вынесенные из самой земли вместе с ее солью.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Это «родимые» пятна каждого человека…"</a:t>
            </a:r>
            <a:r>
              <a:rPr b="0" lang="ru-RU" sz="2400" spc="-1" strike="noStrike">
                <a:solidFill>
                  <a:srgbClr val="000000"/>
                </a:solidFill>
                <a:latin typeface="Cansellarist"/>
              </a:rPr>
              <a:t>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OdessaScript"/>
              </a:rPr>
              <a:t>В. Распутин</a:t>
            </a: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tScript"/>
              </a:rPr>
              <a:t>Рассказ «Ночь исцеления»</a:t>
            </a:r>
            <a:br>
              <a:rPr sz="3600"/>
            </a:br>
            <a:r>
              <a:rPr b="1" lang="ru-RU" sz="2700" spc="-1" strike="noStrike">
                <a:solidFill>
                  <a:srgbClr val="000000"/>
                </a:solidFill>
                <a:latin typeface="ArtScript"/>
              </a:rPr>
              <a:t>(7 класс)</a:t>
            </a:r>
            <a:endParaRPr b="1" lang="en-US" sz="27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C:\Documents and Settings\AnDrEy.ADMIN-47F0C96AB\Мои документы\Мои рисунки\img071.jpg"/>
          <p:cNvPicPr/>
          <p:nvPr/>
        </p:nvPicPr>
        <p:blipFill>
          <a:blip r:embed="rId2"/>
          <a:stretch/>
        </p:blipFill>
        <p:spPr>
          <a:xfrm>
            <a:off x="4768920" y="1571760"/>
            <a:ext cx="3803760" cy="50720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119" name="Picture 2" descr="C:\Documents and Settings\AnDrEy.ADMIN-47F0C96AB\Мои документы\Мои рисунки\img072.jpg"/>
          <p:cNvPicPr/>
          <p:nvPr/>
        </p:nvPicPr>
        <p:blipFill>
          <a:blip r:embed="rId3"/>
          <a:stretch/>
        </p:blipFill>
        <p:spPr>
          <a:xfrm>
            <a:off x="571680" y="1571760"/>
            <a:ext cx="4000320" cy="5072040"/>
          </a:xfrm>
          <a:prstGeom prst="rect">
            <a:avLst/>
          </a:prstGeom>
          <a:ln w="2844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"И ходит по Земле босая Память - маленькая женщина..."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AnDrEy.ADMIN-47F0C96AB\Рабочий стол\Новая папка (3)\фото\PICT0136.JPG"/>
          <p:cNvPicPr/>
          <p:nvPr/>
        </p:nvPicPr>
        <p:blipFill>
          <a:blip r:embed="rId2"/>
          <a:stretch/>
        </p:blipFill>
        <p:spPr>
          <a:xfrm>
            <a:off x="500040" y="1500120"/>
            <a:ext cx="3873600" cy="2905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3" name="Picture 4" descr="2 февраля 011"/>
          <p:cNvPicPr/>
          <p:nvPr/>
        </p:nvPicPr>
        <p:blipFill>
          <a:blip r:embed="rId3"/>
          <a:stretch/>
        </p:blipFill>
        <p:spPr>
          <a:xfrm>
            <a:off x="4643280" y="3357720"/>
            <a:ext cx="3951360" cy="31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tScript"/>
              </a:rPr>
              <a:t>Рассказ  «Подарок»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4066920" y="92880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(7 класс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129" name="Picture 5" descr="C:\Documents and Settings\AnDrEy.ADMIN-47F0C96AB\Мои документы\Мои рисунки\img073.jpg"/>
          <p:cNvPicPr/>
          <p:nvPr/>
        </p:nvPicPr>
        <p:blipFill>
          <a:blip r:embed="rId2"/>
          <a:stretch/>
        </p:blipFill>
        <p:spPr>
          <a:xfrm>
            <a:off x="1285920" y="2214720"/>
            <a:ext cx="6357960" cy="30002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tScript"/>
              </a:rPr>
              <a:t>Рассказ  «Продажа»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tScript"/>
              </a:rPr>
              <a:t>(9 класс)</a:t>
            </a:r>
            <a:endParaRPr b="1" lang="en-US" sz="24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AnDrEy.ADMIN-47F0C96AB\Мои документы\Мои рисунки\img074.jpg"/>
          <p:cNvPicPr/>
          <p:nvPr/>
        </p:nvPicPr>
        <p:blipFill>
          <a:blip r:embed="rId2"/>
          <a:stretch/>
        </p:blipFill>
        <p:spPr>
          <a:xfrm>
            <a:off x="2428920" y="1643040"/>
            <a:ext cx="4214880" cy="49291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tScript"/>
              </a:rPr>
              <a:t>Рассказ «За теплым хлебом» </a:t>
            </a:r>
            <a:br>
              <a:rPr sz="3600"/>
            </a:br>
            <a:r>
              <a:rPr b="1" lang="ru-RU" sz="2700" spc="-1" strike="noStrike">
                <a:solidFill>
                  <a:srgbClr val="000000"/>
                </a:solidFill>
                <a:latin typeface="ArtScript"/>
              </a:rPr>
              <a:t>(10 класс)</a:t>
            </a:r>
            <a:endParaRPr b="1" lang="en-US" sz="27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AnDrEy.ADMIN-47F0C96AB\Мои документы\Мои рисунки\img076.jpg"/>
          <p:cNvPicPr/>
          <p:nvPr/>
        </p:nvPicPr>
        <p:blipFill>
          <a:blip r:embed="rId2"/>
          <a:stretch/>
        </p:blipFill>
        <p:spPr>
          <a:xfrm>
            <a:off x="1979640" y="2349360"/>
            <a:ext cx="4929120" cy="32864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tScript"/>
              </a:rPr>
              <a:t>Цикл рассказов «Память лета»</a:t>
            </a:r>
            <a:br>
              <a:rPr sz="3600"/>
            </a:br>
            <a:r>
              <a:rPr b="1" lang="ru-RU" sz="2700" spc="-1" strike="noStrike">
                <a:solidFill>
                  <a:srgbClr val="000000"/>
                </a:solidFill>
                <a:latin typeface="ArtScript"/>
              </a:rPr>
              <a:t>(11 класс)</a:t>
            </a:r>
            <a:endParaRPr b="1" lang="en-US" sz="27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AnDrEy.ADMIN-47F0C96AB\Мои документы\Мои рисунки\img077.jpg"/>
          <p:cNvPicPr/>
          <p:nvPr/>
        </p:nvPicPr>
        <p:blipFill>
          <a:blip r:embed="rId2"/>
          <a:stretch/>
        </p:blipFill>
        <p:spPr>
          <a:xfrm>
            <a:off x="1979640" y="2133720"/>
            <a:ext cx="4857840" cy="343836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Конкурс чтецов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28760" y="1143000"/>
            <a:ext cx="4000320" cy="25430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067280" y="3449520"/>
            <a:ext cx="4195800" cy="26164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Проба пер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214880" y="1500120"/>
            <a:ext cx="4357800" cy="3400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1785960" y="2571840"/>
            <a:ext cx="2928960" cy="4071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ArtScript"/>
              </a:rPr>
              <a:t>Встреча участников клуба «Вдохновение» - самодеятельных поэтов Палласовского района</a:t>
            </a:r>
            <a:endParaRPr b="1" lang="en-US" sz="29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214880" y="4071960"/>
            <a:ext cx="4429080" cy="25718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500120" y="1571760"/>
            <a:ext cx="4267440" cy="24001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пользование форм и методов в краеведческой работе 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47" name="Picture 2" descr="C:\Documents and Settings\ADMIN\Рабочий стол\Мухамбетова\Изображение 292.jpg"/>
          <p:cNvPicPr/>
          <p:nvPr/>
        </p:nvPicPr>
        <p:blipFill>
          <a:blip r:embed="rId1"/>
          <a:stretch/>
        </p:blipFill>
        <p:spPr>
          <a:xfrm>
            <a:off x="5762520" y="1285920"/>
            <a:ext cx="2773440" cy="2079720"/>
          </a:xfrm>
          <a:prstGeom prst="rect">
            <a:avLst/>
          </a:prstGeom>
          <a:ln w="127080">
            <a:solidFill>
              <a:srgbClr val="7030a0"/>
            </a:solidFill>
            <a:miter/>
          </a:ln>
        </p:spPr>
      </p:pic>
      <p:sp>
        <p:nvSpPr>
          <p:cNvPr id="48" name="TextBox 6"/>
          <p:cNvSpPr/>
          <p:nvPr/>
        </p:nvSpPr>
        <p:spPr>
          <a:xfrm>
            <a:off x="3857760" y="1000080"/>
            <a:ext cx="30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nsellarist"/>
              </a:rPr>
              <a:t>Экскурсии в Комнату Боевой и трудовой славы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49" name="Picture 5" descr="PICT0233"/>
          <p:cNvPicPr/>
          <p:nvPr/>
        </p:nvPicPr>
        <p:blipFill>
          <a:blip r:embed="rId2"/>
          <a:stretch/>
        </p:blipFill>
        <p:spPr>
          <a:xfrm>
            <a:off x="4840200" y="3919680"/>
            <a:ext cx="3992760" cy="2577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5000760" y="357192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sellarist"/>
              </a:rPr>
              <a:t>Подготовка сообщений, рефератов, докладов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1" name="Picture 4" descr="C:\Documents and Settings\AnDrEy.ADMIN-47F0C96AB\Рабочий стол\Фото\11\Изображение 137.jpg"/>
          <p:cNvPicPr/>
          <p:nvPr/>
        </p:nvPicPr>
        <p:blipFill>
          <a:blip r:embed="rId3"/>
          <a:stretch/>
        </p:blipFill>
        <p:spPr>
          <a:xfrm>
            <a:off x="639720" y="1143000"/>
            <a:ext cx="2760840" cy="2071800"/>
          </a:xfrm>
          <a:prstGeom prst="rect">
            <a:avLst/>
          </a:prstGeom>
          <a:ln w="127080">
            <a:solidFill>
              <a:srgbClr val="7030a0"/>
            </a:solidFill>
            <a:miter/>
          </a:ln>
        </p:spPr>
      </p:pic>
      <p:sp>
        <p:nvSpPr>
          <p:cNvPr id="52" name="TextBox 10"/>
          <p:cNvSpPr/>
          <p:nvPr/>
        </p:nvSpPr>
        <p:spPr>
          <a:xfrm>
            <a:off x="142920" y="78588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nsellarist"/>
              </a:rPr>
              <a:t>Выступления перед жителями села</a:t>
            </a:r>
            <a:endParaRPr b="0" lang="en-US" sz="16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53" name="Picture 5" descr="C:\Documents and Settings\AnDrEy.ADMIN-47F0C96AB\Рабочий стол\SAM_1489.JPG"/>
          <p:cNvPicPr/>
          <p:nvPr/>
        </p:nvPicPr>
        <p:blipFill>
          <a:blip r:embed="rId4"/>
          <a:stretch/>
        </p:blipFill>
        <p:spPr>
          <a:xfrm>
            <a:off x="1571760" y="3000240"/>
            <a:ext cx="2993760" cy="2217960"/>
          </a:xfrm>
          <a:prstGeom prst="rect">
            <a:avLst/>
          </a:prstGeom>
          <a:ln w="127080">
            <a:solidFill>
              <a:srgbClr val="7030a0"/>
            </a:solidFill>
            <a:miter/>
          </a:ln>
        </p:spPr>
      </p:pic>
      <p:sp>
        <p:nvSpPr>
          <p:cNvPr id="54" name="TextBox 12"/>
          <p:cNvSpPr/>
          <p:nvPr/>
        </p:nvSpPr>
        <p:spPr>
          <a:xfrm>
            <a:off x="0" y="50720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sellarist"/>
              </a:rPr>
              <a:t>Организация элективных курсов и кружков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Дидактический материа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 по теме «Лексика»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8840" y="2143080"/>
            <a:ext cx="63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sellarist"/>
              </a:rPr>
              <a:t>Карточка 1.</a:t>
            </a: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nsellarist"/>
              </a:rPr>
              <a:t>Как в нашей местности называются…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1.Укладки сена (копна, куча);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2.Постройки для скота  (котух, загон);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3.Летняя постройка для скота (баз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3.Хорошая погода (ведро, ведрено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sellarist"/>
              </a:rPr>
              <a:t>4. Не так давно, незадолго, но сегодня же (давче, давеча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Дидактический материал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 по теме «Лексика»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857680" y="157824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чка 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ют слова?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четок, крынка (молока), квочка, сенцы, давеча, теперича?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714240" y="435780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чка 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фамилии наиболее часто встречаются в нашем поселке? Каково их происхождение?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ровины, Пятериковы, Милькины, Севостьяновы, Дядькины, Сафьяновы, Немановы)</a:t>
            </a: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русского язык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714760" y="1357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Характеристика местного говора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57880" y="1785960"/>
            <a:ext cx="3508200" cy="26305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63" name="Picture 2" descr="C:\Documents and Settings\AnDrEy.ADMIN-47F0C96AB\Рабочий стол\на презентацию 11\SAM_1958.JPG"/>
          <p:cNvPicPr/>
          <p:nvPr/>
        </p:nvPicPr>
        <p:blipFill>
          <a:blip r:embed="rId2"/>
          <a:stretch/>
        </p:blipFill>
        <p:spPr>
          <a:xfrm>
            <a:off x="142920" y="1285920"/>
            <a:ext cx="2500200" cy="35002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64" name="Picture 3" descr="C:\Documents and Settings\AnDrEy.ADMIN-47F0C96AB\Рабочий стол\на презентацию 11\SAM_1961.JPG"/>
          <p:cNvPicPr/>
          <p:nvPr/>
        </p:nvPicPr>
        <p:blipFill>
          <a:blip r:embed="rId3"/>
          <a:stretch/>
        </p:blipFill>
        <p:spPr>
          <a:xfrm>
            <a:off x="1392120" y="4572000"/>
            <a:ext cx="3073680" cy="214308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8840" y="27432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местного говор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елка Комсомольский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428840" y="1873800"/>
            <a:ext cx="5786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а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рикотажная кофточка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як, киз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хой навоз, имеющий квадратную  форму, для топлива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ч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тух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холодец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чь в бане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й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едро для дойки коров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охч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ичат.</a:t>
            </a:r>
            <a:endParaRPr b="0" lang="en-US" sz="28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Исследовательские работы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tScript"/>
              </a:rPr>
              <a:t>на уроках русского языка</a:t>
            </a:r>
            <a:endParaRPr b="1" lang="en-US" sz="3200" spc="-1" strike="noStrike">
              <a:solidFill>
                <a:srgbClr val="c00000"/>
              </a:solidFill>
              <a:latin typeface="ArtScrip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74008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14880" y="1714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Антропонимы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поселка Комсомольского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nsellarist"/>
              </a:rPr>
              <a:t>Палласовского района </a:t>
            </a:r>
            <a:endParaRPr b="0" lang="en-US" sz="1800" spc="-1" strike="noStrike">
              <a:solidFill>
                <a:srgbClr val="000000"/>
              </a:solidFill>
              <a:latin typeface="Cansellarist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3071880" cy="230364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1333440" y="3573360"/>
            <a:ext cx="3238560" cy="242892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4572000" y="4357800"/>
            <a:ext cx="3079800" cy="2309760"/>
          </a:xfrm>
          <a:prstGeom prst="rect">
            <a:avLst/>
          </a:prstGeom>
          <a:ln w="255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Диаграмма 3" descr=""/>
          <p:cNvPicPr/>
          <p:nvPr/>
        </p:nvPicPr>
        <p:blipFill>
          <a:blip r:embed="rId1"/>
          <a:stretch/>
        </p:blipFill>
        <p:spPr>
          <a:xfrm>
            <a:off x="1925640" y="2000160"/>
            <a:ext cx="5859360" cy="3498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3714840" y="2858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Словарь фамилий жителей 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nsellarist"/>
              </a:rPr>
              <a:t>поселка Комсомольский</a:t>
            </a:r>
            <a:endParaRPr b="0" lang="en-US" sz="2000" spc="-1" strike="noStrike">
              <a:solidFill>
                <a:srgbClr val="000000"/>
              </a:solidFill>
              <a:latin typeface="Cansellaris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20:08:20Z</dcterms:created>
  <dc:creator>1</dc:creator>
  <dc:description/>
  <dc:language>en-US</dc:language>
  <cp:lastModifiedBy>ккипит</cp:lastModifiedBy>
  <dcterms:modified xsi:type="dcterms:W3CDTF">2022-02-16T07:32:39Z</dcterms:modified>
  <cp:revision>71</cp:revision>
  <dc:subject/>
  <dc:title>Николай Васильевич Гог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9801049</vt:lpwstr>
  </property>
</Properties>
</file>