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C12-F0E7-40A0-8191-2FE13464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870-809C-4DEE-87F5-4C6F2C21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EE3-DCCE-4BDC-8C45-217AFC6C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6A3-3F89-4582-A2F9-A2756C79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3CC-C35E-465A-A9B4-3E52DA26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742-89DD-4245-8059-8BDA3A8F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A5C-6142-4BE2-BEFD-26FBC9F1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BA2-3AD7-409E-BE32-4F13180B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8B6-4D5A-477D-AE1C-51C6399A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F1E-E9C0-4A75-AFF5-F761F797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9F4-A6D1-457B-B96D-AC48CE02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9AB-BB2F-40BB-98D2-F28209F0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4E80-495D-4BD6-AD92-85162DD77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fb.ru/article/55356/nijnyaya-chelyust-kak-raspoznat-i-vyilechit-ee-vyivih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АРКТИЧЕСКИЕ 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юлен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064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популярные животные зоны арктических пустынь – это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юле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Они представляют собой отдельную популяцию, но имеют множество подвидов.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арактерной чертой всех тюленей являются ласты, причё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ы ласт оканчиваются когтями. Причем передние ласты направлены вперед, а задние наза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ти позволяют млекопитающим без труда передвигаться по заснеженной местности.  И вместе с тем все его представител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чень подвижн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ОР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3683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вот ближайший родственник тюленя –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орж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 совместительству является его опасностью.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оржи куда больше в размера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мею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стрые клы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торыми они прорезывают лед и добывают себе из моря пищу. Также этот инструмент им необходим для наземной охоты. Они поедают мелких животных, в том числе и тюл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1"/>
          <a:stretch/>
        </p:blipFill>
        <p:spPr>
          <a:xfrm>
            <a:off x="4211640" y="1484280"/>
            <a:ext cx="468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ор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 только посмотрите какие у него бивни. Хоть с виду он и не очень поворотливый, но лучше к нему не подходить. Моржи достигают до 700 кг в весе, из млекопитающих, живущих здесь, только киты и морские котики превосходят и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6696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МОР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3739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95280" y="1296360"/>
            <a:ext cx="828036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му толстяку нужно много пищи. Еду он добывает на дне океана. Ныряя, вспахивает его мощными клыками-бивн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бирает всплывших моллюсков, рачков, черв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оде морж бесстрашен. Там его клыки – грозное оруж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ними он может и белого медведя одолеть! Бивни помогают моржу и по льду передвигаться. Зацепится он ими за трещину и ползет, переваливая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на лежбищах, которые моржи устраивают обычно на толстых льдинах, эти увальни похожи на огромные валуны. Но в схватке за самок они сильны и опасны. Особенно для малышей, которых могут просто нечаянно раздавить. Поэтому мать, как может, оберегает единственного детеныша, да и чужих моржат защищает как собстве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НАРВ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72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г нарвала почитают и дорого ценят в разных культурах - он может быть украшением королевских тронов и дворцов. В Англии бивень нарвала стал королевским скипетром. Королева Елизавета за один бивень этого северного гиганта заплатила в XVI веке фантастическую по тем временам сумму - 10 тысяч фунтов. На эти деньги можно было выстроить замок. Чем же так примечателен отрост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валы относятся к малочисленному подотряду так называемых зубатых китов. Несмотря на это, фактически они - существа беззубые. Н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ижней челю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зубов нет совсем, а на верхней есть только два зачатка. У детенышей может быть шесть пар верхних и пара нижних зубов, но они очень быстро выпадают, и на месте левого зуба у самцов начинает развиваться бивень, который к моменту зрелости животного достигает 2-3 м в длину, 7-10 см в толщину и более 10 кг веса. Длинные бивни украшают только самцов. У самки рог прямой и более короткий. Очень редко, но случается, что оба зуба у самок перерождаются в бивни; а у самцов левый клык не становится рогом, но это довольно редкие исклю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АР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вотное семейства нарваловых, млекопитающее, единственный вид в своем роде. Взрослый нарвал очень большой и тяжелый, в длину он бывает до 4,5 метров и массой до 1,5 тонн. Третья часть веса нарвала – жир. Самцы более крупные, почти в два р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Белуха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920" y="1197000"/>
            <a:ext cx="6337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116000" y="12034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Белуха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удивительную способность издавать разнообразные звуки этих крупных белых китообразных прозвали «морскими сиренами» и «морскими канарейками». Что только не услышишь, находясь рядом с этими животными. Они могут свистеть, хрюкать, мяукать, реветь, квохтать, щебетать, пронзительно визжать. Могут они издавать и ультразвуки, не слышимые человеческим ухом. С помощью таких звуков животные ориентируются в пространстве. Белухи живут у берегов северных морей, а в холодные зимы заплывают в устья сибирских 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и все дельфины, белухи дышат воздухом, набирая его в легкие на поверхности воды. А вот дети у них рождаются на глубине. Белужонок появляется на свет крупным – почти полтора метра длиной. Сразу после рождения мать выталкивает новорожденного носом на поверхность, чтобы он сделал первый вдох. Проголодавшийся малыш тычется в материнское брюхо, и оттуда в его рот впрыскивается молочная струя. Белухи живут дружно небольшими стадами и вместе выращивают малыш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белухи держатся вблизи кромки льдов. Но иногда они могут заплывать в места глубокого оледенения. Белухам не страшны льды, так как они могут пробивать ледяной покров толщиной в несколько сантиметров. Бывают и трагические случаи, когда полыньи покрываются очень толстым слоем льда и белухи не могут выбраться из этого п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гом белух на берегу является белый медведь, а в воде опасность представляют кас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ухи предпочитают путешествовать группами. Самки с детенышами и самцы всегда обитают отдельно, объединяясь лишь на время охоты за большими косяками рыб. В таких случаях группа может насчитывать сотни ос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86421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3816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Гаг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333000"/>
            <a:ext cx="4316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водоплавающие птицы. Есть 5 видов гагар. Остроконечный клюв, длинное тело до 90 см, размах крыльев до 150 см, масса до 6 кг. Самцы и самки внешне одинаковые. Брюшко – белое, а верх черный с белыми вкраплениями или серовато-бурый. На голове природой нарисован отличительный для каждого вида рисунок. У белоклювой и подярной гагары предостерегающий крик напоминает истерический, визгливый смех. Поэтому есть поговорка - «Полоумный, как гага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98600" y="1484280"/>
            <a:ext cx="400212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ай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00720" y="476280"/>
            <a:ext cx="446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морские птицы распространены в северном полушарии. Гнезда предпочитают создавать на скалистых побережьях. Причем селятся большими группами, колониями, «птичьими базарами». Размер бывает до 48 см, вес – до 1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у – черные, брюшко – белое. Зимой шея тоже становится белой. Гнезда располагаются в труднодоступных местах. Яйца откладываются прямо на камни скал. Яйца грушевидные, для того, чтобы случайно не столкнулись вниз. Яйцо большое до 8 см в длину и 5 см в диаметре. Птенцы прыгают в море с высоты до 4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103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309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юри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16360" cy="254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284720" y="18900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рик – маленький вид птиц семейства чистиковых, единственный представитель своего рода. Гнездовья свои создает на разных островах Арк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2 подвида люриков. Длина тела взрослого люрика достигает 20 см, в размахе крыльев – до 35 см. В расцвете сил люрик имеет раскрас очень строгий и церемониальный наряд: все черное и голова, и шея, и спина, и крылья, а вот животик – белый. Хвост у люриков почти полностью редуцирова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рики очень чувствительны к экологическим катастрофам, особенно нефтяным загрязнениям. Но вот интересно, что рыбу он с человеком не делит, он ест только ракообразны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ер годами вытачивал изо льда эту пирамид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119160"/>
            <a:ext cx="8785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Арктическая пусты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хний рубеж области проходит по архипелагу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Земля Франца Иосиф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ижняя граница — на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острове Врангел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Главной особенностью арктической пустыни является наличие льда и снега на протяжении всего год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диция к арктической пустыне на одном из островов архипелага, Земля Франца-Иосифа, в Северном Ледовитом океан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561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058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яя температура зимой составляет около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50º 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т период выпадает много снега, дуют сильные ветра. 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лярная ночь длится 4 месяц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ние температуры в среднем составляю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+4º C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густ считается самым теплым месяцем в году. Озера 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ота отсутствую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2421000"/>
            <a:ext cx="6553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481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есь, в ледяном краю, где по полгода длится полярный день и полярная ночь, в суровых климатических условиях находят свой дом приспособленные к холодным условиям некоторые животные. Их не так и много: белые медведи,, тюлени, моржи, нарвалы и некоторые северные птиц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5530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Белые медве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е яркие животные зоны арктических пустынь – это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лярные медвед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Они имеют исключительно белый окрас и плотную шерсть, что позволяет им переживать жуткий холод как на су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и под водой, которая просто ледяная. Помимо того что медведь является королем Арктики, он тут еще 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амый опасный хищн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оедает наземных животных и млекопитающих, которые мельче его по размерам. Также он опасен для рыб и животных, которые обитают в мор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ТЮ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34544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5T10:06:08Z</dcterms:created>
  <dc:creator>Stepanenko</dc:creator>
  <dc:description/>
  <dc:language>en-US</dc:language>
  <cp:lastModifiedBy>Stepanenko</cp:lastModifiedBy>
  <dcterms:modified xsi:type="dcterms:W3CDTF">2022-02-16T06:02:21Z</dcterms:modified>
  <cp:revision>12</cp:revision>
  <dc:subject/>
  <dc:title>Слайд 1</dc:title>
</cp:coreProperties>
</file>