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173-8C9C-432D-8C51-33AD41D8EA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50C-32CD-4124-B0FB-FF94895B4D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971-656A-4366-B28B-58F91EC2E8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F98-F5F8-49C6-8FCD-E3D18976A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F33-6EEC-46D3-8EF0-4534F524E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DC1-C8E8-4D43-BBAE-58224B15C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E7C-402B-4CE6-94F2-C9A4FF46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0B6-44BD-4F24-95A0-350A38F4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7EB-BDEB-473A-8A51-460AEC1A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FE3-93E4-4B96-BFA4-05541B89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8BB-9398-4310-83D2-B0B304F2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342-6010-4473-989E-D5BC598C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12F-D1DB-4323-BD88-DC71A95F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A91-7F0F-4131-8EF6-F7E77DED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EE7-7F83-4D07-A867-8296A41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D4B-3343-404E-907F-6E5BA68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916-2E97-471E-8B8D-5FB68CE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6B9-5C91-4498-B0A1-8B6A09B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1B4F-F927-4D53-B9D0-5665F70CE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УСЛОВИЯ РЕАЛИЗАЦИИ ПРИМЕРНОЙ ОСНОВНОЙ ОБРАЗОВАТЕЛЬНОЙ ПРОГРАММЫ ОБРАЗОВАТЕЛЬНОГО УЧРЕЖДЕНИЯ  И ОСНОВЫ БЕЗОПАСНОСТИ ОБРАЗОВАТЕЛЬНОГО УЧРЕЖДЕНИЯ (ДЛЯ ЗАНЯТИЙ ПО ФИЗИКЕ)</a:t>
            </a:r>
            <a:br>
              <a:rPr sz="28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ОЗДУШНО-ТЕПЛОВОМУ РЕЖИ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ература воздуха в учебных помещениях с ленточным остеклением зависит от их ориентац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ориентация окон – оптимальный температурный диапазон составляет 21-22°С, допустимый - 18-24°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жная ориентация окон - 19-20°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чная ориентация окон – 20-21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ература воздуха в актовом зале, классе пения и музыки, рисования должна составлять 18-20°С, в спортивном зале – 15-17°С, в рекреациях – 16-18°С, в вестибюле и гардеробе – 16-19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ительная влажность воздуха в учебных помещениях  должна составлять  40-6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MCj04382050000[1]"/>
          <p:cNvPicPr/>
          <p:nvPr/>
        </p:nvPicPr>
        <p:blipFill>
          <a:blip r:embed="rId1"/>
          <a:stretch/>
        </p:blipFill>
        <p:spPr>
          <a:xfrm>
            <a:off x="7380360" y="620640"/>
            <a:ext cx="115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К ВОЗДУШНО-ТЕПЛОВОМУ РЕЖИ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ая вентиляция осуществляется через фрамуги и форточки. Площадь фрамуг и форточек в учебных помещениях должна быть не менее 1/50 площади пола. Фрамуги и форточки должны функционировать круглогодич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ые помещения проветривают во время перемен, рекреации – во время уроков по графику, вывешенному в каждом классе и рекреации. До начала занятий и после их окончания необходимо осуществлять сквозное проветривание учебных помещ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MCj04382050000[1]"/>
          <p:cNvPicPr/>
          <p:nvPr/>
        </p:nvPicPr>
        <p:blipFill>
          <a:blip r:embed="rId1"/>
          <a:stretch/>
        </p:blipFill>
        <p:spPr>
          <a:xfrm>
            <a:off x="7380360" y="333360"/>
            <a:ext cx="1406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ЕСТЕСТВЕННОМУ, ИСКУССТВЕННОМУ            ОСВЕЩЕНИЮ И ИНСОЛЯ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ых помещениях должно быть левостороннее светораспределение естественного осве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мещенном освещении учебных помещений следует предусматривать раздельное включение рядов светильников, расположенных параллельно светопроем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Cj04378580000[1]"/>
          <p:cNvPicPr/>
          <p:nvPr/>
        </p:nvPicPr>
        <p:blipFill>
          <a:blip r:embed="rId1"/>
          <a:stretch/>
        </p:blipFill>
        <p:spPr>
          <a:xfrm>
            <a:off x="7236000" y="3384720"/>
            <a:ext cx="129672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 К  РАССТАНОВКЕ МЕБЕЛИ,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РГАНИЗАЦИИ УЧЕБНОГО МЕСТА И УЧЕБНЫМ ДОС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1800" y="1827360"/>
            <a:ext cx="571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учебным дос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 должны быть:  изготовлены из материалов, имеющих высокую адгезию с материалами, используемыми для письма; хорошо очищаться влажной губкой; износостойкими; иметь темно-зеленый цвет и антибликовое покры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нижнего края учебной доски над полом составляет 80-90 с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 оборудуются софитами, которые размещаются выше верхнего края доски на 0,3 м и 0,6 м – в сторону класса перед до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MCBD05095_0000[1]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24000" y="47628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ажность воспитания экологической культуры, культуры здорового и безопасн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95280" y="1197000"/>
            <a:ext cx="820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трактует здоровье как состояние полного физического, духовного и социального благополучия, а не только отсутствие болезней и физических дефектов. Здоровье детей отнесено к приоритетным направлениям социальной политики в области образования, что находится в соответствии со ст.51 Федерального закона «Об образовании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экологического простра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детей экологической культуры, которая проявляется в эмоционально-положительном отношении к природе, окружающему миру, в ответственном отношении к своему здоровью и состоянию окружающей среды, в соблюдении определенных моральных норм, в системе ценностных ориентац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эффективной воздуш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щивание комнатных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актика табакоку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 для интерьера школьных помещений формы и цвета, способствующие сохранению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684360" y="620640"/>
            <a:ext cx="75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ых социальных моделей, правил экологического поведения, вариантов здорового образа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развитие мотивации и готовности обучающихся повышать свою экологическую грамотность, действовать предусмотрительно, осознанно придерживаться здорового и экологически безопасного образа жизни, вести работу по экологическому просвещению, ценить природу как источник духовного развития, информации, красоты, здоровья, материального благополу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684360" y="4221000"/>
            <a:ext cx="777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стояния детей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дицинских карт учащихс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группы здоровь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осещаемости заняти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санитарно-гигиенических условий и режима работы класс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j02351790000[1]"/>
          <p:cNvPicPr/>
          <p:nvPr/>
        </p:nvPicPr>
        <p:blipFill>
          <a:blip r:embed="rId1"/>
          <a:stretch/>
        </p:blipFill>
        <p:spPr>
          <a:xfrm>
            <a:off x="7020000" y="2708280"/>
            <a:ext cx="11840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РГАНИЗ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ОГО ОБЕСПЕЧ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ие мероприятия по предупреждению заболеваний, контроль за организацией образовательного процесса, физическим воспитанием, трудовым обучением, организацией питания, санитарно-гигиеническим состоянием  учреждения и его территории; контроль за соблюдением санитарно-гигиенического режима учреж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нтроль за организацией, режимом и качеством питания, соблюдением санитарно-эпидемиологических правил и норм; контроль за организацией физического воспит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нтроль за организацией образовательного проце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MCj04360150000[1]"/>
          <p:cNvPicPr/>
          <p:nvPr/>
        </p:nvPicPr>
        <p:blipFill>
          <a:blip r:embed="rId1"/>
          <a:stretch/>
        </p:blipFill>
        <p:spPr>
          <a:xfrm>
            <a:off x="7093080" y="228600"/>
            <a:ext cx="1288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250920" y="47628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ой и документальной основой Программы формирования культуры здоровог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 образа жизни являются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кон Российской Федерации «Об образовании», ст. 51 «Охрана здоровья обучающихся, воспитанников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ГОС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новление Главного государственного санитарного врача Российской Федерации от 29 декабря 2010 г. N 189 г. Москва «Об утверждении СанПиН 2.4.2.2821-10 «Санитарно-эпидемиологические требования к условиям и организации обучения в общеобразовательных учреждениях». Опубликовано 16 марта 2011 г. Вступило в силу 1 сентября 2011 г. Зарегистрировано в Минюсте РФ 3 марта 2011 г. Регистрационный N 19993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цепция долгосрочного социально-экономического развития до 2020 года, раздел 3.4 «Образование» (одобрена Правительством Российской Федерации 1 октября 2008 года, протокол №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Cj04061840000[1]"/>
          <p:cNvPicPr/>
          <p:nvPr/>
        </p:nvPicPr>
        <p:blipFill>
          <a:blip r:embed="rId1"/>
          <a:stretch/>
        </p:blipFill>
        <p:spPr>
          <a:xfrm>
            <a:off x="7667640" y="333360"/>
            <a:ext cx="8161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9:08:36Z</dcterms:created>
  <dc:creator>skalalaska</dc:creator>
  <dc:description/>
  <dc:language>en-US</dc:language>
  <cp:lastModifiedBy>Admin</cp:lastModifiedBy>
  <dcterms:modified xsi:type="dcterms:W3CDTF">2017-02-07T18:38:02Z</dcterms:modified>
  <cp:revision>13</cp:revision>
  <dc:subject/>
  <dc:title>Самостоятельная внеаудиторная  работа №3   САНИТАРНО-ГИГИЕНИЧЕСКИЕ УСЛОВИЯ РЕАЛИЗАЦИИ ПРИМЕРНОЙ ОСНОВНОЙ ОБРАЗОВАТЕЛЬНОЙ ПРОГРАММЫ ОБРАЗОВАТЕЛЬНОГО УЧРЕЖДЕНИЯ  И ОСНОВЫ БЕЗОПАСНОСТИ ОБРАЗОВАТЕЛЬНОГО УЧРЕЖДЕНИЯ (ДЛЯ ЗАНЯТИЙ ПО ФИЗИКЕ)</dc:title>
</cp:coreProperties>
</file>