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E54A-0771-4DF9-8F5F-F7F09490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4885-ECA0-490E-97EF-DE71BD7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2870-18DD-4C94-91D9-F4EF754C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AF81-693C-4CDA-A7A6-DC9A0A25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DE5-67A0-4FA7-AC61-7CEFE6EB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DDF-9580-488D-BBCA-BE56807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5D1-A473-46F1-9BA8-7D01841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BB1-8435-419D-938E-A2CD892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C9A-6053-4115-990B-8B9FBF8F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1B7-2CFA-4876-9A46-CE84DD9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D7F-10E4-483B-A5B9-CD7CD9B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AA62-D9EB-4661-90F3-48C8D795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5AC8-83C2-4708-A4FC-7089FD8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2399-8F1A-4AE6-BD0B-7BCFE31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1587-DD29-4A4B-9DD2-7CB30AD2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E694-FD49-43D2-A7CB-561B826D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6841-3FF2-4B8A-AE47-3084DDFD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AF14-E9CB-4B1B-B92C-B002E41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545F-841F-4228-BB2F-5CEEC15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812F-14E8-42AA-A53B-8A77EDBF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7798-740D-45DB-88D6-8E8662A4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3F90-5237-4930-8E30-C1637CF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54DF-8D60-4F1B-AB32-1052CF9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4CE3-0DDA-4C05-ABFB-DBC1E46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66A-66A1-4E57-94EB-6839D9657A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475E-68C0-4815-8266-E6DB004950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Обобщающий урок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теме</a:t>
            </a:r>
            <a:br>
              <a:rPr sz="6000"/>
            </a:br>
            <a:r>
              <a:rPr b="1" i="1" lang="ru-RU" sz="7200" spc="-1" strike="noStrike">
                <a:solidFill>
                  <a:srgbClr val="ffcc00"/>
                </a:solidFill>
                <a:latin typeface="Garamond"/>
              </a:rPr>
              <a:t>«Однородные члены предложения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Я поднялся на крыльцо и вошел в тускло освещенное помещение.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Б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Туман тотчас пришел в движени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и показался противоположный берег. 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В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Он видел только низкое октябрьское небо и верхушку рябины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густо усыпанную крупными гроздьями. 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Г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Большая часть окон была закрыта выгоревшими газетами</a:t>
            </a:r>
            <a:r>
              <a:rPr b="1" lang="ru-RU" sz="37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и только на некоторых из них висели занавески. 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Из какого произведения данный отрывок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Да как вы осмелились распечатать письмо такой уполномоченной особы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В том-то и штука, что он не уполномоченный и не особ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Что же он, по-вашему, такое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Ни сё ни то: чёрт знает что такое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днём ни ночью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шхуна «Восток» не прерывала своего длительного переход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посвежевшем морском воздухе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с того ни с сег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начали вырастать тяжёлые пряди тума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евзрачный баркас назывался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много ни мал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«Адмирал Ушаков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апитан теперь мог оглядеть нового юнгу, у которого на берегу не остало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кола ни двор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Укажите предложение с пунктуационной ошибко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икто: ни родители, ни друзья, ни учителя – не ответил на мои вопрос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конце декабря потеплело, и в новогоднюю ночь шёл дожд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ека совсем обмелела и стала несудоход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ак животным так и растениям нужно правильное пита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Не удалось навек оставить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Мне скучный, неподвижный брег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7" descr="1181724501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Дни поздней осени бранят обыкновенно,</a:t>
            </a: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Но мне она мила, читатель дорогой, </a:t>
            </a: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Красою тихою, блистающей смиренно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http://pics2.pokazuha.ru/p442/y/z/7509543mzy.jpg"/>
          <p:cNvPicPr/>
          <p:nvPr/>
        </p:nvPicPr>
        <p:blipFill>
          <a:blip r:embed="rId1"/>
          <a:stretch/>
        </p:blipFill>
        <p:spPr>
          <a:xfrm>
            <a:off x="361800" y="1989000"/>
            <a:ext cx="842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Дика, печальна, молчалива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Как лань лесная боязлива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Она в семье своей родной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Казалась девочкой чуж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http://pbs.twimg.com/media/BBdXtSBCUAAUuHp.jpg:large"/>
          <p:cNvPicPr/>
          <p:nvPr/>
        </p:nvPicPr>
        <p:blipFill>
          <a:blip r:embed="rId1"/>
          <a:stretch/>
        </p:blipFill>
        <p:spPr>
          <a:xfrm>
            <a:off x="5364000" y="692280"/>
            <a:ext cx="37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Все было просто: пол дубовый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Два шкафа, стол, диван пуховый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Нигде ни пятнышка черни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5" descr="http://i4.newstube.ru/2096900l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076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Пирует Петр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горд, и ясен,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славы полон взор его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царский лик его прекрасен.</a:t>
            </a:r>
            <a:br>
              <a:rPr sz="3700"/>
            </a:br>
            <a:br>
              <a:rPr sz="4000"/>
            </a:br>
            <a:br>
              <a:rPr sz="4000"/>
            </a:b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6" descr="http://www.artsait.ru/art/t/tanauer/img/2.jpg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Швед, русский – колет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рубит, режет.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Бой барабанный, клики, скрежет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Гром пушек, топот, ржанье, стон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http://vernoe-kazachestvo.org.ua/!!!_PUBLISHED/2009/06/013_Poltava_batle.gif"/>
          <p:cNvPicPr/>
          <p:nvPr/>
        </p:nvPicPr>
        <p:blipFill>
          <a:blip r:embed="rId1"/>
          <a:stretch/>
        </p:blipFill>
        <p:spPr>
          <a:xfrm>
            <a:off x="179280" y="2924280"/>
            <a:ext cx="8785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Цели урок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вторить  и систематизировать теоретические сведения об однородных членах предлож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акрепить практические навыки постановки знаков препинания в предложениях с однородными членами, обобщающим словом при однородных член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знать об изобразительно-выразительной роли однородных членов в предложен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Они сошлись. Волна и камень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Стихи и проза, лед и пламень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Не столь различны меж собой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http://www.netlore.ru/upload/files/1690/large_3_31.jpg"/>
          <p:cNvPicPr/>
          <p:nvPr/>
        </p:nvPicPr>
        <p:blipFill>
          <a:blip r:embed="rId1"/>
          <a:stretch/>
        </p:blipFill>
        <p:spPr>
          <a:xfrm>
            <a:off x="2700360" y="2133720"/>
            <a:ext cx="3600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Снег зашевелился, ожил, заструился,  широко потёк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5" descr="http://img0.liveinternet.ru/images/attach/c/6/93/454/93454132_3623822_343.jpg"/>
          <p:cNvPicPr/>
          <p:nvPr/>
        </p:nvPicPr>
        <p:blipFill>
          <a:blip r:embed="rId1"/>
          <a:stretch/>
        </p:blipFill>
        <p:spPr>
          <a:xfrm>
            <a:off x="2556000" y="1484280"/>
            <a:ext cx="4257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Тёмные, душные, скучные комнаты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5" descr="http://www.artsait.ru/art/y/ykunchikova/img/8.jpg"/>
          <p:cNvPicPr/>
          <p:nvPr/>
        </p:nvPicPr>
        <p:blipFill>
          <a:blip r:embed="rId1"/>
          <a:stretch/>
        </p:blipFill>
        <p:spPr>
          <a:xfrm>
            <a:off x="2268360" y="1268280"/>
            <a:ext cx="4535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Андрей Петрович Гринев выписал из Москвы годовой запас вина, прованского масла и француза, мосье Бопре, для воспитания Петруши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http://img.labirint.ru/images/comments_pic/1205/03labskns1328422557.jpg"/>
          <p:cNvPicPr/>
          <p:nvPr/>
        </p:nvPicPr>
        <p:blipFill>
          <a:blip r:embed="rId1"/>
          <a:stretch/>
        </p:blipFill>
        <p:spPr>
          <a:xfrm>
            <a:off x="755640" y="2565360"/>
            <a:ext cx="7620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Под надзором Савельича на двенадцатом году Петруша выучился русской грамоте и мог очень здраво судить о свойствах борзого кобеля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5" descr="http://veseley.com/sites/default/files/u117/2010/09/Strizhenov_0.jpg"/>
          <p:cNvPicPr/>
          <p:nvPr/>
        </p:nvPicPr>
        <p:blipFill>
          <a:blip r:embed="rId1"/>
          <a:stretch/>
        </p:blipFill>
        <p:spPr>
          <a:xfrm>
            <a:off x="468360" y="2781360"/>
            <a:ext cx="813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Garamond"/>
              </a:rPr>
              <a:t>Изобразительно-выразительная роль предложений с однородными членам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1. Яркое средство словесной наглядности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2. Стилистические фигуры речи: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а) многосоюзие, бессоюзие;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б) парное соединение однородных членов;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в) градация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3. Средство создания комического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00"/>
                </a:solidFill>
                <a:latin typeface="Garamond"/>
              </a:rPr>
              <a:t>Грамматические ошибки в предложениях с однородными членам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Одновременное использование прилагательных в полной и краткой формах в качестве однородных членов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Герой умен, находчив, наблюдательный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ключение в ряд однородных членов видовых и родовых понятий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В комнате стояли столы, стулья, шкаф, мебель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Сочетание в качестве однородных членов неопределенной формы глагола и имени существительного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Я люблю сочинять стихи и чтение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Нарушение порядка слов при использовании составных союзов: не только – но и, как – так и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Я не только читаю газеты, но и журналы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5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Однородные члены с различным управлением имеют при себе общее дополнение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Поэт знакомится и внимательно изучает фольклор).</a:t>
            </a:r>
            <a:r>
              <a:rPr b="0" lang="ru-RU" sz="26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НЕПРАВИЛЬ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.С. Пушкин заинтересовался и изобразил Пугачева в своей повест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ринев был смел, благороден и честный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.С. Пушкин писал стихи, повести и прозу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еня не только интересуют повести, но и стих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та книга научила меня честности, смелости и уважать друзей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дведение итога уро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ru-RU" sz="3000" spc="-1" strike="noStrike">
                <a:solidFill>
                  <a:srgbClr val="ffcc00"/>
                </a:solidFill>
                <a:latin typeface="Garamond"/>
              </a:rPr>
              <a:t>На следующем уроке мне необходимо закрепить умение ставить знаки препинания в предложениях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союзами при однородных членах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однородными и неоднородными определен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обобщающим словом при однородных членах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 предложениях с несколькими рядами однородных членов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Закончите фразу « Оказывается, что …»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Домашнее зад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оставить лингвистический рассказ по теме «Однородные члены предложения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йти в художественном произведении (на выбор)  и выписать предложения с однородными члена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ерев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сруб, дерево срубл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, сва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борщ, письмо напис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, лед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й дом, ста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усадьба, сереб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кубок, кра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пол, некра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стены, постро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е жилище, спрят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 в доме, ре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задача, задача ре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, рав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местность, выдум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история, груж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ё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вагон, земл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й вал, су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ё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грибы, су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в печи гриб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Freestyle Script"/>
              </a:rPr>
              <a:t>Повторение теоретического материала об однородных член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предложения отвечают на один и тот же во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относятся к одному и тому же слову в предложен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 равноправны и соединены сочинительной связью, имеют интонацию перечис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к правило, однородные члены предложения выражены словами одной и той же части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являются одним и тем же членом предлож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вторяющиеся слова не являются однородными член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редложении может быть один или несколько рядов однородных член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могут быть распространённые и нераспространённы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2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Простим горячке юных лет и юный жар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юный бред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Плелись неспешно рязанские пильщики да стекольщики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Мал золотник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 да дорог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етер то глухо завывал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то свистал порывисто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5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У Сибири есть много особенностей как в природе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так и в людских нрав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6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У партизан были не только винтовки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но и пулемёты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Бегущая минута незаметно рождает миру подвиг или сти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8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 осаждённом Ленинграде читали на батареях и на вмерзших в лёд кораблях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 холодных квартирах и библиотек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9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Я навек за туманы и росы полюбил у берёзки стан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её золотистые косы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холщовый её сарафан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Близ пристани виднелись четыре великолепных судна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парусник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французский крейсер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королевский истребитель и моторная лодочк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По-разному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в стихах или в прозе 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–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люди пишут о своей любви к морю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Море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чайки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мелодичные напевы и лёгкий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бриз 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–</a:t>
            </a: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сё напоминает о моём путешествии в Венецию на корабле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И постепенно  в состав  флотилии ввели новые суда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а именно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«Аравию»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«Восток» и «Палладу»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7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днородные определени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7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однородные определени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зуют предмет по одному признаку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ждое из определений относится к определяемому слову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и соединены сочинительной связью и произносятся с перечислительной интонацией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допускается вставка союза «и»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зуют предмет по разным признакам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дно из определений относится к словосочетанию.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нет сочинительной связи и нет перечислительной интонации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не допускается вставка союза «и»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4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476280"/>
          <a:ext cx="9144000" cy="6487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днородные определ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однородные определ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шерстян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шёлков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льняные ткани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2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заурядною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нехитрою мебелью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6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дубов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ихтовые леса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длинный товарный поезд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4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могучая океанская дорога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5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красивый журналь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олик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5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А.С. Пушкин собирал песни и сказки и в Одесс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и в Кишинев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и в Псковской губерни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Мы потерялись в чащах осин и берёз и дышали прелым запахом травы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Русский язык в умелых руках и в опытных устах красив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певуч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выразителе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гибок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послуше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ловок и вместителен.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Крупные капли дождя шлепали по листьям деревьев и кустов и скатывались на землю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По вечерам мы собирались за столом и читали вслух книги и журналы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По дорогам тянулись обозы с яблоками и капустой и грузовики с зерном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2:30:41Z</dcterms:created>
  <dc:creator>SSSR</dc:creator>
  <dc:description/>
  <dc:language>en-US</dc:language>
  <cp:lastModifiedBy>SSSR</cp:lastModifiedBy>
  <dcterms:modified xsi:type="dcterms:W3CDTF">2014-02-03T15:22:30Z</dcterms:modified>
  <cp:revision>5</cp:revision>
  <dc:subject/>
  <dc:title>Обобщающий урок  по теме «Однородные члены предложения»</dc:title>
</cp:coreProperties>
</file>