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0971D-893A-40EF-B26A-D8E5997E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59843-CA18-4593-A588-08FBBDC6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FC048-A725-41DB-B43D-A0770D6D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BAAD3-A668-4B14-B56D-38DD4208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BAEB-A9AD-4192-9664-0BE84BFC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F6F6-F6CE-4640-932A-E18EF735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E22B-68A0-4EC2-B653-9986AE8C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9814-2764-45F1-8779-79C67B30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F4EB-7F67-4A33-9D05-947976CE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E3BD-BB26-46C2-B26A-CB5B3669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35F5-E341-4549-AC50-6DD88CC9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EFD71-8204-45BF-B9D1-C9055131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9B57-7B03-4E33-A290-3E5F8536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2064-C4C3-451B-B549-14C04CC2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505A-B307-40E7-B7E3-0594DF15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5978-B84E-4938-8AFB-577388D4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B80E-0DA4-4B51-9C54-749D3897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FC766-C251-4B3B-8150-DA18499F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927FC-CC3B-4DA5-BACF-64F760B0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BFE1B-9B94-4699-80BD-6546C8C8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68B15-A848-4498-A452-46AB8D60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27F64-C6F3-4781-9F9C-4B1BA6B5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95788-367E-4044-85FF-E45D17BC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79A1F-A1E7-423C-8268-4F2EE8A7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4FB9-AB8A-4FDC-B120-591FF7A492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DA5C-BE82-42E4-B305-1B28F1EE97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Обобщающий урок </a:t>
            </a:r>
            <a:br>
              <a:rPr sz="6000"/>
            </a:b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по теме</a:t>
            </a:r>
            <a:br>
              <a:rPr sz="6000"/>
            </a:br>
            <a:r>
              <a:rPr b="1" i="1" lang="ru-RU" sz="7200" spc="-1" strike="noStrike">
                <a:solidFill>
                  <a:srgbClr val="ffcc00"/>
                </a:solidFill>
                <a:latin typeface="Garamond"/>
              </a:rPr>
              <a:t>«Однородные члены предложения»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Garamond"/>
              </a:rPr>
              <a:t>Задание №6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А.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Я поднялся на крыльцо и вошел в тускло освещенное помещение. 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Б.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Туман тотчас пришел в движение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и показался противоположный берег. </a:t>
            </a: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В.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Он видел только низкое октябрьское небо и верхушку рябины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густо усыпанную крупными гроздьями. </a:t>
            </a: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Г.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Большая часть окон была закрыта выгоревшими газетами</a:t>
            </a:r>
            <a:r>
              <a:rPr b="1" lang="ru-RU" sz="37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и только на некоторых из них висели занавески. 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Из какого произведения данный отрывок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ru-RU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Да как вы осмелились распечатать письмо такой уполномоченной особы?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- В том-то и штука, что он не уполномоченный и не особа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- Что же он, по-вашему, такое?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- Ни сё ни то: чёрт знает что такое!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cc00"/>
                </a:solidFill>
                <a:uFillTx/>
                <a:latin typeface="Garamond"/>
              </a:rPr>
              <a:t>Задание №7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Ни днём ни ночью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шхуна «Восток» не прерывала своего длительного переход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В посвежевшем морском воздухе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ни с того ни с сего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начали вырастать тяжёлые пряди туман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евзрачный баркас назывался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ни много ни мало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«Адмирал Ушаков»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Капитан теперь мог оглядеть нового юнгу, у которого на берегу не осталось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ни кола ни двор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Укажите предложение с пунктуационной ошибкой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икто: ни родители, ни друзья, ни учителя – не ответил на мои вопросы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В конце декабря потеплело, и в новогоднюю ночь шёл дождь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Река совсем обмелела и стала несудоходно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Как животным так и растениям нужно правильное питани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Не удалось навек оставить</a:t>
            </a: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Мне скучный, неподвижный брег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7" descr="1181724501"/>
          <p:cNvPicPr/>
          <p:nvPr/>
        </p:nvPicPr>
        <p:blipFill>
          <a:blip r:embed="rId1"/>
          <a:stretch/>
        </p:blipFill>
        <p:spPr>
          <a:xfrm>
            <a:off x="611280" y="1773360"/>
            <a:ext cx="79214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cc00"/>
                </a:solidFill>
                <a:latin typeface="Garamond"/>
              </a:rPr>
              <a:t>Дни поздней осени бранят обыкновенно,</a:t>
            </a:r>
            <a:br>
              <a:rPr sz="3700"/>
            </a:br>
            <a:r>
              <a:rPr b="1" i="1" lang="ru-RU" sz="3700" spc="-1" strike="noStrike">
                <a:solidFill>
                  <a:srgbClr val="ffcc00"/>
                </a:solidFill>
                <a:latin typeface="Garamond"/>
              </a:rPr>
              <a:t>Но мне она мила, читатель дорогой, </a:t>
            </a:r>
            <a:br>
              <a:rPr sz="3700"/>
            </a:br>
            <a:r>
              <a:rPr b="1" i="1" lang="ru-RU" sz="3700" spc="-1" strike="noStrike">
                <a:solidFill>
                  <a:srgbClr val="ffcc00"/>
                </a:solidFill>
                <a:latin typeface="Garamond"/>
              </a:rPr>
              <a:t>Красою тихою, блистающей смиренно.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Picture 5" descr="http://pics2.pokazuha.ru/p442/y/z/7509543mzy.jpg"/>
          <p:cNvPicPr/>
          <p:nvPr/>
        </p:nvPicPr>
        <p:blipFill>
          <a:blip r:embed="rId1"/>
          <a:stretch/>
        </p:blipFill>
        <p:spPr>
          <a:xfrm>
            <a:off x="361800" y="1989000"/>
            <a:ext cx="84204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Garamond"/>
              </a:rPr>
              <a:t>Дика, печальна, молчалива,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ffcc00"/>
                </a:solidFill>
                <a:latin typeface="Garamond"/>
              </a:rPr>
              <a:t>Как лань лесная боязлива,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ffcc00"/>
                </a:solidFill>
                <a:latin typeface="Garamond"/>
              </a:rPr>
              <a:t>Она в семье своей родной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ffcc00"/>
                </a:solidFill>
                <a:latin typeface="Garamond"/>
              </a:rPr>
              <a:t>Казалась девочкой чужой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5" descr="http://pbs.twimg.com/media/BBdXtSBCUAAUuHp.jpg:large"/>
          <p:cNvPicPr/>
          <p:nvPr/>
        </p:nvPicPr>
        <p:blipFill>
          <a:blip r:embed="rId1"/>
          <a:stretch/>
        </p:blipFill>
        <p:spPr>
          <a:xfrm>
            <a:off x="5364000" y="692280"/>
            <a:ext cx="3780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Все было просто: пол дубовый,</a:t>
            </a:r>
            <a:br>
              <a:rPr sz="4400"/>
            </a:b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Два шкафа, стол, диван пуховый,</a:t>
            </a:r>
            <a:br>
              <a:rPr sz="4400"/>
            </a:b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Нигде ни пятнышка чернил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Picture 5" descr="http://i4.newstube.ru/2096900l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407628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cc00"/>
                </a:solidFill>
                <a:latin typeface="Garamond"/>
              </a:rPr>
              <a:t>Пирует Петр.</a:t>
            </a:r>
            <a:br>
              <a:rPr sz="3700"/>
            </a:br>
            <a:br>
              <a:rPr sz="3700"/>
            </a:br>
            <a:r>
              <a:rPr b="1" i="1" lang="ru-RU" sz="3700" spc="-1" strike="noStrike">
                <a:solidFill>
                  <a:srgbClr val="ffcc00"/>
                </a:solidFill>
                <a:latin typeface="Garamond"/>
              </a:rPr>
              <a:t>И горд, и ясен,</a:t>
            </a:r>
            <a:br>
              <a:rPr sz="3700"/>
            </a:br>
            <a:br>
              <a:rPr sz="3700"/>
            </a:br>
            <a:r>
              <a:rPr b="1" i="1" lang="ru-RU" sz="3700" spc="-1" strike="noStrike">
                <a:solidFill>
                  <a:srgbClr val="ffcc00"/>
                </a:solidFill>
                <a:latin typeface="Garamond"/>
              </a:rPr>
              <a:t>И славы полон взор его.</a:t>
            </a:r>
            <a:br>
              <a:rPr sz="3700"/>
            </a:br>
            <a:br>
              <a:rPr sz="3700"/>
            </a:br>
            <a:r>
              <a:rPr b="1" i="1" lang="ru-RU" sz="3700" spc="-1" strike="noStrike">
                <a:solidFill>
                  <a:srgbClr val="ffcc00"/>
                </a:solidFill>
                <a:latin typeface="Garamond"/>
              </a:rPr>
              <a:t>И царский лик его прекрасен.</a:t>
            </a:r>
            <a:br>
              <a:rPr sz="3700"/>
            </a:br>
            <a:br>
              <a:rPr sz="4000"/>
            </a:br>
            <a:br>
              <a:rPr sz="4000"/>
            </a:br>
            <a:endParaRPr b="1" lang="en-US" sz="37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Picture 6" descr="http://www.artsait.ru/art/t/tanauer/img/2.jpg"/>
          <p:cNvPicPr/>
          <p:nvPr/>
        </p:nvPicPr>
        <p:blipFill>
          <a:blip r:embed="rId1"/>
          <a:stretch/>
        </p:blipFill>
        <p:spPr>
          <a:xfrm>
            <a:off x="5435640" y="0"/>
            <a:ext cx="3708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Швед, русский – колет,</a:t>
            </a:r>
            <a:br>
              <a:rPr sz="4400"/>
            </a:b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рубит, режет.</a:t>
            </a:r>
            <a:br>
              <a:rPr sz="4400"/>
            </a:b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Бой барабанный, клики, скрежет,</a:t>
            </a:r>
            <a:br>
              <a:rPr sz="4400"/>
            </a:b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Гром пушек, топот, ржанье, стон..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Picture 5" descr="http://vernoe-kazachestvo.org.ua/!!!_PUBLISHED/2009/06/013_Poltava_batle.gif"/>
          <p:cNvPicPr/>
          <p:nvPr/>
        </p:nvPicPr>
        <p:blipFill>
          <a:blip r:embed="rId1"/>
          <a:stretch/>
        </p:blipFill>
        <p:spPr>
          <a:xfrm>
            <a:off x="179280" y="2924280"/>
            <a:ext cx="8785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00"/>
                </a:solidFill>
                <a:uFillTx/>
                <a:latin typeface="Garamond"/>
              </a:rPr>
              <a:t>Цели урок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повторить  и систематизировать теоретические сведения об однородных членах предложе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закрепить практические навыки постановки знаков препинания в предложениях с однородными членами, обобщающим словом при однородных членах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узнать об изобразительно-выразительной роли однородных членов в предложен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Они сошлись. Волна и камень,</a:t>
            </a:r>
            <a:br>
              <a:rPr sz="4400"/>
            </a:b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Стихи и проза, лед и пламень</a:t>
            </a:r>
            <a:br>
              <a:rPr sz="4400"/>
            </a:b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Не столь различны меж собой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Picture 5" descr="http://www.netlore.ru/upload/files/1690/large_3_31.jpg"/>
          <p:cNvPicPr/>
          <p:nvPr/>
        </p:nvPicPr>
        <p:blipFill>
          <a:blip r:embed="rId1"/>
          <a:stretch/>
        </p:blipFill>
        <p:spPr>
          <a:xfrm>
            <a:off x="2700360" y="2133720"/>
            <a:ext cx="3600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Снег зашевелился, ожил, заструился,  широко потёк.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Picture 5" descr="http://img0.liveinternet.ru/images/attach/c/6/93/454/93454132_3623822_343.jpg"/>
          <p:cNvPicPr/>
          <p:nvPr/>
        </p:nvPicPr>
        <p:blipFill>
          <a:blip r:embed="rId1"/>
          <a:stretch/>
        </p:blipFill>
        <p:spPr>
          <a:xfrm>
            <a:off x="2556000" y="1484280"/>
            <a:ext cx="4257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Тёмные, душные, скучные комнаты.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1" name="Picture 5" descr="http://www.artsait.ru/art/y/ykunchikova/img/8.jpg"/>
          <p:cNvPicPr/>
          <p:nvPr/>
        </p:nvPicPr>
        <p:blipFill>
          <a:blip r:embed="rId1"/>
          <a:stretch/>
        </p:blipFill>
        <p:spPr>
          <a:xfrm>
            <a:off x="2268360" y="1268280"/>
            <a:ext cx="45356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Андрей Петрович Гринев выписал из Москвы годовой запас вина, прованского масла и француза, мосье Бопре, для воспитания Петруши.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Picture 5" descr="http://img.labirint.ru/images/comments_pic/1205/03labskns1328422557.jpg"/>
          <p:cNvPicPr/>
          <p:nvPr/>
        </p:nvPicPr>
        <p:blipFill>
          <a:blip r:embed="rId1"/>
          <a:stretch/>
        </p:blipFill>
        <p:spPr>
          <a:xfrm>
            <a:off x="755640" y="2565360"/>
            <a:ext cx="76201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Под надзором Савельича на двенадцатом году Петруша выучился русской грамоте и мог очень здраво судить о свойствах борзого кобеля.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Picture 5" descr="http://veseley.com/sites/default/files/u117/2010/09/Strizhenov_0.jpg"/>
          <p:cNvPicPr/>
          <p:nvPr/>
        </p:nvPicPr>
        <p:blipFill>
          <a:blip r:embed="rId1"/>
          <a:stretch/>
        </p:blipFill>
        <p:spPr>
          <a:xfrm>
            <a:off x="468360" y="2781360"/>
            <a:ext cx="8136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00"/>
                </a:solidFill>
                <a:latin typeface="Garamond"/>
              </a:rPr>
              <a:t>Изобразительно-выразительная роль предложений с однородными членами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Garamond"/>
              </a:rPr>
              <a:t>1. Яркое средство словесной наглядности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Garamond"/>
              </a:rPr>
              <a:t>2. Стилистические фигуры речи:</a:t>
            </a:r>
            <a:br>
              <a:rPr sz="3500"/>
            </a:br>
            <a:r>
              <a:rPr b="1" lang="ru-RU" sz="3500" spc="-1" strike="noStrike">
                <a:solidFill>
                  <a:srgbClr val="ffffff"/>
                </a:solidFill>
                <a:latin typeface="Garamond"/>
              </a:rPr>
              <a:t>а) многосоюзие, бессоюзие;</a:t>
            </a:r>
            <a:br>
              <a:rPr sz="3500"/>
            </a:br>
            <a:r>
              <a:rPr b="1" lang="ru-RU" sz="3500" spc="-1" strike="noStrike">
                <a:solidFill>
                  <a:srgbClr val="ffffff"/>
                </a:solidFill>
                <a:latin typeface="Garamond"/>
              </a:rPr>
              <a:t>б) парное соединение однородных членов;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500" spc="-1" strike="noStrike">
                <a:solidFill>
                  <a:srgbClr val="ffffff"/>
                </a:solidFill>
                <a:latin typeface="Garamond"/>
              </a:rPr>
              <a:t>в) градация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Garamond"/>
              </a:rPr>
              <a:t>3. Средство создания комического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c00"/>
                </a:solidFill>
                <a:latin typeface="Garamond"/>
              </a:rPr>
              <a:t>Грамматические ошибки в предложениях с однородными членами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1.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Одновременное использование прилагательных в полной и краткой формах в качестве однородных членов. </a:t>
            </a:r>
            <a:r>
              <a:rPr b="1" i="1" lang="ru-RU" sz="2600" spc="-1" strike="noStrike">
                <a:solidFill>
                  <a:srgbClr val="ff3300"/>
                </a:solidFill>
                <a:latin typeface="Garamond"/>
              </a:rPr>
              <a:t>(Герой умен, находчив, наблюдательный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2.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Включение в ряд однородных членов видовых и родовых понятий. </a:t>
            </a:r>
            <a:r>
              <a:rPr b="1" i="1" lang="ru-RU" sz="2600" spc="-1" strike="noStrike">
                <a:solidFill>
                  <a:srgbClr val="ff3300"/>
                </a:solidFill>
                <a:latin typeface="Garamond"/>
              </a:rPr>
              <a:t>(В комнате стояли столы, стулья, шкаф, мебель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3.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Сочетание в качестве однородных членов неопределенной формы глагола и имени существительного. </a:t>
            </a:r>
            <a:r>
              <a:rPr b="1" i="1" lang="ru-RU" sz="2600" spc="-1" strike="noStrike">
                <a:solidFill>
                  <a:srgbClr val="ff3300"/>
                </a:solidFill>
                <a:latin typeface="Garamond"/>
              </a:rPr>
              <a:t>(Я люблю сочинять стихи и чтение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4.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Нарушение порядка слов при использовании составных союзов: не только – но и, как – так и. </a:t>
            </a:r>
            <a:r>
              <a:rPr b="1" i="1" lang="ru-RU" sz="2600" spc="-1" strike="noStrike">
                <a:solidFill>
                  <a:srgbClr val="ff3300"/>
                </a:solidFill>
                <a:latin typeface="Garamond"/>
              </a:rPr>
              <a:t>(Я не только читаю газеты, но и журналы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5.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Однородные члены с различным управлением имеют при себе общее дополнение. </a:t>
            </a:r>
            <a:r>
              <a:rPr b="1" i="1" lang="ru-RU" sz="2600" spc="-1" strike="noStrike">
                <a:solidFill>
                  <a:srgbClr val="ff3300"/>
                </a:solidFill>
                <a:latin typeface="Garamond"/>
              </a:rPr>
              <a:t>(Поэт знакомится и внимательно изучает фольклор).</a:t>
            </a:r>
            <a:r>
              <a:rPr b="0" lang="ru-RU" sz="2600" spc="-1" strike="noStrike">
                <a:solidFill>
                  <a:srgbClr val="ff33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Garamond"/>
              </a:rPr>
              <a:t>Задание №8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НЕПРАВИЛЬН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А.С. Пушкин заинтересовался и изобразил Пугачева в своей повести.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Гринев был смел, благороден и честный.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А.С. Пушкин писал стихи, повести и прозу.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Меня не только интересуют повести, но и стихи.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Эта книга научила меня честности, смелости и уважать друзей.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Подведение итога урок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ru-RU" sz="3000" spc="-1" strike="noStrike">
                <a:solidFill>
                  <a:srgbClr val="ffcc00"/>
                </a:solidFill>
                <a:latin typeface="Garamond"/>
              </a:rPr>
              <a:t>На следующем уроке мне необходимо закрепить умение ставить знаки препинания в предложениях: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с союзами при однородных членах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с однородными и неоднородными определениями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с обобщающим словом при однородных членах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в предложениях с несколькими рядами однородных членов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Закончите фразу « Оказывается, что …»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Garamond"/>
              </a:rPr>
              <a:t>Домашнее задани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оставить лингвистический рассказ по теме «Однородные члены предложения»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айти в художественном произведении (на выбор)  и выписать предложения с однородными членам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Garamond"/>
              </a:rPr>
              <a:t>Задание №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Дерев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ян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ый сруб, дерево срубл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е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, свар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ен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ый борщ, письмо написа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, лед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я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й дом, стар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ин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ая усадьба, серебр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я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ый кубок, краш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е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ый пол, некраш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е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ые стены, постро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ен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е жилище, спрята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ы в доме, реш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ен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ая задача, задача реш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е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а, равн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ин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ая местность, выдума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н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ая история, груж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ё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ый вагон, земл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я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й вал, суш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ё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ые грибы, суш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ен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ые в печи грибы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Freestyle Script"/>
              </a:rPr>
              <a:t>Повторение теоретического материала об однородных членах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днородные члены предложения отвечают на один и тот же вопро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днородные члены относятся к одному и тому же слову в предложен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днородные члены  равноправны и соединены сочинительной связью, имеют интонацию перечисл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ак правило, однородные члены предложения выражены словами одной и той же части реч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днородные члены являются одним и тем же членом предлож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вторяющиеся слова не являются однородными член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предложении может быть один или несколько рядов однородных член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днородные члены могут быть распространённые и нераспространённы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c00"/>
                </a:solidFill>
                <a:uFillTx/>
                <a:latin typeface="Garamond"/>
              </a:rPr>
              <a:t>Задание №2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1.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Простим горячке юных лет и юный жар</a:t>
            </a: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и юный бред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2.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Плелись неспешно рязанские пильщики да стекольщики.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3.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Мал золотник</a:t>
            </a: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 да дорог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4.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Ветер то глухо завывал</a:t>
            </a: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то свистал порывисто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5.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У Сибири есть много особенностей как в природе</a:t>
            </a: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так и в людских нравах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6.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У партизан были не только винтовки</a:t>
            </a: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но и пулемёты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7.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Бегущая минута незаметно рождает миру подвиг или стих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8.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В осаждённом Ленинграде читали на батареях и на вмерзших в лёд кораблях</a:t>
            </a: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в холодных квартирах и библиотеках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00"/>
                </a:solidFill>
                <a:latin typeface="Garamond"/>
              </a:rPr>
              <a:t>9.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Я навек за туманы и росы полюбил у берёзки стан</a:t>
            </a: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и её золотистые косы</a:t>
            </a: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и холщовый её сарафан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cc00"/>
                </a:solidFill>
                <a:uFillTx/>
                <a:latin typeface="Garamond"/>
              </a:rPr>
              <a:t>Задание №3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Garamond"/>
              </a:rPr>
              <a:t>1.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  Близ пристани виднелись четыре великолепных судна</a:t>
            </a: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: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парусник</a:t>
            </a: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французский крейсер</a:t>
            </a: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королевский истребитель и моторная лодочка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Garamond"/>
              </a:rPr>
              <a:t>2.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  По-разному</a:t>
            </a: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: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в стихах или в прозе </a:t>
            </a: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–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люди пишут о своей любви к морю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Garamond"/>
              </a:rPr>
              <a:t>3.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  Море</a:t>
            </a: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чайки</a:t>
            </a: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мелодичные напевы и лёгкий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бриз </a:t>
            </a: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–</a:t>
            </a:r>
            <a:r>
              <a:rPr b="1" lang="ru-RU" sz="30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всё напоминает о моём путешествии в Венецию на корабле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Garamond"/>
              </a:rPr>
              <a:t>4.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  И постепенно  в состав  флотилии ввели новые суда</a:t>
            </a: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а именно</a:t>
            </a: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: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«Аравию»</a:t>
            </a: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«Восток» и «Палладу»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7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Однородные определения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7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Неоднородные определения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арактеризуют предмет по одному признаку.</a:t>
                      </a:r>
                      <a:r>
                        <a:rPr b="0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26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аждое из определений относится к определяемому слову.</a:t>
                      </a:r>
                      <a:r>
                        <a:rPr b="0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26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ни соединены сочинительной связью и произносятся с перечислительной интонацией.</a:t>
                      </a:r>
                      <a:r>
                        <a:rPr b="0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26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жду ними допускается вставка союза «и».</a:t>
                      </a:r>
                      <a:r>
                        <a:rPr b="0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арактеризуют предмет по разным признакам.</a:t>
                      </a:r>
                      <a:r>
                        <a:rPr b="0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26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дно из определений относится к словосочетанию.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26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жду ними нет сочинительной связи и нет перечислительной интонации.</a:t>
                      </a:r>
                      <a:r>
                        <a:rPr b="0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26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жду ними не допускается вставка союза «и».</a:t>
                      </a:r>
                      <a:r>
                        <a:rPr b="0" lang="ru-RU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cc00"/>
                </a:solidFill>
                <a:uFillTx/>
                <a:latin typeface="Garamond"/>
              </a:rPr>
              <a:t>Задание №4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476280"/>
          <a:ext cx="9144000" cy="64879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Однородные определени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Неоднородные определени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7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)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шерстяные</a:t>
                      </a:r>
                      <a:r>
                        <a:rPr b="0" lang="ru-RU" sz="44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,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шёлковые</a:t>
                      </a:r>
                      <a:r>
                        <a:rPr b="0" lang="ru-RU" sz="44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,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льняные ткани;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2)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заурядною</a:t>
                      </a:r>
                      <a:r>
                        <a:rPr b="0" lang="ru-RU" sz="44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,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нехитрою мебелью;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6)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дубовые</a:t>
                      </a:r>
                      <a:r>
                        <a:rPr b="0" lang="ru-RU" sz="44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,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пихтовые леса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3)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длинный товарный поезд;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4)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могучая океанская дорога;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5)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красивый журнальны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533520" indent="-533520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толик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cc00"/>
                </a:solidFill>
                <a:uFillTx/>
                <a:latin typeface="Garamond"/>
              </a:rPr>
              <a:t>Задание №5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А.С. Пушкин собирал песни и сказки и в Одессе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 и в Кишиневе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 и в Псковской губернии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Мы потерялись в чащах осин и берёз и дышали прелым запахом травы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Русский язык в умелых руках и в опытных устах красив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 певуч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 выразителен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 гибок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 послушен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 ловок и вместителен. 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Крупные капли дождя шлепали по листьям деревьев и кустов и скатывались на землю. 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По вечерам мы собирались за столом и читали вслух книги и журналы. 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Garamond"/>
              </a:rPr>
              <a:t>По дорогам тянулись обозы с яблоками и капустой и грузовики с зерном. 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3T12:30:41Z</dcterms:created>
  <dc:creator>SSSR</dc:creator>
  <dc:description/>
  <dc:language>en-US</dc:language>
  <cp:lastModifiedBy>SSSR</cp:lastModifiedBy>
  <dcterms:modified xsi:type="dcterms:W3CDTF">2014-02-03T15:22:30Z</dcterms:modified>
  <cp:revision>5</cp:revision>
  <dc:subject/>
  <dc:title>Обобщающий урок  по теме «Однородные члены предложения»</dc:title>
</cp:coreProperties>
</file>