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3F3-D62C-46E2-928D-D88F382B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1B4-A4BE-4E12-891A-9048CDC5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F34-FA35-43E1-A325-A92DE8F6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AE6-7282-49D7-921D-57044CE2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D88-A941-4C3B-9A43-816ED28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D8E-D8EA-4FA5-8C2F-0BF57DC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FBE-03BF-4E8E-A6E6-6C86E06B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4DD-5C40-477D-8A45-420BA53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F03-1EFC-44E7-9291-862E944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25E-48B1-4074-915D-1BB2A28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2FE-FC69-4CDD-B1B9-FAC2F4F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F62-7EE1-4501-9D33-45EFAF79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7A3F-FBCA-4A35-997C-ECCA00163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роф0014"/>
          <p:cNvPicPr/>
          <p:nvPr/>
        </p:nvPicPr>
        <p:blipFill>
          <a:blip r:embed="rId1"/>
          <a:stretch/>
        </p:blipFill>
        <p:spPr>
          <a:xfrm>
            <a:off x="1763640" y="0"/>
            <a:ext cx="5869080" cy="6723000"/>
          </a:xfrm>
          <a:prstGeom prst="rect">
            <a:avLst/>
          </a:prstGeom>
          <a:ln w="0">
            <a:noFill/>
          </a:ln>
        </p:spPr>
      </p:pic>
      <p:pic>
        <p:nvPicPr>
          <p:cNvPr id="42" name="054_Bravo - Cherniy kot.mp3" descr=""/>
          <p:cNvPicPr/>
          <p:nvPr/>
        </p:nvPicPr>
        <p:blipFill>
          <a:blip r:embed="rId2"/>
          <a:stretch/>
        </p:blipFill>
        <p:spPr>
          <a:xfrm>
            <a:off x="7236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98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4000" y="225000"/>
            <a:ext cx="91440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bat"/>
              </a:rPr>
              <a:t>Образ кошки в произведениях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ю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сонаж русских волшебных ска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 Крыл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Кошка и Соловей", "Кот и Повар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В. Гого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Вечер накануне Ивана Купала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Майская н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пленница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лог поэмы "Руслан и Людмил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ж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“Серебряное копытц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Толс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“Кошка и лисица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уш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“Кот Епифан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“Кот—ворюга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Михал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"Коты и мыш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ф0005"/>
          <p:cNvPicPr/>
          <p:nvPr/>
        </p:nvPicPr>
        <p:blipFill>
          <a:blip r:embed="rId1"/>
          <a:stretch/>
        </p:blipFill>
        <p:spPr>
          <a:xfrm>
            <a:off x="684360" y="333360"/>
            <a:ext cx="4267080" cy="638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проф0006"/>
          <p:cNvPicPr/>
          <p:nvPr/>
        </p:nvPicPr>
        <p:blipFill>
          <a:blip r:embed="rId2"/>
          <a:stretch/>
        </p:blipFill>
        <p:spPr>
          <a:xfrm>
            <a:off x="5219640" y="333360"/>
            <a:ext cx="3637080" cy="63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проф0007"/>
          <p:cNvPicPr/>
          <p:nvPr/>
        </p:nvPicPr>
        <p:blipFill>
          <a:blip r:embed="rId1"/>
          <a:stretch/>
        </p:blipFill>
        <p:spPr>
          <a:xfrm>
            <a:off x="324000" y="189000"/>
            <a:ext cx="4430520" cy="652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роф0015"/>
          <p:cNvPicPr/>
          <p:nvPr/>
        </p:nvPicPr>
        <p:blipFill>
          <a:blip r:embed="rId2"/>
          <a:stretch/>
        </p:blipFill>
        <p:spPr>
          <a:xfrm>
            <a:off x="4859280" y="189000"/>
            <a:ext cx="416556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роф0008"/>
          <p:cNvPicPr/>
          <p:nvPr/>
        </p:nvPicPr>
        <p:blipFill>
          <a:blip r:embed="rId1"/>
          <a:stretch/>
        </p:blipFill>
        <p:spPr>
          <a:xfrm>
            <a:off x="1042920" y="115920"/>
            <a:ext cx="6140520" cy="645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роф0009"/>
          <p:cNvPicPr/>
          <p:nvPr/>
        </p:nvPicPr>
        <p:blipFill>
          <a:blip r:embed="rId1"/>
          <a:stretch/>
        </p:blipFill>
        <p:spPr>
          <a:xfrm>
            <a:off x="1979640" y="260280"/>
            <a:ext cx="477216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проф0011"/>
          <p:cNvPicPr/>
          <p:nvPr/>
        </p:nvPicPr>
        <p:blipFill>
          <a:blip r:embed="rId1"/>
          <a:stretch/>
        </p:blipFill>
        <p:spPr>
          <a:xfrm>
            <a:off x="179280" y="115920"/>
            <a:ext cx="500400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проф0013"/>
          <p:cNvPicPr/>
          <p:nvPr/>
        </p:nvPicPr>
        <p:blipFill>
          <a:blip r:embed="rId1"/>
          <a:stretch/>
        </p:blipFill>
        <p:spPr>
          <a:xfrm>
            <a:off x="3059280" y="189000"/>
            <a:ext cx="5794200" cy="656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роф0019"/>
          <p:cNvPicPr/>
          <p:nvPr/>
        </p:nvPicPr>
        <p:blipFill>
          <a:blip r:embed="rId1"/>
          <a:stretch/>
        </p:blipFill>
        <p:spPr>
          <a:xfrm>
            <a:off x="1068480" y="11160"/>
            <a:ext cx="7005600" cy="683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проф0016"/>
          <p:cNvPicPr/>
          <p:nvPr/>
        </p:nvPicPr>
        <p:blipFill>
          <a:blip r:embed="rId1"/>
          <a:stretch/>
        </p:blipFill>
        <p:spPr>
          <a:xfrm rot="21451200">
            <a:off x="179280" y="404280"/>
            <a:ext cx="4702320" cy="581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проф0018"/>
          <p:cNvPicPr/>
          <p:nvPr/>
        </p:nvPicPr>
        <p:blipFill>
          <a:blip r:embed="rId2"/>
          <a:stretch/>
        </p:blipFill>
        <p:spPr>
          <a:xfrm rot="504600">
            <a:off x="4067280" y="907920"/>
            <a:ext cx="4614840" cy="561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проф0012"/>
          <p:cNvPicPr/>
          <p:nvPr/>
        </p:nvPicPr>
        <p:blipFill>
          <a:blip r:embed="rId1"/>
          <a:stretch/>
        </p:blipFill>
        <p:spPr>
          <a:xfrm>
            <a:off x="179280" y="260280"/>
            <a:ext cx="5670720" cy="633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проф0017"/>
          <p:cNvPicPr/>
          <p:nvPr/>
        </p:nvPicPr>
        <p:blipFill>
          <a:blip r:embed="rId2"/>
          <a:stretch/>
        </p:blipFill>
        <p:spPr>
          <a:xfrm>
            <a:off x="4572000" y="1916280"/>
            <a:ext cx="430992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-1251000"/>
            <a:ext cx="7918200" cy="57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39a9"/>
                </a:solidFill>
                <a:latin typeface="Arbat"/>
              </a:rPr>
              <a:t>Тема урока:</a:t>
            </a:r>
            <a:br>
              <a:rPr sz="4400"/>
            </a:b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Образ кошки в русской литературе</a:t>
            </a:r>
            <a:br>
              <a:rPr sz="5400"/>
            </a:b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.Паустовский «Кот-ворюг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роф0005"/>
          <p:cNvPicPr/>
          <p:nvPr/>
        </p:nvPicPr>
        <p:blipFill>
          <a:blip r:embed="rId1"/>
          <a:stretch/>
        </p:blipFill>
        <p:spPr>
          <a:xfrm rot="20900400">
            <a:off x="684360" y="3357720"/>
            <a:ext cx="1763640" cy="2638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проф0011"/>
          <p:cNvPicPr/>
          <p:nvPr/>
        </p:nvPicPr>
        <p:blipFill>
          <a:blip r:embed="rId2"/>
          <a:stretch/>
        </p:blipFill>
        <p:spPr>
          <a:xfrm>
            <a:off x="2340000" y="4076640"/>
            <a:ext cx="183024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проф0007"/>
          <p:cNvPicPr/>
          <p:nvPr/>
        </p:nvPicPr>
        <p:blipFill>
          <a:blip r:embed="rId3"/>
          <a:stretch/>
        </p:blipFill>
        <p:spPr>
          <a:xfrm rot="882600">
            <a:off x="4356000" y="3933360"/>
            <a:ext cx="173196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роф0006"/>
          <p:cNvPicPr/>
          <p:nvPr/>
        </p:nvPicPr>
        <p:blipFill>
          <a:blip r:embed="rId4"/>
          <a:stretch/>
        </p:blipFill>
        <p:spPr>
          <a:xfrm>
            <a:off x="6084720" y="3284640"/>
            <a:ext cx="1908360" cy="332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13372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ужая душа – потемки, а кошачья – тем более”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bat"/>
              </a:rPr>
              <a:t>А. П. Че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68360" y="333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Цел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через выставку книг, работу с эпиграфом, музыкальное оформление в начале урока позитивно настроить учащихся на усвоение тем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создать условия для развития навыка самостоятельной подготовки к урок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через прием эмпатии, погрузить учащихся в мир литературы, подвести к самостоятельному вывод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Образ кота в фольклоре и литературном произведении на примере рассказа К. Г. Паустовского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“Кот - Ворюг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980280"/>
            <a:ext cx="777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bat"/>
              </a:rPr>
              <a:t>Ход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ка кни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/з “Чёрный кот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авка рисун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шки-оценки -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книг о ко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Мумия"/>
          <p:cNvPicPr/>
          <p:nvPr/>
        </p:nvPicPr>
        <p:blipFill>
          <a:blip r:embed="rId1"/>
          <a:stretch/>
        </p:blipFill>
        <p:spPr>
          <a:xfrm>
            <a:off x="1236600" y="392040"/>
            <a:ext cx="6669000" cy="607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проф0010"/>
          <p:cNvPicPr/>
          <p:nvPr/>
        </p:nvPicPr>
        <p:blipFill>
          <a:blip r:embed="rId1"/>
          <a:stretch/>
        </p:blipFill>
        <p:spPr>
          <a:xfrm>
            <a:off x="2195640" y="115920"/>
            <a:ext cx="4817880" cy="662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24000" y="205560"/>
            <a:ext cx="856908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bat"/>
              </a:rPr>
              <a:t>      </a:t>
            </a:r>
            <a:r>
              <a:rPr b="1" lang="ru-RU" sz="3600" spc="-1" strike="noStrike">
                <a:solidFill>
                  <a:srgbClr val="0033cc"/>
                </a:solidFill>
                <a:latin typeface="Arbat"/>
              </a:rPr>
              <a:t>Пословицы и погово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льются кошке Мышкины сле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е – игрушки, а мышке – сле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ава, как к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коту, маслени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 кот, а масло люб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а не кошка, рта не оцарап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оп, что кот – не поворча, не съ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о пташка запела – как бы кошка не съ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и грызутся – мышам приво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4000" y="189720"/>
            <a:ext cx="828036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bat"/>
              </a:rPr>
              <a:t>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чешется (умывается) – гостей зазывает (намывает)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на человеке тянется – к обнове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та убить – семь лет ни в чем удачи не видать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то кошек любит – будет жену любить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Гордому кошка на грудь не вскоче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bat-Bold"/>
              </a:rPr>
              <a:t>. При помощи кошек пытались предсказывать и погод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крепко спит – к теплу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морду хоронит – к морозу или к ненастью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скребет пол – на ветер, на метель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стену дерет – к непогоде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лежит брюхом вверх – к теплу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моется, лижет лапу – к хорошей погоде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лижет хвост, прячет голову – к ненасть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45:17Z</dcterms:created>
  <dc:creator>Компьютер</dc:creator>
  <dc:description/>
  <dc:language>en-US</dc:language>
  <cp:lastModifiedBy>Gigabyte</cp:lastModifiedBy>
  <dcterms:modified xsi:type="dcterms:W3CDTF">2016-01-18T13:02:03Z</dcterms:modified>
  <cp:revision>7</cp:revision>
  <dc:subject/>
  <dc:title>Тема урока: Образ кошки в русской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e0000000000010291210207f7000400038000</vt:lpwstr>
  </property>
</Properties>
</file>