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549-11DA-4BE7-8FDA-041D87E8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5A8-53C9-4BDE-9C28-1C97C4BB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4A4-9D23-4FF4-AC4A-36741F74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DEB0-649F-429F-8ED9-0F569B57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3DA-C327-4B0A-82EB-A1913C0D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8BF-3299-462F-9236-DAA9F0FF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3DD-C5D2-4CC2-BBBD-B0E4933E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D33-24F6-4CB2-98E3-897DBA3F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6C7-6506-404F-A4CD-851C01A3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5FF-C2AE-4E55-847D-62CEAA98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8F8-C2F6-4B7D-87F4-D51A9C6F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31E-E6F5-49C1-BA32-E6DB5D2D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3AC7-14D5-4AFC-95DB-2ADA14192D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проф0014"/>
          <p:cNvPicPr/>
          <p:nvPr/>
        </p:nvPicPr>
        <p:blipFill>
          <a:blip r:embed="rId1"/>
          <a:stretch/>
        </p:blipFill>
        <p:spPr>
          <a:xfrm>
            <a:off x="1763640" y="0"/>
            <a:ext cx="5869080" cy="6723000"/>
          </a:xfrm>
          <a:prstGeom prst="rect">
            <a:avLst/>
          </a:prstGeom>
          <a:ln w="0">
            <a:noFill/>
          </a:ln>
        </p:spPr>
      </p:pic>
      <p:pic>
        <p:nvPicPr>
          <p:cNvPr id="42" name="054_Bravo - Cherniy kot.mp3" descr=""/>
          <p:cNvPicPr/>
          <p:nvPr/>
        </p:nvPicPr>
        <p:blipFill>
          <a:blip r:embed="rId2"/>
          <a:stretch/>
        </p:blipFill>
        <p:spPr>
          <a:xfrm>
            <a:off x="7236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9987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24000" y="225000"/>
            <a:ext cx="9144000" cy="75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bat"/>
              </a:rPr>
              <a:t>Образ кошки в произведениях русских пис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ю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сонаж русских волшебных сказ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. Крыл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"Кошка и Соловей", "Кот и Повар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.В. Гогол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Вечер накануне Ивана Купала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Майская ноч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опленница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лог поэмы "Руслан и Людмила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ж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“Серебряное копытц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.Толс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“Кошка и лисица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руш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“Кот Епифан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. Пауст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“Кот—ворюга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Михал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"Коты и мыши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проф0005"/>
          <p:cNvPicPr/>
          <p:nvPr/>
        </p:nvPicPr>
        <p:blipFill>
          <a:blip r:embed="rId1"/>
          <a:stretch/>
        </p:blipFill>
        <p:spPr>
          <a:xfrm>
            <a:off x="684360" y="333360"/>
            <a:ext cx="4267080" cy="6381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проф0006"/>
          <p:cNvPicPr/>
          <p:nvPr/>
        </p:nvPicPr>
        <p:blipFill>
          <a:blip r:embed="rId2"/>
          <a:stretch/>
        </p:blipFill>
        <p:spPr>
          <a:xfrm>
            <a:off x="5219640" y="333360"/>
            <a:ext cx="3637080" cy="633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проф0007"/>
          <p:cNvPicPr/>
          <p:nvPr/>
        </p:nvPicPr>
        <p:blipFill>
          <a:blip r:embed="rId1"/>
          <a:stretch/>
        </p:blipFill>
        <p:spPr>
          <a:xfrm>
            <a:off x="324000" y="189000"/>
            <a:ext cx="4430520" cy="652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проф0015"/>
          <p:cNvPicPr/>
          <p:nvPr/>
        </p:nvPicPr>
        <p:blipFill>
          <a:blip r:embed="rId2"/>
          <a:stretch/>
        </p:blipFill>
        <p:spPr>
          <a:xfrm>
            <a:off x="4859280" y="189000"/>
            <a:ext cx="4165560" cy="64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роф0008"/>
          <p:cNvPicPr/>
          <p:nvPr/>
        </p:nvPicPr>
        <p:blipFill>
          <a:blip r:embed="rId1"/>
          <a:stretch/>
        </p:blipFill>
        <p:spPr>
          <a:xfrm>
            <a:off x="1042920" y="115920"/>
            <a:ext cx="6140520" cy="6458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проф0009"/>
          <p:cNvPicPr/>
          <p:nvPr/>
        </p:nvPicPr>
        <p:blipFill>
          <a:blip r:embed="rId1"/>
          <a:stretch/>
        </p:blipFill>
        <p:spPr>
          <a:xfrm>
            <a:off x="1979640" y="260280"/>
            <a:ext cx="477216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проф0011"/>
          <p:cNvPicPr/>
          <p:nvPr/>
        </p:nvPicPr>
        <p:blipFill>
          <a:blip r:embed="rId1"/>
          <a:stretch/>
        </p:blipFill>
        <p:spPr>
          <a:xfrm>
            <a:off x="179280" y="115920"/>
            <a:ext cx="5004000" cy="655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проф0013"/>
          <p:cNvPicPr/>
          <p:nvPr/>
        </p:nvPicPr>
        <p:blipFill>
          <a:blip r:embed="rId1"/>
          <a:stretch/>
        </p:blipFill>
        <p:spPr>
          <a:xfrm>
            <a:off x="3059280" y="189000"/>
            <a:ext cx="5794200" cy="6564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проф0019"/>
          <p:cNvPicPr/>
          <p:nvPr/>
        </p:nvPicPr>
        <p:blipFill>
          <a:blip r:embed="rId1"/>
          <a:stretch/>
        </p:blipFill>
        <p:spPr>
          <a:xfrm>
            <a:off x="1068480" y="11160"/>
            <a:ext cx="7005600" cy="683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проф0016"/>
          <p:cNvPicPr/>
          <p:nvPr/>
        </p:nvPicPr>
        <p:blipFill>
          <a:blip r:embed="rId1"/>
          <a:stretch/>
        </p:blipFill>
        <p:spPr>
          <a:xfrm rot="21451200">
            <a:off x="179280" y="404280"/>
            <a:ext cx="4702320" cy="581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проф0018"/>
          <p:cNvPicPr/>
          <p:nvPr/>
        </p:nvPicPr>
        <p:blipFill>
          <a:blip r:embed="rId2"/>
          <a:stretch/>
        </p:blipFill>
        <p:spPr>
          <a:xfrm rot="504600">
            <a:off x="4067280" y="907920"/>
            <a:ext cx="4614840" cy="561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проф0012"/>
          <p:cNvPicPr/>
          <p:nvPr/>
        </p:nvPicPr>
        <p:blipFill>
          <a:blip r:embed="rId1"/>
          <a:stretch/>
        </p:blipFill>
        <p:spPr>
          <a:xfrm>
            <a:off x="179280" y="260280"/>
            <a:ext cx="5670720" cy="633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проф0017"/>
          <p:cNvPicPr/>
          <p:nvPr/>
        </p:nvPicPr>
        <p:blipFill>
          <a:blip r:embed="rId2"/>
          <a:stretch/>
        </p:blipFill>
        <p:spPr>
          <a:xfrm>
            <a:off x="4572000" y="1916280"/>
            <a:ext cx="4309920" cy="460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-1251000"/>
            <a:ext cx="7918200" cy="57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39a9"/>
                </a:solidFill>
                <a:latin typeface="Arbat"/>
              </a:rPr>
              <a:t>Тема урока:</a:t>
            </a:r>
            <a:br>
              <a:rPr sz="4400"/>
            </a:b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Образ кошки в русской литературе</a:t>
            </a:r>
            <a:br>
              <a:rPr sz="5400"/>
            </a:b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К.Паустовский «Кот-ворюг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проф0005"/>
          <p:cNvPicPr/>
          <p:nvPr/>
        </p:nvPicPr>
        <p:blipFill>
          <a:blip r:embed="rId1"/>
          <a:stretch/>
        </p:blipFill>
        <p:spPr>
          <a:xfrm rot="20900400">
            <a:off x="684360" y="3357720"/>
            <a:ext cx="1763640" cy="2638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проф0011"/>
          <p:cNvPicPr/>
          <p:nvPr/>
        </p:nvPicPr>
        <p:blipFill>
          <a:blip r:embed="rId2"/>
          <a:stretch/>
        </p:blipFill>
        <p:spPr>
          <a:xfrm>
            <a:off x="2340000" y="4076640"/>
            <a:ext cx="1830240" cy="239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проф0007"/>
          <p:cNvPicPr/>
          <p:nvPr/>
        </p:nvPicPr>
        <p:blipFill>
          <a:blip r:embed="rId3"/>
          <a:stretch/>
        </p:blipFill>
        <p:spPr>
          <a:xfrm rot="882600">
            <a:off x="4356000" y="3933360"/>
            <a:ext cx="1731960" cy="2549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проф0006"/>
          <p:cNvPicPr/>
          <p:nvPr/>
        </p:nvPicPr>
        <p:blipFill>
          <a:blip r:embed="rId4"/>
          <a:stretch/>
        </p:blipFill>
        <p:spPr>
          <a:xfrm>
            <a:off x="6084720" y="3284640"/>
            <a:ext cx="1908360" cy="3324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133720"/>
            <a:ext cx="821844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Чужая душа – потемки, а кошачья – тем более”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bat"/>
              </a:rPr>
              <a:t>А. П. Че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468360" y="333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Цел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через выставку книг, работу с эпиграфом, музыкальное оформление в начале урока позитивно настроить учащихся на усвоение темы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создать условия для развития навыка самостоятельной подготовки к уроку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через прием эмпатии, погрузить учащихся в мир литературы, подвести к самостоятельному выводу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Образ кота в фольклоре и литературном произведении на примере рассказа К. Г. Паустовского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“Кот - Ворюг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755640" y="980280"/>
            <a:ext cx="7777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bat"/>
              </a:rPr>
              <a:t>Ход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рудование: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авка кни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/з “Чёрный кот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авка рисун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шки-оценки -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книг о ко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Мумия"/>
          <p:cNvPicPr/>
          <p:nvPr/>
        </p:nvPicPr>
        <p:blipFill>
          <a:blip r:embed="rId1"/>
          <a:stretch/>
        </p:blipFill>
        <p:spPr>
          <a:xfrm>
            <a:off x="1236600" y="392040"/>
            <a:ext cx="6669000" cy="6073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проф0010"/>
          <p:cNvPicPr/>
          <p:nvPr/>
        </p:nvPicPr>
        <p:blipFill>
          <a:blip r:embed="rId1"/>
          <a:stretch/>
        </p:blipFill>
        <p:spPr>
          <a:xfrm>
            <a:off x="2195640" y="115920"/>
            <a:ext cx="4817880" cy="6626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24000" y="205560"/>
            <a:ext cx="856908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bat"/>
              </a:rPr>
              <a:t>      </a:t>
            </a:r>
            <a:r>
              <a:rPr b="1" lang="ru-RU" sz="3600" spc="-1" strike="noStrike">
                <a:solidFill>
                  <a:srgbClr val="0033cc"/>
                </a:solidFill>
                <a:latin typeface="Arbat"/>
              </a:rPr>
              <a:t>Пословицы и поговор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ольются кошке Мышкины сле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шке – игрушки, а мышке – сле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кава, как ко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се коту, маслени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 кот, а масло люб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жка не кошка, рта не оцарап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оп, что кот – не поворча, не съе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о пташка запела – как бы кошка не съ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шки грызутся – мышам привол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24000" y="189720"/>
            <a:ext cx="828036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33cc"/>
                </a:solidFill>
                <a:latin typeface="Arbat"/>
              </a:rPr>
              <a:t>При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чешется (умывается) – гостей зазывает (намывает)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на человеке тянется – к обнове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та убить – семь лет ни в чем удачи не видать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то кошек любит – будет жену любить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Гордому кошка на грудь не вскоче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bat-Bold"/>
              </a:rPr>
              <a:t>. При помощи кошек пытались предсказывать и погоду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крепко спит – к теплу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морду хоронит – к морозу или к ненастью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скребет пол – на ветер, на метель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стену дерет – к непогоде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лежит брюхом вверх – к теплу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моется, лижет лапу – к хорошей погоде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ошка лижет хвост, прячет голову – к ненастью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6:45:17Z</dcterms:created>
  <dc:creator>Компьютер</dc:creator>
  <dc:description/>
  <dc:language>en-US</dc:language>
  <cp:lastModifiedBy>Gigabyte</cp:lastModifiedBy>
  <dcterms:modified xsi:type="dcterms:W3CDTF">2016-01-18T13:02:03Z</dcterms:modified>
  <cp:revision>7</cp:revision>
  <dc:subject/>
  <dc:title>Тема урока: Образ кошки в русской литерату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e0000000000010291210207f7000400038000</vt:lpwstr>
  </property>
</Properties>
</file>