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63E-9030-4FDB-AAE3-E126DCE1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1B4-1AC5-4F04-BB76-106F5FD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DF3-84F6-4530-8153-C6591250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7EE-5044-4287-B544-98BDAA11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390-1C42-46C6-A49F-359DD056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E62-1E14-4922-A3E0-D1320DC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2B2-C248-40E5-9D51-E0694E7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38D-893D-4B57-BCC0-74566DC7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3EC-C1EB-4036-A1CE-2EAE16F6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783-4EAD-4D44-A915-410D8FC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9ED-0768-471F-8857-B45BA3A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AF4-ACEE-49C3-BD5D-30C35AF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F9D-4933-4114-AE3A-87DD887CDB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ЛОВАРНЫЙ УРОК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НАШИ ПОМОЩНИКИ – СЛОВАР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 МБОУ СОШ № 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 Армави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одарский кр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ИСПОЛЬЗУЕМАЯ ЛИТЕРАТУРА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шаков Д.Н., Крючков С.Е. Орфографический словарь М.: Просвещение/Дрофа, 202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хонов А.Н. Новый словообразовательный словарь русского языка для всех, кто хочет быть грамотным. – М.: АСТ, 2014 – 63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жегов С.И. Толковый словарь русского языка: 100000 слов, терминов и фразеологизмов. М.: «Мир и Образование», 202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рь синонимов русского языка в двух томах под редакцией А.П. Евгеньевой. М.: Астрель АСТ; 2003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.Р. Львов. Словарь антонимов русского языка под редакцией Л.А. Новикова. М.: «Русский язык», 1984-384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.А. Ларионова. Фразеологический словарь современного русского языка - М.: «Аделант», 2014 г. -51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БЕРЁЗ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бз"/>
          <p:cNvPicPr/>
          <p:nvPr/>
        </p:nvPicPr>
        <p:blipFill>
          <a:blip r:embed="rId1"/>
          <a:stretch/>
        </p:blipFill>
        <p:spPr>
          <a:xfrm>
            <a:off x="1428840" y="2482920"/>
            <a:ext cx="6408720" cy="4375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857160" y="5000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ИСЬМО ПО ПАМЯ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285920" y="1857240"/>
            <a:ext cx="70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Белая б_рёза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од моим окном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ринакрылась снегом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ловно серебро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(С. Есенин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азбери слова по состав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- Берёза, берёзка, березонька, березняк, березовый, подберёзови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БЫСТР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ыстро – то есть с большой скоростью, за короткий промежуток времен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3m2"/>
          <p:cNvPicPr/>
          <p:nvPr/>
        </p:nvPicPr>
        <p:blipFill>
          <a:blip r:embed="rId1"/>
          <a:stretch/>
        </p:blipFill>
        <p:spPr>
          <a:xfrm>
            <a:off x="-1123920" y="6858000"/>
            <a:ext cx="2247840" cy="1650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85840" y="1571760"/>
            <a:ext cx="112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бери слово, противополож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знач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842840" y="48578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БЫСТ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036760" y="4857840"/>
            <a:ext cx="31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ЕДЛЕН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0046 C 0.02032 0.00808 0.03143 -0.00046 0.04757 -0.01179 C 0.05 -0.0134 0.0533 -0.01363 0.05573 -0.01548 C 0.06129 -0.01987 0.06615 -0.0275 0.07257 -0.0305 C 0.08108 -0.0342 0.08941 -0.0379 0.09775 -0.04229 C 0.10053 -0.04298 0.10608 -0.04529 0.10608 -0.04506 C 0.12101 -0.05846 0.13941 -0.06377 0.1566 -0.07163 C 0.16493 -0.07533 0.17327 -0.07902 0.1816 -0.08272 C 0.1849 -0.08434 0.18681 -0.0885 0.18993 -0.09034 C 0.19966 -0.09497 0.23073 -0.09728 0.2349 -0.09774 C 0.28507 -0.10236 0.33542 -0.10606 0.38577 -0.10906 C 0.40903 -0.11322 0.43039 -0.11114 0.45296 -0.10167 C 0.44671 -0.07648 0.44723 -0.08688 0.44723 -0.07163 E">
                                      <p:cBhvr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6286 C -0.0099 -0.06887 -0.01997 -0.07812 -0.03177 -0.0832 C -0.05122 -0.13612 -0.03906 -0.09753 -0.03438 -0.22995 C -0.0342 -0.23365 -0.03368 -0.23781 -0.03177 -0.24035 C -0.02413 -0.25052 -0.00156 -0.2697 0.0092 -0.27433 C 0.02795 -0.29305 0.04549 -0.30784 0.06823 -0.31546 C 0.10833 -0.31431 0.14861 -0.31408 0.18872 -0.312 C 0.19566 -0.31177 0.2026 -0.31084 0.2092 -0.30853 C 0.21215 -0.30737 0.21389 -0.30252 0.21701 -0.30183 C 0.22882 -0.29905 0.24097 -0.29952 0.25295 -0.29836 C 0.26944 -0.29281 0.28733 -0.28449 0.30417 -0.28126 C 0.35191 -0.27202 0.39931 -0.27271 0.44774 -0.27109 C 0.47083 -0.26069 0.49601 -0.26716 0.51962 -0.25746 C 0.61372 -0.26092 0.58108 -0.24798 0.62465 -0.26762 C 0.6349 -0.27225 0.64219 -0.27756 0.65295 -0.28126 C 0.66146 -0.28403 0.66059 -0.28149 0.66059 -0.28819 E">
                                      <p:cBhvr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ВЕСЕЛО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ЛО – ТО ЕСТЬ ИСПЫТЫВАЯ, ВЫРАЖАЯ ИЛИ ДОСТАВЛЯЯ РАДОСТЬ, ОЖИВЛЁ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есело текли 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етские го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ас не омрач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е и бе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0254 C 0.03143 -0.02773 0.06233 -0.01964 0.08507 -0.03489 C 0.09323 -0.04044 0.10105 -0.04806 0.10938 -0.05291 C 0.11459 -0.05592 0.12014 -0.05777 0.12553 -0.06008 C 0.1283 -0.06123 0.13334 -0.06354 0.13334 -0.06331 C 0.14306 -0.07648 0.13664 -0.06978 0.15504 -0.07833 C 0.16459 -0.08226 0.17153 -0.09242 0.17969 -0.09959 C 0.19323 -0.1116 0.21754 -0.11206 0.23368 -0.11761 C 0.27743 -0.16174 0.31806 -0.13078 0.38507 -0.12847 C 0.41303 -0.12754 0.4408 -0.12593 0.46875 -0.12477 C 0.475 -0.12362 0.4823 -0.12593 0.48768 -0.12131 C 0.49011 -0.11923 0.48629 -0.11391 0.48507 -0.11045 C 0.48091 -0.09889 0.47309 -0.09265 0.46875 -0.08156 E">
                                      <p:cBhvr>
                                        <p:cTn id="12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дбери слово, 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хожее по значению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Tahoma"/>
              </a:rPr>
              <a:t>весело</a:t>
            </a:r>
            <a:r>
              <a:rPr b="1" i="1" lang="ru-RU" sz="6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612720" y="71740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Tahoma"/>
              </a:rPr>
              <a:t>радост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3m6"/>
          <p:cNvPicPr/>
          <p:nvPr/>
        </p:nvPicPr>
        <p:blipFill>
          <a:blip r:embed="rId1"/>
          <a:stretch/>
        </p:blipFill>
        <p:spPr>
          <a:xfrm>
            <a:off x="3203640" y="4062240"/>
            <a:ext cx="3022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59 0.08898 C 0.39965 0.08574 0.41389 0.08574 0.4276 0.08066 C 0.43142 0.07904 0.43403 0.07396 0.43611 0.0691 C 0.4408 0.05963 0.44236 0.04761 0.4474 0.0386 C 0.45295 0.0282 0.45868 0.01803 0.46406 0.00763 C 0.46788 0.0007 0.47552 0.00047 0.48108 -0.00369 C 0.49496 -0.01433 0.50903 -0.02472 0.52309 -0.03466 C 0.52969 -0.03882 0.54219 -0.04391 0.54844 -0.04968 C 0.55764 -0.0587 0.56979 -0.07233 0.57674 -0.08435 C 0.5809 -0.09151 0.58576 -0.09868 0.58785 -0.10746 C 0.58889 -0.11139 0.58906 -0.11555 0.5908 -0.11902 C 0.61389 -0.16593 0.5849 -0.09221 0.60486 -0.14559 C 0.60903 -0.21724 0.61076 -0.22579 0.60486 -0.31823 C 0.60451 -0.3254 0.58802 -0.34735 0.58507 -0.35683 C 0.5776 -0.3804 0.57153 -0.4049 0.56545 -0.42962 C 0.56319 -0.43864 0.56128 -0.45666 0.55712 -0.46406 C 0.54757 -0.48116 0.53993 -0.49896 0.52882 -0.51398 C 0.52691 -0.52184 0.525 -0.52946 0.52309 -0.53732 C 0.52222 -0.54102 0.52049 -0.54864 0.52049 -0.54818 C 0.52344 -0.57545 0.52118 -0.60365 0.52882 -0.6293 C 0.5309 -0.63623 0.5401 -0.63231 0.54583 -0.633 C 0.55712 -0.63485 0.56823 -0.63554 0.57951 -0.6367 C 0.59167 -0.64779 0.58646 -0.6397 0.5908 -0.65981 C 0.59149 -0.66374 0.59358 -0.6709 0.59358 -0.67067 E">
                                      <p:cBhvr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0755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 открытые окна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ежданно влетит.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о что-то пошепчет,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о вдруг загуди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ВЕТЕР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ЕТЕР – ДВИЖЕНИЕ ПОТОКА ВОЗДУХА В ГОРИЗОНТАЛЬНОМ НАПРАВ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етер листья с вет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азогнал по свет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-541440" y="836640"/>
            <a:ext cx="216000" cy="549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419120" y="1143000"/>
            <a:ext cx="645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ПИШИ КАРТИНКУ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niga39"/>
          <p:cNvPicPr/>
          <p:nvPr/>
        </p:nvPicPr>
        <p:blipFill>
          <a:blip r:embed="rId1"/>
          <a:stretch/>
        </p:blipFill>
        <p:spPr>
          <a:xfrm>
            <a:off x="285840" y="28584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7689E-006 C 0.04601 -0.0409 0.00087000000000001 -0.00347 0.14271 -0.0104 C 0.15643 -0.01132 0.17275 -0.03535 0.18525 -0.04298 C 0.19046 -0.04598 0.20105 -0.04991 0.20105 -0.04968 C 0.21407 -0.06192 0.23091 -0.064 0.24618 -0.06793 C 0.24862 -0.07163 0.25087 -0.07625 0.25382 -0.07902 C 0.25625 -0.08087 0.25973 -0.07972 0.26181 -0.08249 C 0.26389 -0.08503 0.26303 -0.09011 0.26476 -0.09312 C 0.26667 -0.09658 0.26997 -0.09751 0.2724 -0.10028 C 0.27726 -0.10583 0.28143 -0.11229 0.28577 -0.1183 C 0.28785 -0.12107 0.29115 -0.12154 0.29358 -0.12246 C 0.29931 -0.12339 0.34879 -0.12893 0.35191 -0.12916 C 0.36771 -0.14025 0.38507 -0.14487 0.40226 -0.15065 C 0.41042 -0.15365 0.41893 -0.1555 0.42605 -0.16151 C 0.42865 -0.16382 0.4316 -0.16613 0.43386 -0.16867 C 0.43681 -0.17191 0.43872 -0.17745 0.44202 -0.17953 C 0.44705 -0.18253 0.45261 -0.18184 0.45799 -0.183 C 0.46702 -0.19594 0.47118 -0.19386 0.48421 -0.19039 C 0.48837 -0.18461 0.49237 -0.17999 0.4948 -0.17237 C 0.49723 -0.16544 0.50018 -0.15065 0.50018 -0.15042 C 0.49237 -0.11946 0.49237 -0.11784 0.49237 -0.08249 E">
                                      <p:cBhvr>
                                        <p:cTn id="20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79009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ОГДА ТАК ГОВОРЯ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920" y="121428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Бросать слова на в_те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ворить впустую, необдума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щи ветра в п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85840" y="3143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бери слова, схожие по значению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01640" y="385776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Е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Прямоугольник 7" descr=""/>
          <p:cNvPicPr/>
          <p:nvPr/>
        </p:nvPicPr>
        <p:blipFill>
          <a:blip r:embed="rId1"/>
          <a:stretch/>
        </p:blipFill>
        <p:spPr>
          <a:xfrm>
            <a:off x="5748480" y="6724800"/>
            <a:ext cx="2004840" cy="7855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2"/>
          <a:stretch/>
        </p:blipFill>
        <p:spPr>
          <a:xfrm>
            <a:off x="-6480" y="6724800"/>
            <a:ext cx="62182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49 0.11954 L -0.5849 -0.21341 E">
                                      <p:cBhvr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6:23:26Z</dcterms:created>
  <dc:creator>Ирина Владимировна</dc:creator>
  <dc:description/>
  <dc:language>en-US</dc:language>
  <cp:lastModifiedBy>Компьютер</cp:lastModifiedBy>
  <dcterms:modified xsi:type="dcterms:W3CDTF">2021-10-31T09:15:40Z</dcterms:modified>
  <cp:revision>39</cp:revision>
  <dc:subject/>
  <dc:title>БЕРЁЗА</dc:title>
</cp:coreProperties>
</file>