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gif" ContentType="image/gif"/>
  <Override PartName="/ppt/media/image7.png" ContentType="image/png"/>
  <Override PartName="/ppt/media/image4.gif" ContentType="image/gif"/>
  <Override PartName="/ppt/media/image5.gif" ContentType="image/gif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2F01-DB22-4546-9572-A928C6A66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457F-D4B9-48A8-BD0D-C042A2250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97A8-B728-47FA-AE9D-E44FB13DA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308E-2786-467E-AD22-C3ED1157B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D8DA-513C-47DA-8504-E7C322F72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0889-AB4A-4DEB-A324-957F08BC9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2A40-A06D-4BB3-9DB6-3FE9A447B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3F40-3BEA-40F3-8AB2-6DFAB4740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E1F8-FD2A-445F-9AD8-052B9D750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65DE-F07A-4648-B7EC-356011FC0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581A-2C1C-4876-B247-5C4038409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9C69-B94A-4D4F-8B77-34C7FBFC0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E9F14-EB0A-4A84-B79D-558FADB82E5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85880" y="85716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СЛОВАРНЫЙ УРОК</a:t>
            </a:r>
            <a:br>
              <a:rPr sz="4000"/>
            </a:b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«НАШИ ПОМОЩНИКИ – СЛОВАРИ»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85920" y="32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читель начальных классов МБОУ СОШ № 5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ород Армавир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раснодарский кра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9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5ffff"/>
                </a:solidFill>
                <a:latin typeface="Tahoma"/>
              </a:rPr>
              <a:t>ИСПОЛЬЗУЕМАЯ ЛИТЕРАТУРА:</a:t>
            </a: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143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Ушаков Д.Н., Крючков С.Е. Орфографический словарь М.: Просвещение/Дрофа, 2020 г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Тихонов А.Н. Новый словообразовательный словарь русского языка для всех, кто хочет быть грамотным. – М.: АСТ, 2014 – 639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жегов С.И. Толковый словарь русского языка: 100000 слов, терминов и фразеологизмов. М.: «Мир и Образование», 2020 г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ловарь синонимов русского языка в двух томах под редакцией А.П. Евгеньевой. М.: Астрель АСТ; 2003 г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.Р. Львов. Словарь антонимов русского языка под редакцией Л.А. Новикова. М.: «Русский язык», 1984-384 с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Ю.А. Ларионова. Фразеологический словарь современного русского языка - М.: «Аделант», 2014 г. -512 с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e5ffff"/>
                </a:solidFill>
                <a:latin typeface="Tahoma"/>
              </a:rPr>
              <a:t>БЕРЁЗА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4" name="Picture 5" descr="бз"/>
          <p:cNvPicPr/>
          <p:nvPr/>
        </p:nvPicPr>
        <p:blipFill>
          <a:blip r:embed="rId1"/>
          <a:stretch/>
        </p:blipFill>
        <p:spPr>
          <a:xfrm>
            <a:off x="1428840" y="2482920"/>
            <a:ext cx="6408720" cy="4375080"/>
          </a:xfrm>
          <a:prstGeom prst="rect">
            <a:avLst/>
          </a:prstGeom>
          <a:ln w="0">
            <a:noFill/>
          </a:ln>
        </p:spPr>
      </p:pic>
      <p:sp>
        <p:nvSpPr>
          <p:cNvPr id="45" name="Прямоугольник 4"/>
          <p:cNvSpPr/>
          <p:nvPr/>
        </p:nvSpPr>
        <p:spPr>
          <a:xfrm>
            <a:off x="857160" y="500040"/>
            <a:ext cx="8286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ПИСЬМО ПО ПАМЯТ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Прямоугольник 5"/>
          <p:cNvSpPr/>
          <p:nvPr/>
        </p:nvSpPr>
        <p:spPr>
          <a:xfrm>
            <a:off x="1285920" y="1857240"/>
            <a:ext cx="70722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ahoma"/>
              </a:rPr>
              <a:t>Белая б_рёза </a:t>
            </a:r>
            <a:br>
              <a:rPr sz="4000"/>
            </a:br>
            <a:r>
              <a:rPr b="1" i="1" lang="ru-RU" sz="4000" spc="-1" strike="noStrike">
                <a:solidFill>
                  <a:srgbClr val="ffffff"/>
                </a:solidFill>
                <a:latin typeface="Tahoma"/>
              </a:rPr>
              <a:t>Под моим окном</a:t>
            </a:r>
            <a:br>
              <a:rPr sz="4000"/>
            </a:br>
            <a:r>
              <a:rPr b="1" i="1" lang="ru-RU" sz="4000" spc="-1" strike="noStrike">
                <a:solidFill>
                  <a:srgbClr val="ffffff"/>
                </a:solidFill>
                <a:latin typeface="Tahoma"/>
              </a:rPr>
              <a:t>Принакрылась снегом,</a:t>
            </a:r>
            <a:br>
              <a:rPr sz="4000"/>
            </a:br>
            <a:r>
              <a:rPr b="1" i="1" lang="ru-RU" sz="4000" spc="-1" strike="noStrike">
                <a:solidFill>
                  <a:srgbClr val="ffffff"/>
                </a:solidFill>
                <a:latin typeface="Tahoma"/>
              </a:rPr>
              <a:t>Словно серебром.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ahoma"/>
              </a:rPr>
              <a:t>(С. Есенин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21" dur="5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" dur="5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ffff"/>
                </a:solidFill>
                <a:latin typeface="Tahoma"/>
              </a:rPr>
              <a:t>Разбери слова по составу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ff"/>
                </a:solidFill>
                <a:latin typeface="Tahoma"/>
              </a:rPr>
              <a:t>- Берёза, берёзка, березонька, березняк, березовый, подберёзовик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229600" cy="136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e5ffff"/>
                </a:solidFill>
                <a:latin typeface="Tahoma"/>
              </a:rPr>
              <a:t>БЫСТРО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95280" y="1988640"/>
            <a:ext cx="822960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Быстро – то есть с большой скоростью, за короткий промежуток времени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Line 4"/>
          <p:cNvSpPr/>
          <p:nvPr/>
        </p:nvSpPr>
        <p:spPr>
          <a:xfrm flipH="1">
            <a:off x="-541440" y="836640"/>
            <a:ext cx="216000" cy="549360"/>
          </a:xfrm>
          <a:prstGeom prst="line">
            <a:avLst/>
          </a:prstGeom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2" name="Picture 5" descr="3m2"/>
          <p:cNvPicPr/>
          <p:nvPr/>
        </p:nvPicPr>
        <p:blipFill>
          <a:blip r:embed="rId1"/>
          <a:stretch/>
        </p:blipFill>
        <p:spPr>
          <a:xfrm>
            <a:off x="-1123920" y="6858000"/>
            <a:ext cx="2247840" cy="1650960"/>
          </a:xfrm>
          <a:prstGeom prst="rect">
            <a:avLst/>
          </a:prstGeom>
          <a:ln w="0">
            <a:noFill/>
          </a:ln>
        </p:spPr>
      </p:pic>
      <p:sp>
        <p:nvSpPr>
          <p:cNvPr id="53" name="TextBox 6"/>
          <p:cNvSpPr/>
          <p:nvPr/>
        </p:nvSpPr>
        <p:spPr>
          <a:xfrm>
            <a:off x="285840" y="1571760"/>
            <a:ext cx="11272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Подбери слово, противоположное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по значению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TextBox 7"/>
          <p:cNvSpPr/>
          <p:nvPr/>
        </p:nvSpPr>
        <p:spPr>
          <a:xfrm>
            <a:off x="1842840" y="4857840"/>
            <a:ext cx="230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БЫСТРО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TextBox 8"/>
          <p:cNvSpPr/>
          <p:nvPr/>
        </p:nvSpPr>
        <p:spPr>
          <a:xfrm>
            <a:off x="5036760" y="4857840"/>
            <a:ext cx="317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МЕДЛЕННО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0.00046 C 0.02032 0.00808 0.03143 -0.00046 0.04757 -0.01179 C 0.05 -0.0134 0.0533 -0.01363 0.05573 -0.01548 C 0.06129 -0.01987 0.06615 -0.0275 0.07257 -0.0305 C 0.08108 -0.0342 0.08941 -0.0379 0.09775 -0.04229 C 0.10053 -0.04298 0.10608 -0.04529 0.10608 -0.04506 C 0.12101 -0.05846 0.13941 -0.06377 0.1566 -0.07163 C 0.16493 -0.07533 0.17327 -0.07902 0.1816 -0.08272 C 0.1849 -0.08434 0.18681 -0.0885 0.18993 -0.09034 C 0.19966 -0.09497 0.23073 -0.09728 0.2349 -0.09774 C 0.28507 -0.10236 0.33542 -0.10606 0.38577 -0.10906 C 0.40903 -0.11322 0.43039 -0.11114 0.45296 -0.10167 C 0.44671 -0.07648 0.44723 -0.08688 0.44723 -0.07163 E">
                                      <p:cBhvr>
                                        <p:cTn id="68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56 -0.06286 C -0.0099 -0.06887 -0.01997 -0.07812 -0.03177 -0.0832 C -0.05122 -0.13612 -0.03906 -0.09753 -0.03438 -0.22995 C -0.0342 -0.23365 -0.03368 -0.23781 -0.03177 -0.24035 C -0.02413 -0.25052 -0.00156 -0.2697 0.0092 -0.27433 C 0.02795 -0.29305 0.04549 -0.30784 0.06823 -0.31546 C 0.10833 -0.31431 0.14861 -0.31408 0.18872 -0.312 C 0.19566 -0.31177 0.2026 -0.31084 0.2092 -0.30853 C 0.21215 -0.30737 0.21389 -0.30252 0.21701 -0.30183 C 0.22882 -0.29905 0.24097 -0.29952 0.25295 -0.29836 C 0.26944 -0.29281 0.28733 -0.28449 0.30417 -0.28126 C 0.35191 -0.27202 0.39931 -0.27271 0.44774 -0.27109 C 0.47083 -0.26069 0.49601 -0.26716 0.51962 -0.25746 C 0.61372 -0.26092 0.58108 -0.24798 0.62465 -0.26762 C 0.6349 -0.27225 0.64219 -0.27756 0.65295 -0.28126 C 0.66146 -0.28403 0.66059 -0.28149 0.66059 -0.28819 E">
                                      <p:cBhvr>
                                        <p:cTn id="79" dur="2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3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9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0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82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e5ffff"/>
                </a:solidFill>
                <a:latin typeface="Tahoma"/>
              </a:rPr>
              <a:t>ВЕСЕЛО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565000"/>
            <a:ext cx="8229600" cy="35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ВСЕЛО – ТО ЕСТЬ ИСПЫТЫВАЯ, ВЫРАЖАЯ ИЛИ ДОСТАВЛЯЯ РАДОСТЬ, ОЖИВЛЁННО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Весело текли вы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Детские года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Вас не омрачал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Горе и бед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Line 4"/>
          <p:cNvSpPr/>
          <p:nvPr/>
        </p:nvSpPr>
        <p:spPr>
          <a:xfrm flipH="1">
            <a:off x="-541440" y="836640"/>
            <a:ext cx="216000" cy="549360"/>
          </a:xfrm>
          <a:prstGeom prst="line">
            <a:avLst/>
          </a:prstGeom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198 -0.00254 C 0.03143 -0.02773 0.06233 -0.01964 0.08507 -0.03489 C 0.09323 -0.04044 0.10105 -0.04806 0.10938 -0.05291 C 0.11459 -0.05592 0.12014 -0.05777 0.12553 -0.06008 C 0.1283 -0.06123 0.13334 -0.06354 0.13334 -0.06331 C 0.14306 -0.07648 0.13664 -0.06978 0.15504 -0.07833 C 0.16459 -0.08226 0.17153 -0.09242 0.17969 -0.09959 C 0.19323 -0.1116 0.21754 -0.11206 0.23368 -0.11761 C 0.27743 -0.16174 0.31806 -0.13078 0.38507 -0.12847 C 0.41303 -0.12754 0.4408 -0.12593 0.46875 -0.12477 C 0.475 -0.12362 0.4823 -0.12593 0.48768 -0.12131 C 0.49011 -0.11923 0.48629 -0.11391 0.48507 -0.11045 C 0.48091 -0.09889 0.47309 -0.09265 0.46875 -0.08156 E">
                                      <p:cBhvr>
                                        <p:cTn id="125" dur="2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5ffff"/>
                </a:solidFill>
                <a:latin typeface="Tahoma"/>
              </a:rPr>
              <a:t>Подбери слово, </a:t>
            </a:r>
            <a:br>
              <a:rPr sz="4800"/>
            </a:br>
            <a:r>
              <a:rPr b="1" lang="ru-RU" sz="4800" spc="-1" strike="noStrike">
                <a:solidFill>
                  <a:srgbClr val="e5ffff"/>
                </a:solidFill>
                <a:latin typeface="Tahoma"/>
              </a:rPr>
              <a:t>схожее по значению: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2565000"/>
            <a:ext cx="8229600" cy="35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660066"/>
                </a:solidFill>
                <a:latin typeface="Tahoma"/>
              </a:rPr>
              <a:t>весело</a:t>
            </a:r>
            <a:r>
              <a:rPr b="1" i="1" lang="ru-RU" sz="6600" spc="-1" strike="noStrike">
                <a:solidFill>
                  <a:srgbClr val="ffffff"/>
                </a:solidFill>
                <a:latin typeface="Tahoma"/>
              </a:rPr>
              <a:t> – 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-612720" y="7174080"/>
            <a:ext cx="439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3366"/>
                </a:solidFill>
                <a:latin typeface="Tahoma"/>
              </a:rPr>
              <a:t>радостно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2" name="Picture 5" descr="3m6"/>
          <p:cNvPicPr/>
          <p:nvPr/>
        </p:nvPicPr>
        <p:blipFill>
          <a:blip r:embed="rId1"/>
          <a:stretch/>
        </p:blipFill>
        <p:spPr>
          <a:xfrm>
            <a:off x="3203640" y="4062240"/>
            <a:ext cx="3022560" cy="27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8559 0.08898 C 0.39965 0.08574 0.41389 0.08574 0.4276 0.08066 C 0.43142 0.07904 0.43403 0.07396 0.43611 0.0691 C 0.4408 0.05963 0.44236 0.04761 0.4474 0.0386 C 0.45295 0.0282 0.45868 0.01803 0.46406 0.00763 C 0.46788 0.0007 0.47552 0.00047 0.48108 -0.00369 C 0.49496 -0.01433 0.50903 -0.02472 0.52309 -0.03466 C 0.52969 -0.03882 0.54219 -0.04391 0.54844 -0.04968 C 0.55764 -0.0587 0.56979 -0.07233 0.57674 -0.08435 C 0.5809 -0.09151 0.58576 -0.09868 0.58785 -0.10746 C 0.58889 -0.11139 0.58906 -0.11555 0.5908 -0.11902 C 0.61389 -0.16593 0.5849 -0.09221 0.60486 -0.14559 C 0.60903 -0.21724 0.61076 -0.22579 0.60486 -0.31823 C 0.60451 -0.3254 0.58802 -0.34735 0.58507 -0.35683 C 0.5776 -0.3804 0.57153 -0.4049 0.56545 -0.42962 C 0.56319 -0.43864 0.56128 -0.45666 0.55712 -0.46406 C 0.54757 -0.48116 0.53993 -0.49896 0.52882 -0.51398 C 0.52691 -0.52184 0.525 -0.52946 0.52309 -0.53732 C 0.52222 -0.54102 0.52049 -0.54864 0.52049 -0.54818 C 0.52344 -0.57545 0.52118 -0.60365 0.52882 -0.6293 C 0.5309 -0.63623 0.5401 -0.63231 0.54583 -0.633 C 0.55712 -0.63485 0.56823 -0.63554 0.57951 -0.6367 C 0.59167 -0.64779 0.58646 -0.6397 0.5908 -0.65981 C 0.59149 -0.66374 0.59358 -0.6709 0.59358 -0.67067 E">
                                      <p:cBhvr>
                                        <p:cTn id="178" dur="2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3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11280" y="691920"/>
            <a:ext cx="8075520" cy="43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ffff"/>
                </a:solidFill>
                <a:latin typeface="Tahoma"/>
              </a:rPr>
              <a:t>В открытые окна</a:t>
            </a:r>
            <a:br>
              <a:rPr sz="4400"/>
            </a:br>
            <a:r>
              <a:rPr b="1" lang="ru-RU" sz="4400" spc="-1" strike="noStrike">
                <a:solidFill>
                  <a:srgbClr val="e5ffff"/>
                </a:solidFill>
                <a:latin typeface="Tahoma"/>
              </a:rPr>
              <a:t>Нежданно влетит.</a:t>
            </a:r>
            <a:br>
              <a:rPr sz="4400"/>
            </a:br>
            <a:r>
              <a:rPr b="1" lang="ru-RU" sz="4400" spc="-1" strike="noStrike">
                <a:solidFill>
                  <a:srgbClr val="e5ffff"/>
                </a:solidFill>
                <a:latin typeface="Tahoma"/>
              </a:rPr>
              <a:t>То что-то пошепчет,</a:t>
            </a:r>
            <a:br>
              <a:rPr sz="4400"/>
            </a:br>
            <a:r>
              <a:rPr b="1" lang="ru-RU" sz="4400" spc="-1" strike="noStrike">
                <a:solidFill>
                  <a:srgbClr val="e5ffff"/>
                </a:solidFill>
                <a:latin typeface="Tahoma"/>
              </a:rPr>
              <a:t>То вдруг загудит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229600" cy="16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e5ffff"/>
                </a:solidFill>
                <a:latin typeface="Tahoma"/>
              </a:rPr>
              <a:t>ВЕТЕР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8229600" cy="367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ВЕТЕР – ДВИЖЕНИЕ ПОТОКА ВОЗДУХА В ГОРИЗОНТАЛЬНОМ НАПРАВЛЕНИИ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Tahoma"/>
              </a:rPr>
              <a:t>Ветер листья с веток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Tahoma"/>
              </a:rPr>
              <a:t>Разогнал по свету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Line 4"/>
          <p:cNvSpPr/>
          <p:nvPr/>
        </p:nvSpPr>
        <p:spPr>
          <a:xfrm flipH="1">
            <a:off x="-541440" y="836640"/>
            <a:ext cx="216000" cy="549360"/>
          </a:xfrm>
          <a:prstGeom prst="line">
            <a:avLst/>
          </a:prstGeom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TextBox 6"/>
          <p:cNvSpPr/>
          <p:nvPr/>
        </p:nvSpPr>
        <p:spPr>
          <a:xfrm>
            <a:off x="1419120" y="1143000"/>
            <a:ext cx="6459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ОПИШИ КАРТИНКУ: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8" name="Picture 4" descr="kniga39"/>
          <p:cNvPicPr/>
          <p:nvPr/>
        </p:nvPicPr>
        <p:blipFill>
          <a:blip r:embed="rId1"/>
          <a:stretch/>
        </p:blipFill>
        <p:spPr>
          <a:xfrm>
            <a:off x="285840" y="285840"/>
            <a:ext cx="8858160" cy="65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1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2.47689E-006 C 0.04601 -0.0409 0.00087000000000001 -0.00347 0.14271 -0.0104 C 0.15643 -0.01132 0.17275 -0.03535 0.18525 -0.04298 C 0.19046 -0.04598 0.20105 -0.04991 0.20105 -0.04968 C 0.21407 -0.06192 0.23091 -0.064 0.24618 -0.06793 C 0.24862 -0.07163 0.25087 -0.07625 0.25382 -0.07902 C 0.25625 -0.08087 0.25973 -0.07972 0.26181 -0.08249 C 0.26389 -0.08503 0.26303 -0.09011 0.26476 -0.09312 C 0.26667 -0.09658 0.26997 -0.09751 0.2724 -0.10028 C 0.27726 -0.10583 0.28143 -0.11229 0.28577 -0.1183 C 0.28785 -0.12107 0.29115 -0.12154 0.29358 -0.12246 C 0.29931 -0.12339 0.34879 -0.12893 0.35191 -0.12916 C 0.36771 -0.14025 0.38507 -0.14487 0.40226 -0.15065 C 0.41042 -0.15365 0.41893 -0.1555 0.42605 -0.16151 C 0.42865 -0.16382 0.4316 -0.16613 0.43386 -0.16867 C 0.43681 -0.17191 0.43872 -0.17745 0.44202 -0.17953 C 0.44705 -0.18253 0.45261 -0.18184 0.45799 -0.183 C 0.46702 -0.19594 0.47118 -0.19386 0.48421 -0.19039 C 0.48837 -0.18461 0.49237 -0.17999 0.4948 -0.17237 C 0.49723 -0.16544 0.50018 -0.15065 0.50018 -0.15042 C 0.49237 -0.11946 0.49237 -0.11784 0.49237 -0.08249 E">
                                      <p:cBhvr>
                                        <p:cTn id="205" dur="2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0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6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2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8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56800" y="357120"/>
            <a:ext cx="790092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ffff"/>
                </a:solidFill>
                <a:latin typeface="Tahoma"/>
              </a:rPr>
              <a:t>КОГДА ТАК ГОВОРЯТ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2920" y="1214280"/>
            <a:ext cx="914400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ahoma"/>
              </a:rPr>
              <a:t>Бросать слова на в_тер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Говорить впустую, необдуманно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Ищи ветра в пол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Прямоугольник 3"/>
          <p:cNvSpPr/>
          <p:nvPr/>
        </p:nvSpPr>
        <p:spPr>
          <a:xfrm>
            <a:off x="285840" y="314316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Подбери слова, схожие по значению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Прямоугольник 4"/>
          <p:cNvSpPr/>
          <p:nvPr/>
        </p:nvSpPr>
        <p:spPr>
          <a:xfrm>
            <a:off x="701640" y="3857760"/>
            <a:ext cx="170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66"/>
                </a:solidFill>
                <a:latin typeface="Tahoma"/>
              </a:rPr>
              <a:t>ВЕТЕР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3" name="Прямоугольник 7" descr=""/>
          <p:cNvPicPr/>
          <p:nvPr/>
        </p:nvPicPr>
        <p:blipFill>
          <a:blip r:embed="rId1"/>
          <a:stretch/>
        </p:blipFill>
        <p:spPr>
          <a:xfrm>
            <a:off x="5748480" y="6724800"/>
            <a:ext cx="2004840" cy="785520"/>
          </a:xfrm>
          <a:prstGeom prst="rect">
            <a:avLst/>
          </a:prstGeom>
          <a:ln w="0">
            <a:noFill/>
          </a:ln>
        </p:spPr>
      </p:pic>
      <p:pic>
        <p:nvPicPr>
          <p:cNvPr id="74" name="Прямоугольник 8" descr=""/>
          <p:cNvPicPr/>
          <p:nvPr/>
        </p:nvPicPr>
        <p:blipFill>
          <a:blip r:embed="rId2"/>
          <a:stretch/>
        </p:blipFill>
        <p:spPr>
          <a:xfrm>
            <a:off x="-6480" y="6724800"/>
            <a:ext cx="6218280" cy="78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849 0.11954 L -0.5849 -0.21341 E">
                                      <p:cBhvr>
                                        <p:cTn id="306" dur="2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31T06:23:26Z</dcterms:created>
  <dc:creator>Ирина Владимировна</dc:creator>
  <dc:description/>
  <dc:language>en-US</dc:language>
  <cp:lastModifiedBy>Компьютер</cp:lastModifiedBy>
  <dcterms:modified xsi:type="dcterms:W3CDTF">2021-10-31T09:15:40Z</dcterms:modified>
  <cp:revision>39</cp:revision>
  <dc:subject/>
  <dc:title>БЕРЁЗА</dc:title>
</cp:coreProperties>
</file>