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C77-E6C4-4B5E-8FB2-9B87D06B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138-AE10-4BCE-8574-B695D49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E4B-511F-4DF5-B1FF-66AAB8D7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C52-141E-488E-87B3-02FD92FF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E455-42D4-447F-BE5B-172E8A93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29BC-B212-44EC-9E00-00579897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3F32-E390-48D4-A848-30D0F22A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E4C7-69D8-440E-9C97-BD2E156C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DE3C-CD66-452D-B99C-F05FC9BC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B34B-BC34-4267-8095-C5F994B1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8AB4-BE65-4356-A5ED-613B5C06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BEA-21AE-438A-8E93-243F2576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EABB-EF18-4541-8577-199638D3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5638-42FB-41FB-9375-DB3B9AC4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2C50-1B6E-487F-A8F5-4F7B770F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84BA-2D70-48A2-B251-A187F84F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0744-C776-4453-B76D-ECBCCA7D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442-F7BD-4DE2-BE90-73D386D6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EEA-5F6F-43CF-A830-DA7D7332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EE3-E0B2-4277-8A20-A6C3D943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A31-2861-44EC-B614-9DE45647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E05-B99A-4FF5-BBCE-93C7F1AA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466-C32D-4604-ACCF-CDD0E459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179-1320-4C28-8032-F443CD81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2943-5FD8-4A3E-8C9D-F2CB90903D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0AA5-438B-4E28-AEC0-26F74429A0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ПРЕДЕЛЕНИЕ ДИНАМИКИ РАЗВИТИЯ ФИЗИЧЕСКИХ КАЧЕСТВ У ЮНОШЕЙ, ЗАНИМАЮЩИХСЯ СПОРТИВНЫМИ ИГРАМ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5373720"/>
            <a:ext cx="8136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Beachvolleyball"/>
          <p:cNvPicPr/>
          <p:nvPr/>
        </p:nvPicPr>
        <p:blipFill>
          <a:blip r:embed="rId1"/>
          <a:stretch/>
        </p:blipFill>
        <p:spPr>
          <a:xfrm>
            <a:off x="5724360" y="306864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basketball18"/>
          <p:cNvPicPr/>
          <p:nvPr/>
        </p:nvPicPr>
        <p:blipFill>
          <a:blip r:embed="rId2"/>
          <a:stretch/>
        </p:blipFill>
        <p:spPr>
          <a:xfrm>
            <a:off x="1619280" y="314172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в тесте «бег 100м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1268280" y="1773360"/>
          <a:ext cx="65437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773360"/>
                    <a:ext cx="6543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анные, полученные в результате проведенного исследования, показывают, что юноши 11-12 лет, занимающиеся спортивными играми имеют более высокое развитие физических качеств, чем школьники, незанимающиеся спорто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Анализ результатов в тестах у баскетболистов и волейболистов выявил, что у баскетболистов лучше развиты такие физические качества как выносливость и сила, у волейболистов – скоростно- силовые качества. В тестах, требующих проявления координационных и скоростных способностей, статистически достоверных различий выявлено не было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За период наблюдения за исследуемыми группами юношей 11 – 12 лет наибольшая динамика в развитии была отмечена в таком качестве как сила. У баскетболистов она улучшилась на 33%, у волейболистов – на 25%, у школьников, незанимающихся спортом – на 14%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692360" y="2781360"/>
            <a:ext cx="568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: Изучение динамики развития физических качеств у юношей 11-12 лет, занимающихся спортивными игр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и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ить анализ научно-методической литературы по теме исследов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ь показатели физических качеств у школьников 11-12 лет, занимающихся баскетболом и волейбол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авнить показатели физической подготовленности баскетболистов, волейболистов и школьников, не занимающихся спортивными игра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234900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процесс физического воспитания шк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физическая подготовленность школьников 11-12 лет, занимающихся спортивными игр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Методы исследовани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. Анализ и обобщение литературных данны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. Анализ документальных данны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3. Контрольные испытания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4. Педагогический эксперимен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5. Статистическая обработка данны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качестве контрольных испытаний, для оценки уровня физической подготовленности, были использованы следующие тесты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ег 1000 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ег 100 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ыжок в длину с мест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лночный бег 4×9 м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дтягивания на высокой перекладин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_______"/>
          <p:cNvPicPr/>
          <p:nvPr/>
        </p:nvPicPr>
        <p:blipFill>
          <a:blip r:embed="rId1"/>
          <a:stretch/>
        </p:blipFill>
        <p:spPr>
          <a:xfrm>
            <a:off x="1692360" y="189000"/>
            <a:ext cx="1165320" cy="13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hello_html_m69a84ea5"/>
          <p:cNvPicPr/>
          <p:nvPr/>
        </p:nvPicPr>
        <p:blipFill>
          <a:blip r:embed="rId2"/>
          <a:stretch/>
        </p:blipFill>
        <p:spPr>
          <a:xfrm>
            <a:off x="3708360" y="115920"/>
            <a:ext cx="1174680" cy="144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спорт 2"/>
          <p:cNvPicPr/>
          <p:nvPr/>
        </p:nvPicPr>
        <p:blipFill>
          <a:blip r:embed="rId3"/>
          <a:stretch/>
        </p:blipFill>
        <p:spPr>
          <a:xfrm>
            <a:off x="6227640" y="260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Характеристика испытуем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835280" y="47239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группа – 9 школьников 11-12 ле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занимающихся спорт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8640" y="191628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 группа – 11 баскетболистов в возрасте 11-12 л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768400" y="3357720"/>
            <a:ext cx="58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 группа – 12 волейболистов  в возрасте 11-12 л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9" descr="i (26)"/>
          <p:cNvPicPr/>
          <p:nvPr/>
        </p:nvPicPr>
        <p:blipFill>
          <a:blip r:embed="rId1"/>
          <a:stretch/>
        </p:blipFill>
        <p:spPr>
          <a:xfrm>
            <a:off x="250920" y="2589120"/>
            <a:ext cx="2313000" cy="16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41-21kopiya"/>
          <p:cNvPicPr/>
          <p:nvPr/>
        </p:nvPicPr>
        <p:blipFill>
          <a:blip r:embed="rId2"/>
          <a:stretch/>
        </p:blipFill>
        <p:spPr>
          <a:xfrm>
            <a:off x="6948360" y="4149720"/>
            <a:ext cx="1230480" cy="218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ello_html_40e6245b"/>
          <p:cNvPicPr/>
          <p:nvPr/>
        </p:nvPicPr>
        <p:blipFill>
          <a:blip r:embed="rId3"/>
          <a:stretch/>
        </p:blipFill>
        <p:spPr>
          <a:xfrm>
            <a:off x="6516720" y="1628640"/>
            <a:ext cx="1131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в тест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прыжок в длину с места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1339920" y="1773360"/>
          <a:ext cx="65437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1773360"/>
                    <a:ext cx="6543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907560"/>
            <a:ext cx="8001000" cy="6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в тесте «бег 1000 м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1268280" y="1773360"/>
          <a:ext cx="65437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773360"/>
                    <a:ext cx="6543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в тест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челночный бег 4×9 м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Object 6"/>
          <p:cNvGraphicFramePr/>
          <p:nvPr/>
        </p:nvGraphicFramePr>
        <p:xfrm>
          <a:off x="1268280" y="1773360"/>
          <a:ext cx="65437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773360"/>
                    <a:ext cx="6543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в тест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подтягивания на высокой перекладине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1268280" y="1773360"/>
          <a:ext cx="65437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773360"/>
                    <a:ext cx="6543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18:39:21Z</dcterms:created>
  <dc:creator>Оксана</dc:creator>
  <dc:description/>
  <dc:language>en-US</dc:language>
  <cp:lastModifiedBy>Home</cp:lastModifiedBy>
  <dcterms:modified xsi:type="dcterms:W3CDTF">2022-02-17T12:08:13Z</dcterms:modified>
  <cp:revision>22</cp:revision>
  <dc:subject/>
  <dc:title>ОПРЕДЕЛЕНИЕ ДИНАМИКИ РАЗВИТИЯ ФИЗИЧЕСКИХ КАЧЕСТВ У ЮНОШЕЙ, ЗАНИМАЮЩИХСЯ СПОРТИВНЫМИ ИГРАМИ  ДИПЛОМНАЯ РАБОТА</dc:title>
</cp:coreProperties>
</file>