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6.png" ContentType="image/png"/>
  <Override PartName="/ppt/media/image1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89F3-39F7-4499-A3ED-15BD0EA36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33A9-2F4B-4DA6-847E-57C57585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0F92-D246-468D-A5C8-0C6C6C92C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94DA-D0ED-4840-82CE-061F0A186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1DD75-B15E-4556-8939-AF6FDD465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04FC-B969-483C-947B-077C37EA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4343-EE8B-4B13-8B88-AF9C8C51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7F85-001C-4C96-B9D9-8C22DCEB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01054-CCF6-4908-A35D-577D65B2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A167-41E9-4BD5-9EDD-A877F08F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27F4E-BA80-480C-8D5E-74D53D28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B4B6-B6C8-451B-A59E-4B667817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0F2E-66BD-4F21-8B0F-C55F2562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F3C2-93AD-4E74-9993-EE414EBE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57B9-876E-4F42-AF0E-783EA5A9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7C954-52F2-47D4-AC97-15C9C7105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EFE43-F3D4-410F-AEA6-C57221693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4227-2D8D-4273-A164-4E931749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AFFB-A1A9-4EC8-8F0E-361FEA7B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6A87-1761-42F1-AA1A-99E0B15C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4F51-F480-4DB8-99E4-0D8F9093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2EB1-6A81-4EB5-8D1C-4873ACDE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9FC1-E456-4255-BDCC-546C1B59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13FC-4625-4E3F-A06D-B28AAB11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5D0C-B429-4372-8813-5DA888DDE1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C9F2-4E3C-4582-91E6-CD17425DD25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280360" cy="316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ПРЕДЕЛЕНИЕ ДИНАМИКИ РАЗВИТИЯ ФИЗИЧЕСКИХ КАЧЕСТВ У ЮНОШЕЙ, ЗАНИМАЮЩИХСЯ СПОРТИВНЫМИ ИГРАМИ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68360" y="5373720"/>
            <a:ext cx="8136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4" descr="Beachvolleyball"/>
          <p:cNvPicPr/>
          <p:nvPr/>
        </p:nvPicPr>
        <p:blipFill>
          <a:blip r:embed="rId1"/>
          <a:stretch/>
        </p:blipFill>
        <p:spPr>
          <a:xfrm>
            <a:off x="5724360" y="306864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basketball18"/>
          <p:cNvPicPr/>
          <p:nvPr/>
        </p:nvPicPr>
        <p:blipFill>
          <a:blip r:embed="rId2"/>
          <a:stretch/>
        </p:blipFill>
        <p:spPr>
          <a:xfrm>
            <a:off x="1619280" y="3141720"/>
            <a:ext cx="20890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езультаты в тесте «бег 100м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6" name="Object 5"/>
          <p:cNvGraphicFramePr/>
          <p:nvPr/>
        </p:nvGraphicFramePr>
        <p:xfrm>
          <a:off x="1268280" y="1773360"/>
          <a:ext cx="6543720" cy="426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8280" y="1773360"/>
                    <a:ext cx="654372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ВО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Данные, полученные в результате проведенного исследования, показывают, что юноши 11-12 лет, занимающиеся спортивными играми имеют более высокое развитие физических качеств, чем школьники, незанимающиеся спортом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Анализ результатов в тестах у баскетболистов и волейболистов выявил, что у баскетболистов лучше развиты такие физические качества как выносливость и сила, у волейболистов – скоростно- силовые качества. В тестах, требующих проявления координационных и скоростных способностей, статистически достоверных различий выявлено не было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За период наблюдения за исследуемыми группами юношей 11 – 12 лет наибольшая динамика в развитии была отмечена в таком качестве как сила. У баскетболистов она улучшилась на 33%, у волейболистов – на 25%, у школьников, незанимающихся спортом – на 14%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>
            <a:off x="1692360" y="2781360"/>
            <a:ext cx="5688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 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Цель: Изучение динамики развития физических качеств у юношей 11-12 лет, занимающихся спортивными игр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915920"/>
            <a:ext cx="8001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дачи иссле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ить анализ научно-методической литературы по теме исследова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ределить показатели физических качеств у школьников 11-12 лет, занимающихся баскетболом и волейбол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равнить показатели физической подготовленности баскетболистов, волейболистов и школьников, не занимающихся спортивными играм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66280" y="2349000"/>
            <a:ext cx="8001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ъект исследовани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- процесс физического воспитания школьни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едмет исследовани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- физическая подготовленность школьников 11-12 лет, занимающихся спортивными игра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Методы исследования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1. Анализ и обобщение литературных данных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2. Анализ документальных данных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3. Контрольные испытания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4. Педагогический эксперимент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5. Статистическая обработка данных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 качестве контрольных испытаний, для оценки уровня физической подготовленности, были использованы следующие тесты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бег 1000 м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бег 100 м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рыжок в длину с места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челночный бег 4×9 м,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одтягивания на высокой перекладине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Picture 4" descr="_______"/>
          <p:cNvPicPr/>
          <p:nvPr/>
        </p:nvPicPr>
        <p:blipFill>
          <a:blip r:embed="rId1"/>
          <a:stretch/>
        </p:blipFill>
        <p:spPr>
          <a:xfrm>
            <a:off x="1692360" y="189000"/>
            <a:ext cx="1165320" cy="1332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hello_html_m69a84ea5"/>
          <p:cNvPicPr/>
          <p:nvPr/>
        </p:nvPicPr>
        <p:blipFill>
          <a:blip r:embed="rId2"/>
          <a:stretch/>
        </p:blipFill>
        <p:spPr>
          <a:xfrm>
            <a:off x="3708360" y="115920"/>
            <a:ext cx="1174680" cy="1441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спорт 2"/>
          <p:cNvPicPr/>
          <p:nvPr/>
        </p:nvPicPr>
        <p:blipFill>
          <a:blip r:embed="rId3"/>
          <a:stretch/>
        </p:blipFill>
        <p:spPr>
          <a:xfrm>
            <a:off x="6227640" y="2602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Характеристика испытуем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1835280" y="472392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 группа – 9 школьников 11-12 лет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 занимающихся спорто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458640" y="1916280"/>
            <a:ext cx="580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 группа – 11 баскетболистов в возрасте 11-12 ле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2768400" y="3357720"/>
            <a:ext cx="581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 группа – 12 волейболистов  в возрасте 11-12 ле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9" descr="i (26)"/>
          <p:cNvPicPr/>
          <p:nvPr/>
        </p:nvPicPr>
        <p:blipFill>
          <a:blip r:embed="rId1"/>
          <a:stretch/>
        </p:blipFill>
        <p:spPr>
          <a:xfrm>
            <a:off x="250920" y="2589120"/>
            <a:ext cx="2313000" cy="1692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C41-21kopiya"/>
          <p:cNvPicPr/>
          <p:nvPr/>
        </p:nvPicPr>
        <p:blipFill>
          <a:blip r:embed="rId2"/>
          <a:stretch/>
        </p:blipFill>
        <p:spPr>
          <a:xfrm>
            <a:off x="6948360" y="4149720"/>
            <a:ext cx="1230480" cy="218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hello_html_40e6245b"/>
          <p:cNvPicPr/>
          <p:nvPr/>
        </p:nvPicPr>
        <p:blipFill>
          <a:blip r:embed="rId3"/>
          <a:stretch/>
        </p:blipFill>
        <p:spPr>
          <a:xfrm>
            <a:off x="6516720" y="1628640"/>
            <a:ext cx="11318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езультаты в тесте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«прыжок в длину с места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Object 4"/>
          <p:cNvGraphicFramePr/>
          <p:nvPr/>
        </p:nvGraphicFramePr>
        <p:xfrm>
          <a:off x="1339920" y="1773360"/>
          <a:ext cx="6543720" cy="426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9920" y="1773360"/>
                    <a:ext cx="654372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907560"/>
            <a:ext cx="8001000" cy="61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езультаты в тесте «бег 1000 м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7" name="Object 5"/>
          <p:cNvGraphicFramePr/>
          <p:nvPr/>
        </p:nvGraphicFramePr>
        <p:xfrm>
          <a:off x="1268280" y="1773360"/>
          <a:ext cx="6543720" cy="426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8280" y="1773360"/>
                    <a:ext cx="654372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езультаты в тесте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«челночный бег 4×9 м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0" name="Object 6"/>
          <p:cNvGraphicFramePr/>
          <p:nvPr/>
        </p:nvGraphicFramePr>
        <p:xfrm>
          <a:off x="1268280" y="1773360"/>
          <a:ext cx="6543720" cy="426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8280" y="1773360"/>
                    <a:ext cx="654372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езультаты в тесте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«подтягивания на высокой перекладине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3" name="Object 5"/>
          <p:cNvGraphicFramePr/>
          <p:nvPr/>
        </p:nvGraphicFramePr>
        <p:xfrm>
          <a:off x="1268280" y="1773360"/>
          <a:ext cx="6543720" cy="426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8280" y="1773360"/>
                    <a:ext cx="654372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1T18:39:21Z</dcterms:created>
  <dc:creator>Оксана</dc:creator>
  <dc:description/>
  <dc:language>en-US</dc:language>
  <cp:lastModifiedBy>Home</cp:lastModifiedBy>
  <dcterms:modified xsi:type="dcterms:W3CDTF">2022-02-17T12:08:13Z</dcterms:modified>
  <cp:revision>22</cp:revision>
  <dc:subject/>
  <dc:title>ОПРЕДЕЛЕНИЕ ДИНАМИКИ РАЗВИТИЯ ФИЗИЧЕСКИХ КАЧЕСТВ У ЮНОШЕЙ, ЗАНИМАЮЩИХСЯ СПОРТИВНЫМИ ИГРАМИ  ДИПЛОМНАЯ РАБОТА</dc:title>
</cp:coreProperties>
</file>