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59CAD-A1A9-437E-9BE0-59108876377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D0928-DD96-4CF5-B8F4-857C08B757D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208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06" name="Text Box 2"/>
          <p:cNvSpPr/>
          <p:nvPr/>
        </p:nvSpPr>
        <p:spPr>
          <a:xfrm>
            <a:off x="1062000" y="4349880"/>
            <a:ext cx="4737240" cy="35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70E82-B730-4725-8D25-9CD5E8CB50F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57BB4-AB96-4A3F-803F-00EB5E97320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1CABD-2E4D-405D-A516-CD4BE31385A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2C386-E889-461E-BAA4-8EFE478642B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11A45-8179-4E89-87C7-82C009BDC77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47B1C-ECCC-40C9-9980-68E0540C850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4320A-EBCE-481D-81D3-9FD80E69E24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61E82-7FD4-4AD9-992F-A3ADD9810FA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6412D-24F6-4990-9EC6-23A4F3F4A65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25AB8-D8E0-4524-A86A-1CE620E7688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D9F8E-5F63-4C77-8ED3-538629A3886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54AA7-E2AC-4DE9-B903-3812D0BE9A2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E534A-F501-4C23-8FAF-2EC9C22EAC1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8A63F-B864-42BD-9CE0-F8EA4E032FD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21195-531D-430B-9ACA-95F68B68B5D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9B1D4-5D29-4237-97F8-4FF6B524813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078D5-C4A6-48E9-9DE5-32D19DC8D87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4C22B-3555-423E-AFC9-E4BEF039C72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09212-C0B6-4B65-8419-551F47C388B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ED2C5-3FCA-490B-BBF7-D401227096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ED502-7D45-41B9-9B87-80C99A54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99FA9-F387-4B84-B7C4-5F52E6A8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EF7E8-1B5E-43B0-B3DB-0BFA4A5F7C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52731-1A05-44DA-833A-676462BBC3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6E6C8-B56E-4979-8A88-075DA309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F1828-11E4-4F2F-BA50-A24E6FA4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75291-D78D-42A5-9565-D10922F0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B88D5-0F57-49A1-AC02-A4F06410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789A9-A16C-4E90-8A15-3C50D735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9F2A2-1942-4346-AF4E-57B9D600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FFE65-088B-4CB9-9D39-07AF0C4E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3A9D6-1AC0-4DD2-ABE2-2FF6C155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11359-E809-4418-9315-26B9ECF7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DDE1B-4700-4E70-B284-1CAEAFDB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B3AD8-D5FA-4D08-B034-4F331783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CAB02-3EAE-49A7-B9E2-30568FF113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6544-9213-4B78-B321-134E426630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7181-3801-4F3A-8638-01DCEACB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A2B1-0C4C-46ED-9FC2-FC2E8400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C2BC-204F-42AA-9AD2-14239CBA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F699-010A-4D27-AF85-9B2879BC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B35B3-C5EC-4AAD-ADB3-2B4563D2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BAF3-6474-4F65-AC66-D6AED290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12F9-3AA4-4304-A158-5D755C23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8923-95D0-43DA-8453-CD0725FC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56A6-E0A3-4128-A71B-EB0276FC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DF26-9450-478F-8309-816E028C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CBA4-55B5-4427-B030-C274E8EF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FFD5-2293-4302-8089-D8513F370E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6BCB6-32CA-48EE-9877-B1B5BE0B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02077-8F69-4818-BAA3-BA706224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2CEA6-91B2-43DA-920C-6D29269E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61080-ECD4-40E7-B405-FF5642EC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0F5A0-6482-4ADE-A004-1B1B5790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67B8F-7EAA-447F-B709-04CE5A3C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444d26">
                  <a:alpha val="11372"/>
                </a:srgbClr>
              </a:gs>
              <a:gs pos="100000">
                <a:srgbClr val="444d26">
                  <a:alpha val="2352"/>
                </a:srgbClr>
              </a:gs>
            </a:gsLst>
            <a:lin ang="18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fd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cap="rnd" w="6120">
            <a:solidFill>
              <a:srgbClr val="ffffd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440"/>
            <a:ext cx="21319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3E5A97-8ABD-4373-87E5-68711BB5D761}" type="slidenum">
              <a:rPr b="0" lang="ru-RU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444d26">
                  <a:alpha val="11372"/>
                </a:srgbClr>
              </a:gs>
              <a:gs pos="100000">
                <a:srgbClr val="444d26">
                  <a:alpha val="2352"/>
                </a:srgbClr>
              </a:gs>
            </a:gsLst>
            <a:lin ang="18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fd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cap="rnd" w="6120">
            <a:solidFill>
              <a:srgbClr val="ffffd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 rot="16200000">
            <a:off x="7553160" y="525564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c6d9b2"/>
              </a:gs>
              <a:gs pos="100000">
                <a:srgbClr val="5f6e4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1371600" y="6011640"/>
            <a:ext cx="57895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8391240" y="5753160"/>
            <a:ext cx="501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9066BBB-A353-4144-905C-60B490ED8999}" type="slidenum">
              <a:rPr b="0" lang="ru-RU" sz="13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444d26">
                  <a:alpha val="11372"/>
                </a:srgbClr>
              </a:gs>
              <a:gs pos="100000">
                <a:srgbClr val="444d26">
                  <a:alpha val="2352"/>
                </a:srgbClr>
              </a:gs>
            </a:gsLst>
            <a:lin ang="18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fd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cap="rnd" w="6120">
            <a:solidFill>
              <a:srgbClr val="ffffd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4791240" y="6480000"/>
            <a:ext cx="213192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8895AB4-A1E9-47A9-BB54-1AC317700C7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0" y="-142920"/>
            <a:ext cx="6076800" cy="228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6067440" y="-142920"/>
            <a:ext cx="3076560" cy="2286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468360" y="1785960"/>
            <a:ext cx="828036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ОДИТЕЛЬСКОЕ СОБР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 введении  учебных курсов образовательной обла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«Основы духовно-нравственной культуры народов России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общеобразовательных учреждениях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 2012 го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4572000" y="4221000"/>
            <a:ext cx="1473120" cy="208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6948360" y="3213000"/>
            <a:ext cx="1752840" cy="2303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3"/>
          <a:stretch/>
        </p:blipFill>
        <p:spPr>
          <a:xfrm>
            <a:off x="2556000" y="4221000"/>
            <a:ext cx="1639800" cy="2160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4"/>
          <a:stretch/>
        </p:blipFill>
        <p:spPr>
          <a:xfrm>
            <a:off x="250920" y="549360"/>
            <a:ext cx="1450800" cy="215892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5"/>
          <p:cNvGrpSpPr/>
          <p:nvPr/>
        </p:nvGrpSpPr>
        <p:grpSpPr>
          <a:xfrm>
            <a:off x="1692360" y="0"/>
            <a:ext cx="5337000" cy="3984480"/>
            <a:chOff x="1692360" y="0"/>
            <a:chExt cx="5337000" cy="3984480"/>
          </a:xfrm>
        </p:grpSpPr>
        <p:pic>
          <p:nvPicPr>
            <p:cNvPr id="167" name="Picture 6" descr=""/>
            <p:cNvPicPr/>
            <p:nvPr/>
          </p:nvPicPr>
          <p:blipFill>
            <a:blip r:embed="rId5"/>
            <a:stretch/>
          </p:blipFill>
          <p:spPr>
            <a:xfrm>
              <a:off x="1692360" y="0"/>
              <a:ext cx="5337000" cy="39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7"/>
            <p:cNvSpPr/>
            <p:nvPr/>
          </p:nvSpPr>
          <p:spPr>
            <a:xfrm>
              <a:off x="1866960" y="142920"/>
              <a:ext cx="50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9" name="Picture 8" descr=""/>
          <p:cNvPicPr/>
          <p:nvPr/>
        </p:nvPicPr>
        <p:blipFill>
          <a:blip r:embed="rId6"/>
          <a:stretch/>
        </p:blipFill>
        <p:spPr>
          <a:xfrm>
            <a:off x="6948360" y="189000"/>
            <a:ext cx="1797120" cy="244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7"/>
          <a:stretch/>
        </p:blipFill>
        <p:spPr>
          <a:xfrm>
            <a:off x="324000" y="3284640"/>
            <a:ext cx="1568160" cy="2160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2195640" y="333360"/>
            <a:ext cx="4572000" cy="35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рс «Основы религиозных культур и светской этики» включает в себя </a:t>
            </a:r>
            <a:br>
              <a:rPr sz="1600"/>
            </a:b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6 модуле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Основы православной культу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сновы мировых религиозных культур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Основы светской эти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Основы исламской культу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Основы буддийской культу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Основы иудейской культу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268200"/>
            <a:ext cx="8229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2760" algn="ctr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Century Gothic"/>
                <a:ea typeface="Arial"/>
              </a:rPr>
              <a:t>Основы православной культур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076480" cy="28576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3419640" y="1413000"/>
            <a:ext cx="518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блия (Священное Писа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что верят православные христиа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аситель. Жертвенная любов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беда над смер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щение , миропомазание, причастие, покая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коны, фрески, церковное п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457200" y="268200"/>
            <a:ext cx="8229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2760" algn="ctr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Century Gothic"/>
                <a:ea typeface="Arial"/>
              </a:rPr>
              <a:t>«Основы исламской культуры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2347920" cy="3095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3708360" y="1484280"/>
            <a:ext cx="4824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орок Мухаммед – образец человека и учитель нравствен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вященные книги ислама – Коран, Сунна как источники нравствен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язанности мусульма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ак устроена мечет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ааба. Минар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tabLst>
                <a:tab algn="l" pos="0"/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tabLst>
                <a:tab algn="l" pos="0"/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457200" y="268200"/>
            <a:ext cx="8229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2760" algn="ctr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Century Gothic"/>
                <a:ea typeface="Arial"/>
              </a:rPr>
              <a:t>«Основы буддийской культуры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2344680" cy="30956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3851280" y="1413000"/>
            <a:ext cx="446580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удда и его уче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уддийский священный кано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уддийская картина мир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бро и зл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насилие и добро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уддийские святы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рипитака (Типитака). Джаммапад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tabLst>
                <a:tab algn="l" pos="0"/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1258920" y="189000"/>
            <a:ext cx="76755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2760" algn="ctr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8000"/>
                </a:solidFill>
                <a:latin typeface="Century Gothic"/>
                <a:ea typeface="Arial"/>
              </a:rPr>
              <a:t>«Основы иудейской культуры»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2376360" cy="31194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3635280" y="1341360"/>
            <a:ext cx="5184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ора – главная книга иудаизма. Сущность Торы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исьменная и Устная Тор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атриархи еврейского народ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ороки и праведники в иудейской культур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значение синагог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уббота (Шабат) в иудейской традиц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олитвы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258920" y="189000"/>
            <a:ext cx="76755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2760" algn="ctr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8000"/>
                </a:solidFill>
                <a:latin typeface="Century Gothic"/>
                <a:ea typeface="Arial"/>
              </a:rPr>
              <a:t>«Основы мировых </a:t>
            </a:r>
            <a:br>
              <a:rPr sz="3800"/>
            </a:br>
            <a:r>
              <a:rPr b="1" lang="ru-RU" sz="3800" spc="-1" strike="noStrike">
                <a:solidFill>
                  <a:srgbClr val="008000"/>
                </a:solidFill>
                <a:latin typeface="Century Gothic"/>
                <a:ea typeface="Arial"/>
              </a:rPr>
              <a:t>религиозных культур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2592720" cy="37450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3924360" y="1700280"/>
            <a:ext cx="4895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ультура и религ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ревнейшие верования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лигии мира и их основатели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вященные книги: Веды, Авеста, Трипитака, Библия, Тора, Кора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Хранители предания в религиях мир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нятие греха, раская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457200" y="268200"/>
            <a:ext cx="8229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2760" algn="ctr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8000"/>
                </a:solidFill>
                <a:latin typeface="Century Gothic"/>
                <a:ea typeface="Arial"/>
              </a:rPr>
              <a:t>«Основы светской этики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2633760" cy="32590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4427640" y="1341360"/>
            <a:ext cx="431964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48840" indent="-2710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ультура и мораль. Этика и ее значение в жизни челове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-2710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емейные цен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-2710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рядочность. Интеллигентност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-2710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бро и зл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-2710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лг и совест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-2710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мысл жизни и счасть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-271080">
              <a:spcBef>
                <a:spcPts val="64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тик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"/>
          <p:cNvGrpSpPr/>
          <p:nvPr/>
        </p:nvGrpSpPr>
        <p:grpSpPr>
          <a:xfrm>
            <a:off x="1116000" y="260280"/>
            <a:ext cx="7054920" cy="2735280"/>
            <a:chOff x="1116000" y="260280"/>
            <a:chExt cx="7054920" cy="2735280"/>
          </a:xfrm>
        </p:grpSpPr>
        <p:pic>
          <p:nvPicPr>
            <p:cNvPr id="191" name="Picture 2" descr=""/>
            <p:cNvPicPr/>
            <p:nvPr/>
          </p:nvPicPr>
          <p:blipFill>
            <a:blip r:embed="rId1"/>
            <a:stretch/>
          </p:blipFill>
          <p:spPr>
            <a:xfrm>
              <a:off x="1116000" y="260280"/>
              <a:ext cx="705492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3"/>
            <p:cNvSpPr/>
            <p:nvPr/>
          </p:nvSpPr>
          <p:spPr>
            <a:xfrm>
              <a:off x="1366920" y="378000"/>
              <a:ext cx="67132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ениваться усвоение курса будет защитой творческих проектов. Проекты могут быть как индивидуальными, так и коллективными.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Group 4"/>
          <p:cNvGrpSpPr/>
          <p:nvPr/>
        </p:nvGrpSpPr>
        <p:grpSpPr>
          <a:xfrm>
            <a:off x="611280" y="4005360"/>
            <a:ext cx="4241880" cy="2157480"/>
            <a:chOff x="611280" y="4005360"/>
            <a:chExt cx="4241880" cy="2157480"/>
          </a:xfrm>
        </p:grpSpPr>
        <p:pic>
          <p:nvPicPr>
            <p:cNvPr id="194" name="Picture 5" descr=""/>
            <p:cNvPicPr/>
            <p:nvPr/>
          </p:nvPicPr>
          <p:blipFill>
            <a:blip r:embed="rId2"/>
            <a:stretch/>
          </p:blipFill>
          <p:spPr>
            <a:xfrm>
              <a:off x="611280" y="4005360"/>
              <a:ext cx="424188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6"/>
            <p:cNvSpPr/>
            <p:nvPr/>
          </p:nvSpPr>
          <p:spPr>
            <a:xfrm>
              <a:off x="787320" y="4308480"/>
              <a:ext cx="3998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презентацию проектов приглашаются родители.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6" name="Picture 7" descr=""/>
          <p:cNvPicPr/>
          <p:nvPr/>
        </p:nvPicPr>
        <p:blipFill>
          <a:blip r:embed="rId3"/>
          <a:stretch/>
        </p:blipFill>
        <p:spPr>
          <a:xfrm>
            <a:off x="5003640" y="3666960"/>
            <a:ext cx="3751560" cy="28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545080" cy="415764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2"/>
          <p:cNvGrpSpPr/>
          <p:nvPr/>
        </p:nvGrpSpPr>
        <p:grpSpPr>
          <a:xfrm>
            <a:off x="250920" y="4581360"/>
            <a:ext cx="8566200" cy="1870200"/>
            <a:chOff x="250920" y="4581360"/>
            <a:chExt cx="8566200" cy="1870200"/>
          </a:xfrm>
        </p:grpSpPr>
        <p:pic>
          <p:nvPicPr>
            <p:cNvPr id="199" name="Picture 3" descr=""/>
            <p:cNvPicPr/>
            <p:nvPr/>
          </p:nvPicPr>
          <p:blipFill>
            <a:blip r:embed="rId2"/>
            <a:stretch/>
          </p:blipFill>
          <p:spPr>
            <a:xfrm>
              <a:off x="250920" y="4581360"/>
              <a:ext cx="8566200" cy="18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4"/>
            <p:cNvSpPr/>
            <p:nvPr/>
          </p:nvSpPr>
          <p:spPr>
            <a:xfrm>
              <a:off x="689040" y="4687920"/>
              <a:ext cx="78976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подают курс учителя общеобразовательных школ, прошедшие специальную подготовку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656560" cy="15541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0560" indent="-455400">
              <a:lnSpc>
                <a:spcPct val="90000"/>
              </a:lnSpc>
              <a:tabLst>
                <a:tab algn="l" pos="0"/>
                <a:tab algn="l" pos="985680"/>
                <a:tab algn="l" pos="1900080"/>
                <a:tab algn="l" pos="2814480"/>
                <a:tab algn="l" pos="3728880"/>
                <a:tab algn="l" pos="4643280"/>
                <a:tab algn="l" pos="5557680"/>
                <a:tab algn="l" pos="6472080"/>
                <a:tab algn="l" pos="7386480"/>
                <a:tab algn="l" pos="8300880"/>
                <a:tab algn="l" pos="9215280"/>
                <a:tab algn="l" pos="1012968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ть то, что обучение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0560" indent="-455400">
              <a:lnSpc>
                <a:spcPct val="70000"/>
              </a:lnSpc>
              <a:spcBef>
                <a:spcPts val="499"/>
              </a:spcBef>
              <a:buClr>
                <a:srgbClr val="a5b592"/>
              </a:buClr>
              <a:buSzPct val="80000"/>
              <a:buFont typeface="Times New Roman"/>
              <a:buAutoNum type="arabicPeriod"/>
              <a:tabLst>
                <a:tab algn="l" pos="985680"/>
                <a:tab algn="l" pos="1900080"/>
                <a:tab algn="l" pos="2814480"/>
                <a:tab algn="l" pos="3728880"/>
                <a:tab algn="l" pos="4643280"/>
                <a:tab algn="l" pos="5557680"/>
                <a:tab algn="l" pos="6472080"/>
                <a:tab algn="l" pos="7386480"/>
                <a:tab algn="l" pos="8300880"/>
                <a:tab algn="l" pos="9215280"/>
                <a:tab algn="l" pos="1012968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о на воспитание ребенка  и опирается на нравственные ценности семьи в воспит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0560" indent="-4554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85680"/>
                <a:tab algn="l" pos="1900080"/>
                <a:tab algn="l" pos="2814480"/>
                <a:tab algn="l" pos="3728880"/>
                <a:tab algn="l" pos="4643280"/>
                <a:tab algn="l" pos="5557680"/>
                <a:tab algn="l" pos="6472080"/>
                <a:tab algn="l" pos="7386480"/>
                <a:tab algn="l" pos="8300880"/>
                <a:tab algn="l" pos="9215280"/>
                <a:tab algn="l" pos="101296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0560" indent="-455400">
              <a:lnSpc>
                <a:spcPct val="70000"/>
              </a:lnSpc>
              <a:spcBef>
                <a:spcPts val="499"/>
              </a:spcBef>
              <a:buClr>
                <a:srgbClr val="a5b592"/>
              </a:buClr>
              <a:buSzPct val="80000"/>
              <a:buFont typeface="Times New Roman"/>
              <a:buAutoNum type="arabicPeriod"/>
              <a:tabLst>
                <a:tab algn="l" pos="985680"/>
                <a:tab algn="l" pos="1900080"/>
                <a:tab algn="l" pos="2814480"/>
                <a:tab algn="l" pos="3728880"/>
                <a:tab algn="l" pos="4643280"/>
                <a:tab algn="l" pos="5557680"/>
                <a:tab algn="l" pos="6472080"/>
                <a:tab algn="l" pos="7386480"/>
                <a:tab algn="l" pos="8300880"/>
                <a:tab algn="l" pos="9215280"/>
                <a:tab algn="l" pos="1012968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вано помочь ребенку понять, какие нравственные основания стали основой развития культурной среды, в которой он жив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0560" indent="-4554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85680"/>
                <a:tab algn="l" pos="1900080"/>
                <a:tab algn="l" pos="2814480"/>
                <a:tab algn="l" pos="3728880"/>
                <a:tab algn="l" pos="4643280"/>
                <a:tab algn="l" pos="5557680"/>
                <a:tab algn="l" pos="6472080"/>
                <a:tab algn="l" pos="7386480"/>
                <a:tab algn="l" pos="8300880"/>
                <a:tab algn="l" pos="9215280"/>
                <a:tab algn="l" pos="101296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0560" indent="-455400">
              <a:lnSpc>
                <a:spcPct val="70000"/>
              </a:lnSpc>
              <a:spcBef>
                <a:spcPts val="499"/>
              </a:spcBef>
              <a:buClr>
                <a:srgbClr val="a5b592"/>
              </a:buClr>
              <a:buSzPct val="80000"/>
              <a:buFont typeface="Times New Roman"/>
              <a:buAutoNum type="arabicPeriod"/>
              <a:tabLst>
                <a:tab algn="l" pos="985680"/>
                <a:tab algn="l" pos="1900080"/>
                <a:tab algn="l" pos="2814480"/>
                <a:tab algn="l" pos="3728880"/>
                <a:tab algn="l" pos="4643280"/>
                <a:tab algn="l" pos="5557680"/>
                <a:tab algn="l" pos="6472080"/>
                <a:tab algn="l" pos="7386480"/>
                <a:tab algn="l" pos="8300880"/>
                <a:tab algn="l" pos="9215280"/>
                <a:tab algn="l" pos="1012968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о на формирование понимания ребенком значения религиозных и светских традиций для современной жизни народов многонациональной России и своей сопричастности н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0560" indent="-4554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85680"/>
                <a:tab algn="l" pos="1900080"/>
                <a:tab algn="l" pos="2814480"/>
                <a:tab algn="l" pos="3728880"/>
                <a:tab algn="l" pos="4643280"/>
                <a:tab algn="l" pos="5557680"/>
                <a:tab algn="l" pos="6472080"/>
                <a:tab algn="l" pos="7386480"/>
                <a:tab algn="l" pos="8300880"/>
                <a:tab algn="l" pos="9215280"/>
                <a:tab algn="l" pos="101296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0560" indent="-455400">
              <a:lnSpc>
                <a:spcPct val="70000"/>
              </a:lnSpc>
              <a:spcBef>
                <a:spcPts val="499"/>
              </a:spcBef>
              <a:buClr>
                <a:srgbClr val="a5b592"/>
              </a:buClr>
              <a:buSzPct val="80000"/>
              <a:buFont typeface="Times New Roman"/>
              <a:buAutoNum type="arabicPeriod"/>
              <a:tabLst>
                <a:tab algn="l" pos="985680"/>
                <a:tab algn="l" pos="1900080"/>
                <a:tab algn="l" pos="2814480"/>
                <a:tab algn="l" pos="3728880"/>
                <a:tab algn="l" pos="4643280"/>
                <a:tab algn="l" pos="5557680"/>
                <a:tab algn="l" pos="6472080"/>
                <a:tab algn="l" pos="7386480"/>
                <a:tab algn="l" pos="8300880"/>
                <a:tab algn="l" pos="9215280"/>
                <a:tab algn="l" pos="1012968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обучения не в поглощении информации, а  в формировании нравственного поведения ребенка на основе понимания и усвоения духовно-нравственных ценностей общества, в котором он жив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57200" y="268200"/>
            <a:ext cx="8229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84200" algn="ctr"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Нормативно-правовая основа разработки и введения комплексного учебного курса ОРКСЭ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12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ой разработки и введения в учебный проце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12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лексного учебного кур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12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"Основы религиозных культур и светской этики" явля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12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1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оручение Президента Российской Федер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1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 2 августа 2009 г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1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1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Распоряжение Председателя Правительст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1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Федерации от 11 августа 2009 г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1240" algn="ctr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чиная с 2012 года  преподавание комплексного учебного курса осуществляется на постоянной основе во всех субъектах Российской Федераци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1332000" y="278136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2760" algn="ctr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8000"/>
                </a:solidFill>
                <a:latin typeface="Century Gothic"/>
                <a:ea typeface="Arial"/>
              </a:rPr>
              <a:t>Спасибо за внимани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457200" y="268200"/>
            <a:ext cx="8229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Принципами введения курса ОРКСЭ выступаю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1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Соблюдение конституционных принципов светского характера Российского государств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заимодействие органов исполнительной власти субъектов Российской Федерации, осуществляющие управление в сфере образования, с религиозными организациям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3. Содействие межконфессиональному сотрудничеству и взаимному уважению на местах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4. Институты учета запросов граждан на изучение их детьм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 культуры религий и светской этики.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2381400" cy="32954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2987640" y="1484280"/>
            <a:ext cx="594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ы основываемся на том, что государство должно быть нейтральным и к религии, и к атеизму, создавая условия для получения знаний о роли религии в развитии общества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е к религиям в школе должно быть познавательным, а не вероучитель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»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. Кондаков, генеральный директор издательства «Просвещени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1766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457200" y="268200"/>
            <a:ext cx="8229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Курс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«Основы религиозных культур и светской эти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ляется культурологическим и направлен на развитие у школьников 4-х классов представлений о нравственных идеалах и ценностях, составляющих основу религиозных и светских традиций многонациональной культуры России, на понимание их значения в жизни современного общества, а также своей сопричастности к н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68200"/>
            <a:ext cx="8229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marL="469440" algn="ctr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entury Gothic"/>
              </a:rPr>
              <a:t>Курс «Основы религиозных культур и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entury Gothic"/>
              </a:rPr>
              <a:t>светской этики» -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entury Gothic"/>
              </a:rPr>
              <a:t> единая комплексная учебно-воспитательная систе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 модули курса согласуются между собой по педагогическим целям, задачам, требованиям к результатам освоения учебного содержания, находясь в системе содержательных, понятийных, ценностно-смысловых связей с другими гуманитарными предметами начальной и основной шко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755640" y="765000"/>
            <a:ext cx="82296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8760"/>
                <a:tab algn="l" pos="1343160"/>
                <a:tab algn="l" pos="2257560"/>
                <a:tab algn="l" pos="3171960"/>
                <a:tab algn="l" pos="4086360"/>
                <a:tab algn="l" pos="5000760"/>
                <a:tab algn="l" pos="5915160"/>
                <a:tab algn="l" pos="6829560"/>
                <a:tab algn="l" pos="7743960"/>
                <a:tab algn="l" pos="8658360"/>
                <a:tab algn="l" pos="9572760"/>
                <a:tab algn="l" pos="98838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8000"/>
                </a:solidFill>
                <a:latin typeface="Century Gothic"/>
                <a:ea typeface="Arial"/>
              </a:rPr>
              <a:t>«Основы религиозных культур </a:t>
            </a:r>
            <a:br>
              <a:rPr sz="4300"/>
            </a:br>
            <a:r>
              <a:rPr b="1" lang="ru-RU" sz="4300" spc="-1" strike="noStrike">
                <a:solidFill>
                  <a:srgbClr val="008000"/>
                </a:solidFill>
                <a:latin typeface="Century Gothic"/>
                <a:ea typeface="Arial"/>
              </a:rPr>
              <a:t>и светской этики»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332000" y="2492280"/>
            <a:ext cx="762300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9000"/>
          </a:bodyPr>
          <a:p>
            <a:pPr marL="26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00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333080"/>
                <a:tab algn="l" pos="10782360"/>
              </a:tabLst>
            </a:pPr>
            <a:r>
              <a:rPr b="1" lang="ru-RU" sz="2600" spc="-1" strike="noStrike" u="sng">
                <a:solidFill>
                  <a:srgbClr val="008000"/>
                </a:solidFill>
                <a:uFillTx/>
                <a:latin typeface="Century Gothic"/>
              </a:rPr>
              <a:t>Цель курса</a:t>
            </a:r>
            <a:r>
              <a:rPr b="1" lang="ru-RU" sz="2600" spc="-1" strike="noStrike">
                <a:solidFill>
                  <a:srgbClr val="008000"/>
                </a:solidFill>
                <a:latin typeface="Century Gothic"/>
              </a:rPr>
              <a:t> –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формирование у младших подростков мотиваций к ОСОЗНАННОМУ НРАВСТВЕННОМУ ПОВЕДЕНИЮ, основанному на знании культурных и религиозных традиций  многонационального народа России и уважении к ним, а также к диалогу с представителями других культур и мировоззрен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332000" y="189000"/>
            <a:ext cx="74977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2760">
              <a:lnSpc>
                <a:spcPct val="100000"/>
              </a:lnSpc>
              <a:tabLst>
                <a:tab algn="l" pos="0"/>
                <a:tab algn="l" pos="484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300" spc="-1" strike="noStrike" u="sng">
                <a:solidFill>
                  <a:srgbClr val="008000"/>
                </a:solidFill>
                <a:uFillTx/>
                <a:latin typeface="Century Gothic"/>
                <a:ea typeface="Arial"/>
              </a:rPr>
              <a:t>Задачи курса ОРКСЭ: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684360" y="1052640"/>
            <a:ext cx="82501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Знакомство младших школьников с основами религиозных культур и светской эти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звитие представлений подростка о значении нравственных норм и ценностей для достойной жизни личности, семьи и общест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Обобщение знаний школьников о духовной культуре, морали, формирование у них ценностно-смысловых мировоззренческих основ, обеспечивающих целостное восприятие отечественной истории и культур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Развитие способностей к общению в полиэтнической  и многоконфессиональной среде на основе взаимного ува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457200" y="266760"/>
            <a:ext cx="822960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28260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оспитание детей было и остаётся самым трудным видом деятельности в мир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828720"/>
                <a:tab algn="l" pos="1743120"/>
                <a:tab algn="l" pos="2657520"/>
                <a:tab algn="l" pos="3571920"/>
                <a:tab algn="l" pos="4486320"/>
                <a:tab algn="l" pos="5400720"/>
                <a:tab algn="l" pos="6315120"/>
                <a:tab algn="l" pos="7229520"/>
                <a:tab algn="l" pos="8143920"/>
                <a:tab algn="l" pos="9058320"/>
                <a:tab algn="l" pos="997272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то может быть сложнее и ответственнее, чем воспитать в человеке Человека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5:39:53Z</dcterms:created>
  <dc:creator>Людмила</dc:creator>
  <dc:description/>
  <dc:language>en-US</dc:language>
  <cp:lastModifiedBy>User</cp:lastModifiedBy>
  <dcterms:modified xsi:type="dcterms:W3CDTF">2021-05-20T12:20:16Z</dcterms:modified>
  <cp:revision>198</cp:revision>
  <dc:subject/>
  <dc:title>Слайд 1</dc:title>
</cp:coreProperties>
</file>