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8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1D7D6-8065-447C-B9E7-E6139EF35ED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76C13-7614-4BC4-A4B0-E2E2580CC52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20840" y="879480"/>
            <a:ext cx="4218120" cy="3164040"/>
          </a:xfrm>
          <a:prstGeom prst="rect">
            <a:avLst/>
          </a:prstGeom>
          <a:ln w="0">
            <a:noFill/>
          </a:ln>
        </p:spPr>
      </p:sp>
      <p:sp>
        <p:nvSpPr>
          <p:cNvPr id="206" name="Text Box 2"/>
          <p:cNvSpPr/>
          <p:nvPr/>
        </p:nvSpPr>
        <p:spPr>
          <a:xfrm>
            <a:off x="1062000" y="4349880"/>
            <a:ext cx="4737240" cy="35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B208E-A215-4A77-BC14-2EBD93FB298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A19C4-6148-45BC-8AE2-E1C70F4A992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A54DB-3998-4E37-8996-551CAE1C11A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5A464-B74B-4138-A5D4-400FAAAA990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920F1-4255-419E-9A54-ACE491D4233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C4DFD-B97D-4BA9-9D84-E6ED69848DE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731E7-0C25-4F02-B3A4-ACFF7CEC2A4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4CD4C-92B6-4852-8D11-A247C54C12C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34761-9165-41F1-AA9A-E94C9162F6D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4A2F3-3620-4D49-B1F2-129E69C6C15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8269E-9486-4F99-B821-23A555694B1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09570-EDEF-4CB5-BEC1-D971C4D4381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0019F-93E0-420A-999D-458B8A588A9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56930-FE14-4D18-9809-18E4C147142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6A0E19-1F28-44D4-9E03-DF9BC711D85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70627-D057-40FD-BA6F-4214EEE65F5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A3CCB-88E4-49E5-9D44-FF66BB3240D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9B54C-F0C9-4871-A46C-D08A44AF345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AB672-7F4E-481F-8F8C-FC5A09AD709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E0D57-4110-4C46-BD63-6209A38FF7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5300E-8DDF-4403-A47D-33605120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1432B-EA8F-47D4-A1F6-D3A0674B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8AF24-232B-424D-95CD-428871B110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B1647-7E1A-4B8B-AE2A-471254E376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7681A-5745-491E-88CF-BFBEED4A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D567A-2125-4C70-96AA-5B9B9D49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E6F02-1F0C-45FB-9FB0-45F44B3C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231B1-597D-45C7-AD6B-7F7C39C69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95289-5DBB-4B51-96DD-E0E3B5E93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BD522-15F1-4BF6-9643-CD84C3F8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99056-7357-4C64-8AFA-7841540B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82E76-622D-441F-8788-4CFF1DE8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7C30D-D5B4-4DF6-9DB1-72D9BB6F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5CFD5-2D18-4BA3-AC0A-FC58135F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4BA3F-1A46-4DF3-A731-6E1D2214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71789-1D81-44BF-8E53-F73E644EF3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4882-6925-45DE-B50E-C71FAA9BB2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7844-8655-4564-8B15-20954EBC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8AD3-6014-4418-9D75-CC126DD1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320E-A559-41F6-AB88-37DCEBB1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4355-1E0A-41A8-8A9A-011C118B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BE94E-DF30-401B-A71A-D7C01A1C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864B-93F0-4E1A-9BC5-4BCBF2C1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F6C0-A807-4F82-BC4C-CD6C7DE4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9C00-7814-411C-80A6-6145F48F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CF7E-478F-49EC-A858-E4B4B17B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2767-43F7-4623-97FC-8055E7E4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3480-5356-44F7-AD5B-D6F0152D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4DF6-FBE7-4AAE-BB1E-FBEBB78A69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8331F-756F-456E-9C8D-8557F86C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AF7C4-8E71-4631-AD14-3B34246E0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68C31-173A-407C-8D81-39B35EAD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132E1-7595-49E5-BA3F-B70B2631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5C981-AFC0-4814-80B0-FE0FB00F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6A029-AA9C-4831-BF97-EB840B1D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444d26">
                  <a:alpha val="11372"/>
                </a:srgbClr>
              </a:gs>
              <a:gs pos="100000">
                <a:srgbClr val="444d26">
                  <a:alpha val="2352"/>
                </a:srgbClr>
              </a:gs>
            </a:gsLst>
            <a:lin ang="18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fffd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cap="rnd" w="6120">
            <a:solidFill>
              <a:srgbClr val="ffffd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440"/>
            <a:ext cx="213192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589520" y="6481440"/>
            <a:ext cx="5014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30473D-A2CA-4E31-8E41-113C561080D0}" type="slidenum">
              <a:rPr b="0" lang="ru-RU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444d26">
                  <a:alpha val="11372"/>
                </a:srgbClr>
              </a:gs>
              <a:gs pos="100000">
                <a:srgbClr val="444d26">
                  <a:alpha val="2352"/>
                </a:srgbClr>
              </a:gs>
            </a:gsLst>
            <a:lin ang="18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fffd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cap="rnd" w="6120">
            <a:solidFill>
              <a:srgbClr val="ffffd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 rot="16200000">
            <a:off x="7553160" y="525564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c6d9b2"/>
              </a:gs>
              <a:gs pos="100000">
                <a:srgbClr val="5f6e4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1371600" y="6011640"/>
            <a:ext cx="57895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8391240" y="5753160"/>
            <a:ext cx="5014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6017120-A67E-4F4D-8C1B-033CFD4E03AE}" type="slidenum">
              <a:rPr b="0" lang="ru-RU" sz="13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444d26">
                  <a:alpha val="11372"/>
                </a:srgbClr>
              </a:gs>
              <a:gs pos="100000">
                <a:srgbClr val="444d26">
                  <a:alpha val="2352"/>
                </a:srgbClr>
              </a:gs>
            </a:gsLst>
            <a:lin ang="18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fffd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cap="rnd" w="6120">
            <a:solidFill>
              <a:srgbClr val="ffffd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5"/>
          </p:nvPr>
        </p:nvSpPr>
        <p:spPr>
          <a:xfrm>
            <a:off x="4791240" y="6480000"/>
            <a:ext cx="213192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6"/>
          </p:nvPr>
        </p:nvSpPr>
        <p:spPr>
          <a:xfrm>
            <a:off x="7589520" y="6481440"/>
            <a:ext cx="5014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A5880E7-03A1-4B6A-B589-8218622D531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0" y="-142920"/>
            <a:ext cx="6076800" cy="2286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6067440" y="-142920"/>
            <a:ext cx="3076560" cy="2286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468360" y="1785960"/>
            <a:ext cx="828036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РОДИТЕЛЬСКОЕ СОБР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 введении  учебных курсов образовательной обла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«Основы духовно-нравственной культуры народов России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 общеобразовательных учреждениях Р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 2012 год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4572000" y="4221000"/>
            <a:ext cx="1473120" cy="2087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6948360" y="3213000"/>
            <a:ext cx="1752840" cy="2303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3"/>
          <a:stretch/>
        </p:blipFill>
        <p:spPr>
          <a:xfrm>
            <a:off x="2556000" y="4221000"/>
            <a:ext cx="1639800" cy="2160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4"/>
          <a:stretch/>
        </p:blipFill>
        <p:spPr>
          <a:xfrm>
            <a:off x="250920" y="549360"/>
            <a:ext cx="1450800" cy="2158920"/>
          </a:xfrm>
          <a:prstGeom prst="rect">
            <a:avLst/>
          </a:prstGeom>
          <a:ln w="0">
            <a:noFill/>
          </a:ln>
        </p:spPr>
      </p:pic>
      <p:grpSp>
        <p:nvGrpSpPr>
          <p:cNvPr id="166" name="Group 5"/>
          <p:cNvGrpSpPr/>
          <p:nvPr/>
        </p:nvGrpSpPr>
        <p:grpSpPr>
          <a:xfrm>
            <a:off x="1692360" y="0"/>
            <a:ext cx="5337000" cy="3984480"/>
            <a:chOff x="1692360" y="0"/>
            <a:chExt cx="5337000" cy="3984480"/>
          </a:xfrm>
        </p:grpSpPr>
        <p:pic>
          <p:nvPicPr>
            <p:cNvPr id="167" name="Picture 6" descr=""/>
            <p:cNvPicPr/>
            <p:nvPr/>
          </p:nvPicPr>
          <p:blipFill>
            <a:blip r:embed="rId5"/>
            <a:stretch/>
          </p:blipFill>
          <p:spPr>
            <a:xfrm>
              <a:off x="1692360" y="0"/>
              <a:ext cx="5337000" cy="39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7"/>
            <p:cNvSpPr/>
            <p:nvPr/>
          </p:nvSpPr>
          <p:spPr>
            <a:xfrm>
              <a:off x="1866960" y="142920"/>
              <a:ext cx="503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9" name="Picture 8" descr=""/>
          <p:cNvPicPr/>
          <p:nvPr/>
        </p:nvPicPr>
        <p:blipFill>
          <a:blip r:embed="rId6"/>
          <a:stretch/>
        </p:blipFill>
        <p:spPr>
          <a:xfrm>
            <a:off x="6948360" y="189000"/>
            <a:ext cx="1797120" cy="2448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"/>
          <p:cNvPicPr/>
          <p:nvPr/>
        </p:nvPicPr>
        <p:blipFill>
          <a:blip r:embed="rId7"/>
          <a:stretch/>
        </p:blipFill>
        <p:spPr>
          <a:xfrm>
            <a:off x="324000" y="3284640"/>
            <a:ext cx="1568160" cy="21603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0"/>
          <p:cNvSpPr/>
          <p:nvPr/>
        </p:nvSpPr>
        <p:spPr>
          <a:xfrm>
            <a:off x="2195640" y="333360"/>
            <a:ext cx="4572000" cy="35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рс «Основы религиозных культур и светской этики» включает в себя </a:t>
            </a:r>
            <a:br>
              <a:rPr sz="1600"/>
            </a:b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6 модулей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Основы православной культур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Основы мировых религиозных культур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Основы светской этик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Основы исламской культур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Основы буддийской культур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Основы иудейской культу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457200" y="268200"/>
            <a:ext cx="822960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84200" indent="-482760" algn="ctr">
              <a:lnSpc>
                <a:spcPct val="100000"/>
              </a:lnSpc>
              <a:tabLst>
                <a:tab algn="l" pos="0"/>
                <a:tab algn="l" pos="484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8000"/>
                </a:solidFill>
                <a:latin typeface="Century Gothic"/>
                <a:ea typeface="Arial"/>
              </a:rPr>
              <a:t>Основы православной культуры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2076480" cy="28576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3419640" y="1413000"/>
            <a:ext cx="518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блия (Священное Писани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 что верят православные христиан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аситель. Жертвенная любов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беда над смерть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ещение , миропомазание, причастие, покая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коны, фрески, церковное п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457200" y="268200"/>
            <a:ext cx="822960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84200" indent="-482760" algn="ctr">
              <a:lnSpc>
                <a:spcPct val="100000"/>
              </a:lnSpc>
              <a:tabLst>
                <a:tab algn="l" pos="0"/>
                <a:tab algn="l" pos="484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8000"/>
                </a:solidFill>
                <a:latin typeface="Century Gothic"/>
                <a:ea typeface="Arial"/>
              </a:rPr>
              <a:t>«Основы исламской культуры»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2347920" cy="30956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3708360" y="1484280"/>
            <a:ext cx="4824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орок Мухаммед – образец человека и учитель нравствен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вященные книги ислама – Коран, Сунна как источники нравствен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бязанности мусульман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ак устроена мечеть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ааба. Минарет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tabLst>
                <a:tab algn="l" pos="0"/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tabLst>
                <a:tab algn="l" pos="0"/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457200" y="268200"/>
            <a:ext cx="822960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84200" indent="-482760" algn="ctr">
              <a:lnSpc>
                <a:spcPct val="100000"/>
              </a:lnSpc>
              <a:tabLst>
                <a:tab algn="l" pos="0"/>
                <a:tab algn="l" pos="484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8000"/>
                </a:solidFill>
                <a:latin typeface="Century Gothic"/>
                <a:ea typeface="Arial"/>
              </a:rPr>
              <a:t>«Основы буддийской культуры»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2344680" cy="30956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3851280" y="1413000"/>
            <a:ext cx="4465800" cy="47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удда и его учени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уддийский священный канон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уддийская картина мир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обро и зло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енасилие и добро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уддийские святы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рипитака (Типитака). Джаммапад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tabLst>
                <a:tab algn="l" pos="0"/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1258920" y="189000"/>
            <a:ext cx="76755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84200" indent="-482760" algn="ctr">
              <a:lnSpc>
                <a:spcPct val="100000"/>
              </a:lnSpc>
              <a:tabLst>
                <a:tab algn="l" pos="0"/>
                <a:tab algn="l" pos="484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008000"/>
                </a:solidFill>
                <a:latin typeface="Century Gothic"/>
                <a:ea typeface="Arial"/>
              </a:rPr>
              <a:t>«Основы иудейской культуры»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2376360" cy="31194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3635280" y="1341360"/>
            <a:ext cx="518472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ора – главная книга иудаизма. Сущность Торы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исьменная и Устная Тор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атриархи еврейского народ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ороки и праведники в иудейской культур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азначение синагог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уббота (Шабат) в иудейской традици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олитвы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1258920" y="189000"/>
            <a:ext cx="76755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84200" indent="-482760" algn="ctr">
              <a:lnSpc>
                <a:spcPct val="100000"/>
              </a:lnSpc>
              <a:tabLst>
                <a:tab algn="l" pos="0"/>
                <a:tab algn="l" pos="484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8000"/>
                </a:solidFill>
                <a:latin typeface="Century Gothic"/>
                <a:ea typeface="Arial"/>
              </a:rPr>
              <a:t>«Основы мировых </a:t>
            </a:r>
            <a:br>
              <a:rPr sz="3800"/>
            </a:br>
            <a:r>
              <a:rPr b="1" lang="ru-RU" sz="3800" spc="-1" strike="noStrike">
                <a:solidFill>
                  <a:srgbClr val="008000"/>
                </a:solidFill>
                <a:latin typeface="Century Gothic"/>
                <a:ea typeface="Arial"/>
              </a:rPr>
              <a:t>религиозных культур»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2592720" cy="37450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"/>
          <p:cNvSpPr/>
          <p:nvPr/>
        </p:nvSpPr>
        <p:spPr>
          <a:xfrm>
            <a:off x="3924360" y="1700280"/>
            <a:ext cx="48956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ультура и религ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ревнейшие верования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елигии мира и их основатели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вященные книги: Веды, Авеста, Трипитака, Библия, Тора, Коран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Хранители предания в религиях мир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нятие греха, раскаян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457200" y="268200"/>
            <a:ext cx="822960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84200" indent="-482760" algn="ctr">
              <a:lnSpc>
                <a:spcPct val="100000"/>
              </a:lnSpc>
              <a:tabLst>
                <a:tab algn="l" pos="0"/>
                <a:tab algn="l" pos="484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8000"/>
                </a:solidFill>
                <a:latin typeface="Century Gothic"/>
                <a:ea typeface="Arial"/>
              </a:rPr>
              <a:t>«Основы светской этики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2633760" cy="32590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4427640" y="1341360"/>
            <a:ext cx="431964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48840" indent="-27108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ультура и мораль. Этика и ее значение в жизни человек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8840" indent="-27108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емейные цен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8840" indent="-27108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рядочность. Интеллигентность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8840" indent="-27108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обро и зло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8840" indent="-27108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олг и совесть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8840" indent="-27108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мысл жизни и счасть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8840" indent="-27108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Этикет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1"/>
          <p:cNvGrpSpPr/>
          <p:nvPr/>
        </p:nvGrpSpPr>
        <p:grpSpPr>
          <a:xfrm>
            <a:off x="1116000" y="260280"/>
            <a:ext cx="7054920" cy="2735280"/>
            <a:chOff x="1116000" y="260280"/>
            <a:chExt cx="7054920" cy="2735280"/>
          </a:xfrm>
        </p:grpSpPr>
        <p:pic>
          <p:nvPicPr>
            <p:cNvPr id="191" name="Picture 2" descr=""/>
            <p:cNvPicPr/>
            <p:nvPr/>
          </p:nvPicPr>
          <p:blipFill>
            <a:blip r:embed="rId1"/>
            <a:stretch/>
          </p:blipFill>
          <p:spPr>
            <a:xfrm>
              <a:off x="1116000" y="260280"/>
              <a:ext cx="7054920" cy="27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3"/>
            <p:cNvSpPr/>
            <p:nvPr/>
          </p:nvSpPr>
          <p:spPr>
            <a:xfrm>
              <a:off x="1366920" y="378000"/>
              <a:ext cx="671328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цениваться усвоение курса будет защитой творческих проектов. Проекты могут быть как индивидуальными, так и коллективными.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3" name="Group 4"/>
          <p:cNvGrpSpPr/>
          <p:nvPr/>
        </p:nvGrpSpPr>
        <p:grpSpPr>
          <a:xfrm>
            <a:off x="611280" y="4005360"/>
            <a:ext cx="4241880" cy="2157480"/>
            <a:chOff x="611280" y="4005360"/>
            <a:chExt cx="4241880" cy="2157480"/>
          </a:xfrm>
        </p:grpSpPr>
        <p:pic>
          <p:nvPicPr>
            <p:cNvPr id="194" name="Picture 5" descr=""/>
            <p:cNvPicPr/>
            <p:nvPr/>
          </p:nvPicPr>
          <p:blipFill>
            <a:blip r:embed="rId2"/>
            <a:stretch/>
          </p:blipFill>
          <p:spPr>
            <a:xfrm>
              <a:off x="611280" y="4005360"/>
              <a:ext cx="424188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6"/>
            <p:cNvSpPr/>
            <p:nvPr/>
          </p:nvSpPr>
          <p:spPr>
            <a:xfrm>
              <a:off x="787320" y="4308480"/>
              <a:ext cx="3998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 презентацию проектов приглашаются родители.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96" name="Picture 7" descr=""/>
          <p:cNvPicPr/>
          <p:nvPr/>
        </p:nvPicPr>
        <p:blipFill>
          <a:blip r:embed="rId3"/>
          <a:stretch/>
        </p:blipFill>
        <p:spPr>
          <a:xfrm>
            <a:off x="5003640" y="3666960"/>
            <a:ext cx="3751560" cy="28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"/>
          <p:cNvPicPr/>
          <p:nvPr/>
        </p:nvPicPr>
        <p:blipFill>
          <a:blip r:embed="rId1"/>
          <a:stretch/>
        </p:blipFill>
        <p:spPr>
          <a:xfrm>
            <a:off x="1835280" y="260280"/>
            <a:ext cx="5545080" cy="415764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2"/>
          <p:cNvGrpSpPr/>
          <p:nvPr/>
        </p:nvGrpSpPr>
        <p:grpSpPr>
          <a:xfrm>
            <a:off x="250920" y="4581360"/>
            <a:ext cx="8566200" cy="1870200"/>
            <a:chOff x="250920" y="4581360"/>
            <a:chExt cx="8566200" cy="1870200"/>
          </a:xfrm>
        </p:grpSpPr>
        <p:pic>
          <p:nvPicPr>
            <p:cNvPr id="199" name="Picture 3" descr=""/>
            <p:cNvPicPr/>
            <p:nvPr/>
          </p:nvPicPr>
          <p:blipFill>
            <a:blip r:embed="rId2"/>
            <a:stretch/>
          </p:blipFill>
          <p:spPr>
            <a:xfrm>
              <a:off x="250920" y="4581360"/>
              <a:ext cx="8566200" cy="18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4"/>
            <p:cNvSpPr/>
            <p:nvPr/>
          </p:nvSpPr>
          <p:spPr>
            <a:xfrm>
              <a:off x="689040" y="4687920"/>
              <a:ext cx="78976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подают курс учителя общеобразовательных школ, прошедшие специальную подготовку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656560" cy="155412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2"/>
          <p:cNvSpPr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20560" indent="-455400">
              <a:lnSpc>
                <a:spcPct val="90000"/>
              </a:lnSpc>
              <a:tabLst>
                <a:tab algn="l" pos="0"/>
                <a:tab algn="l" pos="985680"/>
                <a:tab algn="l" pos="1900080"/>
                <a:tab algn="l" pos="2814480"/>
                <a:tab algn="l" pos="3728880"/>
                <a:tab algn="l" pos="4643280"/>
                <a:tab algn="l" pos="5557680"/>
                <a:tab algn="l" pos="6472080"/>
                <a:tab algn="l" pos="7386480"/>
                <a:tab algn="l" pos="8300880"/>
                <a:tab algn="l" pos="9215280"/>
                <a:tab algn="l" pos="1012968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ывать то, что обучение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0560" indent="-455400">
              <a:lnSpc>
                <a:spcPct val="70000"/>
              </a:lnSpc>
              <a:spcBef>
                <a:spcPts val="499"/>
              </a:spcBef>
              <a:buClr>
                <a:srgbClr val="a5b592"/>
              </a:buClr>
              <a:buSzPct val="80000"/>
              <a:buFont typeface="Times New Roman"/>
              <a:buAutoNum type="arabicPeriod"/>
              <a:tabLst>
                <a:tab algn="l" pos="985680"/>
                <a:tab algn="l" pos="1900080"/>
                <a:tab algn="l" pos="2814480"/>
                <a:tab algn="l" pos="3728880"/>
                <a:tab algn="l" pos="4643280"/>
                <a:tab algn="l" pos="5557680"/>
                <a:tab algn="l" pos="6472080"/>
                <a:tab algn="l" pos="7386480"/>
                <a:tab algn="l" pos="8300880"/>
                <a:tab algn="l" pos="9215280"/>
                <a:tab algn="l" pos="1012968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о на воспитание ребенка  и опирается на нравственные ценности семьи в воспита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0560" indent="-4554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85680"/>
                <a:tab algn="l" pos="1900080"/>
                <a:tab algn="l" pos="2814480"/>
                <a:tab algn="l" pos="3728880"/>
                <a:tab algn="l" pos="4643280"/>
                <a:tab algn="l" pos="5557680"/>
                <a:tab algn="l" pos="6472080"/>
                <a:tab algn="l" pos="7386480"/>
                <a:tab algn="l" pos="8300880"/>
                <a:tab algn="l" pos="9215280"/>
                <a:tab algn="l" pos="101296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0560" indent="-455400">
              <a:lnSpc>
                <a:spcPct val="70000"/>
              </a:lnSpc>
              <a:spcBef>
                <a:spcPts val="499"/>
              </a:spcBef>
              <a:buClr>
                <a:srgbClr val="a5b592"/>
              </a:buClr>
              <a:buSzPct val="80000"/>
              <a:buFont typeface="Times New Roman"/>
              <a:buAutoNum type="arabicPeriod"/>
              <a:tabLst>
                <a:tab algn="l" pos="985680"/>
                <a:tab algn="l" pos="1900080"/>
                <a:tab algn="l" pos="2814480"/>
                <a:tab algn="l" pos="3728880"/>
                <a:tab algn="l" pos="4643280"/>
                <a:tab algn="l" pos="5557680"/>
                <a:tab algn="l" pos="6472080"/>
                <a:tab algn="l" pos="7386480"/>
                <a:tab algn="l" pos="8300880"/>
                <a:tab algn="l" pos="9215280"/>
                <a:tab algn="l" pos="1012968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вано помочь ребенку понять, какие нравственные основания стали основой развития культурной среды, в которой он живе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0560" indent="-4554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85680"/>
                <a:tab algn="l" pos="1900080"/>
                <a:tab algn="l" pos="2814480"/>
                <a:tab algn="l" pos="3728880"/>
                <a:tab algn="l" pos="4643280"/>
                <a:tab algn="l" pos="5557680"/>
                <a:tab algn="l" pos="6472080"/>
                <a:tab algn="l" pos="7386480"/>
                <a:tab algn="l" pos="8300880"/>
                <a:tab algn="l" pos="9215280"/>
                <a:tab algn="l" pos="101296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0560" indent="-455400">
              <a:lnSpc>
                <a:spcPct val="70000"/>
              </a:lnSpc>
              <a:spcBef>
                <a:spcPts val="499"/>
              </a:spcBef>
              <a:buClr>
                <a:srgbClr val="a5b592"/>
              </a:buClr>
              <a:buSzPct val="80000"/>
              <a:buFont typeface="Times New Roman"/>
              <a:buAutoNum type="arabicPeriod"/>
              <a:tabLst>
                <a:tab algn="l" pos="985680"/>
                <a:tab algn="l" pos="1900080"/>
                <a:tab algn="l" pos="2814480"/>
                <a:tab algn="l" pos="3728880"/>
                <a:tab algn="l" pos="4643280"/>
                <a:tab algn="l" pos="5557680"/>
                <a:tab algn="l" pos="6472080"/>
                <a:tab algn="l" pos="7386480"/>
                <a:tab algn="l" pos="8300880"/>
                <a:tab algn="l" pos="9215280"/>
                <a:tab algn="l" pos="1012968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о на формирование понимания ребенком значения религиозных и светских традиций для современной жизни народов многонациональной России и своей сопричастности н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0560" indent="-4554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85680"/>
                <a:tab algn="l" pos="1900080"/>
                <a:tab algn="l" pos="2814480"/>
                <a:tab algn="l" pos="3728880"/>
                <a:tab algn="l" pos="4643280"/>
                <a:tab algn="l" pos="5557680"/>
                <a:tab algn="l" pos="6472080"/>
                <a:tab algn="l" pos="7386480"/>
                <a:tab algn="l" pos="8300880"/>
                <a:tab algn="l" pos="9215280"/>
                <a:tab algn="l" pos="101296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0560" indent="-455400">
              <a:lnSpc>
                <a:spcPct val="70000"/>
              </a:lnSpc>
              <a:spcBef>
                <a:spcPts val="499"/>
              </a:spcBef>
              <a:buClr>
                <a:srgbClr val="a5b592"/>
              </a:buClr>
              <a:buSzPct val="80000"/>
              <a:buFont typeface="Times New Roman"/>
              <a:buAutoNum type="arabicPeriod"/>
              <a:tabLst>
                <a:tab algn="l" pos="985680"/>
                <a:tab algn="l" pos="1900080"/>
                <a:tab algn="l" pos="2814480"/>
                <a:tab algn="l" pos="3728880"/>
                <a:tab algn="l" pos="4643280"/>
                <a:tab algn="l" pos="5557680"/>
                <a:tab algn="l" pos="6472080"/>
                <a:tab algn="l" pos="7386480"/>
                <a:tab algn="l" pos="8300880"/>
                <a:tab algn="l" pos="9215280"/>
                <a:tab algn="l" pos="1012968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начение обучения не в поглощении информации, а  в формировании нравственного поведения ребенка на основе понимания и усвоения духовно-нравственных ценностей общества, в котором он жив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457200" y="268200"/>
            <a:ext cx="822960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84200" algn="ctr">
              <a:tabLst>
                <a:tab algn="l" pos="0"/>
                <a:tab algn="l" pos="484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Нормативно-правовая основа разработки и введения комплексного учебного курса ОРКСЭ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12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сновой разработки и введения в учебный проце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7840" indent="-3812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мплексного учебного кур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7840" indent="-3812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"Основы религиозных культур и светской этики" являю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7840" indent="-3812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7840" indent="-381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Поручение Президента Российской Федерац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7840" indent="-381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т 2 августа 2009 г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7840" indent="-381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7840" indent="-381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Распоряжение Председателя Правительст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7840" indent="-381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оссийской Федерации от 11 августа 2009 г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7840" indent="-381240" algn="ctr">
              <a:lnSpc>
                <a:spcPct val="80000"/>
              </a:lnSpc>
              <a:spcBef>
                <a:spcPts val="49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4478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чиная с 2012 года  преподавание комплексного учебного курса осуществляется на постоянной основе во всех субъектах Российской Федерации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"/>
          <p:cNvSpPr/>
          <p:nvPr/>
        </p:nvSpPr>
        <p:spPr>
          <a:xfrm>
            <a:off x="1332000" y="2781360"/>
            <a:ext cx="7497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84200" indent="-482760" algn="ctr">
              <a:lnSpc>
                <a:spcPct val="100000"/>
              </a:lnSpc>
              <a:tabLst>
                <a:tab algn="l" pos="0"/>
                <a:tab algn="l" pos="484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8000"/>
                </a:solidFill>
                <a:latin typeface="Century Gothic"/>
                <a:ea typeface="Arial"/>
              </a:rPr>
              <a:t>Спасибо за внимание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457200" y="268200"/>
            <a:ext cx="822960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84200" algn="ctr">
              <a:lnSpc>
                <a:spcPct val="100000"/>
              </a:lnSpc>
              <a:tabLst>
                <a:tab algn="l" pos="0"/>
                <a:tab algn="l" pos="484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Gothic"/>
              </a:rPr>
              <a:t>Принципами введения курса ОРКСЭ выступаю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381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Соблюдение конституционных принципов светского характера Российского государства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Взаимодействие органов исполнительной власти субъектов Российской Федерации, осуществляющие управление в сфере образования, с религиозными организациями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3. Содействие межконфессиональному сотрудничеству и взаимному уважению на местах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4. Институты учета запросов граждан на изучение их детьм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 культуры религий и светской этики. 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2381400" cy="32954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"/>
          <p:cNvSpPr/>
          <p:nvPr/>
        </p:nvSpPr>
        <p:spPr>
          <a:xfrm>
            <a:off x="2987640" y="1484280"/>
            <a:ext cx="594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ы основываемся на том, что государство должно быть нейтральным и к религии, и к атеизму, создавая условия для получения знаний о роли религии в развитии общества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ношение к религиям в школе должно быть познавательным, а не вероучитель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»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. Кондаков, генеральный директор издательства «Просвещени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17664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457200" y="268200"/>
            <a:ext cx="822960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84200" algn="ctr">
              <a:lnSpc>
                <a:spcPct val="100000"/>
              </a:lnSpc>
              <a:tabLst>
                <a:tab algn="l" pos="0"/>
                <a:tab algn="l" pos="484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Gothic"/>
              </a:rPr>
              <a:t>Курс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entury Gothic"/>
              </a:rPr>
              <a:t>«Основы религиозных культур и светской этик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вляется культурологическим и направлен на развитие у школьников 4-х классов представлений о нравственных идеалах и ценностях, составляющих основу религиозных и светских традиций многонациональной культуры России, на понимание их значения в жизни современного общества, а также своей сопричастности к ни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457200" y="268200"/>
            <a:ext cx="822960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marL="469440" algn="ctr">
              <a:lnSpc>
                <a:spcPct val="100000"/>
              </a:lnSpc>
              <a:tabLst>
                <a:tab algn="l" pos="0"/>
                <a:tab algn="l" pos="484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entury Gothic"/>
              </a:rPr>
              <a:t>Курс «Основы религиозных культур и 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entury Gothic"/>
              </a:rPr>
              <a:t>светской этики» -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entury Gothic"/>
              </a:rPr>
              <a:t> единая комплексная учебно-воспитательная систем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 модули курса согласуются между собой по педагогическим целям, задачам, требованиям к результатам освоения учебного содержания, находясь в системе содержательных, понятийных, ценностно-смысловых связей с другими гуманитарными предметами начальной и основной школ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755640" y="765000"/>
            <a:ext cx="822960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28760"/>
                <a:tab algn="l" pos="1343160"/>
                <a:tab algn="l" pos="2257560"/>
                <a:tab algn="l" pos="3171960"/>
                <a:tab algn="l" pos="4086360"/>
                <a:tab algn="l" pos="5000760"/>
                <a:tab algn="l" pos="5915160"/>
                <a:tab algn="l" pos="6829560"/>
                <a:tab algn="l" pos="7743960"/>
                <a:tab algn="l" pos="8658360"/>
                <a:tab algn="l" pos="9572760"/>
                <a:tab algn="l" pos="9883800"/>
                <a:tab algn="l" pos="10333080"/>
                <a:tab algn="l" pos="10782360"/>
              </a:tabLst>
            </a:pPr>
            <a:r>
              <a:rPr b="1" lang="ru-RU" sz="4300" spc="-1" strike="noStrike">
                <a:solidFill>
                  <a:srgbClr val="008000"/>
                </a:solidFill>
                <a:latin typeface="Century Gothic"/>
                <a:ea typeface="Arial"/>
              </a:rPr>
              <a:t>«Основы религиозных культур </a:t>
            </a:r>
            <a:br>
              <a:rPr sz="4300"/>
            </a:br>
            <a:r>
              <a:rPr b="1" lang="ru-RU" sz="4300" spc="-1" strike="noStrike">
                <a:solidFill>
                  <a:srgbClr val="008000"/>
                </a:solidFill>
                <a:latin typeface="Century Gothic"/>
                <a:ea typeface="Arial"/>
              </a:rPr>
              <a:t>и светской этики»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1332000" y="2492280"/>
            <a:ext cx="762300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 fontScale="99000"/>
          </a:bodyPr>
          <a:p>
            <a:pPr marL="26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00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333080"/>
                <a:tab algn="l" pos="10782360"/>
              </a:tabLst>
            </a:pPr>
            <a:r>
              <a:rPr b="1" lang="ru-RU" sz="2600" spc="-1" strike="noStrike" u="sng">
                <a:solidFill>
                  <a:srgbClr val="008000"/>
                </a:solidFill>
                <a:uFillTx/>
                <a:latin typeface="Century Gothic"/>
              </a:rPr>
              <a:t>Цель курса</a:t>
            </a:r>
            <a:r>
              <a:rPr b="1" lang="ru-RU" sz="2600" spc="-1" strike="noStrike">
                <a:solidFill>
                  <a:srgbClr val="008000"/>
                </a:solidFill>
                <a:latin typeface="Century Gothic"/>
              </a:rPr>
              <a:t> –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формирование у младших подростков мотиваций к ОСОЗНАННОМУ НРАВСТВЕННОМУ ПОВЕДЕНИЮ, основанному на знании культурных и религиозных традиций  многонационального народа России и уважении к ним, а также к диалогу с представителями других культур и мировоззрени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2003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"/>
          <p:cNvSpPr/>
          <p:nvPr/>
        </p:nvSpPr>
        <p:spPr>
          <a:xfrm>
            <a:off x="1332000" y="189000"/>
            <a:ext cx="74977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84200" indent="-482760">
              <a:lnSpc>
                <a:spcPct val="100000"/>
              </a:lnSpc>
              <a:tabLst>
                <a:tab algn="l" pos="0"/>
                <a:tab algn="l" pos="484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300" spc="-1" strike="noStrike" u="sng">
                <a:solidFill>
                  <a:srgbClr val="008000"/>
                </a:solidFill>
                <a:uFillTx/>
                <a:latin typeface="Century Gothic"/>
                <a:ea typeface="Arial"/>
              </a:rPr>
              <a:t>Задачи курса ОРКСЭ: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684360" y="1052640"/>
            <a:ext cx="82501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282600">
              <a:lnSpc>
                <a:spcPct val="9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Знакомство младших школьников с основами религиозных культур и светской этик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Развитие представлений подростка о значении нравственных норм и ценностей для достойной жизни личности, семьи и обществ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Обобщение знаний школьников о духовной культуре, морали, формирование у них ценностно-смысловых мировоззренческих основ, обеспечивающих целостное восприятие отечественной истории и культур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Развитие способностей к общению в полиэтнической  и многоконфессиональной среде на основе взаимного уваж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457200" y="266760"/>
            <a:ext cx="822960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28260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оспитание детей было и остаётся самым трудным видом деятельности в мир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Что может быть сложнее и ответственнее, чем воспитать в человеке Человека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5:39:53Z</dcterms:created>
  <dc:creator>Людмила</dc:creator>
  <dc:description/>
  <dc:language>en-US</dc:language>
  <cp:lastModifiedBy>User</cp:lastModifiedBy>
  <dcterms:modified xsi:type="dcterms:W3CDTF">2021-05-20T12:20:16Z</dcterms:modified>
  <cp:revision>198</cp:revision>
  <dc:subject/>
  <dc:title>Слайд 1</dc:title>
</cp:coreProperties>
</file>