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30C-32ED-47E6-9304-56E04C0F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1D3-AB98-4952-BD0E-CA4B064D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CDF-BACA-4EA1-8462-2A87EFAD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D8B-87E4-4822-B526-6E3115BF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A282-8591-4DD2-B1F6-A4940510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8646-5E48-43C5-944F-896652ED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5CB9-7C99-4681-8ACA-2382DC14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B69C-ABA8-46F7-B218-57EEE9BA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7B6D-C332-49AF-96BD-EB3D54FB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439E-2D83-4F2F-A9D8-CD03B089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AE75-2BE4-4F6B-843D-F3183379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08B-2168-4DC8-968A-22E617CB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D3FF-B747-4927-8749-0B5F0973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B7DD-0EE0-4400-B5EB-8217E514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E68A-91A2-43EB-B454-F087696D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ED10-D7A7-445D-A97A-2F4F80C0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242E-E505-4763-A157-0D06D54F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102-3533-4E48-8E41-61F0BE2D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74E-49FE-40E7-BFDC-772B5F21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C1A-C2C8-4755-A29A-A7DAECE6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40F-744F-4E0A-B5A2-EC5B18CD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E3A-F403-4DC3-B377-EF897C54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8B7-4E8A-45F7-8BF4-8C8C56F5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920-D9FC-4D65-A3D7-54AAAFE4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224D-B72E-48E0-8830-789D201F5C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125B-DA43-43B1-B665-4AD6E5FB189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ecff"/>
                </a:solidFill>
                <a:latin typeface="Times New Roman"/>
              </a:rPr>
              <a:t>Спортивная викторина</a:t>
            </a:r>
            <a:br>
              <a:rPr sz="5400"/>
            </a:br>
            <a:r>
              <a:rPr b="0" i="1" lang="ru-RU" sz="5400" spc="-1" strike="noStrike">
                <a:solidFill>
                  <a:srgbClr val="ccecff"/>
                </a:solidFill>
                <a:latin typeface="Times New Roman"/>
              </a:rPr>
              <a:t>для учащихся 1-4 классов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7" descr="00045103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24368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9"/>
          <p:cNvSpPr/>
          <p:nvPr/>
        </p:nvSpPr>
        <p:spPr>
          <a:xfrm>
            <a:off x="7157880" y="409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1" descr=""/>
          <p:cNvPicPr/>
          <p:nvPr/>
        </p:nvPicPr>
        <p:blipFill>
          <a:blip r:embed="rId2"/>
          <a:stretch/>
        </p:blipFill>
        <p:spPr>
          <a:xfrm>
            <a:off x="0" y="3916440"/>
            <a:ext cx="3924360" cy="29415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2"/>
          <p:cNvSpPr/>
          <p:nvPr/>
        </p:nvSpPr>
        <p:spPr>
          <a:xfrm>
            <a:off x="4284720" y="52293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шин Александр Владими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ческой куль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Подлесовская О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Times New Roman"/>
              </a:rPr>
              <a:t>Как называют человека лазающего по скала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6" descr="00044743"/>
          <p:cNvPicPr/>
          <p:nvPr/>
        </p:nvPicPr>
        <p:blipFill>
          <a:blip r:embed="rId1"/>
          <a:stretch/>
        </p:blipFill>
        <p:spPr>
          <a:xfrm>
            <a:off x="1042920" y="1484280"/>
            <a:ext cx="7345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Times New Roman"/>
              </a:rPr>
              <a:t>Скалола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Picture 4" descr="00044853"/>
          <p:cNvPicPr/>
          <p:nvPr/>
        </p:nvPicPr>
        <p:blipFill>
          <a:blip r:embed="rId1"/>
          <a:stretch/>
        </p:blipFill>
        <p:spPr>
          <a:xfrm>
            <a:off x="684360" y="1197000"/>
            <a:ext cx="7777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Times New Roman"/>
              </a:rPr>
              <a:t>Без чего судья не может выйти на поле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Picture 4" descr="00046548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Times New Roman"/>
              </a:rPr>
              <a:t>Без свистк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4" descr="00046565"/>
          <p:cNvPicPr/>
          <p:nvPr/>
        </p:nvPicPr>
        <p:blipFill>
          <a:blip r:embed="rId1"/>
          <a:stretch/>
        </p:blipFill>
        <p:spPr>
          <a:xfrm>
            <a:off x="1547640" y="1268280"/>
            <a:ext cx="650088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Times New Roman"/>
              </a:rPr>
              <a:t>В каком виде спорта важен попутный ветер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4" descr="00046128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Парусн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Picture 7" descr="00046127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Times New Roman"/>
              </a:rPr>
              <a:t>Какому спортсмену на соревнованиях приходится вязать узлы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7" descr="00044903"/>
          <p:cNvPicPr/>
          <p:nvPr/>
        </p:nvPicPr>
        <p:blipFill>
          <a:blip r:embed="rId1"/>
          <a:stretch/>
        </p:blipFill>
        <p:spPr>
          <a:xfrm>
            <a:off x="1476360" y="1844640"/>
            <a:ext cx="65530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Times New Roman"/>
              </a:rPr>
              <a:t>Турист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Picture 7" descr="00044877"/>
          <p:cNvPicPr/>
          <p:nvPr/>
        </p:nvPicPr>
        <p:blipFill>
          <a:blip r:embed="rId1"/>
          <a:stretch/>
        </p:blipFill>
        <p:spPr>
          <a:xfrm>
            <a:off x="1619280" y="1341360"/>
            <a:ext cx="6337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Расставьте правильно мячи по видам спор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Футбол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олейбол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аскетб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sport-12"/>
          <p:cNvPicPr/>
          <p:nvPr/>
        </p:nvPicPr>
        <p:blipFill>
          <a:blip r:embed="rId1"/>
          <a:stretch/>
        </p:blipFill>
        <p:spPr>
          <a:xfrm>
            <a:off x="3635280" y="335772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sport-11"/>
          <p:cNvPicPr/>
          <p:nvPr/>
        </p:nvPicPr>
        <p:blipFill>
          <a:blip r:embed="rId2"/>
          <a:stretch/>
        </p:blipFill>
        <p:spPr>
          <a:xfrm>
            <a:off x="395280" y="32130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sport-5"/>
          <p:cNvPicPr/>
          <p:nvPr/>
        </p:nvPicPr>
        <p:blipFill>
          <a:blip r:embed="rId3"/>
          <a:stretch/>
        </p:blipFill>
        <p:spPr>
          <a:xfrm>
            <a:off x="6588000" y="3141720"/>
            <a:ext cx="21258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Баскетбо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4" descr="sport-11"/>
          <p:cNvPicPr/>
          <p:nvPr/>
        </p:nvPicPr>
        <p:blipFill>
          <a:blip r:embed="rId1"/>
          <a:stretch/>
        </p:blipFill>
        <p:spPr>
          <a:xfrm>
            <a:off x="250920" y="386064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sport-12"/>
          <p:cNvPicPr/>
          <p:nvPr/>
        </p:nvPicPr>
        <p:blipFill>
          <a:blip r:embed="rId2"/>
          <a:stretch/>
        </p:blipFill>
        <p:spPr>
          <a:xfrm>
            <a:off x="3276720" y="1197000"/>
            <a:ext cx="2544480" cy="2544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sport-5"/>
          <p:cNvPicPr/>
          <p:nvPr/>
        </p:nvPicPr>
        <p:blipFill>
          <a:blip r:embed="rId3"/>
          <a:stretch/>
        </p:blipFill>
        <p:spPr>
          <a:xfrm>
            <a:off x="6227640" y="415764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3"/>
          <p:cNvSpPr/>
          <p:nvPr/>
        </p:nvSpPr>
        <p:spPr>
          <a:xfrm>
            <a:off x="816480" y="322740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Волей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6945840" y="33717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Фут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Как называется площадка для игры в большой теннис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16" descr="sport-8"/>
          <p:cNvPicPr/>
          <p:nvPr/>
        </p:nvPicPr>
        <p:blipFill>
          <a:blip r:embed="rId1"/>
          <a:stretch/>
        </p:blipFill>
        <p:spPr>
          <a:xfrm>
            <a:off x="3635280" y="1341360"/>
            <a:ext cx="53056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Times New Roman"/>
              </a:rPr>
              <a:t>Кор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4" descr="00046663"/>
          <p:cNvPicPr/>
          <p:nvPr/>
        </p:nvPicPr>
        <p:blipFill>
          <a:blip r:embed="rId1"/>
          <a:stretch/>
        </p:blipFill>
        <p:spPr>
          <a:xfrm>
            <a:off x="1116000" y="1254240"/>
            <a:ext cx="700560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Times New Roman"/>
              </a:rPr>
              <a:t>В каком виде спорта спортсмены наносят друг другу уколы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2" descr="C:\Documents and Settings\Admin\Рабочий стол\fencing31(1).jpg"/>
          <p:cNvPicPr/>
          <p:nvPr/>
        </p:nvPicPr>
        <p:blipFill>
          <a:blip r:embed="rId1"/>
          <a:stretch/>
        </p:blipFill>
        <p:spPr>
          <a:xfrm>
            <a:off x="2333520" y="2433600"/>
            <a:ext cx="4476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Times New Roman"/>
              </a:rPr>
              <a:t>В Фехтов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5" descr="00046533"/>
          <p:cNvPicPr/>
          <p:nvPr/>
        </p:nvPicPr>
        <p:blipFill>
          <a:blip r:embed="rId1"/>
          <a:stretch/>
        </p:blipFill>
        <p:spPr>
          <a:xfrm>
            <a:off x="1476360" y="1341360"/>
            <a:ext cx="6500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Times New Roman"/>
              </a:rPr>
              <a:t>Что требует зритель в хоккее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13" descr="00046546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Times New Roman"/>
              </a:rPr>
              <a:t>Шайбы! Шайбы! Шайбы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8" descr="00046550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46:53Z</dcterms:created>
  <dc:creator>user</dc:creator>
  <dc:description/>
  <dc:language>en-US</dc:language>
  <cp:lastModifiedBy>Lexa</cp:lastModifiedBy>
  <dcterms:modified xsi:type="dcterms:W3CDTF">2022-02-17T07:11:44Z</dcterms:modified>
  <cp:revision>8</cp:revision>
  <dc:subject/>
  <dc:title>Слайд 1</dc:title>
</cp:coreProperties>
</file>