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AE0-F669-4C1F-ADED-E4881BB1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61A-2999-415A-8AD1-1F197CC9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2FF-EF71-4139-9FC1-8BC5F2BC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371-57B0-4485-AA3A-9C5FD560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F56-4C06-4E33-B4DF-D319BE8C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074-C930-4E0C-BC9B-E252C91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5B85-019F-434C-9E41-DF48E70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2A69-82DC-439A-BC7C-170E0854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2DB1-A154-4A4E-82C3-74B3541A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74B-49F9-471B-8B07-EDB5363F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0C9A-E8DF-4E41-9D21-382FBAC6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CEB-06C7-4694-9EC8-722012D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878C-D8F9-4CFD-ABBC-7A98E03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7522-89F3-438E-B4DB-82A2B383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936D-30D0-41CF-BE69-2C2C5B6A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73EB-9B87-480C-B872-B228F434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2040-ADC6-4701-B926-03859682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CA3-5D44-4A3A-A42E-D3E9BC4E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C8D-3139-4E2E-9D26-022A65D7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EA9-F928-4ABD-A53B-4DA650F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188-7C38-4E15-9925-B192A1DD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7F1-575C-4396-8F98-6B274A0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793-4E6C-401D-86D0-88303FA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C97-76B4-43F8-BB61-81524AB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670-B422-434D-9DC9-239F67E59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2F2E-0E20-49D2-B497-E99F6058B6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Times New Roman"/>
              </a:rPr>
              <a:t>Спортивная викторина</a:t>
            </a:r>
            <a:br>
              <a:rPr sz="5400"/>
            </a:br>
            <a:r>
              <a:rPr b="0" i="1" lang="ru-RU" sz="5400" spc="-1" strike="noStrike">
                <a:solidFill>
                  <a:srgbClr val="ccecff"/>
                </a:solidFill>
                <a:latin typeface="Times New Roman"/>
              </a:rPr>
              <a:t>для учащихся 1-4 классов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7" descr="00045103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436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7157880" y="409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"/>
          <p:cNvPicPr/>
          <p:nvPr/>
        </p:nvPicPr>
        <p:blipFill>
          <a:blip r:embed="rId2"/>
          <a:stretch/>
        </p:blipFill>
        <p:spPr>
          <a:xfrm>
            <a:off x="0" y="3916440"/>
            <a:ext cx="3924360" cy="2941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2"/>
          <p:cNvSpPr/>
          <p:nvPr/>
        </p:nvSpPr>
        <p:spPr>
          <a:xfrm>
            <a:off x="4284720" y="5229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шин Александр Влад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Подлесовская 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Как называют человека лазающего по скал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6" descr="00044743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Скалола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00044853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Без чего судья не может выйти на поле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00046548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Без свист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4" descr="00046565"/>
          <p:cNvPicPr/>
          <p:nvPr/>
        </p:nvPicPr>
        <p:blipFill>
          <a:blip r:embed="rId1"/>
          <a:stretch/>
        </p:blipFill>
        <p:spPr>
          <a:xfrm>
            <a:off x="1547640" y="1268280"/>
            <a:ext cx="65008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В каком виде спорта важен попутный ветер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4" descr="00046128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арус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7" descr="00046127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Какому спортсмену на соревнованиях приходится вязать узл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00044903"/>
          <p:cNvPicPr/>
          <p:nvPr/>
        </p:nvPicPr>
        <p:blipFill>
          <a:blip r:embed="rId1"/>
          <a:stretch/>
        </p:blipFill>
        <p:spPr>
          <a:xfrm>
            <a:off x="1476360" y="1844640"/>
            <a:ext cx="6553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Турис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7" descr="00044877"/>
          <p:cNvPicPr/>
          <p:nvPr/>
        </p:nvPicPr>
        <p:blipFill>
          <a:blip r:embed="rId1"/>
          <a:stretch/>
        </p:blipFill>
        <p:spPr>
          <a:xfrm>
            <a:off x="1619280" y="1341360"/>
            <a:ext cx="6337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Расставьте правильно мячи по видам спо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ут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лей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аскетб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sport-12"/>
          <p:cNvPicPr/>
          <p:nvPr/>
        </p:nvPicPr>
        <p:blipFill>
          <a:blip r:embed="rId1"/>
          <a:stretch/>
        </p:blipFill>
        <p:spPr>
          <a:xfrm>
            <a:off x="3635280" y="33577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sport-11"/>
          <p:cNvPicPr/>
          <p:nvPr/>
        </p:nvPicPr>
        <p:blipFill>
          <a:blip r:embed="rId2"/>
          <a:stretch/>
        </p:blipFill>
        <p:spPr>
          <a:xfrm>
            <a:off x="395280" y="3213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port-5"/>
          <p:cNvPicPr/>
          <p:nvPr/>
        </p:nvPicPr>
        <p:blipFill>
          <a:blip r:embed="rId3"/>
          <a:stretch/>
        </p:blipFill>
        <p:spPr>
          <a:xfrm>
            <a:off x="6588000" y="3141720"/>
            <a:ext cx="2125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Баскетбо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sport-11"/>
          <p:cNvPicPr/>
          <p:nvPr/>
        </p:nvPicPr>
        <p:blipFill>
          <a:blip r:embed="rId1"/>
          <a:stretch/>
        </p:blipFill>
        <p:spPr>
          <a:xfrm>
            <a:off x="25092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port-12"/>
          <p:cNvPicPr/>
          <p:nvPr/>
        </p:nvPicPr>
        <p:blipFill>
          <a:blip r:embed="rId2"/>
          <a:stretch/>
        </p:blipFill>
        <p:spPr>
          <a:xfrm>
            <a:off x="3276720" y="1197000"/>
            <a:ext cx="2544480" cy="2544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sport-5"/>
          <p:cNvPicPr/>
          <p:nvPr/>
        </p:nvPicPr>
        <p:blipFill>
          <a:blip r:embed="rId3"/>
          <a:stretch/>
        </p:blipFill>
        <p:spPr>
          <a:xfrm>
            <a:off x="622764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3"/>
          <p:cNvSpPr/>
          <p:nvPr/>
        </p:nvSpPr>
        <p:spPr>
          <a:xfrm>
            <a:off x="816480" y="32274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945840" y="3371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Как называется площадка для игры в большой тенни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16" descr="sport-8"/>
          <p:cNvPicPr/>
          <p:nvPr/>
        </p:nvPicPr>
        <p:blipFill>
          <a:blip r:embed="rId1"/>
          <a:stretch/>
        </p:blipFill>
        <p:spPr>
          <a:xfrm>
            <a:off x="3635280" y="1341360"/>
            <a:ext cx="5305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Кор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00046663"/>
          <p:cNvPicPr/>
          <p:nvPr/>
        </p:nvPicPr>
        <p:blipFill>
          <a:blip r:embed="rId1"/>
          <a:stretch/>
        </p:blipFill>
        <p:spPr>
          <a:xfrm>
            <a:off x="1116000" y="1254240"/>
            <a:ext cx="70056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В каком виде спорта спортсмены наносят друг другу уколы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C:\Documents and Settings\Admin\Рабочий стол\fencing31(1).jpg"/>
          <p:cNvPicPr/>
          <p:nvPr/>
        </p:nvPicPr>
        <p:blipFill>
          <a:blip r:embed="rId1"/>
          <a:stretch/>
        </p:blipFill>
        <p:spPr>
          <a:xfrm>
            <a:off x="2333520" y="243360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</a:rPr>
              <a:t>В Фехто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00046533"/>
          <p:cNvPicPr/>
          <p:nvPr/>
        </p:nvPicPr>
        <p:blipFill>
          <a:blip r:embed="rId1"/>
          <a:stretch/>
        </p:blipFill>
        <p:spPr>
          <a:xfrm>
            <a:off x="1476360" y="134136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Что требует зритель в хокк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13" descr="00046546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Шайбы! Шайбы! Шайб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8" descr="00046550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46:53Z</dcterms:created>
  <dc:creator>user</dc:creator>
  <dc:description/>
  <dc:language>en-US</dc:language>
  <cp:lastModifiedBy>Lexa</cp:lastModifiedBy>
  <dcterms:modified xsi:type="dcterms:W3CDTF">2022-02-17T07:11:44Z</dcterms:modified>
  <cp:revision>8</cp:revision>
  <dc:subject/>
  <dc:title>Слайд 1</dc:title>
</cp:coreProperties>
</file>