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AC1-C7A4-4F5A-88EA-A87D7576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727-663D-4A08-BA09-45E78F56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88C-EE8E-4AA6-82AA-0978D779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1627-4872-44C8-BA3E-D7F00443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CD07-6186-40D6-9B9C-3331BAFA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86DD-5336-4C07-B9CB-7C01A47C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BD14-B875-4A56-87A3-87AD1CCC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4208-3989-4794-BF3E-94BD2AFF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DEB6-4801-40D0-8098-21631AEC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8EAF-73F7-44C4-8F08-67140056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1921-0069-4495-BD56-E58659ED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FB64-AF27-4332-AF3B-4629A2F7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7385-FBA0-40FB-B7FB-E175D7EB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FCA2-7DD8-4B59-847F-2E0047C2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431B-9449-4A76-BEF8-AC51FEDB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4CFE-E043-4C8C-A528-43F4331A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0E74-BBFB-48A8-91CD-DFF3EF38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324C-F525-4419-8950-FDBA2958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A11-8838-4BFD-8EAF-2DA1AD6E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0E49-F22E-4E93-ACFB-8F4B7451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D3D-3048-40DD-ABA4-1F151809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6D1-04D1-4962-842E-A37AD135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80B-F6C5-4A72-AFB1-B1105B64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8745-6770-46B1-9B4A-83A8A3D7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D597-B5D0-44C9-BD81-7555C4679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6BD1-8C16-42CA-8E36-0EFE0123E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Times New Roman"/>
              </a:rPr>
              <a:t>Волжский филиал МКОУ «СОШ г.Нариманов»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1557000"/>
            <a:ext cx="7920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ружающий мир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нужно есть много овощей и фрукт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уанова К.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езно грызть сырую морковь, так как это укрепляет дёсны. Витамин А способствует росту, поэтому морковь очень полезна детям. Этот витамин поддерживает в хорошем состоянии кожу и слизистые оболоч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тамин 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Picture 5" descr="рп"/>
          <p:cNvPicPr/>
          <p:nvPr/>
        </p:nvPicPr>
        <p:blipFill>
          <a:blip r:embed="rId1"/>
          <a:stretch/>
        </p:blipFill>
        <p:spPr>
          <a:xfrm>
            <a:off x="7380360" y="4191120"/>
            <a:ext cx="1503360" cy="2666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Рисунок19"/>
          <p:cNvPicPr/>
          <p:nvPr/>
        </p:nvPicPr>
        <p:blipFill>
          <a:blip r:embed="rId2"/>
          <a:stretch/>
        </p:blipFill>
        <p:spPr>
          <a:xfrm>
            <a:off x="1692360" y="4838760"/>
            <a:ext cx="2523960" cy="2019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Рисунок1"/>
          <p:cNvPicPr/>
          <p:nvPr/>
        </p:nvPicPr>
        <p:blipFill>
          <a:blip r:embed="rId3"/>
          <a:stretch/>
        </p:blipFill>
        <p:spPr>
          <a:xfrm>
            <a:off x="5940360" y="0"/>
            <a:ext cx="2236680" cy="2236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Рисунок18"/>
          <p:cNvPicPr/>
          <p:nvPr/>
        </p:nvPicPr>
        <p:blipFill>
          <a:blip r:embed="rId4"/>
          <a:stretch/>
        </p:blipFill>
        <p:spPr>
          <a:xfrm>
            <a:off x="4572000" y="4365720"/>
            <a:ext cx="2590920" cy="20955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2"/>
          <p:cNvSpPr/>
          <p:nvPr/>
        </p:nvSpPr>
        <p:spPr>
          <a:xfrm rot="20577000">
            <a:off x="50400" y="1328400"/>
            <a:ext cx="6085080" cy="3168720"/>
          </a:xfrm>
          <a:prstGeom prst="cloudCallout">
            <a:avLst>
              <a:gd name="adj1" fmla="val 64805"/>
              <a:gd name="adj2" fmla="val 103555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ыть сильны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ть хороший аппети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огорчаться и не плакать по пустяк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1" descr="Рисунок7"/>
          <p:cNvPicPr/>
          <p:nvPr/>
        </p:nvPicPr>
        <p:blipFill>
          <a:blip r:embed="rId5"/>
          <a:stretch/>
        </p:blipFill>
        <p:spPr>
          <a:xfrm>
            <a:off x="7564320" y="1844640"/>
            <a:ext cx="15796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421000"/>
            <a:ext cx="800748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варом свеклы в России лечили воспаления и раны. Свёкла повышает содержание йода в организме, улучшает память. В свёкле находятся те же вещества, что и в шоколаде. Поэтому свёкла улучшает настро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оматологи советую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блоки - отличное средство для чистки зубов! При жевании этих плодов уничтожаются 98 процентов бактерии, находящихся во рту. Если съесть яблоко, а затем прополоскать рот водой, то можно вполне обойтись без зубной щёт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Огурцы – кладезь витаминов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             А,В,С,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гурцы не содержат никаких вредных примесей и подходят для питания даже людям с различными аллергическими реакциями. На сам огурец аллергий практически не быв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гурец способствует удалению вредных веществ из орган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лёные огурцы  имеют в своём составе полезные бактерии, которые могут контролировать развитие вредоносных кишечных микроб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гда соления забродили, в них образуется молочная кислота, помогающая снижать количество жира в крови, снижая кровяное да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тамин 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 rot="20577000">
            <a:off x="937800" y="1721160"/>
            <a:ext cx="4454280" cy="19101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ыть здоров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же простужать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ыть сильн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меть хороший аппети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рп"/>
          <p:cNvPicPr/>
          <p:nvPr/>
        </p:nvPicPr>
        <p:blipFill>
          <a:blip r:embed="rId1"/>
          <a:stretch/>
        </p:blipFill>
        <p:spPr>
          <a:xfrm>
            <a:off x="7164360" y="3645000"/>
            <a:ext cx="1608120" cy="2852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Рисунок22"/>
          <p:cNvPicPr/>
          <p:nvPr/>
        </p:nvPicPr>
        <p:blipFill>
          <a:blip r:embed="rId2"/>
          <a:stretch/>
        </p:blipFill>
        <p:spPr>
          <a:xfrm>
            <a:off x="395280" y="4581360"/>
            <a:ext cx="2373480" cy="2019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Рисунок21"/>
          <p:cNvPicPr/>
          <p:nvPr/>
        </p:nvPicPr>
        <p:blipFill>
          <a:blip r:embed="rId3"/>
          <a:stretch/>
        </p:blipFill>
        <p:spPr>
          <a:xfrm>
            <a:off x="3132000" y="4446720"/>
            <a:ext cx="3229200" cy="2411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Рисунок20"/>
          <p:cNvPicPr/>
          <p:nvPr/>
        </p:nvPicPr>
        <p:blipFill>
          <a:blip r:embed="rId4"/>
          <a:stretch/>
        </p:blipFill>
        <p:spPr>
          <a:xfrm>
            <a:off x="5867280" y="1700280"/>
            <a:ext cx="2230560" cy="172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Рисунок10"/>
          <p:cNvPicPr/>
          <p:nvPr/>
        </p:nvPicPr>
        <p:blipFill>
          <a:blip r:embed="rId5"/>
          <a:stretch/>
        </p:blipFill>
        <p:spPr>
          <a:xfrm>
            <a:off x="6986520" y="0"/>
            <a:ext cx="21574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мон содержит очень много витамина С. Американские биохимики также рекомендуют своим спортсменам съедать перед соревнованием целый лимон. Плод мобилизует силы уже через несколько минут после употреб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рп"/>
          <p:cNvPicPr/>
          <p:nvPr/>
        </p:nvPicPr>
        <p:blipFill>
          <a:blip r:embed="rId1"/>
          <a:stretch/>
        </p:blipFill>
        <p:spPr>
          <a:xfrm>
            <a:off x="6877080" y="3789360"/>
            <a:ext cx="1562040" cy="277164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5"/>
          <p:cNvSpPr/>
          <p:nvPr/>
        </p:nvSpPr>
        <p:spPr>
          <a:xfrm rot="20577000">
            <a:off x="539640" y="1125000"/>
            <a:ext cx="6818400" cy="2945160"/>
          </a:xfrm>
          <a:prstGeom prst="cloudCallout">
            <a:avLst>
              <a:gd name="adj1" fmla="val 33856"/>
              <a:gd name="adj2" fmla="val 7491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Буду наблюдать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рп"/>
          <p:cNvPicPr/>
          <p:nvPr/>
        </p:nvPicPr>
        <p:blipFill>
          <a:blip r:embed="rId1"/>
          <a:stretch/>
        </p:blipFill>
        <p:spPr>
          <a:xfrm>
            <a:off x="6877080" y="3357720"/>
            <a:ext cx="1562040" cy="27716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/>
          <p:cNvSpPr/>
          <p:nvPr/>
        </p:nvSpPr>
        <p:spPr>
          <a:xfrm rot="20577000">
            <a:off x="539640" y="1125000"/>
            <a:ext cx="6818400" cy="2945160"/>
          </a:xfrm>
          <a:prstGeom prst="cloudCallout">
            <a:avLst>
              <a:gd name="adj1" fmla="val 33856"/>
              <a:gd name="adj2" fmla="val 7491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Сюрприз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Arial"/>
              </a:rPr>
              <a:t>Здоровейск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AutoShape 6"/>
          <p:cNvSpPr/>
          <p:nvPr/>
        </p:nvSpPr>
        <p:spPr>
          <a:xfrm rot="20577000">
            <a:off x="0" y="1052280"/>
            <a:ext cx="8459640" cy="3168360"/>
          </a:xfrm>
          <a:prstGeom prst="cloudCallout">
            <a:avLst>
              <a:gd name="adj1" fmla="val 29967"/>
              <a:gd name="adj2" fmla="val 86638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чему нужно есть много овощей и фруктов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рп"/>
          <p:cNvPicPr/>
          <p:nvPr/>
        </p:nvPicPr>
        <p:blipFill>
          <a:blip r:embed="rId1"/>
          <a:stretch/>
        </p:blipFill>
        <p:spPr>
          <a:xfrm>
            <a:off x="7236000" y="3789360"/>
            <a:ext cx="1562040" cy="27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чи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Вспомнить первое правило ЗО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32000" y="2715120"/>
            <a:ext cx="67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2. Научиться различать … и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3616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3. Выяснить, чем полезны … и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 rot="10098600">
            <a:off x="1341360" y="5385240"/>
            <a:ext cx="670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472320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4. Узнать интересные сведения об … и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вощна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9" descr="Рисунок9"/>
          <p:cNvPicPr/>
          <p:nvPr/>
        </p:nvPicPr>
        <p:blipFill>
          <a:blip r:embed="rId1"/>
          <a:stretch/>
        </p:blipFill>
        <p:spPr>
          <a:xfrm>
            <a:off x="468360" y="4437000"/>
            <a:ext cx="2473200" cy="2019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Рисунок3"/>
          <p:cNvPicPr/>
          <p:nvPr/>
        </p:nvPicPr>
        <p:blipFill>
          <a:blip r:embed="rId2"/>
          <a:stretch/>
        </p:blipFill>
        <p:spPr>
          <a:xfrm>
            <a:off x="324000" y="333360"/>
            <a:ext cx="2414520" cy="1822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Рисунок10"/>
          <p:cNvPicPr/>
          <p:nvPr/>
        </p:nvPicPr>
        <p:blipFill>
          <a:blip r:embed="rId3"/>
          <a:stretch/>
        </p:blipFill>
        <p:spPr>
          <a:xfrm>
            <a:off x="6443640" y="4581360"/>
            <a:ext cx="2157480" cy="1944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Рисунок5"/>
          <p:cNvPicPr/>
          <p:nvPr/>
        </p:nvPicPr>
        <p:blipFill>
          <a:blip r:embed="rId4"/>
          <a:stretch/>
        </p:blipFill>
        <p:spPr>
          <a:xfrm>
            <a:off x="6681960" y="2421000"/>
            <a:ext cx="2462040" cy="184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Рисунок7"/>
          <p:cNvPicPr/>
          <p:nvPr/>
        </p:nvPicPr>
        <p:blipFill>
          <a:blip r:embed="rId5"/>
          <a:stretch/>
        </p:blipFill>
        <p:spPr>
          <a:xfrm>
            <a:off x="5003640" y="1773360"/>
            <a:ext cx="1579680" cy="215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Рисунок8"/>
          <p:cNvPicPr/>
          <p:nvPr/>
        </p:nvPicPr>
        <p:blipFill>
          <a:blip r:embed="rId6"/>
          <a:stretch/>
        </p:blipFill>
        <p:spPr>
          <a:xfrm>
            <a:off x="2987640" y="1844640"/>
            <a:ext cx="1816200" cy="2230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Рисунок4"/>
          <p:cNvPicPr/>
          <p:nvPr/>
        </p:nvPicPr>
        <p:blipFill>
          <a:blip r:embed="rId7"/>
          <a:stretch/>
        </p:blipFill>
        <p:spPr>
          <a:xfrm>
            <a:off x="6588000" y="189000"/>
            <a:ext cx="2341800" cy="183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Рисунок2"/>
          <p:cNvPicPr/>
          <p:nvPr/>
        </p:nvPicPr>
        <p:blipFill>
          <a:blip r:embed="rId8"/>
          <a:stretch/>
        </p:blipFill>
        <p:spPr>
          <a:xfrm>
            <a:off x="324000" y="2276640"/>
            <a:ext cx="2523960" cy="1884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Рисунок11"/>
          <p:cNvPicPr/>
          <p:nvPr/>
        </p:nvPicPr>
        <p:blipFill>
          <a:blip r:embed="rId9"/>
          <a:stretch/>
        </p:blipFill>
        <p:spPr>
          <a:xfrm>
            <a:off x="3348000" y="4508640"/>
            <a:ext cx="25718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руктова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4" descr="Рисунок19"/>
          <p:cNvPicPr/>
          <p:nvPr/>
        </p:nvPicPr>
        <p:blipFill>
          <a:blip r:embed="rId1"/>
          <a:stretch/>
        </p:blipFill>
        <p:spPr>
          <a:xfrm>
            <a:off x="0" y="1197000"/>
            <a:ext cx="2774880" cy="2219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Рисунок14"/>
          <p:cNvPicPr/>
          <p:nvPr/>
        </p:nvPicPr>
        <p:blipFill>
          <a:blip r:embed="rId2"/>
          <a:stretch/>
        </p:blipFill>
        <p:spPr>
          <a:xfrm>
            <a:off x="684360" y="4365720"/>
            <a:ext cx="2987640" cy="2241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Рисунок12"/>
          <p:cNvPicPr/>
          <p:nvPr/>
        </p:nvPicPr>
        <p:blipFill>
          <a:blip r:embed="rId3"/>
          <a:stretch/>
        </p:blipFill>
        <p:spPr>
          <a:xfrm>
            <a:off x="6659640" y="1125360"/>
            <a:ext cx="2195280" cy="2881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Рисунок16"/>
          <p:cNvPicPr/>
          <p:nvPr/>
        </p:nvPicPr>
        <p:blipFill>
          <a:blip r:embed="rId4"/>
          <a:stretch/>
        </p:blipFill>
        <p:spPr>
          <a:xfrm>
            <a:off x="2987640" y="1989000"/>
            <a:ext cx="3317760" cy="221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Рисунок15"/>
          <p:cNvPicPr/>
          <p:nvPr/>
        </p:nvPicPr>
        <p:blipFill>
          <a:blip r:embed="rId5"/>
          <a:stretch/>
        </p:blipFill>
        <p:spPr>
          <a:xfrm>
            <a:off x="5292720" y="429264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рукты обычно выращивают в саду,  овощи - в огород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то такое витамины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Витамины – это вещества, необходимые для здоровь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тамин 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 rot="20577000">
            <a:off x="867240" y="2005920"/>
            <a:ext cx="3987360" cy="19504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Хорошо ра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орошо виде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ть крепкие зуб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5" descr="рп"/>
          <p:cNvPicPr/>
          <p:nvPr/>
        </p:nvPicPr>
        <p:blipFill>
          <a:blip r:embed="rId1"/>
          <a:stretch/>
        </p:blipFill>
        <p:spPr>
          <a:xfrm>
            <a:off x="7180200" y="3573360"/>
            <a:ext cx="1625760" cy="2882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Рисунок6"/>
          <p:cNvPicPr/>
          <p:nvPr/>
        </p:nvPicPr>
        <p:blipFill>
          <a:blip r:embed="rId2"/>
          <a:stretch/>
        </p:blipFill>
        <p:spPr>
          <a:xfrm>
            <a:off x="5867280" y="0"/>
            <a:ext cx="2700360" cy="2019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Рисунок17"/>
          <p:cNvPicPr/>
          <p:nvPr/>
        </p:nvPicPr>
        <p:blipFill>
          <a:blip r:embed="rId3"/>
          <a:stretch/>
        </p:blipFill>
        <p:spPr>
          <a:xfrm>
            <a:off x="1187280" y="4581360"/>
            <a:ext cx="2129040" cy="2019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Рисунок9"/>
          <p:cNvPicPr/>
          <p:nvPr/>
        </p:nvPicPr>
        <p:blipFill>
          <a:blip r:embed="rId4"/>
          <a:stretch/>
        </p:blipFill>
        <p:spPr>
          <a:xfrm>
            <a:off x="4284720" y="4724280"/>
            <a:ext cx="2879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пуста на грядке – кишечник в порядке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ение капусты в пищу позитивно сказывается на развитии полезной флоры кишечника. А ещё капустный сок помогает при бессоннице, его используют для полоскания полости рта во время воспаления и кровоточивости дёс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09:48:15Z</dcterms:created>
  <dc:creator>Ваня</dc:creator>
  <dc:description/>
  <dc:language>en-US</dc:language>
  <cp:lastModifiedBy>Админ</cp:lastModifiedBy>
  <dcterms:modified xsi:type="dcterms:W3CDTF">2022-02-16T10:33:49Z</dcterms:modified>
  <cp:revision>33</cp:revision>
  <dc:subject/>
  <dc:title>Здоровейск</dc:title>
</cp:coreProperties>
</file>