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C47-36C7-4A66-9EED-0E24CD26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9A8-2414-49D9-9B25-3455478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A46-11D8-47C3-B56D-A7E1BBA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54E-5EFF-49AF-91AE-014E444D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936-DC16-4DE8-9EFC-B4E9DAD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81B-1CB5-477B-BF45-5A205FEE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D83E-B5A7-4D3C-BA09-D9FA81B4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39C1-9F30-40C9-A672-70D0D3E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11A-7A6B-4D1D-A0FD-C8C701A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391-D6CE-4A5E-B63E-0F201CF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4B27-EA43-412E-9A46-E536CA2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B94-C066-4271-A0D1-E7116E2D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D9BE-3869-475D-83C2-272392F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DB01-CF35-4924-8897-4C58B95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B9EF-FE4A-4941-8474-931F0E5E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CDB4-0CD4-423F-9916-CF3BABF8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FDD6-2B24-4C1D-AB8F-6815972E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75D-DDC9-456B-A8C5-9AD96B43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178-F7AD-4E54-A004-05A8F42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119-A8F4-4655-A2CE-6384A903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EA5-54B9-4F9C-847C-BE42EFB2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94D-5227-4ED0-90C1-29DBF61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FFF-C161-40A9-BB64-B6A99B1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FD7-9127-4E00-A31E-5A184011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F109-9978-4338-B460-5867F703C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405-A303-4DD9-BA11-B17827735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Волжский филиал МКОУ «СОШ г.Нариманов»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нужно есть много овощей и фрук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анова К.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зно грызть сырую морковь, так как это укрепляет дёсны. Витамин А способствует росту, поэтому морковь очень полезна детям. Этот витамин поддерживает в хорошем состоянии кожу и слизистые обол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5" descr="рп"/>
          <p:cNvPicPr/>
          <p:nvPr/>
        </p:nvPicPr>
        <p:blipFill>
          <a:blip r:embed="rId1"/>
          <a:stretch/>
        </p:blipFill>
        <p:spPr>
          <a:xfrm>
            <a:off x="7380360" y="4191120"/>
            <a:ext cx="150336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Рисунок19"/>
          <p:cNvPicPr/>
          <p:nvPr/>
        </p:nvPicPr>
        <p:blipFill>
          <a:blip r:embed="rId2"/>
          <a:stretch/>
        </p:blipFill>
        <p:spPr>
          <a:xfrm>
            <a:off x="1692360" y="4838760"/>
            <a:ext cx="252396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Рисунок1"/>
          <p:cNvPicPr/>
          <p:nvPr/>
        </p:nvPicPr>
        <p:blipFill>
          <a:blip r:embed="rId3"/>
          <a:stretch/>
        </p:blipFill>
        <p:spPr>
          <a:xfrm>
            <a:off x="5940360" y="0"/>
            <a:ext cx="2236680" cy="2236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Рисунок18"/>
          <p:cNvPicPr/>
          <p:nvPr/>
        </p:nvPicPr>
        <p:blipFill>
          <a:blip r:embed="rId4"/>
          <a:stretch/>
        </p:blipFill>
        <p:spPr>
          <a:xfrm>
            <a:off x="4572000" y="4365720"/>
            <a:ext cx="2590920" cy="20955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2"/>
          <p:cNvSpPr/>
          <p:nvPr/>
        </p:nvSpPr>
        <p:spPr>
          <a:xfrm rot="20577000">
            <a:off x="50400" y="1328400"/>
            <a:ext cx="6085080" cy="3168720"/>
          </a:xfrm>
          <a:prstGeom prst="cloudCallout">
            <a:avLst>
              <a:gd name="adj1" fmla="val 64805"/>
              <a:gd name="adj2" fmla="val 10355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ь сильн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ть хороший аппет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горчаться и не плакать по пустяк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Рисунок7"/>
          <p:cNvPicPr/>
          <p:nvPr/>
        </p:nvPicPr>
        <p:blipFill>
          <a:blip r:embed="rId5"/>
          <a:stretch/>
        </p:blipFill>
        <p:spPr>
          <a:xfrm>
            <a:off x="7564320" y="1844640"/>
            <a:ext cx="15796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аром свеклы в России лечили воспаления и раны. Свёкла повышает содержание йода в организме, улучшает память. В свёкле находятся те же вещества, что и в шоколаде. Поэтому свёкла улучшает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матологи советую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блоки - отличное средство для чистки зубов! При жевании этих плодов уничтожаются 98 процентов бактерии, находящихся во рту. Если съесть яблоко, а затем прополоскать рот водой, то можно вполне обойтись без зубной щ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гурцы – кладезь витаминов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А,В,С,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урцы не содержат никаких вредных примесей и подходят для питания даже людям с различными аллергическими реакциями. На сам огурец аллергий практически не быв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урец способствует удалению вредных веществ из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ёные огурцы  имеют в своём составе полезные бактерии, которые могут контролировать развитие вредоносных кишечных микроб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соления забродили, в них образуется молочная кислота, помогающая снижать количество жира в крови, снижая кровяное д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20577000">
            <a:off x="937800" y="1721160"/>
            <a:ext cx="4454280" cy="1910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ть здоров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же простужать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ть си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ть хороший аппети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рп"/>
          <p:cNvPicPr/>
          <p:nvPr/>
        </p:nvPicPr>
        <p:blipFill>
          <a:blip r:embed="rId1"/>
          <a:stretch/>
        </p:blipFill>
        <p:spPr>
          <a:xfrm>
            <a:off x="7164360" y="3645000"/>
            <a:ext cx="1608120" cy="2852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Рисунок22"/>
          <p:cNvPicPr/>
          <p:nvPr/>
        </p:nvPicPr>
        <p:blipFill>
          <a:blip r:embed="rId2"/>
          <a:stretch/>
        </p:blipFill>
        <p:spPr>
          <a:xfrm>
            <a:off x="395280" y="4581360"/>
            <a:ext cx="2373480" cy="201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Рисунок21"/>
          <p:cNvPicPr/>
          <p:nvPr/>
        </p:nvPicPr>
        <p:blipFill>
          <a:blip r:embed="rId3"/>
          <a:stretch/>
        </p:blipFill>
        <p:spPr>
          <a:xfrm>
            <a:off x="3132000" y="4446720"/>
            <a:ext cx="3229200" cy="241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Рисунок20"/>
          <p:cNvPicPr/>
          <p:nvPr/>
        </p:nvPicPr>
        <p:blipFill>
          <a:blip r:embed="rId4"/>
          <a:stretch/>
        </p:blipFill>
        <p:spPr>
          <a:xfrm>
            <a:off x="5867280" y="1700280"/>
            <a:ext cx="2230560" cy="172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Рисунок10"/>
          <p:cNvPicPr/>
          <p:nvPr/>
        </p:nvPicPr>
        <p:blipFill>
          <a:blip r:embed="rId5"/>
          <a:stretch/>
        </p:blipFill>
        <p:spPr>
          <a:xfrm>
            <a:off x="6986520" y="0"/>
            <a:ext cx="2157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мон содержит очень много витамина С. Американские биохимики также рекомендуют своим спортсменам съедать перед соревнованием целый лимон. Плод мобилизует силы уже через несколько минут после употреб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рп"/>
          <p:cNvPicPr/>
          <p:nvPr/>
        </p:nvPicPr>
        <p:blipFill>
          <a:blip r:embed="rId1"/>
          <a:stretch/>
        </p:blipFill>
        <p:spPr>
          <a:xfrm>
            <a:off x="6877080" y="3789360"/>
            <a:ext cx="1562040" cy="27716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 rot="20577000">
            <a:off x="539640" y="1125000"/>
            <a:ext cx="6818400" cy="2945160"/>
          </a:xfrm>
          <a:prstGeom prst="cloudCallout">
            <a:avLst>
              <a:gd name="adj1" fmla="val 33856"/>
              <a:gd name="adj2" fmla="val 7491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уду наблюдать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рп"/>
          <p:cNvPicPr/>
          <p:nvPr/>
        </p:nvPicPr>
        <p:blipFill>
          <a:blip r:embed="rId1"/>
          <a:stretch/>
        </p:blipFill>
        <p:spPr>
          <a:xfrm>
            <a:off x="6877080" y="3357720"/>
            <a:ext cx="1562040" cy="2771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 rot="20577000">
            <a:off x="539640" y="1125000"/>
            <a:ext cx="6818400" cy="2945160"/>
          </a:xfrm>
          <a:prstGeom prst="cloudCallout">
            <a:avLst>
              <a:gd name="adj1" fmla="val 33856"/>
              <a:gd name="adj2" fmla="val 7491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юрприз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Arial"/>
              </a:rPr>
              <a:t>Здоровейск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AutoShape 6"/>
          <p:cNvSpPr/>
          <p:nvPr/>
        </p:nvSpPr>
        <p:spPr>
          <a:xfrm rot="20577000">
            <a:off x="0" y="1052280"/>
            <a:ext cx="8459640" cy="3168360"/>
          </a:xfrm>
          <a:prstGeom prst="cloudCallout">
            <a:avLst>
              <a:gd name="adj1" fmla="val 29967"/>
              <a:gd name="adj2" fmla="val 86638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нужно есть много овощей и фрукт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рп"/>
          <p:cNvPicPr/>
          <p:nvPr/>
        </p:nvPicPr>
        <p:blipFill>
          <a:blip r:embed="rId1"/>
          <a:stretch/>
        </p:blipFill>
        <p:spPr>
          <a:xfrm>
            <a:off x="7236000" y="3789360"/>
            <a:ext cx="15620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Вспомнить первое правило З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2715120"/>
            <a:ext cx="67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. Научиться различать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616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3. Выяснить, чем полезны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 rot="10098600">
            <a:off x="1341360" y="5385240"/>
            <a:ext cx="670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7232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4. Узнать интересные сведения об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вощ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9" descr="Рисунок9"/>
          <p:cNvPicPr/>
          <p:nvPr/>
        </p:nvPicPr>
        <p:blipFill>
          <a:blip r:embed="rId1"/>
          <a:stretch/>
        </p:blipFill>
        <p:spPr>
          <a:xfrm>
            <a:off x="468360" y="4437000"/>
            <a:ext cx="247320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Рисунок3"/>
          <p:cNvPicPr/>
          <p:nvPr/>
        </p:nvPicPr>
        <p:blipFill>
          <a:blip r:embed="rId2"/>
          <a:stretch/>
        </p:blipFill>
        <p:spPr>
          <a:xfrm>
            <a:off x="324000" y="333360"/>
            <a:ext cx="2414520" cy="182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Рисунок10"/>
          <p:cNvPicPr/>
          <p:nvPr/>
        </p:nvPicPr>
        <p:blipFill>
          <a:blip r:embed="rId3"/>
          <a:stretch/>
        </p:blipFill>
        <p:spPr>
          <a:xfrm>
            <a:off x="6443640" y="4581360"/>
            <a:ext cx="215748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Рисунок5"/>
          <p:cNvPicPr/>
          <p:nvPr/>
        </p:nvPicPr>
        <p:blipFill>
          <a:blip r:embed="rId4"/>
          <a:stretch/>
        </p:blipFill>
        <p:spPr>
          <a:xfrm>
            <a:off x="6681960" y="2421000"/>
            <a:ext cx="2462040" cy="18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Рисунок7"/>
          <p:cNvPicPr/>
          <p:nvPr/>
        </p:nvPicPr>
        <p:blipFill>
          <a:blip r:embed="rId5"/>
          <a:stretch/>
        </p:blipFill>
        <p:spPr>
          <a:xfrm>
            <a:off x="5003640" y="1773360"/>
            <a:ext cx="1579680" cy="21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Рисунок8"/>
          <p:cNvPicPr/>
          <p:nvPr/>
        </p:nvPicPr>
        <p:blipFill>
          <a:blip r:embed="rId6"/>
          <a:stretch/>
        </p:blipFill>
        <p:spPr>
          <a:xfrm>
            <a:off x="2987640" y="1844640"/>
            <a:ext cx="1816200" cy="22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Рисунок4"/>
          <p:cNvPicPr/>
          <p:nvPr/>
        </p:nvPicPr>
        <p:blipFill>
          <a:blip r:embed="rId7"/>
          <a:stretch/>
        </p:blipFill>
        <p:spPr>
          <a:xfrm>
            <a:off x="6588000" y="189000"/>
            <a:ext cx="2341800" cy="18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Рисунок2"/>
          <p:cNvPicPr/>
          <p:nvPr/>
        </p:nvPicPr>
        <p:blipFill>
          <a:blip r:embed="rId8"/>
          <a:stretch/>
        </p:blipFill>
        <p:spPr>
          <a:xfrm>
            <a:off x="324000" y="2276640"/>
            <a:ext cx="2523960" cy="188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Рисунок11"/>
          <p:cNvPicPr/>
          <p:nvPr/>
        </p:nvPicPr>
        <p:blipFill>
          <a:blip r:embed="rId9"/>
          <a:stretch/>
        </p:blipFill>
        <p:spPr>
          <a:xfrm>
            <a:off x="3348000" y="4508640"/>
            <a:ext cx="2571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руктов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Рисунок19"/>
          <p:cNvPicPr/>
          <p:nvPr/>
        </p:nvPicPr>
        <p:blipFill>
          <a:blip r:embed="rId1"/>
          <a:stretch/>
        </p:blipFill>
        <p:spPr>
          <a:xfrm>
            <a:off x="0" y="1197000"/>
            <a:ext cx="2774880" cy="221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Рисунок14"/>
          <p:cNvPicPr/>
          <p:nvPr/>
        </p:nvPicPr>
        <p:blipFill>
          <a:blip r:embed="rId2"/>
          <a:stretch/>
        </p:blipFill>
        <p:spPr>
          <a:xfrm>
            <a:off x="684360" y="436572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Рисунок12"/>
          <p:cNvPicPr/>
          <p:nvPr/>
        </p:nvPicPr>
        <p:blipFill>
          <a:blip r:embed="rId3"/>
          <a:stretch/>
        </p:blipFill>
        <p:spPr>
          <a:xfrm>
            <a:off x="6659640" y="1125360"/>
            <a:ext cx="2195280" cy="288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исунок16"/>
          <p:cNvPicPr/>
          <p:nvPr/>
        </p:nvPicPr>
        <p:blipFill>
          <a:blip r:embed="rId4"/>
          <a:stretch/>
        </p:blipFill>
        <p:spPr>
          <a:xfrm>
            <a:off x="2987640" y="1989000"/>
            <a:ext cx="3317760" cy="221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Рисунок15"/>
          <p:cNvPicPr/>
          <p:nvPr/>
        </p:nvPicPr>
        <p:blipFill>
          <a:blip r:embed="rId5"/>
          <a:stretch/>
        </p:blipFill>
        <p:spPr>
          <a:xfrm>
            <a:off x="5292720" y="429264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укты обычно выращивают в саду,  овощи - в огор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витамин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итамины – это вещества, необходимые для здоровь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20577000">
            <a:off x="867240" y="2005920"/>
            <a:ext cx="3987360" cy="1950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Хорошо р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виде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ть крепкие зуб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рп"/>
          <p:cNvPicPr/>
          <p:nvPr/>
        </p:nvPicPr>
        <p:blipFill>
          <a:blip r:embed="rId1"/>
          <a:stretch/>
        </p:blipFill>
        <p:spPr>
          <a:xfrm>
            <a:off x="7180200" y="3573360"/>
            <a:ext cx="162576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Рисунок6"/>
          <p:cNvPicPr/>
          <p:nvPr/>
        </p:nvPicPr>
        <p:blipFill>
          <a:blip r:embed="rId2"/>
          <a:stretch/>
        </p:blipFill>
        <p:spPr>
          <a:xfrm>
            <a:off x="5867280" y="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Рисунок17"/>
          <p:cNvPicPr/>
          <p:nvPr/>
        </p:nvPicPr>
        <p:blipFill>
          <a:blip r:embed="rId3"/>
          <a:stretch/>
        </p:blipFill>
        <p:spPr>
          <a:xfrm>
            <a:off x="1187280" y="4581360"/>
            <a:ext cx="212904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Рисунок9"/>
          <p:cNvPicPr/>
          <p:nvPr/>
        </p:nvPicPr>
        <p:blipFill>
          <a:blip r:embed="rId4"/>
          <a:stretch/>
        </p:blipFill>
        <p:spPr>
          <a:xfrm>
            <a:off x="4284720" y="4724280"/>
            <a:ext cx="287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уста на грядке – кишечник в порядк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пусты в пищу позитивно сказывается на развитии полезной флоры кишечника. А ещё капустный сок помогает при бессоннице, его используют для полоскания полости рта во время воспаления и кровоточивости дёс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9:48:15Z</dcterms:created>
  <dc:creator>Ваня</dc:creator>
  <dc:description/>
  <dc:language>en-US</dc:language>
  <cp:lastModifiedBy>Админ</cp:lastModifiedBy>
  <dcterms:modified xsi:type="dcterms:W3CDTF">2022-02-16T10:33:49Z</dcterms:modified>
  <cp:revision>33</cp:revision>
  <dc:subject/>
  <dc:title>Здоровейск</dc:title>
</cp:coreProperties>
</file>