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63CC4-EBF8-44A2-837B-45BAD53E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1279-8A38-422F-AE87-922D8F8A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9CCD-E04C-4151-BBB0-69E8CCA1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ACEE-1969-496A-8393-AAE962F4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096F-88F7-4625-9BBB-649B16FE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EF4E-7BE3-4E6B-9F38-7CCBAE03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29D5-B6DD-4018-9C52-1F686069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91B0-9E1C-476C-929D-8AD63E74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BFE9-AF8D-47B0-BBCB-44235EED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5B9B-E98A-4597-BAF5-E0FC0741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D331-24B4-4112-BAEE-0EBFAB9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AA94-DA4C-474D-9DD8-CF516C4D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127E-65BE-43D1-86F2-D94FB733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6F8A-8A84-4CE3-BD11-F7D27DCC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597D-0D39-4FA8-8224-40134A7D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7EC4-49D2-4D01-8D40-3E1E9B36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6B0D-E8E7-4CBA-8478-146FDBF3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FCD4-F5A2-4659-BDC2-946F6A5F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D381-4DD1-457F-970C-5C850C05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71B1-089C-47A1-B75E-79A0A3AA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7B00-8EA7-4985-9520-F5945BB0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8B2C-9E86-440D-A9AE-F6706FAA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02EB-5FC3-43FB-AD04-D3CF53DA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91F2-D4E8-4A36-9B45-D34F22F8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0F8B-B5AA-4823-861C-6AEA35DD88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37B6-D451-4A40-B9D1-15531AB6B8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3.xm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WordArt 4"/>
          <p:cNvGrpSpPr/>
          <p:nvPr/>
        </p:nvGrpSpPr>
        <p:grpSpPr>
          <a:xfrm>
            <a:off x="749160" y="1189080"/>
            <a:ext cx="8004240" cy="4621320"/>
            <a:chOff x="749160" y="1189080"/>
            <a:chExt cx="8004240" cy="4621320"/>
          </a:xfrm>
        </p:grpSpPr>
        <p:pic>
          <p:nvPicPr>
            <p:cNvPr id="101" name="WordArt 4" descr=""/>
            <p:cNvPicPr/>
            <p:nvPr/>
          </p:nvPicPr>
          <p:blipFill>
            <a:blip r:embed="rId2"/>
            <a:stretch/>
          </p:blipFill>
          <p:spPr>
            <a:xfrm>
              <a:off x="749160" y="1189080"/>
              <a:ext cx="8004240" cy="46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55640" y="1197000"/>
              <a:ext cx="799308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Impact"/>
                </a:rPr>
                <a:t>РАДИОАКТИВНОСТЬ</a:t>
              </a:r>
              <a:endParaRPr b="0" lang="en-US" sz="4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1"/>
          <p:cNvPicPr/>
          <p:nvPr/>
        </p:nvPicPr>
        <p:blipFill>
          <a:blip r:embed="rId2"/>
          <a:stretch/>
        </p:blipFill>
        <p:spPr>
          <a:xfrm>
            <a:off x="3708360" y="0"/>
            <a:ext cx="43988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0"/>
          <p:cNvSpPr txBox="1"/>
          <p:nvPr/>
        </p:nvSpPr>
        <p:spPr>
          <a:xfrm rot="5400000">
            <a:off x="-1584360" y="2960640"/>
            <a:ext cx="619128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пыт Резерфорд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2"/>
          <p:cNvSpPr txBox="1"/>
          <p:nvPr/>
        </p:nvSpPr>
        <p:spPr>
          <a:xfrm>
            <a:off x="1979640" y="476280"/>
            <a:ext cx="587700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ды радиоактивного излуче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AutoShape 13"/>
          <p:cNvSpPr/>
          <p:nvPr/>
        </p:nvSpPr>
        <p:spPr>
          <a:xfrm rot="10800000">
            <a:off x="2555640" y="2420640"/>
            <a:ext cx="3887640" cy="25192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21">
            <a:hlinkClick r:id="" action="ppaction://hlinkshowjump?jump=nextslide"/>
          </p:cNvPr>
          <p:cNvSpPr/>
          <p:nvPr/>
        </p:nvSpPr>
        <p:spPr>
          <a:xfrm>
            <a:off x="179280" y="2133720"/>
            <a:ext cx="2411640" cy="136656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00"/>
                </a:solidFill>
                <a:uFillTx/>
                <a:latin typeface="Symbol"/>
                <a:ea typeface="Symbol"/>
                <a:hlinkClick r:id="rId2" action="ppaction://hlinksldjump"/>
              </a:rPr>
              <a:t>a</a:t>
            </a:r>
            <a:r>
              <a:rPr b="0" lang="en-US" sz="60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3" action="ppaction://hlinksldjump"/>
              </a:rPr>
              <a:t>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4" action="ppaction://hlinksldjump"/>
              </a:rPr>
              <a:t>-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5" action="ppaction://hlinksldjump"/>
              </a:rPr>
              <a:t>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6" action="ppaction://hlinksldjump"/>
              </a:rPr>
              <a:t>луч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22"/>
          <p:cNvSpPr/>
          <p:nvPr/>
        </p:nvSpPr>
        <p:spPr>
          <a:xfrm>
            <a:off x="6551640" y="2205000"/>
            <a:ext cx="2592360" cy="129708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00"/>
                </a:solidFill>
                <a:uFillTx/>
                <a:latin typeface="Symbol"/>
                <a:ea typeface="Symbol"/>
                <a:hlinkClick r:id="rId7" action="ppaction://hlinksldjump"/>
              </a:rPr>
              <a:t></a:t>
            </a:r>
            <a:r>
              <a:rPr b="0" lang="ru-RU" sz="60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8" action="ppaction://hlinksldjump"/>
              </a:rPr>
              <a:t>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9" action="ppaction://hlinksldjump"/>
              </a:rPr>
              <a:t>-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10" action="ppaction://hlinksldjump"/>
              </a:rPr>
              <a:t>луч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24">
            <a:hlinkClick r:id="" action="ppaction://hlinkshowjump?jump=nextslide"/>
          </p:cNvPr>
          <p:cNvSpPr/>
          <p:nvPr/>
        </p:nvSpPr>
        <p:spPr>
          <a:xfrm>
            <a:off x="3132000" y="5084640"/>
            <a:ext cx="2411640" cy="136692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00"/>
                </a:solidFill>
                <a:uFillTx/>
                <a:latin typeface="Symbol"/>
                <a:ea typeface="Symbol"/>
                <a:hlinkClick r:id="rId11" action="ppaction://hlinksldjump"/>
              </a:rPr>
              <a:t>b</a:t>
            </a:r>
            <a:r>
              <a:rPr b="0" lang="en-US" sz="60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12" action="ppaction://hlinksldjump"/>
              </a:rPr>
              <a:t>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13" action="ppaction://hlinksldjump"/>
              </a:rPr>
              <a:t>- 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14" action="ppaction://hlinksldjump"/>
              </a:rPr>
              <a:t>луч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324000" y="620640"/>
            <a:ext cx="835344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Symbol"/>
                <a:ea typeface="Symbol"/>
              </a:rPr>
              <a:t>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Georgia"/>
                <a:ea typeface="Symbol"/>
                <a:hlinkClick r:id="rId2" action="ppaction://hlinksldjump"/>
              </a:rPr>
              <a:t> -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Georgia"/>
                <a:ea typeface="Symbol"/>
                <a:hlinkClick r:id="rId3" action="ppaction://hlinksldjump"/>
              </a:rPr>
              <a:t>частица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Georgia"/>
                <a:ea typeface="Symbol"/>
                <a:hlinkClick r:id="rId4" action="ppaction://hlinksldjump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– ядро атома гелия. </a:t>
            </a:r>
            <a:r>
              <a:rPr b="0" lang="ru-RU" sz="3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ff3300"/>
                </a:solidFill>
                <a:latin typeface="Georgia"/>
              </a:rPr>
              <a:t>- 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лучи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обладают наименьшей проникающей способностью. Слой бумаги толщиной около 0,1 мм для них уже не прозрачен. Слабо отклоняются в магнитном пол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У </a:t>
            </a:r>
            <a:r>
              <a:rPr b="0" lang="ru-RU" sz="3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- частицы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на каждый из двух элементарных зарядов приходится две атомные единицы массы. Резерфорд доказал, что при радиоактивном 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- распаде образуется гелий.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611280" y="692280"/>
            <a:ext cx="806436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ffcc00"/>
                </a:solidFill>
                <a:uFillTx/>
                <a:latin typeface="Georgia"/>
                <a:hlinkClick r:id="rId1" action="ppaction://hlinksldjump"/>
              </a:rPr>
              <a:t>β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Georgia"/>
                <a:hlinkClick r:id="rId2" action="ppaction://hlinksldjump"/>
              </a:rPr>
              <a:t> -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Georgia"/>
                <a:hlinkClick r:id="rId3" action="ppaction://hlinksldjump"/>
              </a:rPr>
              <a:t>частицы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Georgia"/>
                <a:hlinkClick r:id="rId4" action="ppaction://hlinksldjump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редставляют собой электроны, движущиеся со скоростями, очень близкими к скорости света. Они сильно отклоняются как в магнитном, так и в электрическом поле. </a:t>
            </a:r>
            <a:r>
              <a:rPr b="0" lang="el-GR" sz="3000" spc="-1" strike="noStrike" u="sng">
                <a:solidFill>
                  <a:srgbClr val="ff3300"/>
                </a:solidFill>
                <a:uFillTx/>
                <a:latin typeface="Georgia"/>
              </a:rPr>
              <a:t>β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 – лучи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гораздо меньше поглощаются при прохождении через вещество. Алюминиевая пластинка полностью их задерживает только при толщине в несколько миллиметров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7"/>
          <p:cNvSpPr/>
          <p:nvPr/>
        </p:nvSpPr>
        <p:spPr>
          <a:xfrm>
            <a:off x="395280" y="549360"/>
            <a:ext cx="8497800" cy="62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00"/>
                </a:solidFill>
                <a:uFillTx/>
                <a:latin typeface="Symbol"/>
                <a:ea typeface="Symbol"/>
                <a:hlinkClick r:id="rId2" action="ppaction://hlinksldjump"/>
              </a:rPr>
              <a:t>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Georgia"/>
                <a:ea typeface="Symbol"/>
                <a:hlinkClick r:id="rId3" action="ppaction://hlinksldjump"/>
              </a:rPr>
              <a:t> -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Georgia"/>
                <a:ea typeface="Symbol"/>
                <a:hlinkClick r:id="rId4" action="ppaction://hlinksldjump"/>
              </a:rPr>
              <a:t>лучи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Georgia"/>
                <a:ea typeface="Symbol"/>
                <a:hlinkClick r:id="rId5" action="ppaction://hlinksldjump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редставляют собой электромагнитные волны. По своим свойствам очень сильно напоминают рентгеновские, но только их проникающая способность гораздо больше, чем у рентгеновских лучей. Не отклоняются магнитным полем. Обладают наибольшей проникающей способностью. Слой свинца толщиной в 1 см не является для них непреодолимой преградой. При прохождении </a:t>
            </a:r>
            <a:r>
              <a:rPr b="0" lang="ru-RU" sz="36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 – лучей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через такой слой свинца их интенсивность убывает лишь вдвое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95280" y="549360"/>
            <a:ext cx="84247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Испуская </a:t>
            </a:r>
            <a:r>
              <a:rPr b="0" lang="el-GR" sz="2800" spc="-1" strike="noStrike">
                <a:solidFill>
                  <a:srgbClr val="ffffff"/>
                </a:solidFill>
                <a:latin typeface="Georgia"/>
              </a:rPr>
              <a:t>α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–  и 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- излучение, атомы радиоактивного элемента изменяются, превращаясь в атомы нового элемен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В этом смысле испускание радиоактивных излучений называют 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радиоактивным распадом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равила, указывающие смещение элемента в периодической системе, вызванное распадом, называются 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правилами смещения</a:t>
            </a:r>
            <a:r>
              <a:rPr b="0" i="1" lang="ru-RU" sz="2800" spc="-1" strike="noStrike">
                <a:solidFill>
                  <a:srgbClr val="ff9999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1979640" y="476280"/>
            <a:ext cx="587700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ды радиоактивного распад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AutoShape 3"/>
          <p:cNvSpPr/>
          <p:nvPr/>
        </p:nvSpPr>
        <p:spPr>
          <a:xfrm rot="10800000">
            <a:off x="2627280" y="2420640"/>
            <a:ext cx="3888000" cy="25192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4">
            <a:hlinkClick r:id="" action="ppaction://hlinkshowjump?jump=nextslide"/>
          </p:cNvPr>
          <p:cNvSpPr/>
          <p:nvPr/>
        </p:nvSpPr>
        <p:spPr>
          <a:xfrm>
            <a:off x="0" y="2133720"/>
            <a:ext cx="2590920" cy="136656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00"/>
                </a:solidFill>
                <a:uFillTx/>
                <a:latin typeface="Symbol"/>
                <a:ea typeface="Symbol"/>
                <a:hlinkClick r:id="rId1" action="ppaction://hlinksldjump"/>
              </a:rPr>
              <a:t>a</a:t>
            </a:r>
            <a:r>
              <a:rPr b="0" lang="en-US" sz="60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2" action="ppaction://hlinksldjump"/>
              </a:rPr>
              <a:t>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3" action="ppaction://hlinksldjump"/>
              </a:rPr>
              <a:t>–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4" action="ppaction://hlinksldjump"/>
              </a:rPr>
              <a:t>распа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6551640" y="2205000"/>
            <a:ext cx="2592360" cy="129708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00"/>
                </a:solidFill>
                <a:uFillTx/>
                <a:latin typeface="Symbol"/>
                <a:ea typeface="Symbol"/>
                <a:hlinkClick r:id="rId5" action="ppaction://hlinksldjump"/>
              </a:rPr>
              <a:t></a:t>
            </a:r>
            <a:r>
              <a:rPr b="0" lang="ru-RU" sz="6000" spc="-1" strike="noStrike" u="sng">
                <a:solidFill>
                  <a:srgbClr val="ffcc00"/>
                </a:solidFill>
                <a:uFillTx/>
                <a:latin typeface="Arial"/>
                <a:ea typeface="Symbol"/>
                <a:hlinkClick r:id="rId6" action="ppaction://hlinksldjump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_AssuanTitulStrDst"/>
                <a:ea typeface="Symbol"/>
                <a:hlinkClick r:id="rId7" action="ppaction://hlinksldjump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_AssuanTitulStrDst"/>
              </a:rPr>
              <a:t>распа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AutoShape 6">
            <a:hlinkClick r:id="" action="ppaction://hlinkshowjump?jump=nextslide"/>
          </p:cNvPr>
          <p:cNvSpPr/>
          <p:nvPr/>
        </p:nvSpPr>
        <p:spPr>
          <a:xfrm>
            <a:off x="3276720" y="5084640"/>
            <a:ext cx="2411280" cy="1297080"/>
          </a:xfrm>
          <a:prstGeom prst="beve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_AssuanTitulStrDst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_AssuanTitulStrDst"/>
              </a:rPr>
              <a:t>распа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24000" y="620640"/>
            <a:ext cx="83534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b187a"/>
                </a:solidFill>
                <a:latin typeface="Symbol"/>
                <a:ea typeface="Symbol"/>
              </a:rPr>
              <a:t></a:t>
            </a:r>
            <a:r>
              <a:rPr b="0" lang="en-US" sz="3000" spc="-1" strike="noStrike">
                <a:solidFill>
                  <a:srgbClr val="2b187a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2b187a"/>
                </a:solidFill>
                <a:latin typeface="Georgia"/>
              </a:rPr>
              <a:t> – </a:t>
            </a:r>
            <a:r>
              <a:rPr b="0" lang="ru-RU" sz="3000" spc="-1" strike="noStrike">
                <a:solidFill>
                  <a:srgbClr val="2b187a"/>
                </a:solidFill>
                <a:latin typeface="Georgia"/>
              </a:rPr>
              <a:t>распадом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называется самопроизвольный распад атомного ядра на </a:t>
            </a:r>
            <a:r>
              <a:rPr b="0" lang="en-US" sz="3000" spc="-1" strike="noStrike">
                <a:solidFill>
                  <a:srgbClr val="000514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514"/>
                </a:solidFill>
                <a:latin typeface="Georgia"/>
              </a:rPr>
              <a:t> –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частицу (ядро атома гелия         ) и ядро-продукт. Продукт </a:t>
            </a:r>
            <a:r>
              <a:rPr b="0" lang="en-US" sz="3000" spc="-1" strike="noStrike">
                <a:solidFill>
                  <a:srgbClr val="000514"/>
                </a:solidFill>
                <a:latin typeface="Georgia"/>
              </a:rPr>
              <a:t>a –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распада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оказывается смещенным на две клетки к началу периодической системы Менделеев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6012000" y="1773360"/>
                <a:ext cx="7920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2627280" y="4437000"/>
                <a:ext cx="4464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Y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24000" y="476280"/>
            <a:ext cx="835344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3000" spc="-1" strike="noStrike">
                <a:solidFill>
                  <a:srgbClr val="2b187a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2b187a"/>
                </a:solidFill>
                <a:latin typeface="Georgia"/>
              </a:rPr>
              <a:t> – </a:t>
            </a:r>
            <a:r>
              <a:rPr b="0" lang="ru-RU" sz="3000" spc="-1" strike="noStrike">
                <a:solidFill>
                  <a:srgbClr val="2b187a"/>
                </a:solidFill>
                <a:latin typeface="Georgia"/>
              </a:rPr>
              <a:t>распадом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называется самопроизвольное превращение атомного ядра путем испускания электрона. Ядро – продукт бета-распада оказывается ядром одного из изотопов элемента с порядковым номером в таблице Менделеева на единицу большим порядкового номера исходного ядра.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556000" y="5084640"/>
                <a:ext cx="3933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Y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620640"/>
            <a:ext cx="835344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3000" spc="-1" strike="noStrike">
                <a:solidFill>
                  <a:srgbClr val="2b187a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2b187a"/>
                </a:solidFill>
                <a:latin typeface="Georgia"/>
              </a:rPr>
              <a:t> – </a:t>
            </a:r>
            <a:r>
              <a:rPr b="0" lang="ru-RU" sz="3000" spc="-1" strike="noStrike">
                <a:solidFill>
                  <a:srgbClr val="ffcc00"/>
                </a:solidFill>
                <a:latin typeface="Georgia"/>
              </a:rPr>
              <a:t>излучение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не сопровождается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изменением заряда; масса же ядра меняется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514"/>
                </a:solidFill>
                <a:latin typeface="Georgia"/>
              </a:rPr>
              <a:t>ничтожно мало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700360" y="4005360"/>
                <a:ext cx="39258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X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Y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146" name="Rectangle 7"/>
          <p:cNvSpPr/>
          <p:nvPr/>
        </p:nvSpPr>
        <p:spPr>
          <a:xfrm>
            <a:off x="6516720" y="3716280"/>
            <a:ext cx="50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514"/>
                </a:solidFill>
                <a:latin typeface="Symbol"/>
                <a:ea typeface="Symbol"/>
              </a:rPr>
              <a:t>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бек"/>
          <p:cNvPicPr/>
          <p:nvPr/>
        </p:nvPicPr>
        <p:blipFill>
          <a:blip r:embed="rId2"/>
          <a:stretch/>
        </p:blipFill>
        <p:spPr>
          <a:xfrm>
            <a:off x="395280" y="3141720"/>
            <a:ext cx="3309840" cy="3716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395280" y="260280"/>
            <a:ext cx="82090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ткрытие рентгеновских лучей  дало толчок новым исследованиям. Их изучение привело к новым открытиям, одним из которых явилось открытие </a:t>
            </a:r>
            <a:r>
              <a:rPr b="1" lang="ru-RU" sz="2000" spc="-1" strike="noStrike">
                <a:solidFill>
                  <a:srgbClr val="ffcc00"/>
                </a:solidFill>
                <a:latin typeface="Georgia"/>
              </a:rPr>
              <a:t>радиоактивности</a:t>
            </a:r>
            <a:r>
              <a:rPr b="0" lang="ru-RU" sz="2000" spc="-1" strike="noStrike">
                <a:solidFill>
                  <a:srgbClr val="ffcc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имерно с середины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стали появляться экспериментальные факты, которые ставили под сомнение представления о неделимости атомов. Результаты этих экспериментов наводили на мысль о том, что атомы имеют сложную структуру и что в их состав входят электрически заряженные частиц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030560" y="4076640"/>
            <a:ext cx="511344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иболее ярким свидетельством сложного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троения атома явилось открытие явления радиоактивности, сделанное французским физиком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Анри Беккерелем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в 1896 год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5"/>
          <p:cNvSpPr txBox="1"/>
          <p:nvPr/>
        </p:nvSpPr>
        <p:spPr>
          <a:xfrm>
            <a:off x="755640" y="476280"/>
            <a:ext cx="763272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адиоактивный расп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8360" y="2060640"/>
            <a:ext cx="8280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3300"/>
                </a:solidFill>
                <a:latin typeface="Georgia"/>
              </a:rPr>
              <a:t>Радиоактивный распад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– радиоактивное (самопроизвольное) превращение исходного (материнского) ядра в новые (дочерние) ядр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68360" y="4437000"/>
            <a:ext cx="8280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Для каждого радиоактивного вещества существует определенный интервал времени, на протяжении которого активность убывает в два раз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611280" y="0"/>
            <a:ext cx="806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8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кон радиоактивного распа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759040" cy="3676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708360" y="1197000"/>
            <a:ext cx="49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иод полураспада </a:t>
            </a: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Т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– это время, в течение которого распадается половина наличного числа радиоактивных атом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11" descr="формулка"/>
          <p:cNvPicPr/>
          <p:nvPr/>
        </p:nvPicPr>
        <p:blipFill>
          <a:blip r:embed="rId2"/>
          <a:stretch/>
        </p:blipFill>
        <p:spPr>
          <a:xfrm>
            <a:off x="4572000" y="3573360"/>
            <a:ext cx="3267000" cy="114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2"/>
          <p:cNvSpPr/>
          <p:nvPr/>
        </p:nvSpPr>
        <p:spPr>
          <a:xfrm>
            <a:off x="3635280" y="4941720"/>
            <a:ext cx="550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eorgia"/>
              </a:rPr>
              <a:t>N</a:t>
            </a:r>
            <a:r>
              <a:rPr b="0" lang="en-US" sz="1400" spc="-1" strike="noStrike">
                <a:solidFill>
                  <a:srgbClr val="ff3300"/>
                </a:solidFill>
                <a:latin typeface="Georgi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число радиоактивных атомов в начальный момент време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eorgi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число нераспавшихся атомов в любой момент време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26920" y="1197000"/>
            <a:ext cx="7632720" cy="52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2b187a"/>
                </a:solidFill>
                <a:latin typeface="Georgia"/>
              </a:rPr>
              <a:t>Уран, торий и некоторые другие элементы обладают свойством непрерывно и без каких-либо внешних воздействий (т.е. под влиянием внутренних причин) испускать невидимое излучение, которое подобно рентгеновскому излучению способно проникать сквозь непрозрачные экраны и оказывать фотографическое и ионизационное действие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b187a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2b187a"/>
                </a:solidFill>
                <a:latin typeface="Georgia"/>
              </a:rPr>
              <a:t>Свойство самопроизвольного испускания подобного излучения получило название </a:t>
            </a:r>
            <a:r>
              <a:rPr b="1" i="1" lang="ru-RU" sz="2600" spc="-1" strike="noStrike">
                <a:solidFill>
                  <a:srgbClr val="2b187a"/>
                </a:solidFill>
                <a:latin typeface="Georgia"/>
              </a:rPr>
              <a:t>радиоактивности.</a:t>
            </a:r>
            <a:r>
              <a:rPr b="1" i="1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7"/>
          <p:cNvSpPr/>
          <p:nvPr/>
        </p:nvSpPr>
        <p:spPr>
          <a:xfrm>
            <a:off x="250920" y="40464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79280" y="549360"/>
            <a:ext cx="8785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диоактивность являлась привилегией самых тяжелых элементов периодической системы Д.И.Менделеева. Среди элементов, содержащихся в земной коре, радиоактивными являются все,  с порядковыми номерами более 83, т. е. расположенные в таблице Менделеева после висму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1187280" y="1125360"/>
            <a:ext cx="705672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 1898 году французские ученые Мария Склодовская-Кюри и Пьер Кюри выделили из уранового минерала два новых вещества, радиоактивных в гораздо более сильной степени, чем уран и торий. Так были открыты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два неизвестных ранее радиоактивных элемента –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полоний и радий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755640" y="620640"/>
            <a:ext cx="76327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Georgia"/>
              </a:rPr>
              <a:t>Ученые пришли к выводу, что радиоактивность представляет собой самопроизвольный процесс, происходящий в атомах радиоактивных элементов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0" lang="ru-RU" sz="2300" spc="-1" strike="noStrike">
                <a:solidFill>
                  <a:srgbClr val="ffffff"/>
                </a:solidFill>
                <a:latin typeface="Georgia"/>
              </a:rPr>
              <a:t> Теперь это явления определяют как самопроизвольное превращение неустойчивого изотопа одного химического элемента в изотоп другого элемента; при этом происходит испускание  электронов, протонов, нейтронов или ядер гелия  (</a:t>
            </a:r>
            <a:r>
              <a:rPr b="0" lang="el-GR" sz="2300" spc="-1" strike="noStrike">
                <a:solidFill>
                  <a:srgbClr val="ffffff"/>
                </a:solidFill>
                <a:latin typeface="Georgia"/>
              </a:rPr>
              <a:t>α</a:t>
            </a:r>
            <a:r>
              <a:rPr b="0" lang="en-US" sz="2300" spc="-1" strike="noStrike">
                <a:solidFill>
                  <a:srgbClr val="ffffff"/>
                </a:solidFill>
                <a:latin typeface="Georgia"/>
                <a:ea typeface="Tahoma"/>
              </a:rPr>
              <a:t>-</a:t>
            </a:r>
            <a:r>
              <a:rPr b="0" lang="ru-RU" sz="2300" spc="-1" strike="noStrike">
                <a:solidFill>
                  <a:srgbClr val="ffffff"/>
                </a:solidFill>
                <a:latin typeface="Georgia"/>
                <a:ea typeface="Tahoma"/>
              </a:rPr>
              <a:t>частиц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юри"/>
          <p:cNvPicPr/>
          <p:nvPr/>
        </p:nvPicPr>
        <p:blipFill>
          <a:blip r:embed="rId2"/>
          <a:stretch/>
        </p:blipFill>
        <p:spPr>
          <a:xfrm>
            <a:off x="5580000" y="1628640"/>
            <a:ext cx="3311640" cy="4513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470560" y="6308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Мария и Пьер Кюри в лаборатор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539640" y="476280"/>
            <a:ext cx="784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УПРУГИ  КЮР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0" y="1773360"/>
            <a:ext cx="50767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За 10 лет совместной работы они сделали очень многое для изучения явления 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радиоактивности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Это был беззаветный труд во имя науки – в плохо оборудованной лаборатории и  при отсутствии необходимых сред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диплом"/>
          <p:cNvPicPr/>
          <p:nvPr/>
        </p:nvPicPr>
        <p:blipFill>
          <a:blip r:embed="rId2"/>
          <a:stretch/>
        </p:blipFill>
        <p:spPr>
          <a:xfrm>
            <a:off x="250920" y="1268280"/>
            <a:ext cx="3800520" cy="51436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179280" y="549360"/>
            <a:ext cx="47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Диплом лауреатов Нобелевской премии, врученный Пьеру и Марии Кюр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716360" y="1700280"/>
            <a:ext cx="41054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В 1903 году за открытия в области радиоактивности супругам Кюри и А.Беккерелю была присуждена Нобелевская премия по физике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рез"/>
          <p:cNvPicPr/>
          <p:nvPr/>
        </p:nvPicPr>
        <p:blipFill>
          <a:blip r:embed="rId1"/>
          <a:stretch/>
        </p:blipFill>
        <p:spPr>
          <a:xfrm>
            <a:off x="395280" y="1628640"/>
            <a:ext cx="3716280" cy="5016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79280" y="1890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После открытия радиоактивных элементов началось исследование физической природы их излучения. Кроме Беккереля и супругов Кюри, этим занялся Резерфор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932360" y="1989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284720" y="1989000"/>
            <a:ext cx="4680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В 1898 г. Резерфорд приступил к изучению явления радиоактивности. Первым его фундаментальным открытием в этой области было обнаружение неоднородности излучения, испускаемого радием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9:17:10Z</dcterms:created>
  <dc:creator>Оля</dc:creator>
  <dc:description/>
  <dc:language>en-US</dc:language>
  <cp:lastModifiedBy>Ученик</cp:lastModifiedBy>
  <dcterms:modified xsi:type="dcterms:W3CDTF">2016-05-18T07:58:51Z</dcterms:modified>
  <cp:revision>16</cp:revision>
  <dc:subject/>
  <dc:title>Слайд 1</dc:title>
</cp:coreProperties>
</file>