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09D8-952F-4015-B95D-36EA15C4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17D6-B4F0-408E-B705-ED310BB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AE99-29A5-4FD3-A12C-63A2466B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BC6B-564C-452F-A6A0-3B672E66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F317-D1EA-4D74-8CF2-DAA08CB9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2405-EAEB-4550-8ECC-CD250F7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112E-59F2-4DD8-97E9-C9387820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7FC0-0026-441D-AFB1-CD84D9F0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A543-C657-43F6-86E8-8C25EE0C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0A1D-31E9-4D07-ACA3-4787C8E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D375-6100-47F2-8053-1111FB1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1524-7723-4EC5-AB57-09544143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4E6-0FF8-4BCD-9BFF-732B2FF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EEE7-66B7-4835-ACFF-A07E21F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6593-F9E7-4983-B5B3-427EA72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CA4D-FA56-47FA-9289-C9D43CEB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82B-E70D-4129-AD03-10471610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F2B9-5C32-4451-93C7-B021B17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6A8B-E7F0-4EAB-A95A-102203E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B92B-1DE4-4D46-96DB-0BFF64B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9B40-3792-42B2-A3FA-EEFD896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C90D-466F-4AF8-9A03-F40B42B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93CF-0BF6-4DBF-B26B-B335B7B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5BB5-128F-4757-900A-3650045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8E49-3C42-4638-B426-B544812FF4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9AB-DD59-4E18-85AF-B97F16452F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WordArt 4"/>
          <p:cNvGrpSpPr/>
          <p:nvPr/>
        </p:nvGrpSpPr>
        <p:grpSpPr>
          <a:xfrm>
            <a:off x="749160" y="1189080"/>
            <a:ext cx="8004240" cy="4621320"/>
            <a:chOff x="749160" y="1189080"/>
            <a:chExt cx="8004240" cy="4621320"/>
          </a:xfrm>
        </p:grpSpPr>
        <p:pic>
          <p:nvPicPr>
            <p:cNvPr id="101" name="WordArt 4" descr=""/>
            <p:cNvPicPr/>
            <p:nvPr/>
          </p:nvPicPr>
          <p:blipFill>
            <a:blip r:embed="rId2"/>
            <a:stretch/>
          </p:blipFill>
          <p:spPr>
            <a:xfrm>
              <a:off x="749160" y="1189080"/>
              <a:ext cx="800424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55640" y="1197000"/>
              <a:ext cx="799308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Impact"/>
                </a:rPr>
                <a:t>РАДИОАКТИВНОСТЬ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1"/>
          <p:cNvPicPr/>
          <p:nvPr/>
        </p:nvPicPr>
        <p:blipFill>
          <a:blip r:embed="rId2"/>
          <a:stretch/>
        </p:blipFill>
        <p:spPr>
          <a:xfrm>
            <a:off x="3708360" y="0"/>
            <a:ext cx="43988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 rot="5400000">
            <a:off x="-1584360" y="2960640"/>
            <a:ext cx="619128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пыт Резерфорд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2"/>
          <p:cNvSpPr txBox="1"/>
          <p:nvPr/>
        </p:nvSpPr>
        <p:spPr>
          <a:xfrm>
            <a:off x="1979640" y="476280"/>
            <a:ext cx="587700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ды радиоактивного излуч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 rot="10800000">
            <a:off x="2555640" y="2420640"/>
            <a:ext cx="3887640" cy="25192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21">
            <a:hlinkClick r:id="" action="ppaction://hlinkshowjump?jump=nextslide"/>
          </p:cNvPr>
          <p:cNvSpPr/>
          <p:nvPr/>
        </p:nvSpPr>
        <p:spPr>
          <a:xfrm>
            <a:off x="179280" y="2133720"/>
            <a:ext cx="2411640" cy="136656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2" action="ppaction://hlinksldjump"/>
              </a:rPr>
              <a:t>a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3" action="ppaction://hlinksldjump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4" action="ppaction://hlinksldjump"/>
              </a:rPr>
              <a:t>-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5" action="ppaction://hlinksldjump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6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6551640" y="2205000"/>
            <a:ext cx="259236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7" action="ppaction://hlinksldjump"/>
              </a:rPr>
              <a:t></a:t>
            </a:r>
            <a:r>
              <a:rPr b="0" lang="ru-RU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8" action="ppaction://hlinksldjump"/>
              </a:rPr>
              <a:t>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9" action="ppaction://hlinksldjump"/>
              </a:rPr>
              <a:t>-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0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24">
            <a:hlinkClick r:id="" action="ppaction://hlinkshowjump?jump=nextslide"/>
          </p:cNvPr>
          <p:cNvSpPr/>
          <p:nvPr/>
        </p:nvSpPr>
        <p:spPr>
          <a:xfrm>
            <a:off x="3132000" y="5084640"/>
            <a:ext cx="2411640" cy="136692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11" action="ppaction://hlinksldjump"/>
              </a:rPr>
              <a:t>b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12" action="ppaction://hlinksldjump"/>
              </a:rPr>
              <a:t>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3" action="ppaction://hlinksldjump"/>
              </a:rPr>
              <a:t>-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4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24000" y="620640"/>
            <a:ext cx="835344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2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3" action="ppaction://hlinksldjump"/>
              </a:rPr>
              <a:t>частица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4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– ядро атома гелия. </a:t>
            </a:r>
            <a:r>
              <a:rPr b="0" lang="ru-RU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3300"/>
                </a:solidFill>
                <a:latin typeface="Georgia"/>
              </a:rPr>
              <a:t>- 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лучи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обладают наименьшей проникающей способностью. Слой бумаги толщиной около 0,1 мм для них уже не прозрачен. Слабо отклоняются в магнитном пол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 </a:t>
            </a:r>
            <a:r>
              <a:rPr b="0" lang="ru-RU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- частицы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 каждый из двух элементарных зарядов приходится две атомные единицы массы. Резерфорд доказал, что при радиоактивном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- распаде образуется гелий.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611280" y="692280"/>
            <a:ext cx="806436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ffcc00"/>
                </a:solidFill>
                <a:uFillTx/>
                <a:latin typeface="Georgia"/>
                <a:hlinkClick r:id="rId1" action="ppaction://hlinksldjump"/>
              </a:rPr>
              <a:t>β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hlinkClick r:id="rId2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hlinkClick r:id="rId3" action="ppaction://hlinksldjump"/>
              </a:rPr>
              <a:t>частицы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hlinkClick r:id="rId4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редставляют собой электроны, движущиеся со скоростями, очень близкими к скорости света. Они сильно отклоняются как в магнитном, так и в электрическом поле. </a:t>
            </a:r>
            <a:r>
              <a:rPr b="0" lang="el-GR" sz="3000" spc="-1" strike="noStrike" u="sng">
                <a:solidFill>
                  <a:srgbClr val="ff3300"/>
                </a:solidFill>
                <a:uFillTx/>
                <a:latin typeface="Georgia"/>
              </a:rPr>
              <a:t>β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– лучи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ораздо меньше поглощаются при прохождении через вещество. Алюминиевая пластинка полностью их задерживает только при толщине в несколько миллиметров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395280" y="549360"/>
            <a:ext cx="84978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2" action="ppaction://hlinksldjump"/>
              </a:rPr>
              <a:t>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3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4" action="ppaction://hlinksldjump"/>
              </a:rPr>
              <a:t>лучи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5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редставляют собой электромагнитные волны. По своим свойствам очень сильно напоминают рентгеновские, но только их проникающая способность гораздо больше, чем у рентгеновских лучей. Не отклоняются магнитным полем. Обладают наибольшей проникающей способностью. Слой свинца толщиной в 1 см не является для них непреодолимой преградой. При прохождении </a:t>
            </a:r>
            <a:r>
              <a:rPr b="0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– лучей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через такой слой свинца их интенсивность убывает лишь вдвое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549360"/>
            <a:ext cx="84247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спуская </a:t>
            </a:r>
            <a:r>
              <a:rPr b="0" lang="el-GR" sz="2800" spc="-1" strike="noStrike">
                <a:solidFill>
                  <a:srgbClr val="ffffff"/>
                </a:solidFill>
                <a:latin typeface="Georgia"/>
              </a:rPr>
              <a:t>α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–  и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- излучение, атомы радиоактивного элемента изменяются, превращаясь в атомы нового элемен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этом смысле испускание радиоактивных излучений называют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радиоактивным распадом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авила, указывающие смещение элемента в периодической системе, вызванное распадом, называются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правилами смещения</a:t>
            </a:r>
            <a:r>
              <a:rPr b="0" i="1" lang="ru-RU" sz="2800" spc="-1" strike="noStrike">
                <a:solidFill>
                  <a:srgbClr val="ff9999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1979640" y="476280"/>
            <a:ext cx="587700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ды радиоактивного распад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AutoShape 3"/>
          <p:cNvSpPr/>
          <p:nvPr/>
        </p:nvSpPr>
        <p:spPr>
          <a:xfrm rot="10800000">
            <a:off x="2627280" y="2420640"/>
            <a:ext cx="3888000" cy="25192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0" y="2133720"/>
            <a:ext cx="2590920" cy="136656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1" action="ppaction://hlinksldjump"/>
              </a:rPr>
              <a:t>a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2" action="ppaction://hlinksldjump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3" action="ppaction://hlinksldjump"/>
              </a:rPr>
              <a:t>–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4" action="ppaction://hlinksldjump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551640" y="2205000"/>
            <a:ext cx="259236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5" action="ppaction://hlinksldjump"/>
              </a:rPr>
              <a:t></a:t>
            </a:r>
            <a:r>
              <a:rPr b="0" lang="ru-RU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7" action="ppaction://hlinksldjump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_AssuanTitulStrDst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6">
            <a:hlinkClick r:id="" action="ppaction://hlinkshowjump?jump=nextslide"/>
          </p:cNvPr>
          <p:cNvSpPr/>
          <p:nvPr/>
        </p:nvSpPr>
        <p:spPr>
          <a:xfrm>
            <a:off x="3276720" y="5084640"/>
            <a:ext cx="241128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_AssuanTitulStrDst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_AssuanTitulStrDst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24000" y="620640"/>
            <a:ext cx="83534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187a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2b187a"/>
                </a:solidFill>
                <a:latin typeface="Georgia"/>
              </a:rPr>
              <a:t>распадом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азывается самопроизвольный распад атомного ядра на </a:t>
            </a:r>
            <a:r>
              <a:rPr b="0" lang="en-US" sz="3000" spc="-1" strike="noStrike">
                <a:solidFill>
                  <a:srgbClr val="000514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514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частицу (ядро атома гелия         ) и ядро-продукт. Продукт </a:t>
            </a:r>
            <a:r>
              <a:rPr b="0" lang="en-US" sz="3000" spc="-1" strike="noStrike">
                <a:solidFill>
                  <a:srgbClr val="000514"/>
                </a:solidFill>
                <a:latin typeface="Georgia"/>
              </a:rPr>
              <a:t>a –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распада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оказывается смещенным на две клетки к началу периодической системы Менделеев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012000" y="1773360"/>
                <a:ext cx="792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627280" y="4437000"/>
                <a:ext cx="44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24000" y="476280"/>
            <a:ext cx="835344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2b187a"/>
                </a:solidFill>
                <a:latin typeface="Georgia"/>
              </a:rPr>
              <a:t>распадом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азывается самопроизвольное превращение атомного ядра путем испускания электрона. Ядро – продукт бета-распада оказывается ядром одного из изотопов элемента с порядковым номером в таблице Менделеева на единицу большим порядкового номера исходного ядра.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556000" y="5084640"/>
                <a:ext cx="3933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620640"/>
            <a:ext cx="83534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ffcc00"/>
                </a:solidFill>
                <a:latin typeface="Georgia"/>
              </a:rPr>
              <a:t>излучение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е сопровождается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изменением заряда; масса же ядра меняется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ичтожно мало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700360" y="4005360"/>
                <a:ext cx="3925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6516720" y="3716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514"/>
                </a:solidFill>
                <a:latin typeface="Symbol"/>
                <a:ea typeface="Symbol"/>
              </a:rPr>
              <a:t>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бек"/>
          <p:cNvPicPr/>
          <p:nvPr/>
        </p:nvPicPr>
        <p:blipFill>
          <a:blip r:embed="rId2"/>
          <a:stretch/>
        </p:blipFill>
        <p:spPr>
          <a:xfrm>
            <a:off x="395280" y="3141720"/>
            <a:ext cx="3309840" cy="3716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95280" y="260280"/>
            <a:ext cx="8209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ткрытие рентгеновских лучей  дало толчок новым исследованиям. Их изучение привело к новым открытиям, одним из которых явилось открытие </a:t>
            </a:r>
            <a:r>
              <a:rPr b="1" lang="ru-RU" sz="2000" spc="-1" strike="noStrike">
                <a:solidFill>
                  <a:srgbClr val="ffcc00"/>
                </a:solidFill>
                <a:latin typeface="Georgia"/>
              </a:rPr>
              <a:t>радиоактивности</a:t>
            </a:r>
            <a:r>
              <a:rPr b="0" lang="ru-RU" sz="2000" spc="-1" strike="noStrike">
                <a:solidFill>
                  <a:srgbClr val="ffcc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мерно с середины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стали появляться экспериментальные факты, которые ставили под сомнение представления о неделимости атомов. Результаты этих экспериментов наводили на мысль о том, что атомы имеют сложную структуру и что в их состав входят электрически заряженные частиц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030560" y="4076640"/>
            <a:ext cx="511344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иболее ярким свидетельством сложного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роения атома явилось открытие явления радиоактивности, сделанное французским физиком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Анри Беккерелем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в 1896 год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755640" y="476280"/>
            <a:ext cx="763272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диоактивный рас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360" y="2060640"/>
            <a:ext cx="828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Радиоактивный распад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– радиоактивное (самопроизвольное) превращение исходного (материнского) ядра в новые (дочерние) ядр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437000"/>
            <a:ext cx="828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Для каждого радиоактивного вещества существует определенный интервал времени, на протяжении которого активность убывает в два раз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611280" y="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 радиоактивного расп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759040" cy="367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708360" y="1197000"/>
            <a:ext cx="49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иод полураспада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– это время, в течение которого распадается половина наличного числа радиоактивных атом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11" descr="формулка"/>
          <p:cNvPicPr/>
          <p:nvPr/>
        </p:nvPicPr>
        <p:blipFill>
          <a:blip r:embed="rId2"/>
          <a:stretch/>
        </p:blipFill>
        <p:spPr>
          <a:xfrm>
            <a:off x="4572000" y="3573360"/>
            <a:ext cx="32670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3635280" y="4941720"/>
            <a:ext cx="55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ff3300"/>
                </a:solidFill>
                <a:latin typeface="Georgi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исло радиоактивных атомов в начальный момент врем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исло нераспавшихся атомов в любой момент врем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26920" y="1197000"/>
            <a:ext cx="763272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Уран, торий и некоторые другие элементы обладают свойством непрерывно и без каких-либо внешних воздействий (т.е. под влиянием внутренних причин) испускать невидимое излучение, которое подобно рентгеновскому излучению способно проникать сквозь непрозрачные экраны и оказывать фотографическое и ионизационное действи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Свойство самопроизвольного испускания подобного излучения получило название </a:t>
            </a:r>
            <a:r>
              <a:rPr b="1" i="1" lang="ru-RU" sz="2600" spc="-1" strike="noStrike">
                <a:solidFill>
                  <a:srgbClr val="2b187a"/>
                </a:solidFill>
                <a:latin typeface="Georgia"/>
              </a:rPr>
              <a:t>радиоактивности.</a:t>
            </a: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250920" y="40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9280" y="549360"/>
            <a:ext cx="878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диоактивность являлась привилегией самых тяжелых элементов периодической системы Д.И.Менделеева. Среди элементов, содержащихся в земной коре, радиоактивными являются все,  с порядковыми номерами более 83, т. е. расположенные в таблице Менделеева после висму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1187280" y="1125360"/>
            <a:ext cx="705672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 1898 году французские ученые Мария Склодовская-Кюри и Пьер Кюри выделили из уранового минерала два новых вещества, радиоактивных в гораздо более сильной степени, чем уран и торий. Так были открыты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ва неизвестных ранее радиоактивных элемента –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олоний и радий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755640" y="620640"/>
            <a:ext cx="7632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Ученые пришли к выводу, что радиоактивность представляет собой самопроизвольный процесс, происходящий в атомах радиоактивных элементов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 Теперь это явления определяют как самопроизвольное превращение неустойчивого изотопа одного химического элемента в изотоп другого элемента; при этом происходит испускание  электронов, протонов, нейтронов или ядер гелия  (</a:t>
            </a:r>
            <a:r>
              <a:rPr b="0" lang="el-GR" sz="2300" spc="-1" strike="noStrike">
                <a:solidFill>
                  <a:srgbClr val="ffffff"/>
                </a:solidFill>
                <a:latin typeface="Georgia"/>
              </a:rPr>
              <a:t>α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  <a:ea typeface="Tahoma"/>
              </a:rPr>
              <a:t>-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  <a:ea typeface="Tahoma"/>
              </a:rPr>
              <a:t>частиц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юри"/>
          <p:cNvPicPr/>
          <p:nvPr/>
        </p:nvPicPr>
        <p:blipFill>
          <a:blip r:embed="rId2"/>
          <a:stretch/>
        </p:blipFill>
        <p:spPr>
          <a:xfrm>
            <a:off x="5580000" y="1628640"/>
            <a:ext cx="3311640" cy="4513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470560" y="6308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Мария и Пьер Кюри в лаборатор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539640" y="476280"/>
            <a:ext cx="784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ПРУГИ  КЮР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0" y="1773360"/>
            <a:ext cx="5076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За 10 лет совместной работы они сделали очень многое для изучения явления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радио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то был беззаветный труд во имя науки – в плохо оборудованной лаборатории и  при отсутствии необходим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диплом"/>
          <p:cNvPicPr/>
          <p:nvPr/>
        </p:nvPicPr>
        <p:blipFill>
          <a:blip r:embed="rId2"/>
          <a:stretch/>
        </p:blipFill>
        <p:spPr>
          <a:xfrm>
            <a:off x="250920" y="1268280"/>
            <a:ext cx="3800520" cy="5143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79280" y="549360"/>
            <a:ext cx="47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иплом лауреатов Нобелевской премии, врученный Пьеру и Марии Кюр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716360" y="1700280"/>
            <a:ext cx="4105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1903 году за открытия в области радиоактивности супругам Кюри и А.Беккерелю была присуждена Нобелевская премия по физике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рез"/>
          <p:cNvPicPr/>
          <p:nvPr/>
        </p:nvPicPr>
        <p:blipFill>
          <a:blip r:embed="rId1"/>
          <a:stretch/>
        </p:blipFill>
        <p:spPr>
          <a:xfrm>
            <a:off x="395280" y="1628640"/>
            <a:ext cx="3716280" cy="5016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79280" y="1890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сле открытия радиоактивных элементов началось исследование физической природы их излучения. Кроме Беккереля и супругов Кюри, этим занялся Резерфор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93236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284720" y="1989000"/>
            <a:ext cx="4680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В 1898 г. Резерфорд приступил к изучению явления радиоактивности. Первым его фундаментальным открытием в этой области было обнаружение неоднородности излучения, испускаемого радие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9:17:10Z</dcterms:created>
  <dc:creator>Оля</dc:creator>
  <dc:description/>
  <dc:language>en-US</dc:language>
  <cp:lastModifiedBy>Ученик</cp:lastModifiedBy>
  <dcterms:modified xsi:type="dcterms:W3CDTF">2016-05-18T07:58:51Z</dcterms:modified>
  <cp:revision>16</cp:revision>
  <dc:subject/>
  <dc:title>Слайд 1</dc:title>
</cp:coreProperties>
</file>