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03D-CDE3-4693-BC82-A4250BE0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603-52EE-4F38-8C42-7D67C79A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1DC-9F6C-4779-A9AB-215FFD74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7280" y="160020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7280" y="3964320"/>
            <a:ext cx="353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29B-B406-4E0C-B4A4-095C6553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2E1-1170-4316-8833-2C3C9F9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D6F-90E0-4C7D-BF4A-171394AE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45B-DCB5-4013-A841-FE3031B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11E-B1BB-4436-A05D-FFC6A74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6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9B6-E8E4-4859-A0D8-05FB6595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3DF-90E1-45CF-A57C-0FDEAF8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0880" y="396432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5CB-2597-4107-A2CA-1DB6689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0880" y="1600200"/>
            <a:ext cx="5353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6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5EC-FDF6-42D6-99A2-96B4B20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412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6120" y="6356520"/>
            <a:ext cx="28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85AA6AA-940E-498A-848C-B398421616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74c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13.jpe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440" y="5373720"/>
            <a:ext cx="1149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069720" y="404640"/>
            <a:ext cx="8610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i="1" lang="ru-RU" sz="59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«Современные технологии воспитательной работы»</a:t>
            </a:r>
            <a:br>
              <a:rPr sz="40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D:\Documents and Settings\Евгения\Мои документы\Downloads\0_6d47a_4fa37641_XL.png"/>
          <p:cNvPicPr/>
          <p:nvPr/>
        </p:nvPicPr>
        <p:blipFill>
          <a:blip r:embed="rId1"/>
          <a:stretch/>
        </p:blipFill>
        <p:spPr>
          <a:xfrm>
            <a:off x="1198440" y="1125360"/>
            <a:ext cx="30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ехнология проект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268280"/>
            <a:ext cx="10969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Широко применяется в воспитательной работе </a:t>
            </a:r>
            <a:r>
              <a:rPr b="1" lang="ru-RU" sz="3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ехнология проектного обучения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при которой учащиеся самостоятельно и охотно приобретают знания из различных источников, учатся ими пользоваться, приобретают коммуникативные умения, развив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следовательские умения и системное мышл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едущая форма технологии проектн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гра, во время которой дети делятся на групп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оздают и защищают свой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D:\Documents and Settings\Евгения\Мои документы\Downloads\112kopia.gif"/>
          <p:cNvPicPr/>
          <p:nvPr/>
        </p:nvPicPr>
        <p:blipFill>
          <a:blip r:embed="rId1"/>
          <a:stretch/>
        </p:blipFill>
        <p:spPr>
          <a:xfrm>
            <a:off x="9766440" y="2708280"/>
            <a:ext cx="2089080" cy="359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о-ориентирова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000" y="1599840"/>
            <a:ext cx="1015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манно-личностные технологии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ются прежде всего своей гуманистической сущностью, психотерапевтической направленностью на поддержку личности, помощь ей. Они «исповедуют» идеи всестороннего уважения и любви к ребенку, оптимистическую веру в его творческие силы, отвергая принужде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сотрудничества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т демократизм, равенство, партнерство в субъект - субъектных отношениях педагога и ребенка. Учитель и учащиеся совместно вырабатывают цели, содержание, дают оценки, находясь в состоянии сотрудничества, сотворч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свободного воспитания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 акцент на предоставление ребенку свободы выбора и самостоятельности в большей или меньшей сфере его жизнедеятельности. Осуществляя выбор, ребенок наилучшим способом реализует позицию субъекта, идя к результату от внутреннего побуждения, а не от внешнего воз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D:\Documents and Settings\Евгения\Мои документы\Downloads\0_a4f05_acc2156c_XL.png"/>
          <p:cNvPicPr/>
          <p:nvPr/>
        </p:nvPicPr>
        <p:blipFill>
          <a:blip r:embed="rId1"/>
          <a:stretch/>
        </p:blipFill>
        <p:spPr>
          <a:xfrm>
            <a:off x="10271160" y="4005360"/>
            <a:ext cx="1630440" cy="257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хнология педагогического общ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–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технология воспитания, основанная на взаимодействии субъектов. Основные функции педагогического общения: оградить достоинство педагога, сохранить достоинство ребенка, корректировать поведение ребенка. Ведущим принципом технологии является принятие ребенка таким , каков он есть, а не таким, каким его хочет видеть воспита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0126800" y="1413000"/>
            <a:ext cx="1906560" cy="273672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хнология педагогического разрешения конфлик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технология конструктивного устранения противоречий в отношениях между субъектами. Критерий правильного разрешенного конфликта – обогащение внутреннего мира каждого 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участников конфликта. Способы разрешения конфликта; юмор, психолог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поглаживание,  компромисс, анализ ситуации, подавление  партнера, разрыв связ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D:\Documents and Settings\Евгения\Мои документы\Downloads\0_6d47a_4fa37641_XL.png"/>
          <p:cNvPicPr/>
          <p:nvPr/>
        </p:nvPicPr>
        <p:blipFill>
          <a:blip r:embed="rId1"/>
          <a:stretch/>
        </p:blipFill>
        <p:spPr>
          <a:xfrm>
            <a:off x="9839160" y="2997360"/>
            <a:ext cx="1943280" cy="348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Documents and Settings\Евгения\Мои документы\Downloads\0_6d47a_4fa37641_XL.png"/>
          <p:cNvPicPr/>
          <p:nvPr/>
        </p:nvPicPr>
        <p:blipFill>
          <a:blip r:embed="rId2"/>
          <a:stretch/>
        </p:blipFill>
        <p:spPr>
          <a:xfrm>
            <a:off x="9766440" y="2997360"/>
            <a:ext cx="194292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хнология предъявления педагогического требования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1600200"/>
            <a:ext cx="11246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технология воспитания, ведущим принципом которой является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Georgia"/>
              </a:rPr>
              <a:t>культуросообразность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форм предъявления требования, защищающих ребенка от прямого давления. Основные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Georgia"/>
              </a:rPr>
              <a:t>правила предъявления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педагогического требован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скрытая педагогическая позици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этикет в оформлении требовани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детализация выдвигаемых требований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акцентирование на положительной программе действий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положительное подкрепление требовани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Georgia"/>
              </a:rPr>
              <a:t>терпеливое ожидание результа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ar120726451094908.jpg"/>
          <p:cNvPicPr/>
          <p:nvPr/>
        </p:nvPicPr>
        <p:blipFill>
          <a:blip r:embed="rId7"/>
          <a:stretch/>
        </p:blipFill>
        <p:spPr>
          <a:xfrm>
            <a:off x="9960120" y="3716280"/>
            <a:ext cx="192852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педагогической оценки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дения и поступков дет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ехнология воспитания, в основе которой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качества личности ребенка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, ориентированная  н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ормы современной культуры. Педагогическая оц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аправлена на формирование социальных норм, установок, социальной позиции, мировоззрения. Педагогическая оценка поведения и поступков детей  является средством ориентации ребенка среди множества ценностей и антиценностей. Основные принципы педагогического оцениван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едопустимость сравнения ребенка с другим ребенком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изнание неприкосновенности и автономности личности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72540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0329840" y="189000"/>
            <a:ext cx="1525680" cy="25192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о-коммуникационная технология (ИКТ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06440" y="1600200"/>
            <a:ext cx="1117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Цель технологии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формирование ум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ботать с информацией, развитие коммуникативных способностей учащихся, подготовка личности «информированного общества», формирование исследовательских умений, умений принимать оптимальные решения. </a:t>
            </a:r>
            <a:br>
              <a:rPr sz="3000"/>
            </a:b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КТ называют интерактивными, так как они обладают способностью «откликаться» на действия ученика и учителя, «вступать» с ними в диалог. Их можно использовать на всех этапах процесса обучения, и воспитания.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://3.bp.blogspot.com/_PcL18ufT4EE/TNbESRuh0XI/AAAAAAAAAio/Y7H-Te9RP3k/s1600/librarian.jpg"/>
          <p:cNvPicPr/>
          <p:nvPr/>
        </p:nvPicPr>
        <p:blipFill>
          <a:blip r:embed="rId1"/>
          <a:stretch/>
        </p:blipFill>
        <p:spPr>
          <a:xfrm>
            <a:off x="9263160" y="189000"/>
            <a:ext cx="2641680" cy="2232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7440" y="76320"/>
            <a:ext cx="1015704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ование ИКТ в воспитательной практик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7440" y="620640"/>
            <a:ext cx="101570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100000"/>
              </a:lnSpc>
              <a:buSzPct val="102757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сбор информ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 данных по различным направлениям воспитательной работы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сследовательских способностей детей 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оздание проектов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школьных СМ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 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сихологическое тестирование, экспресс-диагностики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го сайт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7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грамот, дипломов и пр.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8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педсоветов на воспитательные тем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9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для родителей 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амятки, рекомендации, презентации для родительских собраний и пр.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0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для классных часов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ый музе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 школьни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карты здоровья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самовоспитания дете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конкурсы, викторин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buSzPct val="102757"/>
              <a:buBlip>
                <a:blip r:embed="rId1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опы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2381513.jpg"/>
          <p:cNvPicPr/>
          <p:nvPr/>
        </p:nvPicPr>
        <p:blipFill>
          <a:blip r:embed="rId17"/>
          <a:stretch/>
        </p:blipFill>
        <p:spPr>
          <a:xfrm>
            <a:off x="7072200" y="3573360"/>
            <a:ext cx="5116680" cy="307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7440" y="75960"/>
            <a:ext cx="1015704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Технология индивидуального </a:t>
            </a:r>
            <a:br>
              <a:rPr sz="3200"/>
            </a:b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рефлексивного самовоспит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125000"/>
            <a:ext cx="109699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Олег Сергеевич </a:t>
            </a:r>
            <a:r>
              <a:rPr b="1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Анисимов</a:t>
            </a:r>
            <a:r>
              <a:rPr b="0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, Николай Петрович </a:t>
            </a:r>
            <a:r>
              <a:rPr b="1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Капустин</a:t>
            </a:r>
            <a:r>
              <a:rPr b="0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Именно рефлексивное воспитание позволяет человеку выстраивать траекторию своей дальнейшей жизнедеятельности, реализовывать саморазвитие личности и побуждает нести ответственность за результаты своего тру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Индивидуализированное воспитание</a:t>
            </a:r>
            <a:r>
              <a:rPr b="1" lang="ru-RU" sz="2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</a:t>
            </a:r>
            <a:r>
              <a:rPr b="0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акая организация воспитательного процесса,      при которой индивидуальный подход, индивидуализация воспитания и индивидуальная модель взаимодействия учителя и ученика являются приоритетными.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видуализированное воспитание предполагает развитие или коррекцию индивидуального сознания через механизм саморегуляции. Основная задача применения рефлексивной технологии – обеспечение помощи воспитаннику, поддержки в трудной работе по самостроительств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703440">
              <a:lnSpc>
                <a:spcPct val="90000"/>
              </a:lnSpc>
              <a:spcBef>
                <a:spcPts val="1862"/>
              </a:spcBef>
              <a:buClr>
                <a:srgbClr val="17375e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office-pencil4.gif"/>
          <p:cNvPicPr/>
          <p:nvPr/>
        </p:nvPicPr>
        <p:blipFill>
          <a:blip r:embed="rId1"/>
          <a:stretch/>
        </p:blipFill>
        <p:spPr>
          <a:xfrm>
            <a:off x="10328400" y="2565360"/>
            <a:ext cx="1860480" cy="2306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и воспитания на основе системного подх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06080" y="1052280"/>
            <a:ext cx="1144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едущей идеей здесь является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риентация на личность школьника,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его интересы и способности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пределяющую роль в комплексе идей играет педагогическая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нцепция коллектива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Она опирается на идеи системности, комплексности воспитания, интеграции педагогических воздействий, необходимости коллективного творче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Целевые ориентац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Формирование личности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– главная цель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верхцель – всесторонне и гармонически развитая лич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звитие </a:t>
            </a:r>
            <a:r>
              <a:rPr b="0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социальной активности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ние ответственности, гражданского самосозн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звитие творческих способностей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евращение школы в большую воспитательную систе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ние целостной научно обоснованной карт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оздание доброжелательных отношений педагогического коллектива, учеников и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иобщение детей к общечеловеческим ценностям: Земля, Отечество, Семья, Труд,  Знания, Культура, Мир, Челов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Копия (2) 1219806294_shokola-7.jpg"/>
          <p:cNvPicPr/>
          <p:nvPr/>
        </p:nvPicPr>
        <p:blipFill>
          <a:blip r:embed="rId10"/>
          <a:stretch/>
        </p:blipFill>
        <p:spPr>
          <a:xfrm>
            <a:off x="9118440" y="2133720"/>
            <a:ext cx="244800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333000"/>
            <a:ext cx="10969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63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e1c11"/>
                </a:solidFill>
                <a:uFillTx/>
                <a:latin typeface="Georgia"/>
              </a:rPr>
              <a:t>Воспитательные технологии</a:t>
            </a:r>
            <a:r>
              <a:rPr b="0" lang="ru-RU" sz="3600" spc="-1" strike="noStrike" u="sng">
                <a:solidFill>
                  <a:srgbClr val="1e1c11"/>
                </a:solidFill>
                <a:uFillTx/>
                <a:latin typeface="Georgia"/>
              </a:rPr>
              <a:t> </a:t>
            </a: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– это одно из средств воспитания,  система научно обоснованных приемов и методик, способствующих установлению таких отношений между субъектами процесса, при которых в непосредственном контакте достигается поставленная цель – приобщение  воспитуемых к общечеловеческим  культур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400" indent="63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ценност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400" indent="630000">
              <a:lnSpc>
                <a:spcPct val="100000"/>
              </a:lnSpc>
              <a:spcBef>
                <a:spcPts val="901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Копия (2) 1280456799_m0lfbrccbvpjsry.jpeg"/>
          <p:cNvPicPr/>
          <p:nvPr/>
        </p:nvPicPr>
        <p:blipFill>
          <a:blip r:embed="rId1"/>
          <a:stretch/>
        </p:blipFill>
        <p:spPr>
          <a:xfrm>
            <a:off x="8470800" y="4149720"/>
            <a:ext cx="2664000" cy="2179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самосовершенствования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личности школь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341000"/>
            <a:ext cx="109699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новывается на широком использовании самоуправляющих (психогенных) механизмов развития личности. В содержание образования вводится методологическая компонента - учащиеся вооружаются знаниями и умениями саморазвития, включаются в адекватную деятельность. Технология саморазвития личности позволя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уществлять переход от воспитания к самовоспитанию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ть личность, стремящуюся к саморазвитию, самосовершенствованию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SzPct val="102890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ормировать устойчивую мотивацию к ученью как к жизненно важному процесс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0360">
              <a:lnSpc>
                <a:spcPct val="80000"/>
              </a:lnSpc>
              <a:spcBef>
                <a:spcPts val="1862"/>
              </a:spcBef>
              <a:buClr>
                <a:srgbClr val="10253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5"/>
          <a:stretch/>
        </p:blipFill>
        <p:spPr>
          <a:xfrm>
            <a:off x="10193400" y="4797360"/>
            <a:ext cx="1779480" cy="18399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5157360"/>
            <a:ext cx="11161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http://img-fotki.yandex.ru/get/4710/100405277.10/0_6c114_7063ee5d_XL"/>
          <p:cNvPicPr/>
          <p:nvPr/>
        </p:nvPicPr>
        <p:blipFill>
          <a:blip r:embed="rId1"/>
          <a:srcRect l="0" t="17806" r="0" b="17806"/>
          <a:stretch/>
        </p:blipFill>
        <p:spPr>
          <a:xfrm>
            <a:off x="2389320" y="612720"/>
            <a:ext cx="7313400" cy="41148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404640"/>
            <a:ext cx="101570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тельные технологии включают следующие системообразующие компоненты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7440" y="1413000"/>
            <a:ext cx="101570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Диагност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Целеполаг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Проект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Констру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Организационно – деятельностный компон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1c11"/>
                </a:solidFill>
                <a:latin typeface="Georgia"/>
              </a:rPr>
              <a:t>Контрольно – управленческий компон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75960"/>
            <a:ext cx="10157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держанием воспитательных технологий являютс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7440" y="1483920"/>
            <a:ext cx="10157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Научно обоснованные социализированные треб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Передача соци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Постановка цели и анализ сложившейся ситу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Социализированная оценка учен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Организация творческого д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Georgia"/>
              </a:rPr>
              <a:t>Создание ситуации успе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7"/>
          <a:stretch/>
        </p:blipFill>
        <p:spPr>
          <a:xfrm>
            <a:off x="10055160" y="765000"/>
            <a:ext cx="1917720" cy="22323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Georgia"/>
              </a:rPr>
              <a:t>Технологии 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17440" y="1052640"/>
            <a:ext cx="10157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Georgia"/>
              </a:rPr>
              <a:t>Традиционные               Соврем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62"/>
              </a:spcBef>
              <a:buClr>
                <a:srgbClr val="10253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D:\Documents and Settings\Евгения\Мои документы\Downloads\pishi-chitay.gif"/>
          <p:cNvPicPr/>
          <p:nvPr/>
        </p:nvPicPr>
        <p:blipFill>
          <a:blip r:embed="rId1"/>
          <a:stretch/>
        </p:blipFill>
        <p:spPr>
          <a:xfrm>
            <a:off x="8326440" y="1052640"/>
            <a:ext cx="2771640" cy="4922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6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600200"/>
            <a:ext cx="1096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организации и проведения группового воспитательного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ка сотрудни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 личностная технолог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ллективного творческого вос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гуманного коллективного вос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6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440" y="1125000"/>
            <a:ext cx="109569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сберегающая 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роектн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личностно- ориентированног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едагогического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едагогического разрешения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редъявления педагогического треб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педагогической оценки поведения и поступков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-коммуникативная 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индивидуального рефлексивного самовос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и воспитания на основе системного под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самосовершенствования личности 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2520" y="1700280"/>
            <a:ext cx="1068228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ОДГОТОВИТЕЛЬНЫЙ ЭТАП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ПРЕДВАРИТЕЛЬНОЕ ФОРМИРОВАНИЕ ОТНОШЕНИЯ К ДЕЛУ, ИНТЕРЕСА К НЕМУ, ПОДГОТОВКА НЕОБХОДИМЫХ МАТЕРИАЛОВ)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СИХОЛОГИЧЕСКИЙ НАСТРОЙ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(ПРИВЕТСТВИЕ, ВСТУПИТЕЛЬНОЕ СЛОВО)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СОДЕРЖАТЕЛЬНАЯ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ПРЕДМЕТНАЯ) ДЕЯТЕЛЬНОСТЬ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ЗАВЕРШЕНИЕ</a:t>
            </a: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РОЕКЦИЯ НА БУДУЩЕЕ</a:t>
            </a: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3360" y="259920"/>
            <a:ext cx="113061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100" spc="-1" strike="noStrike" u="sng">
                <a:solidFill>
                  <a:srgbClr val="10253f"/>
                </a:solidFill>
                <a:uFillTx/>
                <a:latin typeface="Georgia"/>
              </a:rPr>
              <a:t>Технологическую цепочку любого воспитательного дела можно представить следующим образом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699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2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ехнология здоровьесберегающа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17440" y="1052280"/>
            <a:ext cx="1015704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80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Цель технологии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сохранение физического и психического здоровья ребенка и обучение навыкам сохранения его. Специалисты предлагают несколько подходов к классификации </a:t>
            </a:r>
            <a:r>
              <a:rPr b="1" i="1" lang="ru-RU" sz="27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здоровьесберегающих технологий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Наиболее проработанной и используемой в образовательных учреждениях является классификация, предложенная </a:t>
            </a: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Н.К. Смирновым.</a:t>
            </a:r>
            <a:r>
              <a:rPr b="1" i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1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едико-гигиенические технологии (МГТ).</a:t>
            </a:r>
            <a:r>
              <a:rPr b="0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Физкультурно-оздоровительные технологии (ФО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Экологические здоровьесберегающие технологии (ЭЗ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80000"/>
              </a:lnSpc>
              <a:spcBef>
                <a:spcPts val="1862"/>
              </a:spcBef>
              <a:buSzPct val="102833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ехнологии обеспечения безопасности жизнедеятельности (ТОБЖ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D:\Documents and Settings\Евгения\Мои документы\Downloads\Копия 1280456799_m0lfbrccbvpjsry.jpeg"/>
          <p:cNvPicPr/>
          <p:nvPr/>
        </p:nvPicPr>
        <p:blipFill>
          <a:blip r:embed="rId5"/>
          <a:stretch/>
        </p:blipFill>
        <p:spPr>
          <a:xfrm>
            <a:off x="9839160" y="2492280"/>
            <a:ext cx="192420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5:12:26Z</dcterms:created>
  <dc:creator/>
  <dc:description/>
  <dc:language>en-US</dc:language>
  <cp:lastModifiedBy/>
  <dcterms:modified xsi:type="dcterms:W3CDTF">2022-02-16T11:04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09991</vt:lpwstr>
  </property>
</Properties>
</file>