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C65-D373-49A7-BD57-4ACA735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67B-0449-4E55-8E24-7E05A66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F4A-837C-46A6-AEB0-990349FD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8EF-95B9-42D3-9536-62030AB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EE4-1537-444A-BA25-A977FCFD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F6D-2115-4A13-B88C-0FCBE57F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6C1-FA3D-4D0D-8F53-262385B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3B6-2389-4778-869D-C7A2FEC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49E-0102-4212-9254-C049777E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1E7-28BE-4A6D-BF4E-AE53BD2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0E6-41BB-4F6B-8A74-F1941AB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025-A0D0-4C2D-90E6-33DC3A6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3D7-1952-4AA4-A1D5-8B7E000E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я</dc:creator>
  <dc:description/>
  <dc:language>en-US</dc:language>
  <cp:lastModifiedBy>Пользователь Windows</cp:lastModifiedBy>
  <dcterms:modified xsi:type="dcterms:W3CDTF">2022-02-17T15:33:06Z</dcterms:modified>
  <cp:revision>11</cp:revision>
  <dc:subject/>
  <dc:title>Слайд 1</dc:title>
</cp:coreProperties>
</file>