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8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07B86-C050-4B9D-8A21-2F2B4767BF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AD775-DE1E-4E77-87F3-C223263A1B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AF245-D7A3-49F2-8F98-AD50988BFB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67113-3D02-487E-9B30-C1266416DD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C3AC4-05CB-4EF4-B9B1-7EDC5E5E6D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283C5-8AED-4883-87A9-3E42580C06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387B-6D4D-4544-AD6C-F1936676CB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87AB2-3A8F-4813-83A3-BED87DD1A1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E61A9-3A07-4F33-8C46-21346C2A74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1FD83-C3E0-4FE6-A08C-B072743CBC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80BD0-AA9C-4F82-8ED1-33B7FF114A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91B55-DB32-4EE4-AE37-CA8C87D4EC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FC43-3D74-4C77-98ED-58FB3D3DD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263A-7A53-4251-8A85-C9CE8E8F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15CC-A802-409E-B319-97074DC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96E9-6EAB-4F8D-9651-D0F482C2C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920B8-5F7C-4106-96CC-26066971D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73FE4-5B11-4083-A0DC-65C84228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A99C5-B97D-4CC3-8277-F348D16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15D99-7B56-4FE2-8E73-1FD06CB0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F97F7-762E-47E7-BE32-CE289B36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BBAB4-580F-4C6A-8DDC-043D1D01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EA52-E3D2-4647-A493-EF28A9BD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8916-59AA-4F4D-B2A4-3356F518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2BE2B-1544-4061-AE7A-1358E8FD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E6A64-04B5-4614-9EDB-0BDA4AF1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17273-DEF5-4188-893A-A353BE6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0D80-3146-4E7C-BF6A-10D2205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7AF1-98DE-48C3-A528-FDA785B7A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BA6B-C29F-452F-B62A-1BF36EFA48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ED24-E7E8-442C-B42B-E37598A2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520-65D6-4115-8722-981EDB9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7AB-31ED-454F-9EA9-2F31CCB1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902-0BBE-4C3E-BFDB-4FD5FC9F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6B05-6EB9-4ED7-9FB2-09FE8CAF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C24-F1BA-4CA5-BE5B-2148B41E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791D-60E6-4157-9157-D0CDBAF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8C6E-8F48-47B0-86EF-7A5638FC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E65-153B-4D19-9DB8-3824FD2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1CD-0943-46F3-A04D-229EAB0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487-F8F4-463B-98DE-17CB02E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CF0-F77B-462D-AA76-49A2F99BF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000C4-E31A-414B-A2AD-8A40BF26BA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CF0FA-A7EB-40CC-8FE7-91938F4F41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EDD69-8406-4992-89FC-C42B80DA4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3DD3-B3DA-4828-84FB-A3F7243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2D302-8D61-4179-9787-0359743CE5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85C92-3ED7-4B53-A6EE-32E6E06F5B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2A300-AF30-470A-8DD3-283288195B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6B044-F3AB-4397-873E-1D1FCD53A5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8F389-95BA-4E55-8A0B-8B2021C83F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F4B26-B896-475C-AF71-BE66C499D4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BE763-1C43-4EDC-AABC-69D29A5007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F41F7-9150-4D45-8342-961FA07C10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1C672-F3AF-4F59-A576-3029187D4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66C7-7F07-4C4C-8B5D-650A4A08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04FB-E4C2-4972-B03A-C760F124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C86C-E4BD-4CD4-8387-9351C8B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C6DA-DA46-4B87-8EAB-9670D899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7D5D-AE9A-4ECE-A2AC-7F3E2F0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14C41C-EFA7-4F18-88BB-FFC972618A5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4033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57040" indent="-257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9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2B4075-CB7C-425B-8E99-6A0FCC2A412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9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E74595-7E5A-4EBF-9354-E5B18AB1558A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1000"/>
          </a:bodyPr>
          <a:p>
            <a:pPr marL="140400" indent="-14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4560" indent="-11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6836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5592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4348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4348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4348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D31B01-E8CF-425B-9F6D-29BCE377D8F4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6840" y="3071520"/>
            <a:ext cx="735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ование методов ТРИЗ технологии в процессе развития словаря детей среднего дошкольного возраста»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чева Гал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447480" y="0"/>
            <a:ext cx="83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«Детский сад № 83» г. Бийс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3840" y="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«Конверты»</a:t>
            </a:r>
            <a:br>
              <a:rPr sz="4400"/>
            </a:b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рефлексия для педаго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05120"/>
          <a:ext cx="4043520" cy="198432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понравилось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1905120"/>
          <a:ext cx="4043160" cy="1984320"/>
        </p:xfrm>
        <a:graphic>
          <a:graphicData uri="http://schemas.openxmlformats.org/drawingml/2006/table">
            <a:tbl>
              <a:tblPr/>
              <a:tblGrid>
                <a:gridCol w="404316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не понравилось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32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7200" y="4038480"/>
          <a:ext cx="4043520" cy="198432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 задумалась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4038480"/>
          <a:ext cx="4043160" cy="1984320"/>
        </p:xfrm>
        <a:graphic>
          <a:graphicData uri="http://schemas.openxmlformats.org/drawingml/2006/table">
            <a:tbl>
              <a:tblPr/>
              <a:tblGrid>
                <a:gridCol w="404316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следующий раз мне хотелось бы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03640" y="216000"/>
            <a:ext cx="43192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355680" y="1697040"/>
            <a:ext cx="835164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я узнал ...                   Было интере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трудно ...                         Я выполнял задания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нял, что …                        Теперь я могу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...            Я приобрел 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научился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смог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пробую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 удивил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я сегодня узнал, поможет мне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8000" y="-15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5520" y="2071800"/>
            <a:ext cx="82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357120" y="2714760"/>
            <a:ext cx="81439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ассоциации вызывает у вас словосочет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НАЯ РАБОТА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14200" y="585000"/>
            <a:ext cx="700092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мы в процессе работы над словарем развиваем реч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гда используем игровые при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творчество, творчест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гда ребенок сами придумывает новые слова, обогащая или активизируя слов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ак как, знакомя детей с новыми словами, мы даем новые 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380960" y="3714840"/>
            <a:ext cx="47390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800" spc="-1" strike="noStrike">
                <a:solidFill>
                  <a:srgbClr val="22228b"/>
                </a:solidFill>
                <a:latin typeface="Arial"/>
              </a:rPr>
              <a:t>ТРИЗ</a:t>
            </a:r>
            <a:endParaRPr b="0" lang="en-US" sz="1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54133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Цель ТРИ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68788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ления, его гибкости, подвиж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оисковой активности, стремление к новизн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речи и творческого вообра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оответствует поставленным задачам ФГОС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способностей и творческого потенциала каждого ребёнка п.4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728676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ка работы с серией картино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Эмпат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 формирования мыслительных операций, основанных на сужении поля поиск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развития классификационных умени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уги Лулл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рфологически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77920" y="1655640"/>
            <a:ext cx="706572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 algn="just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гра «Что, за ч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9" descr="889 (1).jpg"/>
          <p:cNvPicPr/>
          <p:nvPr/>
        </p:nvPicPr>
        <p:blipFill>
          <a:blip r:embed="rId2"/>
          <a:stretch/>
        </p:blipFill>
        <p:spPr>
          <a:xfrm>
            <a:off x="3786120" y="3000240"/>
            <a:ext cx="150516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1060.jpg"/>
          <p:cNvPicPr/>
          <p:nvPr/>
        </p:nvPicPr>
        <p:blipFill>
          <a:blip r:embed="rId3"/>
          <a:stretch/>
        </p:blipFill>
        <p:spPr>
          <a:xfrm>
            <a:off x="2071800" y="3000240"/>
            <a:ext cx="151596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1" descr="1239.jpg"/>
          <p:cNvPicPr/>
          <p:nvPr/>
        </p:nvPicPr>
        <p:blipFill>
          <a:blip r:embed="rId4"/>
          <a:stretch/>
        </p:blipFill>
        <p:spPr>
          <a:xfrm>
            <a:off x="214200" y="3000240"/>
            <a:ext cx="1571760" cy="2270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2" descr="1335.jpg"/>
          <p:cNvPicPr/>
          <p:nvPr/>
        </p:nvPicPr>
        <p:blipFill>
          <a:blip r:embed="rId5"/>
          <a:stretch/>
        </p:blipFill>
        <p:spPr>
          <a:xfrm>
            <a:off x="5429160" y="3000240"/>
            <a:ext cx="1500120" cy="22752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3" descr="7100.jpg"/>
          <p:cNvPicPr/>
          <p:nvPr/>
        </p:nvPicPr>
        <p:blipFill>
          <a:blip r:embed="rId6"/>
          <a:stretch/>
        </p:blipFill>
        <p:spPr>
          <a:xfrm>
            <a:off x="7215120" y="300024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4" descr="IMG_0497.JPG"/>
          <p:cNvPicPr/>
          <p:nvPr/>
        </p:nvPicPr>
        <p:blipFill>
          <a:blip r:embed="rId2"/>
          <a:stretch/>
        </p:blipFill>
        <p:spPr>
          <a:xfrm>
            <a:off x="357120" y="257184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5357880" y="2786040"/>
            <a:ext cx="350028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четырех летнего возраста предлагается серия из 4-5 картин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сюжет должен отражать реальный опыт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280" y="1873080"/>
            <a:ext cx="45720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«Дерево творче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окончании занятия дети прикрепляют на дереве листья, цветы, плоды: Плоды – дело прошло  полезно, плодотворно; Цветок – довольно неплохо; Листики – не совсем удовлетворён днё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«Ёлочка настроен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раздаются вырезанные из бумаги шары (ёлочные игрушки), на которых они рисуют своё настроение и прикрепляют на ёлоч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2920" y="2000160"/>
            <a:ext cx="43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indent="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«Цветик-многоцвет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ти выбирают для себя лепесток, цвет которого наиболее подходит к цвету настроения. Затем все лепестки собирают в общий цвет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«Сказочное дерево  (поляна)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ноцветные бабочки, цветки, птички прикрепляются на общем дереве (поляне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 договаривается с детьми  о значении цветов или размеров этих предме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«Архиватор 3, 2, 1»</a:t>
            </a:r>
            <a:br>
              <a:rPr sz="4400"/>
            </a:b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рефлексия для педаго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98400" y="2160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8400">
              <a:lnSpc>
                <a:spcPct val="90000"/>
              </a:lnSpc>
              <a:spcBef>
                <a:spcPts val="1774"/>
              </a:spcBef>
              <a:spcAft>
                <a:spcPts val="113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3 момента, понравившихся больше вс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1774"/>
              </a:spcBef>
              <a:spcAft>
                <a:spcPts val="113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2 момента, которые будете использовать в своей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1774"/>
              </a:spcBef>
              <a:spcAft>
                <a:spcPts val="113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1 момент, который побуждает (вызывает желание) задать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2-02-18T02:06:03Z</dcterms:modified>
  <cp:revision>5</cp:revision>
  <dc:subject/>
  <dc:title>«Использование методов ТРИЗ технологии в процессе развития словаря детей среднего дошкольного возраста»</dc:title>
</cp:coreProperties>
</file>