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8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7C88-C9A4-4449-B5C3-962F779554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A844-0A9B-4567-A6A1-EFD3F8EEDC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34C7E-1705-41DE-B02E-9A232F5F5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F8EF3-D594-4D7D-9DDD-A2C2B32401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52078-A250-42C8-A9AD-F30A2531C3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8A52-EAD1-41A3-87DC-8C88D16EDD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2C309-C3C1-4878-BAEC-5649891A33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69BD4-6D6D-4B4D-9A55-3CA4AE3E84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B66D2-F4DF-42FD-BA49-14B0278263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E1CCC-9381-4A19-9E53-A14BEBE9A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1CA68-DB18-45CC-9E56-4FA0E9681A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9790-432E-4AB9-B9A9-5D90A7796F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C704-9923-41B2-A39A-1BAE8E3F0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5CE5-0990-4B50-8AF9-17A9421A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20EC-62FC-4955-BD46-DB3EAD8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AAAB-BEDE-45A6-9417-918E8E3E8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F4B4-0FE2-49C2-9F89-F615E56F0E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0EF79-2186-4D87-90DD-2F050E63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23731-0E76-42DA-BA8A-90293165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50EF4-C7F9-46A4-9F06-9C738BA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8509A-F29A-4930-A502-287D9C73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D725-9960-4510-B8C0-04EC94A8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EB894-C61C-4B8F-AA68-F9054AC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25C8-1462-44D8-B22D-A926100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B5153-9CC4-4C89-B864-390049C3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AD3D0-9F29-491B-A974-38071BF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0EDD-3757-4ABC-8811-6460A4BE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DFBCF-5304-4CFA-8122-24DBE23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ED60B-D5E1-43FA-A8C2-C5B83F937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0D2-94B1-4D97-8AAF-CE078191F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0BA7-352C-4C0A-A3B0-885A2166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689-EA12-44F9-8FB2-D427284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897F-840F-40B9-915D-D15901C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89C1-C478-49AD-B088-EF92E82F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5946-F70E-4184-8D6A-5452F00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CE2-CE65-4485-8E4D-14B5837F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172-1CEE-4B13-B0A2-A3B18A0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4DD-8BD3-46FF-A46C-AE5556A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5BF-FD7C-488F-9D2D-3CD5595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7F6-5C03-47D8-B683-D365FC1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65C-53D6-4276-BE0B-26D85BBF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6A81-4B13-40D6-BB99-F6FF6AC44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D2490-E6C9-4C50-8561-5D3411A77B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80FC2-AC0D-4FD6-B857-26745036DC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99037-21B4-4645-BDB6-FF0FDAA9B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A5AA-44A4-4BCD-AC92-D2D52055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59D2A-1ED6-4374-A79A-FFB0555210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D070B-BFAE-4E9C-B98E-DEF9639F12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20ABD-D9D9-4434-B267-3F5BE6B700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31ACF-CCE7-4F0B-A4CA-F5F0468180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9A5FB-02C5-4CB6-A236-A078448F8D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697BA-AE50-4E7E-A3A7-09A455BF41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A933A-7530-4674-8477-EB20159C9B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757DE-92ED-44F4-BC77-7F5929A30E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2052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184560" y="190512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82052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184560" y="2937600"/>
            <a:ext cx="129852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45E35-D0A5-4171-B054-F21F807BB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C4A4-C1FA-4C8E-978E-7807F82C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91960"/>
            <a:ext cx="822492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96CC-1C68-4D89-A6B4-9194F021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2DC8-5EE0-4254-8603-06403168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3960" y="293760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8D72-8E50-425B-A680-7B91EFA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3960" y="1905120"/>
            <a:ext cx="196848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937600"/>
            <a:ext cx="4033800" cy="9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CE09-FCD5-494D-A4BB-18775AFD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DE405D-F802-4D35-AC39-880528735FE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4033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57040" indent="-257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848BCB-FDA1-4A89-81A6-BF3AA5892BA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9.12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681CF5-FC01-45F1-B8A1-F9C8524BA07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2249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4033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1000"/>
          </a:bodyPr>
          <a:p>
            <a:pPr marL="140400" indent="-14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4560" indent="-11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6836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5592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43480" indent="-93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B2A4D5-01B3-4C2B-AC5B-637D9E47143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6840" y="3071520"/>
            <a:ext cx="735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методов ТРИЗ технологии в процессе развития словаря детей среднего дошкольного возраста»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чева Гал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447480" y="0"/>
            <a:ext cx="83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Детский сад № 83» г. Бийс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3840" y="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Конверты»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рефлексия для педаго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05120"/>
          <a:ext cx="4043520" cy="198432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понравило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1905120"/>
          <a:ext cx="4043160" cy="1984320"/>
        </p:xfrm>
        <a:graphic>
          <a:graphicData uri="http://schemas.openxmlformats.org/drawingml/2006/table">
            <a:tbl>
              <a:tblPr/>
              <a:tblGrid>
                <a:gridCol w="404316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не не понравило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32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4038480"/>
          <a:ext cx="4043520" cy="198432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 задумалась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4038480"/>
          <a:ext cx="4043160" cy="1984320"/>
        </p:xfrm>
        <a:graphic>
          <a:graphicData uri="http://schemas.openxmlformats.org/drawingml/2006/table">
            <a:tbl>
              <a:tblPr/>
              <a:tblGrid>
                <a:gridCol w="4043160"/>
              </a:tblGrid>
              <a:tr h="1984320">
                <a:tc>
                  <a:txBody>
                    <a:bodyPr lIns="90000" rIns="90000" tIns="1479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следующий раз мне хотелось бы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03640" y="216000"/>
            <a:ext cx="43192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55680" y="1697040"/>
            <a:ext cx="83516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я узнал ...                   Было интере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трудно ...                         Я выполнял задания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нял, что …                        Теперь я могу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...            Я приобрел 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научился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смог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 попробую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 удивил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я сегодня узнал, поможет мне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8000" y="-15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5520" y="2071800"/>
            <a:ext cx="82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357120" y="2714760"/>
            <a:ext cx="81439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ассоциации вызывает у вас словосочет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НАЯ РАБОТА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14200" y="585000"/>
            <a:ext cx="700092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мы в процессе работы над словарем развиваем реч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гда используем игровые при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творчество, творчест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гда ребенок сами придумывает новые слова, обогащая или активизируя слов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ак как, знакомя детей с новыми словами, мы даем новые 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380960" y="3714840"/>
            <a:ext cx="47390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800" spc="-1" strike="noStrike">
                <a:solidFill>
                  <a:srgbClr val="22228b"/>
                </a:solidFill>
                <a:latin typeface="Arial"/>
              </a:rPr>
              <a:t>ТРИЗ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54133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Цель ТРИ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68788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, его гибкости, подвиж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оисковой активности, стремление к новизн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речи и творческого вооб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оответствует поставленным задачам ФГОС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способностей и творческого потенциала каждого ребёнка п.4…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728676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ка работы с серией картино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мпат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 формирования мыслительных операций, основанных на сужении поля поиск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развития классификационных умени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уги Лулл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рфологически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77920" y="1655640"/>
            <a:ext cx="706572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9840" indent="-339840" algn="just">
              <a:lnSpc>
                <a:spcPct val="100000"/>
              </a:lnSpc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гра «Что, за ч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9" descr="889 (1).jpg"/>
          <p:cNvPicPr/>
          <p:nvPr/>
        </p:nvPicPr>
        <p:blipFill>
          <a:blip r:embed="rId2"/>
          <a:stretch/>
        </p:blipFill>
        <p:spPr>
          <a:xfrm>
            <a:off x="3786120" y="3000240"/>
            <a:ext cx="150516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1060.jpg"/>
          <p:cNvPicPr/>
          <p:nvPr/>
        </p:nvPicPr>
        <p:blipFill>
          <a:blip r:embed="rId3"/>
          <a:stretch/>
        </p:blipFill>
        <p:spPr>
          <a:xfrm>
            <a:off x="2071800" y="3000240"/>
            <a:ext cx="151596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1" descr="1239.jpg"/>
          <p:cNvPicPr/>
          <p:nvPr/>
        </p:nvPicPr>
        <p:blipFill>
          <a:blip r:embed="rId4"/>
          <a:stretch/>
        </p:blipFill>
        <p:spPr>
          <a:xfrm>
            <a:off x="214200" y="3000240"/>
            <a:ext cx="1571760" cy="2270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2" descr="1335.jpg"/>
          <p:cNvPicPr/>
          <p:nvPr/>
        </p:nvPicPr>
        <p:blipFill>
          <a:blip r:embed="rId5"/>
          <a:stretch/>
        </p:blipFill>
        <p:spPr>
          <a:xfrm>
            <a:off x="5429160" y="3000240"/>
            <a:ext cx="1500120" cy="2275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3" descr="7100.jpg"/>
          <p:cNvPicPr/>
          <p:nvPr/>
        </p:nvPicPr>
        <p:blipFill>
          <a:blip r:embed="rId6"/>
          <a:stretch/>
        </p:blipFill>
        <p:spPr>
          <a:xfrm>
            <a:off x="7215120" y="300024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4" descr="IMG_0497.JPG"/>
          <p:cNvPicPr/>
          <p:nvPr/>
        </p:nvPicPr>
        <p:blipFill>
          <a:blip r:embed="rId2"/>
          <a:stretch/>
        </p:blipFill>
        <p:spPr>
          <a:xfrm>
            <a:off x="357120" y="257184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5357880" y="2786040"/>
            <a:ext cx="350028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четырех летнего возраста предлагается серия из 4-5 картин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сюжет должен отражать реальный опыт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280" y="1873080"/>
            <a:ext cx="45720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«Дерево творчест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окончании занятия дети прикрепляют на дереве листья, цветы, плоды: Плоды – дело прошло  полезно, плодотворно; Цветок – довольно неплохо; Листики – не совсем удовлетворён днё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alibri"/>
              </a:rPr>
              <a:t>«Ёлочка настроен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раздаются вырезанные из бумаги шары (ёлочные игрушки), на которых они рисуют своё настроение и прикрепляют на ёлоч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2920" y="2000160"/>
            <a:ext cx="43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«Цветик-многоцвет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ти выбирают для себя лепесток, цвет которого наиболее подходит к цвету настроения. Затем все лепестки собирают в общий цвет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«Сказочное дерево  (поляна)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ноцветные бабочки, цветки, птички прикрепляются на общем дереве (полян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 договаривается с детьми  о значении цветов или размеров этих предме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Архиватор 3, 2, 1»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(</a:t>
            </a: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рефлексия для педаго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698400" y="2160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3 момента, понравившихся больше вс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2 момента, которые будете использовать в своей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774"/>
              </a:spcBef>
              <a:spcAft>
                <a:spcPts val="113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1 момент, который побуждает (вызывает желание) задать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22-02-18T02:06:03Z</dcterms:modified>
  <cp:revision>5</cp:revision>
  <dc:subject/>
  <dc:title>«Использование методов ТРИЗ технологии в процессе развития словаря детей среднего дошкольного возраста»</dc:title>
</cp:coreProperties>
</file>