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9348-DEF6-43E3-A503-5ED3557B6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1761-93F6-4950-AF6A-E52BEE2F5B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D9F-76B3-4B67-B138-C9E2F3614B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92BA-C6AF-4C0E-8B1F-FA4E1D63D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092-8994-487F-AE92-77B048FF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067-A299-4ADB-9090-B697610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066-31F9-4993-909D-FAD20DA3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CE9-9F49-40D8-B926-4CC1B792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6F5F-E855-473F-A619-8EA1B95D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4812-93C3-440D-BE44-946582B6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DBE-1D4E-4FF1-8ECE-0C11FB3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49AE-4ADE-4632-BE4D-251BFFC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10C-67C7-40F6-89C1-AFEF41DB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0451-E00E-429D-9C13-0079D41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94E7-4418-4547-A34E-7C83D67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A84-531C-45E5-9CCE-A54002A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C727-D7CB-4650-8F69-8B45055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DDD6-62B0-427D-9C8E-A27888F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6DFA-8366-458F-99DF-4ECF0C78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DBD-134D-4CB4-8EFD-B31CADCA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888-266E-4106-9B11-419AC34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6FF-A4C6-4449-B98A-A203FD2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BA7-41C8-43D0-AB1B-885F84C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E15-5760-427D-9D6F-94BE867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858-54E2-49C9-BC47-7E700908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64A-1938-441F-ACDE-75A83CB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A88-69C8-4A07-9947-0654C7A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48A-8A36-4942-8579-2E822FD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D90-360D-481F-9F03-9AA3C296B1D4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2F0-E11B-4BEC-BEA4-251E8584B172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520" y="-1072080"/>
            <a:ext cx="7643880" cy="721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5158d"/>
                </a:solidFill>
                <a:latin typeface="Palatino Linotype"/>
              </a:rPr>
              <a:t>Колокольный  звон</a:t>
            </a:r>
            <a:br>
              <a:rPr sz="6000"/>
            </a:br>
            <a:r>
              <a:rPr b="1" i="1" lang="ru-RU" sz="6000" spc="-1" strike="noStrike">
                <a:solidFill>
                  <a:srgbClr val="15158d"/>
                </a:solidFill>
                <a:latin typeface="Palatino Linotype"/>
              </a:rPr>
              <a:t> России</a:t>
            </a:r>
            <a:endParaRPr b="0" lang="en-US" sz="6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760" y="4357800"/>
            <a:ext cx="56433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e3e5c"/>
                </a:solidFill>
                <a:latin typeface="Palatino Linotype"/>
              </a:rPr>
              <a:t>                    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e3e5c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Подготовила преподаватель физики   «РЖПТ им. А.П.Байкузова»  Силантьева Т.П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240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            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2022г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transition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37861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Palatino Linotype"/>
              </a:rPr>
              <a:t>ЦАРЬ-КОЛОКОЛ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286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Он уникален по размерам: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вес Царь-колокола около 200 тонн,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высота 6,14 м,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диаметр 6,6 м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Благородный "Царь- колокол" установлен на Ивановской площади Московского Кремля рядом с колокольней Ивана Великого. Его родословная начинается на рубеже XVI и XVII веков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5" name="Picture 45" descr="449px-%D0%A6%D0%B0%D1%80%D1%8C-%D0%BA%D0%BE%D0%BB%D0%BE%D0%BA%D0%BE%D0%BB"/>
          <p:cNvPicPr/>
          <p:nvPr/>
        </p:nvPicPr>
        <p:blipFill>
          <a:blip r:embed="rId1"/>
          <a:stretch/>
        </p:blipFill>
        <p:spPr>
          <a:xfrm>
            <a:off x="3857760" y="571680"/>
            <a:ext cx="4643280" cy="56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8708"/>
          <p:cNvPicPr/>
          <p:nvPr/>
        </p:nvPicPr>
        <p:blipFill>
          <a:blip r:embed="rId1"/>
          <a:stretch/>
        </p:blipFill>
        <p:spPr>
          <a:xfrm>
            <a:off x="1079640" y="809640"/>
            <a:ext cx="6984720" cy="52401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00090"/>
          <p:cNvPicPr/>
          <p:nvPr/>
        </p:nvPicPr>
        <p:blipFill>
          <a:blip r:embed="rId1"/>
          <a:stretch/>
        </p:blipFill>
        <p:spPr>
          <a:xfrm>
            <a:off x="857160" y="785880"/>
            <a:ext cx="7643880" cy="5503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n01050"/>
          <p:cNvPicPr/>
          <p:nvPr/>
        </p:nvPicPr>
        <p:blipFill>
          <a:blip r:embed="rId1"/>
          <a:stretch/>
        </p:blipFill>
        <p:spPr>
          <a:xfrm>
            <a:off x="10429920" y="714240"/>
            <a:ext cx="214200" cy="550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14200" y="2499840"/>
            <a:ext cx="28576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Palatino Linotype"/>
              </a:rPr>
              <a:t>          </a:t>
            </a: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Софийский собор в Новгороде построен  в1045-1050 г. при князе Владимире Ярославиче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           </a:t>
            </a:r>
            <a:r>
              <a:rPr b="1" lang="ru-RU" sz="1800" spc="-1" strike="noStrike">
                <a:solidFill>
                  <a:srgbClr val="161616"/>
                </a:solidFill>
                <a:latin typeface="Palatino Linotype"/>
              </a:rPr>
              <a:t>Собор является древнейшим сооружением города .Архитектура его строга и проста. Строили его в основном из камня  по образцу  Софийского собора в Киеве.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00040" y="428760"/>
            <a:ext cx="264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Софийский собор     Вели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Новг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158d"/>
                </a:solidFill>
                <a:latin typeface="Arial"/>
              </a:rPr>
              <a:t>Звонн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Ð¡Ð¾ÑÐ¸Ð¹ÑÐºÐ°Ñ Ð·Ð²Ð¾Ð½Ð½Ð¸ÑÐ° Ð¿ÐµÑÐµÐ¶Ð¸Ð»Ð° ÑÐ²ÐµÐ»Ð¸ÑÐµÐ½Ð¸Ðµ Ð²ÑÑÐ¾ÑÑ Ð¸ ÑÐ¸ÑÐ»Ð° Ð°ÑÐ¾Ðº, Ð¿Ð¾Ð»ÑÑÐ¸Ð»Ð° Ð½Ð¾Ð²ÑÑ ÐºÑÑÑÑ Ð¸ ÑÐ°ÐºÐ¾Ð¹ Ð¿ÑÐµÐ´ÑÑÐ°ÐµÑ ÑÐ¾Ð²ÑÐµÐ¼ÐµÐ½Ð½ÑÐ¼ Ð¿Ð¾ÑÐµÑÐ¸ÑÐµÐ»ÑÐ¼."/>
          <p:cNvPicPr/>
          <p:nvPr/>
        </p:nvPicPr>
        <p:blipFill>
          <a:blip r:embed="rId2"/>
          <a:stretch/>
        </p:blipFill>
        <p:spPr>
          <a:xfrm>
            <a:off x="3286080" y="-285840"/>
            <a:ext cx="5857920" cy="7620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715000" y="785880"/>
            <a:ext cx="266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   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Из истории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1622 год </a:t>
            </a:r>
            <a:r>
              <a:rPr b="1" lang="ru-RU" sz="2000" spc="-1" strike="noStrike">
                <a:solidFill>
                  <a:srgbClr val="161616"/>
                </a:solidFill>
                <a:latin typeface="Palatino Linotype"/>
              </a:rPr>
              <a:t>Андрей Чохов     отлил знаменитый "Реут"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Palatino Linotype"/>
              </a:rPr>
              <a:t>("Реутом" в старину называли самый большой колокол на колокольне.) Это один из самых красивых колоколов Кремля, где благородство формы подчеркнуто продуманным декором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3" name="Picture 9" descr="реут"/>
          <p:cNvPicPr/>
          <p:nvPr/>
        </p:nvPicPr>
        <p:blipFill>
          <a:blip r:embed="rId1"/>
          <a:stretch/>
        </p:blipFill>
        <p:spPr>
          <a:xfrm>
            <a:off x="785880" y="785880"/>
            <a:ext cx="4670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41760" y="1828440"/>
            <a:ext cx="266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9480" y="1828440"/>
            <a:ext cx="2666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7" name="Picture 9" descr="12872_1234964433_full"/>
          <p:cNvPicPr/>
          <p:nvPr/>
        </p:nvPicPr>
        <p:blipFill>
          <a:blip r:embed="rId1"/>
          <a:stretch/>
        </p:blipFill>
        <p:spPr>
          <a:xfrm>
            <a:off x="714240" y="642960"/>
            <a:ext cx="7952040" cy="58579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28400" y="642600"/>
            <a:ext cx="8011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В тот миг душ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болезная светла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Когда над Русью празднично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и нежно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Благую весть поют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колокола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ЛюбоваЛюбовь поют                               Любовь поют и веру,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и надежду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С.Володин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8d"/>
                </a:solidFill>
                <a:latin typeface="Palatino Linotype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2" name="Picture 4" descr="Kolokola127680"/>
          <p:cNvPicPr/>
          <p:nvPr/>
        </p:nvPicPr>
        <p:blipFill>
          <a:blip r:embed="rId1"/>
          <a:stretch/>
        </p:blipFill>
        <p:spPr>
          <a:xfrm>
            <a:off x="642960" y="2155680"/>
            <a:ext cx="4286160" cy="391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8708"/>
          <p:cNvPicPr/>
          <p:nvPr/>
        </p:nvPicPr>
        <p:blipFill>
          <a:blip r:embed="rId2"/>
          <a:stretch/>
        </p:blipFill>
        <p:spPr>
          <a:xfrm>
            <a:off x="4929120" y="571680"/>
            <a:ext cx="3786120" cy="35715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1400" y="762120"/>
            <a:ext cx="5484600" cy="49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71720" y="713880"/>
            <a:ext cx="7000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Колокола Мордовии.  с.Шишкеево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7" name="Picture 2" descr="F:\колокола рузаевки-шишкеево.jpg"/>
          <p:cNvPicPr/>
          <p:nvPr/>
        </p:nvPicPr>
        <p:blipFill>
          <a:blip r:embed="rId1"/>
          <a:stretch/>
        </p:blipFill>
        <p:spPr>
          <a:xfrm>
            <a:off x="928800" y="1357200"/>
            <a:ext cx="7500960" cy="4929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586800" y="-31320"/>
            <a:ext cx="79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фоне Ф.Шопен «Осенний вальс» или «Неизвестная музыка» для презентации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85520" y="713880"/>
            <a:ext cx="7512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Звонница Церкви Рождества  Пресвятой Богородицы г.Рузаевка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0" name="Picture 2" descr="F:\25943_20171016_181753.jpg"/>
          <p:cNvPicPr/>
          <p:nvPr/>
        </p:nvPicPr>
        <p:blipFill>
          <a:blip r:embed="rId1"/>
          <a:stretch/>
        </p:blipFill>
        <p:spPr>
          <a:xfrm>
            <a:off x="928800" y="1643040"/>
            <a:ext cx="4429080" cy="450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62_big.jpg"/>
          <p:cNvPicPr/>
          <p:nvPr/>
        </p:nvPicPr>
        <p:blipFill>
          <a:blip r:embed="rId2"/>
          <a:stretch/>
        </p:blipFill>
        <p:spPr>
          <a:xfrm>
            <a:off x="5643720" y="1643040"/>
            <a:ext cx="278604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13880" y="57132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Звонница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15158d"/>
                </a:solidFill>
                <a:latin typeface="Palatino Linotype"/>
              </a:rPr>
              <a:t>Церкви Николая Чудотворца           г.Рузаевка, п.Химмаш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3" name="Picture 2" descr="F:\687_0149245b.jpg"/>
          <p:cNvPicPr/>
          <p:nvPr/>
        </p:nvPicPr>
        <p:blipFill>
          <a:blip r:embed="rId1"/>
          <a:stretch/>
        </p:blipFill>
        <p:spPr>
          <a:xfrm>
            <a:off x="1000080" y="6929280"/>
            <a:ext cx="7440480" cy="4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17.jpg"/>
          <p:cNvPicPr/>
          <p:nvPr/>
        </p:nvPicPr>
        <p:blipFill>
          <a:blip r:embed="rId2"/>
          <a:stretch/>
        </p:blipFill>
        <p:spPr>
          <a:xfrm>
            <a:off x="1071720" y="7358040"/>
            <a:ext cx="7286400" cy="21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:\687_0149863b.jpg"/>
          <p:cNvPicPr/>
          <p:nvPr/>
        </p:nvPicPr>
        <p:blipFill>
          <a:blip r:embed="rId3"/>
          <a:stretch/>
        </p:blipFill>
        <p:spPr>
          <a:xfrm>
            <a:off x="785880" y="1714680"/>
            <a:ext cx="5000400" cy="492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687_0149264b.jpg"/>
          <p:cNvPicPr/>
          <p:nvPr/>
        </p:nvPicPr>
        <p:blipFill>
          <a:blip r:embed="rId4"/>
          <a:stretch/>
        </p:blipFill>
        <p:spPr>
          <a:xfrm>
            <a:off x="5715000" y="1000080"/>
            <a:ext cx="3000240" cy="492912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28440" y="428760"/>
            <a:ext cx="7297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Звонница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</a:t>
            </a:r>
            <a:r>
              <a:rPr b="1" lang="ru-RU" sz="2800" spc="-1" strike="noStrike">
                <a:solidFill>
                  <a:srgbClr val="15158d"/>
                </a:solidFill>
                <a:latin typeface="Palatino Linotype"/>
              </a:rPr>
              <a:t>Свято-Троицкого собора.   г.Рузаевка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8" name="Picture 2" descr="F:\troickij-sobor-ruzaevka-e1537515820869.jpg"/>
          <p:cNvPicPr/>
          <p:nvPr/>
        </p:nvPicPr>
        <p:blipFill>
          <a:blip r:embed="rId1"/>
          <a:stretch/>
        </p:blipFill>
        <p:spPr>
          <a:xfrm>
            <a:off x="642960" y="1357200"/>
            <a:ext cx="7929720" cy="51436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1400" y="762120"/>
            <a:ext cx="548460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ÐÐ´ÐµÐ½Ð¾ÑÐ¾ÑÐ°"/>
          <p:cNvPicPr/>
          <p:nvPr/>
        </p:nvPicPr>
        <p:blipFill>
          <a:blip r:embed="rId2"/>
          <a:stretch/>
        </p:blipFill>
        <p:spPr>
          <a:xfrm>
            <a:off x="571680" y="428760"/>
            <a:ext cx="7858080" cy="609588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28800" y="571320"/>
            <a:ext cx="7572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5158d"/>
                </a:solidFill>
                <a:latin typeface="Palatino Linotype"/>
              </a:rPr>
              <a:t>                    </a:t>
            </a:r>
            <a:r>
              <a:rPr b="1" i="1" lang="ru-RU" sz="3200" spc="-1" strike="noStrike">
                <a:solidFill>
                  <a:srgbClr val="15158d"/>
                </a:solidFill>
                <a:latin typeface="Palatino Linotype"/>
              </a:rPr>
              <a:t>Устройство  колокола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      </a:t>
            </a: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Колокол- </a:t>
            </a:r>
            <a:r>
              <a:rPr b="0" i="1" lang="ru-RU" sz="2000" spc="-1" strike="noStrike">
                <a:solidFill>
                  <a:srgbClr val="3e3e5c"/>
                </a:solidFill>
                <a:latin typeface="Palatino Linotype"/>
              </a:rPr>
              <a:t>это</a:t>
            </a: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 вылитый из меди толстостенный колпак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                   </a:t>
            </a:r>
            <a:r>
              <a:rPr b="1" lang="ru-RU" sz="1800" spc="-1" strike="noStrike">
                <a:solidFill>
                  <a:srgbClr val="3e3e5c"/>
                </a:solidFill>
                <a:latin typeface="Palatino Linotype"/>
              </a:rPr>
              <a:t>Любой колокол состоит из основных частей: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Хомут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Корон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Голов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Поясок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Талия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Звуковое кольцо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Губа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Устье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Язык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447840" indent="-447840">
              <a:spcBef>
                <a:spcPts val="499"/>
              </a:spcBef>
              <a:buClr>
                <a:srgbClr val="3e3e5c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Palatino Linotype"/>
              </a:rPr>
              <a:t>Заплечики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2" name="Picture 2" descr="C:\Documents and Settings\Admin\Рабочий стол\картинки\Parts_of_a_Bell.jpg"/>
          <p:cNvPicPr/>
          <p:nvPr/>
        </p:nvPicPr>
        <p:blipFill>
          <a:blip r:embed="rId1"/>
          <a:stretch/>
        </p:blipFill>
        <p:spPr>
          <a:xfrm>
            <a:off x="3643200" y="1928880"/>
            <a:ext cx="48578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9:38:40Z</dcterms:created>
  <dc:creator>Customer</dc:creator>
  <dc:description/>
  <cp:keywords/>
  <dc:language>en-US</dc:language>
  <cp:lastModifiedBy>Admin</cp:lastModifiedBy>
  <dcterms:modified xsi:type="dcterms:W3CDTF">2022-02-18T14:38:38Z</dcterms:modified>
  <cp:revision>214</cp:revision>
  <dc:subject/>
  <dc:title>Глас Божий – колокольный зво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