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4D9-CD8F-4548-8FBB-FDA424AB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B5B-7541-43A3-9E50-20B1B83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7F40-BB95-4279-9BCF-43FA72B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48274-57BD-4ECF-ACBE-42749B0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3730-3119-4592-977D-A7A70722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947EF-EE1E-4087-8986-6F48AA4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69AEE-6273-42E9-8165-0303863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51C50-1A1B-4DE8-AB99-43787C4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B54F-298B-42EC-B84C-347E581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3A25-67C3-45B2-BA03-940ECE7A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3A64C-AE1D-4188-A260-B3B21533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476E5-BEA6-44D3-8B21-08F62D8A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4CC-3D54-432B-910E-4F2FF463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175A8-CA56-457A-BFF5-E2D380B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6F4ED-A981-4029-ABC7-2082746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A57B2-3025-4869-87E5-BB8D9AC6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8537A-D1E9-41D7-9A03-9BD07583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B511E-8B25-46AC-8DE3-930172D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DAE0E-853F-4B03-8563-FB4224E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FDDF-2B81-4BA4-8727-166F2F5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4B6C-F8E1-4B65-B684-DE753EA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22A6-F47B-4607-B2D9-7A31797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923DB-1B6A-4199-9BA7-A0A109FF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9D-BC05-422B-8BFA-5AF4EEE7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380F-C6E9-4C1E-9C27-02C7AC18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B3B1-038F-4137-9C6C-0777E1DE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248D8-DE4A-4651-9A04-154EFEF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E2DF-38D2-46C9-9D3E-59D2C5C1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AD4E-34ED-4EA8-986C-D6EC0D07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4912-88ED-43CB-BF18-724F38AF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C645-36C1-4EF3-AB07-A8C6384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7DA75-4B84-427D-92E0-B126F56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5DE4-D5F3-4F6C-A31A-8B55993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59555-EF3E-4A35-8D2E-6DBF340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6ECC-9DB7-4D72-9F4A-F96BA5DE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FF0F8-10E9-46BC-BEAF-629AAD43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C3213-2210-4591-BEC7-FF0A2322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87CEC-C466-4B5A-8938-32664680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4D2E3-D37A-446B-9822-31345C78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901FE-153F-4B4D-A8E9-E6E9308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585A6-004D-495E-8ECD-01AB9ED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AB2FE-7CAE-4142-95C9-8F6845BF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13D8B-C430-4052-B103-4F004849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B6AD6-5097-4EF3-A07C-13C28C95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F0190-AB3E-4A08-BB45-01BC59E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8F7-AF80-46EB-A81C-12DDF9E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6D7CD-EC8B-471A-A081-88D0636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1F90E-D4EB-43E6-B68A-0E045E0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E46CE-98FB-4AAD-9BD0-4E027485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67D9F-781D-41C2-9245-627B5230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D7406-70A4-427C-8626-232CE692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F842-5E7E-4ADB-ABA4-DD7E11A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B99-7D96-410A-822C-D1DC3C5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5F12-807A-42EB-89FF-5FE55AC2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B21-87FD-4AB3-890F-435725C1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1720-E6FD-417D-B9DB-1887061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45F-D266-4E07-994E-DF8B0F2C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B96-FC5C-44BC-A1FD-D91A7E2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A1B7-F0E7-4C20-BB36-88A340D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BE39-E214-4420-94E0-2D9EC005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9511-770B-458C-AAD5-695406BC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E150-C40D-4301-BD9A-A03E077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8A1D-00CA-489D-92F3-0F563B74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4A4E-F220-48E0-BD17-96E0290A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03C6-7B7A-4FCC-BAFC-62212DC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8CEA-34DF-4DD7-8422-D645969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2C66-F4B7-4EAD-940A-43B9EE4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2C3-DE25-4511-99B0-8F7B267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F2A3-3004-4A2C-9C7E-BAD5449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B248-BE68-4BC6-BAE3-929C161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D085-884C-4B7F-BA01-997EDB7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C941-E288-415E-BFFB-18AC7D4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1B26-5D65-462D-B137-0FBBB881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49FD-8F94-4D83-89D1-F1DFC28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4917-AACB-405C-B140-8CCCA4DE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3F33-8507-44EB-A8EA-35DA1D69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F4F2-7591-463C-972B-E0F5007C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D214-4DA0-453C-9BA2-C9490F2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AAB-A8AA-4EEC-925A-ABCB26C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506A-67BF-4A41-9D5B-52E8755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53F7-2441-402D-998C-A14554FB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B2F2-4996-4766-820F-656B059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5891-8506-4249-963E-C6F090C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EE24-10B6-43E6-BE8C-F25B824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38B1-39C5-4E47-A43C-16C1C45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270B-1ED6-4160-8D52-17917FE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E703-AA6C-4159-9197-D5D8BA1B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02FD-9B5A-4071-B055-D98EA6A7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327D6-9A8C-4AD4-BD7C-99CA3F33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5CA-E57F-4335-A0C5-48FEB1A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5C9A-6A88-4A64-97DB-8B84B4C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7C62-3FD0-4A7E-8427-E56C5FC4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F5734-130D-4225-B2D8-97FE7EE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3E536-0413-40A8-8DBC-4ADFE0A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3B3E-7815-4182-B543-130F3C9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5F7F-6614-4EF0-B7C6-2B8B039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E8D8-AF07-4022-B35B-EAB8E60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AF65-5ABC-43C3-8A78-078CFCB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A295F-C620-4E23-BF6B-A1458F6B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11C42-C9CD-495F-88C2-2DF9850C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AE0-59EC-4ABF-A6F9-7086A92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FC65-4F7F-468E-A551-4F167F2F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7AB8-6549-44FF-910F-D9362AFE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E56A-AB50-4990-86D1-771FCCD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4708-3907-4B23-B24D-0694F9A5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C8E0-8CAE-49DD-A79E-618FC432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C975-9EF5-4958-9B72-250AE775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A856-2F3D-4219-9079-579A21A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930A9-D037-40AD-8C69-15E87B5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252B-0EDE-4EC6-AD82-30C8C36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E1C2-78FB-4EC5-A97F-63CAC96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D53-90F6-4D94-AABE-3633B58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57DA-DF7E-4277-94DC-CB8581B7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B4C6-37B3-447B-A75F-D983361F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FBDF5-047D-4AB7-8890-B61156EB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89404-E771-47D8-8944-7789AFEE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5B75-D3FF-465E-AFD5-DA1B042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9FB3-AE93-45FD-A87D-7C1B36E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B037-5358-442B-9E7A-EBD4FA7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1BB8-EFAB-4A6F-AAD4-EDFEA6BD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391C-B16B-4FF1-BFB7-8D74882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6783-BDD0-4074-BB90-3F87054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125-0F7C-49A7-B801-4E6D06C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43E11-20AE-4307-9097-37E7B94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A226-BF76-4009-9831-5A38CA1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BEB3-4D39-46E7-8B96-8CF01521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BD5D-AD2F-4EDC-8A3E-E690ED09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2445-D200-46AC-929E-68E14618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B46FC-953A-4D2B-8051-E52A1BC5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3048-1009-4B5A-9988-3641C587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8D27-CDE9-47DF-A169-32357B21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CB979-0B90-4DCB-AF10-A1DB237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FC4B5-8F89-44FF-9515-7CA142F2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B0B-72FB-4E89-959A-6340C9E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53EF-7F5D-4AE4-BEAE-38061FF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3AA31-9E68-4321-A3DC-762BB22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1DB8F-6376-42DC-B43F-15C31D6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9528-1841-4D59-A855-510CEF5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DD0C8-E0FF-442F-BA71-2230B345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16A4-45C2-4AE2-85B8-9A1152C3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D1802-FDB6-47AA-9F01-A8B9E19B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A67C3-F536-4F71-84CB-8AF70312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775A0-46A6-479E-9983-A7323CE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E79EE-7859-4707-B91B-88A77AA5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A4BC-E9B8-41D8-8C25-3DDA7672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0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7F1-4E18-46D6-84AE-BAAECAC2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5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2C9-B911-4F95-8A58-B8F187C17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1B4-261B-4DC4-9073-96DA06BE4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AB70-A80C-427D-9BC5-B48F8026C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4772-5D3E-462D-8AAE-3000D3BA0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3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9A0D-32B2-4235-AF4D-ADAB968DC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8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694-444F-4C36-AD6C-8D5A95F5F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2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0A08-BF66-48CA-96E2-35F5399A0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7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E41A-24D0-4A59-ADD1-E2C049D9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1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92E-3FB8-4CFF-ADBB-1ED6BAC4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6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9E4-9507-40AE-8581-1A7749301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2286000" y="83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1" name="WordArt 5" descr="Бумажный пакет"/>
          <p:cNvPicPr/>
          <p:nvPr/>
        </p:nvPicPr>
        <p:blipFill>
          <a:blip r:embed="rId1"/>
          <a:stretch/>
        </p:blipFill>
        <p:spPr>
          <a:xfrm>
            <a:off x="1285920" y="1968480"/>
            <a:ext cx="7261200" cy="884160"/>
          </a:xfrm>
          <a:prstGeom prst="rect">
            <a:avLst/>
          </a:prstGeom>
          <a:ln w="0">
            <a:noFill/>
          </a:ln>
        </p:spPr>
      </p:pic>
      <p:pic>
        <p:nvPicPr>
          <p:cNvPr id="542" name="WordArt 8" descr="Каштан"/>
          <p:cNvPicPr/>
          <p:nvPr/>
        </p:nvPicPr>
        <p:blipFill>
          <a:blip r:embed="rId2"/>
          <a:stretch/>
        </p:blipFill>
        <p:spPr>
          <a:xfrm>
            <a:off x="4170240" y="817560"/>
            <a:ext cx="998640" cy="657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9"/>
          <p:cNvSpPr/>
          <p:nvPr/>
        </p:nvSpPr>
        <p:spPr>
          <a:xfrm>
            <a:off x="2438280" y="30002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положения правила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5214960" y="4143240"/>
            <a:ext cx="350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Медведева Лариса Тимофеевн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читель русского языка и литературы ГБОУ школы – интерната №9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алининского района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72164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1332000" y="9079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актическая часть.Работа с тексто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читайте, передавая голосом состояние страха, которое ощущали жители дома от грозы в деревне. Озаглавьте текст. Какого он стиля? Какова его основная мысль? Разделите текст на абзацы. Спишите, расставляя пропущенные запятые. Обозначьте приставку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-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Подчеркните причастия как члены предложения. Какие из синонимов к выделенному слову были бы уместны в тексте?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721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115640" y="860040"/>
            <a:ext cx="7343640" cy="47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Не)забываемое вп…чатление остав…ла гроза в деревне. Нач..лась она вечером. Светлая з…ря ещё (не)закрытая ч…рной  приближающ…йся тучей оз…ряла розовым светом нашу спальню. Вдруг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траш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ромовой удар потряс весь дом, и полил дождь  (не)прекращавш…йся в течение целого часа. Сквозь (не)занавеш…нные окна постоянно видна была молния.(Не)смолкавшие ни на м…нуту раскаты грома сковали нас и держали в состояни… (не)прекращавшегося страха. Казалось,что какая(то) сила  сн…сет наш домик стоящий на высоком берегу ре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3"/>
          <p:cNvSpPr/>
          <p:nvPr/>
        </p:nvSpPr>
        <p:spPr>
          <a:xfrm>
            <a:off x="1295280" y="762120"/>
            <a:ext cx="7239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ЗУЧАЕМАЯ ОРФОГРАММА ЯВЛЯЕТСЯ ОДНОЙ ИЗ САМЫХ СЛОЖНЫХ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6" name="Picture 6" descr="1"/>
          <p:cNvPicPr/>
          <p:nvPr/>
        </p:nvPicPr>
        <p:blipFill>
          <a:blip r:embed="rId1"/>
          <a:stretch/>
        </p:blipFill>
        <p:spPr>
          <a:xfrm>
            <a:off x="1676520" y="2573280"/>
            <a:ext cx="464796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6"/>
          <p:cNvSpPr/>
          <p:nvPr/>
        </p:nvSpPr>
        <p:spPr>
          <a:xfrm>
            <a:off x="3276720" y="982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48" name="Picture 7" descr="01"/>
          <p:cNvPicPr/>
          <p:nvPr/>
        </p:nvPicPr>
        <p:blipFill>
          <a:blip r:embed="rId1"/>
          <a:stretch/>
        </p:blipFill>
        <p:spPr>
          <a:xfrm>
            <a:off x="5334120" y="4572000"/>
            <a:ext cx="3124080" cy="18288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"/>
          <p:cNvSpPr/>
          <p:nvPr/>
        </p:nvSpPr>
        <p:spPr>
          <a:xfrm>
            <a:off x="213372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астью корня слова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057400" y="40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риставкой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133720" y="4800600"/>
            <a:ext cx="22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астицей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849240" y="76212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очему орфограмма затрудняет учащихся?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3" name="WordArt 12" descr=""/>
          <p:cNvPicPr/>
          <p:nvPr/>
        </p:nvPicPr>
        <p:blipFill>
          <a:blip r:embed="rId2"/>
          <a:stretch/>
        </p:blipFill>
        <p:spPr>
          <a:xfrm>
            <a:off x="4254480" y="1670040"/>
            <a:ext cx="1390680" cy="8539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3"/>
          <p:cNvSpPr/>
          <p:nvPr/>
        </p:nvSpPr>
        <p:spPr>
          <a:xfrm>
            <a:off x="3733920" y="25909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может быть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WordArt 4" descr="Белый мрамор"/>
          <p:cNvPicPr/>
          <p:nvPr/>
        </p:nvPicPr>
        <p:blipFill>
          <a:blip r:embed="rId1"/>
          <a:stretch/>
        </p:blipFill>
        <p:spPr>
          <a:xfrm>
            <a:off x="3219480" y="615960"/>
            <a:ext cx="2754360" cy="804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1285920" y="1785960"/>
            <a:ext cx="6572160" cy="414756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Лексическое значение слова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прометчивый поступок.(опрометью- соб. русское – кинуться ринуться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прометчивый человек – скорый и легкомысленный , поступающий необдуманно, спешно, зря, спохватясь задним умо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Он всякое дело портит неукротимою опрометчивостью своею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WordArt 3" descr=""/>
          <p:cNvPicPr/>
          <p:nvPr/>
        </p:nvPicPr>
        <p:blipFill>
          <a:blip r:embed="rId1"/>
          <a:stretch/>
        </p:blipFill>
        <p:spPr>
          <a:xfrm>
            <a:off x="2266920" y="487440"/>
            <a:ext cx="5383080" cy="12319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22701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59277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523880" y="1589040"/>
          <a:ext cx="6096240" cy="331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31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Rectangle 8"/>
          <p:cNvSpPr/>
          <p:nvPr/>
        </p:nvSpPr>
        <p:spPr>
          <a:xfrm>
            <a:off x="3983040" y="-720"/>
            <a:ext cx="117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ричастиями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23880" y="1554120"/>
          <a:ext cx="6096240" cy="384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литн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раздельно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ез НЕ не употребляетс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навидимы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годующий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 полными причастиями без зависимых слов и противопоставлени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прочитанная книг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 словами совершенно, очень, крайне, чрезвычайно, совсем (= очень)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овсем непродуманное решени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краткими причастиями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бота не закончен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полными причастиями при наличии зависимых слов или противопоставления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прочитанная мною книга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прочитанная, а лишь просмотренная книг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 усиливающими отрицание мест., нареч.: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ичем не оправданный поступок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1071720" y="357120"/>
            <a:ext cx="7215120" cy="2181600"/>
          </a:xfrm>
          <a:prstGeom prst="rect">
            <a:avLst/>
          </a:prstGeom>
          <a:solidFill>
            <a:srgbClr val="ddd4a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Например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Частица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всегда со словом пишется раздельно и вносит в предложени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отрицание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брание акционеров  не  законче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143000" y="2786040"/>
            <a:ext cx="7072200" cy="1930320"/>
          </a:xfrm>
          <a:prstGeom prst="rect">
            <a:avLst/>
          </a:prstGeom>
          <a:solidFill>
            <a:srgbClr val="ddd4a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риставка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пишется со словом слитно, смысл предложения остается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ложительным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коло дома растет небольшой куст сирени.   (маленький куст)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214280" y="4857840"/>
            <a:ext cx="6902640" cy="1374120"/>
          </a:xfrm>
          <a:prstGeom prst="rect">
            <a:avLst/>
          </a:prstGeom>
          <a:solidFill>
            <a:srgbClr val="ddd4a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является частью корня, то слово без </a:t>
            </a: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е употребляется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доумевающий  взгляд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WordArt 2" descr="Белый мрамор"/>
          <p:cNvPicPr/>
          <p:nvPr/>
        </p:nvPicPr>
        <p:blipFill>
          <a:blip r:embed="rId1"/>
          <a:stretch/>
        </p:blipFill>
        <p:spPr>
          <a:xfrm>
            <a:off x="1268280" y="353880"/>
            <a:ext cx="4437360" cy="10112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1295280" y="1828800"/>
            <a:ext cx="6019920" cy="119124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сли слово любой части речи без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не употребляется, то слово с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пишется слит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69" name="WordArt 4" descr="Белый мрамор"/>
          <p:cNvPicPr/>
          <p:nvPr/>
        </p:nvPicPr>
        <p:blipFill>
          <a:blip r:embed="rId2"/>
          <a:stretch/>
        </p:blipFill>
        <p:spPr>
          <a:xfrm>
            <a:off x="3597120" y="3193920"/>
            <a:ext cx="2638440" cy="658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bd00146_"/>
          <p:cNvPicPr/>
          <p:nvPr/>
        </p:nvPicPr>
        <p:blipFill>
          <a:blip r:embed="rId3"/>
          <a:stretch/>
        </p:blipFill>
        <p:spPr>
          <a:xfrm>
            <a:off x="1332000" y="3906720"/>
            <a:ext cx="2376360" cy="20559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4067280" y="4221000"/>
            <a:ext cx="4724280" cy="157212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годование, неистовство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истовствовать, ненавидящий,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годующий взгляд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WordArt 2" descr="Белый мрамор"/>
          <p:cNvPicPr/>
          <p:nvPr/>
        </p:nvPicPr>
        <p:blipFill>
          <a:blip r:embed="rId1"/>
          <a:stretch/>
        </p:blipFill>
        <p:spPr>
          <a:xfrm>
            <a:off x="1554120" y="407880"/>
            <a:ext cx="4724280" cy="6825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1285920" y="1214280"/>
            <a:ext cx="739152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завершённое   собрание, невспаханное  поле, несделанная работа.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143000" y="2500200"/>
            <a:ext cx="7238880" cy="1922760"/>
          </a:xfrm>
          <a:prstGeom prst="rect">
            <a:avLst/>
          </a:prstGeom>
          <a:solidFill>
            <a:srgbClr val="f7ecd5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в предложении противопоставления;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рядом стоящих слов: далеко, вовсе, ничуть,  нисколько,  отнюдь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наличие зависимых слов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- с краткими причастиями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--Раздельно --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5" name="WordArt 5"/>
          <p:cNvSpPr txBox="1"/>
          <p:nvPr/>
        </p:nvSpPr>
        <p:spPr>
          <a:xfrm>
            <a:off x="3000240" y="4071960"/>
            <a:ext cx="16495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 u="sng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Arial"/>
              </a:rPr>
              <a:t> </a:t>
            </a:r>
            <a:endParaRPr b="0" lang="en-US" sz="2800" spc="1" strike="noStrike" u="sng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Arial"/>
              <a:ea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143000" y="4786200"/>
            <a:ext cx="7643880" cy="119124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Не засохшие, а распускающиеся цветы. Не прекращающийся весь день шум ливня. Вовсе не отправленная телеграмма. Здание не построе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WordArt 2" descr="Белый мрамор"/>
          <p:cNvPicPr/>
          <p:nvPr/>
        </p:nvPicPr>
        <p:blipFill>
          <a:blip r:embed="rId1"/>
          <a:stretch/>
        </p:blipFill>
        <p:spPr>
          <a:xfrm>
            <a:off x="3024360" y="384120"/>
            <a:ext cx="3668400" cy="7747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1071720" y="1285920"/>
            <a:ext cx="757224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с глаголами, деепричастиями, с краткими причастиями пишется раздельно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79" name="WordArt 4" descr="Белый мрамор"/>
          <p:cNvPicPr/>
          <p:nvPr/>
        </p:nvPicPr>
        <p:blipFill>
          <a:blip r:embed="rId2"/>
          <a:stretch/>
        </p:blipFill>
        <p:spPr>
          <a:xfrm>
            <a:off x="3340080" y="2554200"/>
            <a:ext cx="2610000" cy="530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bd00048_"/>
          <p:cNvPicPr/>
          <p:nvPr/>
        </p:nvPicPr>
        <p:blipFill>
          <a:blip r:embed="rId3"/>
          <a:stretch/>
        </p:blipFill>
        <p:spPr>
          <a:xfrm>
            <a:off x="1143000" y="3048120"/>
            <a:ext cx="2492280" cy="14605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BL00381_"/>
          <p:cNvPicPr/>
          <p:nvPr/>
        </p:nvPicPr>
        <p:blipFill>
          <a:blip r:embed="rId4"/>
          <a:stretch/>
        </p:blipFill>
        <p:spPr>
          <a:xfrm>
            <a:off x="1143000" y="4800600"/>
            <a:ext cx="2492280" cy="17622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8"/>
          <p:cNvSpPr/>
          <p:nvPr/>
        </p:nvSpPr>
        <p:spPr>
          <a:xfrm>
            <a:off x="4186080" y="3276720"/>
            <a:ext cx="4348440" cy="155700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 разводите костры в  лесу, сейчас это опасно. НЕ зная броду,  не суйся в воду. Не покрашен. Не изучен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120560" y="5070600"/>
            <a:ext cx="4563720" cy="825480"/>
          </a:xfrm>
          <a:prstGeom prst="rect">
            <a:avLst/>
          </a:prstGeom>
          <a:solidFill>
            <a:srgbClr val="cbbd83"/>
          </a:solidFill>
          <a:ln w="381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льзя не заметить, как меняется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лик современных мегаполи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111092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6:25:38Z</dcterms:created>
  <dc:creator>User</dc:creator>
  <dc:description/>
  <dc:language>en-US</dc:language>
  <cp:lastModifiedBy>Лариса</cp:lastModifiedBy>
  <dcterms:modified xsi:type="dcterms:W3CDTF">2022-02-18T12:50:57Z</dcterms:modified>
  <cp:revision>54</cp:revision>
  <dc:subject/>
  <dc:title>Презентация PowerPoint</dc:title>
</cp:coreProperties>
</file>