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3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72B-0155-443B-AD9D-57A8FC15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2FF0-8284-4BAD-9968-22B84695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44EE4-D547-4295-B42C-B38D8B54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2D18B-4F08-4C0E-A202-D4002263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ABC66-8FF0-4D9B-B89E-9758320F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DEEAD-9835-4380-9498-074C3344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2CCA8-96C2-43E2-B683-77A5CE36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E07E4-9D32-4648-A4B0-9789F81F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C3429-8B93-40FF-A9BF-E5FB1DAD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D8D79-6CF2-405E-B8AD-2F5A7FF6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A4FB0-21B4-4CEF-B48D-A7FDB7FD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588BA-7AF5-4E94-BA03-008EB48A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004-5674-4B47-8C78-259E374E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E2FEA-C5A3-4D12-AD12-C1B88AC9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FCB91-F0F9-49B7-918E-E0E0DA43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6ADDE-B30D-4D0C-A3D8-32C000A8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BD354-2A98-4EA8-B9C3-2429A56D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9F15A-42B9-4103-8BD6-25555978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CDF31-CE96-45A4-A9E3-613DB848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ECF44-84F6-4D7B-99B6-17AE58F3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ECD77-AC03-4CD1-A753-BF1BC56F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87A32-D97F-4E4D-97E8-E503EEED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167BA-0C61-46F7-A3E5-C98EE57E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3B1-F86E-4EE3-B730-21D556D6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A4176-8333-4587-B488-ECEC635E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9F869-88F1-4F6F-8F2D-6C2922CC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5F736-7B3A-4012-AA27-052A2A60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5CC62-4248-4747-896C-9A628161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0CE12-6F31-4140-86F3-4BAEA27B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F530A-CFA0-4D39-9130-C11DC719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0377F-2D26-4032-A550-1B14672B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02442-63ED-4360-B532-318EFF66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B3EEA-9900-45FB-B2AE-B7D48CD4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821FC-9DAA-4530-A01D-82180F1B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A55B-4692-47D8-A258-96D53479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FB225-84F7-4BF1-8850-6FBD9286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D665D-9E5D-427C-A0A1-2E0857CE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C0741-47B5-4830-97C3-F25E2674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AE08D-BEBD-487D-8661-F00F6853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B32BF-AB21-4E7C-8E5A-1FF2D775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769B0-D13D-4756-94D5-B438EC52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6F6F0-8C25-45CA-AD84-16F4194A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65380-14C5-43E7-8A74-B2A3D760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C401D-E5F4-4AEE-84A0-E3F6C8F1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4EDDE-4D9C-4A12-BE42-D8D2CB4F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8CDA-50D7-4E78-BB03-A256BB58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D2D92-FDD6-4E8C-B88D-7D6D558D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E79C6-54D3-4817-B301-C766BB02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8F19D-9455-4618-9D96-8D4F4A79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DD69D-25E0-44F3-B225-5C927B63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EDF83-0470-4945-BBE0-14FB16DD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A6FD-3028-4B10-81D3-35FA9625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13FE-74CB-4934-85EF-0996391A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E31A-2DE0-45E4-A575-48E1CB23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E9EB-6D86-44FD-AFE3-9CC0E71A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F1A5-6DC6-408F-8CC7-DA7354BC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BB4-F048-4E2A-94F9-C94DFF47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C2A2-883D-47B6-9087-1049644B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AB11-80B9-40D4-8ABC-0EE481E1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179E-7FAD-4830-B0EC-BA390928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118C-A3F7-4C0C-AC68-24EED406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0CA4-B20E-434B-A175-AFBC2D95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D767-E9B8-4F2E-81E0-419255C7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17EB0-9FCC-490E-9CF8-FD7C9542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CA9C2-A68D-4514-8B7D-7E80C281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6CC0B-70C8-4C1A-B7FF-3F88B7A4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C8955-31E1-48D3-A420-DC675793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768-1EBE-44A2-ABF6-8E7F2E60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013F3-B3BB-446E-AD6A-7D68667A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8C29B-B51B-472C-9511-FDADB8F5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125F4-DFF4-4265-9F4A-9342431C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899ED-1F82-4A20-B568-9E0A18A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C3B7A-257A-46A5-8B95-5B43C980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2F92-0BB2-4001-A9BC-DDB0C3B3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9794A-E023-4D8E-9C11-F55E640D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CAD7A-9D79-4CEA-93F9-E883DC82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E306A-28DC-4FAA-BECA-2E7019A1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7DC94-2DF2-429F-8FBD-138AF9DE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EA0-63C6-4B74-A54C-4F839E0E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837BB-5759-4826-B162-CBD25859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E208D-4841-42DA-9427-A67A5DDF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8D471-6294-4CC8-B73B-2A971A42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BB9FD-81C7-4A7A-B078-5AEF98DF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16EB7-5F3B-4198-A453-2309F070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B5153-2C4D-4842-A44E-0D141658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03A0B-D5D4-46B9-9153-E3B7D4A5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5EC71-3A5A-469D-812F-5B4CBB69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3E135-FEE8-4049-942C-261901FA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75B0E-A2FE-4D0F-B6C9-DD10862B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1B9-30B9-432F-B9F9-3C89E3F7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E965F-5E00-4BC2-9DEC-8B589410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9EE56-16AF-4E81-A6EC-C6920AA2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749FC-5C92-4B4A-B1F1-384807D6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75D8F-B74A-447C-905A-E99D5FFF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EA4F0-ADBE-4692-86C1-BAC20943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2598F-11EB-456A-8538-D8A24BCC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92DB4-CA75-4423-B284-0B0CBC39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1AD9C-D3EE-481B-847F-0E39EE71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FBCFC-7998-420F-B6B4-F6806BEC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18A93-2CB3-411B-B362-4838F6D8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FF7-4104-497E-B629-4050DC24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EC3F1-F23C-4730-B2CA-BBE0C429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0084C-8DDB-470F-8E2D-3768BC67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2AA73-0B5E-4B89-9C1A-83DB3E1A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41FD2-5FB2-4A8B-BD12-32DBB4FE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384EB-21F2-43C3-989B-C57377CC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832AB-959A-4CAB-AA6C-9A302E1C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1086C-FA0C-4E49-B5DA-47066F76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407F2-17DE-443B-80C4-F60C19CF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ED336-44ED-4B83-A141-621C969B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3543F-E777-4F4E-A53B-477871E1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ACC-24AE-45F3-BEF8-798502ED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DE4E9-AF58-4F6C-A48F-57F31027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8045D-11E8-4EDD-90FC-30C6EB6F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AB4B6-DF2E-40D1-9C5B-0DD226C0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92F1D-AC4C-4E3A-A093-E3D1D461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D2DCC-A9EF-492F-BE2D-12ECBFDD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6BF27-41C8-469E-982E-6B3E5852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BA960-A235-4224-B269-5F4938F7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033FC-35FD-4C34-A5D9-37795C10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41066-1F9E-4FA3-B8D9-34745537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DF82F-E9B2-45B3-85B0-32357070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67C-7AE4-4FCB-BF98-55F4F053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B1ABE-A615-40B7-9C4C-A0FA32C0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491DB-4D53-455B-89DB-BD592D18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BE4C0-A7F4-4C96-BC94-D3EFE150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45EB3-4036-4C15-BB7E-885EDBED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C15B3-8919-4D67-889A-65A0C2FF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577DB-D002-45B1-99A8-FBC5D83B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16AD1-3136-40ED-AE9E-DB4D99FE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2FAB6-6948-4B2A-B143-6358A7DD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E9C13-5F70-428F-8FE6-7AB90F6A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EEB8C-2E28-4BF6-A2DD-5E163094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4BC5-9F87-42D1-A434-2941695F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36AC3-57D4-43AF-98FD-FF319F3D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301D0-F441-438C-A8A8-963A13F0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C85D7-00A9-4A63-B3D2-7C41AFA7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C05FB-FC2A-4383-B110-2F38CFCB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7204B-8A8F-4566-A90E-1EC17750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908BC-CB04-4211-8A0E-C0BD2887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28EB4-F426-4352-B368-5326AAE0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69B3B-D83F-4184-B4E6-872DC6B8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1A1C7-2D6A-4B27-ADB6-05979F00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84E3F-9397-4086-A2C7-64A40D6D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BC32-DF0E-4D32-9861-5DB5C46A7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07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72A3-1E12-4AC9-83EA-3BDF2ACBD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5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25F7-5609-4C12-AADF-CC1286764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6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97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015E-B20E-4604-BD60-1D3EEEBA5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4522-0B20-483C-8D64-5E529BE28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262E-ABCB-4DEA-A236-FBDE61147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37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2EDC-F77B-42DE-A660-FEF42A0B8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8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87DC-7BDC-45CF-9881-75FA22A8E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27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9FBF-CFFC-478D-9E4C-4DF99FE04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7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27F5-1494-40BC-9234-A66025199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17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449B-980A-4209-85B2-9091297AC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6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1D67-F325-4600-8725-66FADC9CC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4"/>
          <p:cNvSpPr/>
          <p:nvPr/>
        </p:nvSpPr>
        <p:spPr>
          <a:xfrm>
            <a:off x="2286000" y="83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41" name="WordArt 5" descr="Бумажный пакет"/>
          <p:cNvPicPr/>
          <p:nvPr/>
        </p:nvPicPr>
        <p:blipFill>
          <a:blip r:embed="rId1"/>
          <a:stretch/>
        </p:blipFill>
        <p:spPr>
          <a:xfrm>
            <a:off x="1285920" y="1968480"/>
            <a:ext cx="7261200" cy="884160"/>
          </a:xfrm>
          <a:prstGeom prst="rect">
            <a:avLst/>
          </a:prstGeom>
          <a:ln w="0">
            <a:noFill/>
          </a:ln>
        </p:spPr>
      </p:pic>
      <p:pic>
        <p:nvPicPr>
          <p:cNvPr id="542" name="WordArt 8" descr="Каштан"/>
          <p:cNvPicPr/>
          <p:nvPr/>
        </p:nvPicPr>
        <p:blipFill>
          <a:blip r:embed="rId2"/>
          <a:stretch/>
        </p:blipFill>
        <p:spPr>
          <a:xfrm>
            <a:off x="4170240" y="817560"/>
            <a:ext cx="998640" cy="6573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9"/>
          <p:cNvSpPr/>
          <p:nvPr/>
        </p:nvSpPr>
        <p:spPr>
          <a:xfrm>
            <a:off x="2438280" y="300024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положения правила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5214960" y="4143240"/>
            <a:ext cx="350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Медведева Лариса Тимофеевн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Учитель русского языка и литературы ГБОУ школы – интерната №9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Калининского район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040" y="259920"/>
            <a:ext cx="7721640" cy="29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Прямоугольник 3"/>
          <p:cNvSpPr/>
          <p:nvPr/>
        </p:nvSpPr>
        <p:spPr>
          <a:xfrm>
            <a:off x="1332000" y="907920"/>
            <a:ext cx="68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актическая часть.Работа с текстом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читайте, передавая голосом состояние страха, которое ощущали жители дома от грозы в деревне. Озаглавьте текст. Какого он стиля? Какова его основная мысль? Разделите текст на абзацы. Спишите, расставляя пропущенные запятые. Обозначьте приставку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-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Подчеркните причастия как члены предложения. Какие из синонимов к выделенному слову были бы уместны в тексте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980640"/>
            <a:ext cx="7721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115640" y="860040"/>
            <a:ext cx="7343640" cy="47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Не)забываемое вп…чатление остав…ла гроза в деревне. Нач..лась она вечером. Светлая з…ря ещё (не)закрытая ч…рной  приближающ…йся тучей оз…ряла розовым светом нашу спальню. Вдруг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трашны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громовой удар потряс весь дом, и полил дождь  (не)прекращавш…йся в течение целого часа. Сквозь (не)занавеш…нные окна постоянно видна была молния.(Не)смолкавшие ни на м…нуту раскаты грома сковали нас и держали в состояни… (не)прекращавшегося страха. Казалось,что какая(то) сила  сн…сет наш домик стоящий на высоком берегу ре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3"/>
          <p:cNvSpPr/>
          <p:nvPr/>
        </p:nvSpPr>
        <p:spPr>
          <a:xfrm>
            <a:off x="1295280" y="762120"/>
            <a:ext cx="7239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ЗУЧАЕМАЯ ОРФОГРАММА ЯВЛЯЕТСЯ ОДНОЙ ИЗ САМЫХ СЛОЖНЫХ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46" name="Picture 6" descr="1"/>
          <p:cNvPicPr/>
          <p:nvPr/>
        </p:nvPicPr>
        <p:blipFill>
          <a:blip r:embed="rId1"/>
          <a:stretch/>
        </p:blipFill>
        <p:spPr>
          <a:xfrm>
            <a:off x="1676520" y="2573280"/>
            <a:ext cx="4647960" cy="3522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6"/>
          <p:cNvSpPr/>
          <p:nvPr/>
        </p:nvSpPr>
        <p:spPr>
          <a:xfrm>
            <a:off x="3276720" y="982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48" name="Picture 7" descr="01"/>
          <p:cNvPicPr/>
          <p:nvPr/>
        </p:nvPicPr>
        <p:blipFill>
          <a:blip r:embed="rId1"/>
          <a:stretch/>
        </p:blipFill>
        <p:spPr>
          <a:xfrm>
            <a:off x="5334120" y="4572000"/>
            <a:ext cx="3124080" cy="182880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8"/>
          <p:cNvSpPr/>
          <p:nvPr/>
        </p:nvSpPr>
        <p:spPr>
          <a:xfrm>
            <a:off x="2133720" y="33526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частью корня слова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057400" y="403848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приставкой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2133720" y="4800600"/>
            <a:ext cx="22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частицей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2" name="Rectangle 11"/>
          <p:cNvSpPr/>
          <p:nvPr/>
        </p:nvSpPr>
        <p:spPr>
          <a:xfrm>
            <a:off x="849240" y="762120"/>
            <a:ext cx="79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Почему орфограмма затрудняет учащихся?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53" name="WordArt 12" descr=""/>
          <p:cNvPicPr/>
          <p:nvPr/>
        </p:nvPicPr>
        <p:blipFill>
          <a:blip r:embed="rId2"/>
          <a:stretch/>
        </p:blipFill>
        <p:spPr>
          <a:xfrm>
            <a:off x="4254480" y="1670040"/>
            <a:ext cx="1390680" cy="85392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13"/>
          <p:cNvSpPr/>
          <p:nvPr/>
        </p:nvSpPr>
        <p:spPr>
          <a:xfrm>
            <a:off x="3733920" y="25909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может быть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WordArt 4" descr="Белый мрамор"/>
          <p:cNvPicPr/>
          <p:nvPr/>
        </p:nvPicPr>
        <p:blipFill>
          <a:blip r:embed="rId1"/>
          <a:stretch/>
        </p:blipFill>
        <p:spPr>
          <a:xfrm>
            <a:off x="3219480" y="615960"/>
            <a:ext cx="2754360" cy="8049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5"/>
          <p:cNvSpPr/>
          <p:nvPr/>
        </p:nvSpPr>
        <p:spPr>
          <a:xfrm>
            <a:off x="1285920" y="1785960"/>
            <a:ext cx="6572160" cy="4147560"/>
          </a:xfrm>
          <a:prstGeom prst="rect">
            <a:avLst/>
          </a:prstGeom>
          <a:solidFill>
            <a:srgbClr val="cbbd83"/>
          </a:solidFill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Лексическое значение слова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Опрометчивый поступок.(опрометью- соб. русское – кинуться ринуться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Опрометчивый человек – скорый и легкомысленный , поступающий необдуманно, спешно, зря, спохватясь задним умом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Он всякое дело портит неукротимою опрометчивостью своею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WordArt 3" descr=""/>
          <p:cNvPicPr/>
          <p:nvPr/>
        </p:nvPicPr>
        <p:blipFill>
          <a:blip r:embed="rId1"/>
          <a:stretch/>
        </p:blipFill>
        <p:spPr>
          <a:xfrm>
            <a:off x="2266920" y="487440"/>
            <a:ext cx="5383080" cy="123192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4"/>
          <p:cNvSpPr/>
          <p:nvPr/>
        </p:nvSpPr>
        <p:spPr>
          <a:xfrm>
            <a:off x="22701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59277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523880" y="1589040"/>
          <a:ext cx="6096240" cy="3319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31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1" name="Rectangle 8"/>
          <p:cNvSpPr/>
          <p:nvPr/>
        </p:nvSpPr>
        <p:spPr>
          <a:xfrm>
            <a:off x="3983040" y="-720"/>
            <a:ext cx="117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ричастиями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523880" y="1554120"/>
          <a:ext cx="6096240" cy="3840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слитно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раздельно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Без НЕ не употребляется: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навидимый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годующи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 полными причастиями без зависимых слов и противопоставления: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прочитанная книг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о словами совершенно, очень, крайне, чрезвычайно, совсем (= очень):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овсем непродуманное решение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8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С краткими причастиями: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бота не закончен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buClr>
                          <a:srgbClr val="8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С полными причастиями при наличии зависимых слов или противопоставления: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прочитанная мною книга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прочитанная, а лишь просмотренная книг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buClr>
                          <a:srgbClr val="8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С усиливающими отрицание мест., нареч.: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ичем не оправданный поступок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3"/>
          <p:cNvSpPr/>
          <p:nvPr/>
        </p:nvSpPr>
        <p:spPr>
          <a:xfrm>
            <a:off x="1071720" y="357120"/>
            <a:ext cx="7215120" cy="2181600"/>
          </a:xfrm>
          <a:prstGeom prst="rect">
            <a:avLst/>
          </a:prstGeom>
          <a:solidFill>
            <a:srgbClr val="ddd4a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Например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Частица 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не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всегда со словом пишется раздельно и вносит в предложение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отрицание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обрание акционеров  не  закончено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1143000" y="2786040"/>
            <a:ext cx="7072200" cy="1930320"/>
          </a:xfrm>
          <a:prstGeom prst="rect">
            <a:avLst/>
          </a:prstGeom>
          <a:solidFill>
            <a:srgbClr val="ddd4a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риставка 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не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пишется со словом слитно, смысл предложения остается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ложительным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коло дома растет небольшой куст сирени.   (маленький куст)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214280" y="4857840"/>
            <a:ext cx="6902640" cy="1374120"/>
          </a:xfrm>
          <a:prstGeom prst="rect">
            <a:avLst/>
          </a:prstGeom>
          <a:solidFill>
            <a:srgbClr val="ddd4a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Если 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не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является частью корня, то слово без 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не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не употребляется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едоумевающий  взгляд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WordArt 2" descr="Белый мрамор"/>
          <p:cNvPicPr/>
          <p:nvPr/>
        </p:nvPicPr>
        <p:blipFill>
          <a:blip r:embed="rId1"/>
          <a:stretch/>
        </p:blipFill>
        <p:spPr>
          <a:xfrm>
            <a:off x="1268280" y="353880"/>
            <a:ext cx="4437360" cy="101124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3"/>
          <p:cNvSpPr/>
          <p:nvPr/>
        </p:nvSpPr>
        <p:spPr>
          <a:xfrm>
            <a:off x="1295280" y="1828800"/>
            <a:ext cx="6019920" cy="1191240"/>
          </a:xfrm>
          <a:prstGeom prst="rect">
            <a:avLst/>
          </a:prstGeom>
          <a:solidFill>
            <a:srgbClr val="cbbd83"/>
          </a:solidFill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Если слово любой части речи без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е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не употребляется, то слово с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е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пишется слитно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69" name="WordArt 4" descr="Белый мрамор"/>
          <p:cNvPicPr/>
          <p:nvPr/>
        </p:nvPicPr>
        <p:blipFill>
          <a:blip r:embed="rId2"/>
          <a:stretch/>
        </p:blipFill>
        <p:spPr>
          <a:xfrm>
            <a:off x="3597120" y="3193920"/>
            <a:ext cx="2638440" cy="6588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5" descr="bd00146_"/>
          <p:cNvPicPr/>
          <p:nvPr/>
        </p:nvPicPr>
        <p:blipFill>
          <a:blip r:embed="rId3"/>
          <a:stretch/>
        </p:blipFill>
        <p:spPr>
          <a:xfrm>
            <a:off x="1332000" y="3906720"/>
            <a:ext cx="2376360" cy="205596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6"/>
          <p:cNvSpPr/>
          <p:nvPr/>
        </p:nvSpPr>
        <p:spPr>
          <a:xfrm>
            <a:off x="4067280" y="4221000"/>
            <a:ext cx="4724280" cy="1572120"/>
          </a:xfrm>
          <a:prstGeom prst="rect">
            <a:avLst/>
          </a:prstGeom>
          <a:solidFill>
            <a:srgbClr val="cbbd83"/>
          </a:solidFill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егодование, неистовство,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еистовствовать, ненавидящий,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егодующий взгляд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WordArt 2" descr="Белый мрамор"/>
          <p:cNvPicPr/>
          <p:nvPr/>
        </p:nvPicPr>
        <p:blipFill>
          <a:blip r:embed="rId1"/>
          <a:stretch/>
        </p:blipFill>
        <p:spPr>
          <a:xfrm>
            <a:off x="1554120" y="407880"/>
            <a:ext cx="4724280" cy="68256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1285920" y="1214280"/>
            <a:ext cx="7391520" cy="825480"/>
          </a:xfrm>
          <a:prstGeom prst="rect">
            <a:avLst/>
          </a:prstGeom>
          <a:solidFill>
            <a:srgbClr val="cbbd83"/>
          </a:solidFill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езавершённое   собрание, невспаханное  поле, несделанная работа.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О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1143000" y="2500200"/>
            <a:ext cx="7238880" cy="1922760"/>
          </a:xfrm>
          <a:prstGeom prst="rect">
            <a:avLst/>
          </a:prstGeom>
          <a:solidFill>
            <a:srgbClr val="f7ecd5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- наличие в предложении противопоставления;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- наличие рядом стоящих слов: далеко, вовсе, ничуть,  нисколько,  отнюд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- наличие зависимых слов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- с краткими причастиями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--Раздельно --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5" name="WordArt 5"/>
          <p:cNvSpPr txBox="1"/>
          <p:nvPr/>
        </p:nvSpPr>
        <p:spPr>
          <a:xfrm>
            <a:off x="3000240" y="4071960"/>
            <a:ext cx="164952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80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 u="sng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uFillTx/>
                <a:latin typeface="Arial"/>
              </a:rPr>
              <a:t> </a:t>
            </a:r>
            <a:endParaRPr b="0" lang="en-US" sz="2800" spc="1" strike="noStrike" u="sng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uFillTx/>
              <a:latin typeface="Arial"/>
              <a:ea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1143000" y="4786200"/>
            <a:ext cx="7643880" cy="1191240"/>
          </a:xfrm>
          <a:prstGeom prst="rect">
            <a:avLst/>
          </a:prstGeom>
          <a:solidFill>
            <a:srgbClr val="cbbd83"/>
          </a:solidFill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Не засохшие, а распускающиеся цветы. Не прекращающийся весь день шум ливня. Вовсе не отправленная телеграмма. Здание не построено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WordArt 2" descr="Белый мрамор"/>
          <p:cNvPicPr/>
          <p:nvPr/>
        </p:nvPicPr>
        <p:blipFill>
          <a:blip r:embed="rId1"/>
          <a:stretch/>
        </p:blipFill>
        <p:spPr>
          <a:xfrm>
            <a:off x="3024360" y="384120"/>
            <a:ext cx="3668400" cy="77472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3"/>
          <p:cNvSpPr/>
          <p:nvPr/>
        </p:nvSpPr>
        <p:spPr>
          <a:xfrm>
            <a:off x="1071720" y="1285920"/>
            <a:ext cx="7572240" cy="825480"/>
          </a:xfrm>
          <a:prstGeom prst="rect">
            <a:avLst/>
          </a:prstGeom>
          <a:solidFill>
            <a:srgbClr val="cbbd83"/>
          </a:solidFill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е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с глаголами, деепричастиями, с краткими причастиями пишется раздельно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79" name="WordArt 4" descr="Белый мрамор"/>
          <p:cNvPicPr/>
          <p:nvPr/>
        </p:nvPicPr>
        <p:blipFill>
          <a:blip r:embed="rId2"/>
          <a:stretch/>
        </p:blipFill>
        <p:spPr>
          <a:xfrm>
            <a:off x="3340080" y="2554200"/>
            <a:ext cx="2610000" cy="530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" descr="bd00048_"/>
          <p:cNvPicPr/>
          <p:nvPr/>
        </p:nvPicPr>
        <p:blipFill>
          <a:blip r:embed="rId3"/>
          <a:stretch/>
        </p:blipFill>
        <p:spPr>
          <a:xfrm>
            <a:off x="1143000" y="3048120"/>
            <a:ext cx="2492280" cy="14605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BL00381_"/>
          <p:cNvPicPr/>
          <p:nvPr/>
        </p:nvPicPr>
        <p:blipFill>
          <a:blip r:embed="rId4"/>
          <a:stretch/>
        </p:blipFill>
        <p:spPr>
          <a:xfrm>
            <a:off x="1143000" y="4800600"/>
            <a:ext cx="2492280" cy="17622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8"/>
          <p:cNvSpPr/>
          <p:nvPr/>
        </p:nvSpPr>
        <p:spPr>
          <a:xfrm>
            <a:off x="4186080" y="3276720"/>
            <a:ext cx="4348440" cy="1557000"/>
          </a:xfrm>
          <a:prstGeom prst="rect">
            <a:avLst/>
          </a:prstGeom>
          <a:solidFill>
            <a:srgbClr val="cbbd83"/>
          </a:solidFill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е разводите костры в  лесу, сейчас это опасно. НЕ зная броду,  не суйся в воду. Не покрашен. Не изучен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4120560" y="5070600"/>
            <a:ext cx="4563720" cy="825480"/>
          </a:xfrm>
          <a:prstGeom prst="rect">
            <a:avLst/>
          </a:prstGeom>
          <a:solidFill>
            <a:srgbClr val="cbbd83"/>
          </a:solidFill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ельзя не заметить, как меняется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блик современных мегаполис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111092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6:25:38Z</dcterms:created>
  <dc:creator>User</dc:creator>
  <dc:description/>
  <dc:language>en-US</dc:language>
  <cp:lastModifiedBy>Лариса</cp:lastModifiedBy>
  <dcterms:modified xsi:type="dcterms:W3CDTF">2022-02-18T12:50:57Z</dcterms:modified>
  <cp:revision>54</cp:revision>
  <dc:subject/>
  <dc:title>Презентация PowerPoint</dc:title>
</cp:coreProperties>
</file>