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8AE-B166-49B7-8C9A-CCDD5F8E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09C-D46A-4686-A475-5AC9C3F2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2C1-9AF1-44AA-A607-AC7F3F89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7CF-2FD8-4642-88D2-CA8F6C90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46D-6107-4816-B981-D160C11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7EA-7DD2-4E19-AB79-B2B40A9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922-0027-431F-B283-F73A4F39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D1D-BE2A-42EA-8BE6-52FE53E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0BF-E9EA-4BFB-9A68-8703DFC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4BE-A13F-43D6-BFE7-545E87D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2BA-D1BC-4F76-9CD5-1D36725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58B-5185-4692-9D98-BC44959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BC95-8A65-463A-B2E1-07BFB4A93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828720"/>
            <a:ext cx="8496000" cy="201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6000" y="3284280"/>
            <a:ext cx="6192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9 класс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гуш Ай-кыс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математик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валыг Херелмаа Дээк-Могеев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0"/>
            <a:ext cx="9144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ctr" pos="161604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иготовления 50 литров компота  из сухофруктов , берут 5 кг сухофруктов и 3кг 750г сахара. Сколько % сухофруктов и сколько % сахара в компо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5:50*100=10(%)-сухофр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75:50*100=7,5(%)-сах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коле в ноябре 20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ода проходила добровольная вакцинация учащихся против гриппа. Известно, что вакцину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делали 47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еникам обучающихся в школе. Сколько школьников добровольно поставили вакцину против гриппа, если в школе 242 обучающих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42*0,47=113(школьнико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4473" t="14216" r="7179" b="0"/>
          <a:stretch/>
        </p:blipFill>
        <p:spPr>
          <a:xfrm>
            <a:off x="0" y="0"/>
            <a:ext cx="568800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5532480" y="414972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3"/>
          <p:cNvSpPr/>
          <p:nvPr/>
        </p:nvSpPr>
        <p:spPr>
          <a:xfrm>
            <a:off x="0" y="4221000"/>
            <a:ext cx="8280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ховые аппараты стоят 15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идка 10% только  пенсионерам. Они могут  купить слуховые аппараты за 1350 рублей, т.к. 1500-150=1350(руб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159280" cy="16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243160" cy="1944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0" y="0"/>
            <a:ext cx="7596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овар стоит 3000 рублей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 со скидкой его можно купи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 1500 рублей, так как скидка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половина стоимости това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rcRect l="0" t="0" r="0" b="12006"/>
          <a:stretch/>
        </p:blipFill>
        <p:spPr>
          <a:xfrm>
            <a:off x="179280" y="2637000"/>
            <a:ext cx="250524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Таблица 3" descr=""/>
          <p:cNvPicPr/>
          <p:nvPr/>
        </p:nvPicPr>
        <p:blipFill>
          <a:blip r:embed="rId2"/>
          <a:stretch/>
        </p:blipFill>
        <p:spPr>
          <a:xfrm>
            <a:off x="530280" y="1474920"/>
            <a:ext cx="8229600" cy="4706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94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94320" cy="494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0" t="15119" r="0" b="31966"/>
          <a:stretch/>
        </p:blipFill>
        <p:spPr>
          <a:xfrm>
            <a:off x="3059280" y="5013360"/>
            <a:ext cx="33130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В1                  В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том килограмм клубники стоит 60 рублей. Мама купила 3кг 200г клубники. Сколько рублей сдачи она должна получить с 1000 руб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0-(60*3,2)=808(рубл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школе есть трехместные туристические палатки. Какое наименьшее число палаток нужно взять в поход, в котором участвуют 20 челове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:3≈7(пала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бильный телефон стоил 3500 рублей. Через некоторое время цену на эту модель снизили до 2800 рублей. На сколько процентов была снижена це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500-2800):3500*100=20(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ая компания предоставляет на выбор три тарифных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Таблица 5" descr=""/>
          <p:cNvPicPr/>
          <p:nvPr/>
        </p:nvPicPr>
        <p:blipFill>
          <a:blip r:embed="rId1"/>
          <a:stretch/>
        </p:blipFill>
        <p:spPr>
          <a:xfrm>
            <a:off x="781200" y="738360"/>
            <a:ext cx="7802280" cy="26938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0" y="357336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бонент выбрал наиболее дешевый тарифный план, исходя из предположения, что общая длительность телефонных разговоров составляет 650 минут в месяц. Какую сумму он должен заплатить за месяц, если общая длительность разговоров в этом месяце действительно будет равна 650 минут? Ответ дайте в руб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 flipH="1"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шени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три случа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тарифном плане «Повременный» ежемесячная плата будет складываться из абонентской 135 руб. и платы за 650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50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,3=195 рублей и будет составлять 195+135=330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арифном плане «Комбинированный» ежемесячная плата будет складываться из абонентской 255 руб. и платы за 200 мин. сверх тариф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0*0,28=56 рублей и будет составлять 255+56=311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арифном плане «Безлимитный» ежемесячная плата будет равна 38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самого дешевого и выгодного варианта составляет 311 рублей – тариф «Комбинирован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рнет-провайдер(компания, оказывающая услуги по подключению к сети Интерн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лагает  три тарифных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Таблица 4" descr=""/>
          <p:cNvPicPr/>
          <p:nvPr/>
        </p:nvPicPr>
        <p:blipFill>
          <a:blip r:embed="rId1"/>
          <a:stretch/>
        </p:blipFill>
        <p:spPr>
          <a:xfrm>
            <a:off x="927000" y="1530360"/>
            <a:ext cx="7296120" cy="22604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0" y="4005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ьзователь предполагает, что его трафик составит 600 Мб в месяц и, исходя из этого, выбирает наиболее дешевый тарифный план. Сколько рублей заплатит пользователь за месяц, если его трафик действительно будет равен 600 М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260280"/>
            <a:ext cx="91440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им все вари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0» пользователь потрат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,5*600=1500(рублей)-в месяц за 600 Мб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500» он потратит 550рублей абонентской платы за 500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00*2=200 рублей сверх того. Поэтому полная плата в месяц составит 550+200=750(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у «800» пользователь потратит в месяц за 600 Мб трафика 7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иболее выгодный вариант, тариф «800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3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е должно учить в школе еще с той целью,                                 чтобы познания, здесь приобретаемые, были     достаточными для обыкновенных потребностей в жизни.</a:t>
            </a:r>
            <a:br>
              <a:rPr sz="28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Н.И. Лобачевск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951280" cy="49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16872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формлять 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одить 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бирать задачи математического содерж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полагать задачи по тем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полнять экономические расче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ивать свои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атематического содержания встреч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аботе у взросл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екламных щи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экранах телевиз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иодической печа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на проценты чаще встреч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оформлении креди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вкладах сбережений в бан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30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ктуальность темы в том, что  в ГИА введен разде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Реальная математик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ь нашей работы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емонстрировать разнообразие применения математических знаний в реальной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атематика очень важна в повседневн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седневная жизнь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ль математик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еседа, анализ, наблюдение,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едположили, что если научиться решать задачи с математическим содержанием в быту и повседневной жизни, то это помож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делать ошибок на экзаме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раться в товарно-денежных отно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практич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0" r="0" b="3128"/>
          <a:stretch/>
        </p:blipFill>
        <p:spPr>
          <a:xfrm>
            <a:off x="5508720" y="4129200"/>
            <a:ext cx="363528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лее мы спланировали свою дальнейшую работу так, чтобы найти ответы на эти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часто в жизни люди сталкиваются с математическими задачами в быту и повседневной жизн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и данная информация в периодической печа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ают ли такие задачи старшеклассн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19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тветить на эти вопросы, м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ли теорию в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тились с людьми разных професс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али результаты, полученные в ходе опро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мотрели газеты и журналы, чтобы найти  ответ на вопрос «Есть ли подобная информация в периодической печати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" descr=""/>
          <p:cNvPicPr/>
          <p:nvPr/>
        </p:nvPicPr>
        <p:blipFill>
          <a:blip r:embed="rId1"/>
          <a:stretch/>
        </p:blipFill>
        <p:spPr>
          <a:xfrm>
            <a:off x="4359240" y="4363920"/>
            <a:ext cx="22536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128916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"/>
          <p:cNvPicPr/>
          <p:nvPr/>
        </p:nvPicPr>
        <p:blipFill>
          <a:blip r:embed="rId3"/>
          <a:stretch/>
        </p:blipFill>
        <p:spPr>
          <a:xfrm>
            <a:off x="5796000" y="3284640"/>
            <a:ext cx="936720" cy="19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"/>
          <p:cNvPicPr/>
          <p:nvPr/>
        </p:nvPicPr>
        <p:blipFill>
          <a:blip r:embed="rId4"/>
          <a:stretch/>
        </p:blipFill>
        <p:spPr>
          <a:xfrm>
            <a:off x="4572000" y="1487520"/>
            <a:ext cx="171360" cy="1206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с двумя скругленными противолежащими углами 10"/>
          <p:cNvSpPr/>
          <p:nvPr/>
        </p:nvSpPr>
        <p:spPr>
          <a:xfrm>
            <a:off x="2987640" y="2060640"/>
            <a:ext cx="3168720" cy="280836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ют ли математические задачи в повседневной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108000" y="2997360"/>
            <a:ext cx="205092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хгал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6948360" y="2982960"/>
            <a:ext cx="18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3"/>
          <p:cNvSpPr/>
          <p:nvPr/>
        </p:nvSpPr>
        <p:spPr>
          <a:xfrm>
            <a:off x="3132000" y="5445000"/>
            <a:ext cx="2519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1"/>
          <p:cNvSpPr/>
          <p:nvPr/>
        </p:nvSpPr>
        <p:spPr>
          <a:xfrm>
            <a:off x="3635280" y="476280"/>
            <a:ext cx="2089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а купил американский автомобиль, на спидометре которого скорость измеряется в милях в час. Какова скорость автомобиля в км/ч, если спидометр показывает 50 миль в ча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миля=1 км 609 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60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0≈80(км/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етчик электроэнергии 25 марта показывал 4055кВт/ч, а 25 апреля 4237кВт/ч. Сколько рублей нужно заплатить за электроэнергию за мар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1кВт/ч стоит 2 рубля 86 копее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37-4055=182(кВт/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,86*182=520 рублей 5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10:18Z</dcterms:created>
  <dc:creator>Kinder</dc:creator>
  <dc:description/>
  <dc:language>en-US</dc:language>
  <cp:lastModifiedBy>Пользователь</cp:lastModifiedBy>
  <dcterms:modified xsi:type="dcterms:W3CDTF">2022-02-19T14:06:54Z</dcterms:modified>
  <cp:revision>46</cp:revision>
  <dc:subject/>
  <dc:title>Слайд 1</dc:title>
</cp:coreProperties>
</file>