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5A9B-13F2-4D25-B433-5DF0469D9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86E0-ECC5-47FE-B949-3DD0786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395F-371A-4354-88B8-FACD679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F888-2C2E-45FD-B821-26DD4BB9E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9FDC-E7CE-480F-A5D0-0837051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60A9-6AAD-48F2-91FF-A982426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D908-34FA-481D-B398-3E954B1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C161-90D8-47C5-9860-3A9914C5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2767-7EB3-4DAD-B19D-3A181006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7C84-7D85-40FB-847B-A4D29EF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C258-1786-47AA-8CE2-4B9EEDE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1323-CD17-4D81-B5CE-7EC5BBC1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B4A930-E49E-45B6-8595-0234E0B1331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1125360"/>
            <a:ext cx="77724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снижения голосо-речевой нагрузки воспитателей Д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479736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олнила Фролова В.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-логопед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ая половина д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полдника, как правило, проводятся подвижные игры, игры-драматизации или прогулка. Часто воспитатель готовит детей к различным праздникам, разучивает с ними стихи, песни. Здесь он демонстрирует не только речевое, но и вокальное мастерство, умение имитировать голоса разных персонажей и животных, что требует дополнительной голосо-речевой подготов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68360" y="549360"/>
            <a:ext cx="8136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 второй половине дня детей начинают постепенно забирать родители, и с каждым из них воспитатель проводит беседу, комментирует поведение ребенка, делится своими наблюдениями, дает советы, рекомендации. Общение с родителями требует от педагога безукоризненного владения своим голосом: ничто не должно показать усталость или тревогу, иначе ухудшится коммуникативное взаимодействие между участниками образовательных отнош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в конце рабочего дн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йте с детьми тихую игру или почитайте сказ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ложите им вспомнить названия овощей, фруктов, предметов мебели или подвести итоги д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е упражнения на релакс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полноценной реализации коммуникативной функции в профессиональной деятельности воспитателям нужно запомнить и выполнять несложные правила: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206064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едить за своим здоровьем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блюдать правила гигиены голос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тролировать голосо-речевую нагрузку в течение дня: использовать «педагогические уловки», давать отдых голосо-речевому аппарату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 злоупотреблять повышенным тоном, подбирать интонацию адекватно педагогической ситу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ь релаксационные минутки, в организации которых может помочь педагог-психолог ДОО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а соблюдения гигиены голоса для воспитател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остоянно голосовую форму, не допускайте охриплости или неестественного звучания голос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научитесь отличать неполадки в голосовом аппарате вследствие простуды от неправильного голосообразо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избегайте повышенной голосо-речевой нагрузки даже в состоянии легкой простуд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соблюдайте правила нервно-психической гигиены, включающей мероприятия по снятию эмоционального напряжения, мышечному  расслаблению и регуляции общего мышечного тонуса и поддержанию положительного психоэмоционального состоя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​говорите динамично, голос должен быть достаточно громким, с удобной высотой тона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витие силы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носить звук [у], имитируя различные ситуаци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дит пароход, который находится далеко в м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дит пароход, который стоит у прич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стит паровоз, который подходит к ста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стит электричка, которая проносится мимо ста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зменение высоты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11120" y="126360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Колокол" - "раскачиваем колокол", одновременно произнося звукосочетания на заданной высоте; сначала "мы раскачиваем небольшой колокол", произнося дон-дон-дон на обычной высоте голоса, затем - "массивный колокол", произнося бом-бом-бом низким голосом, затем - "бубенчики", произнося динь-дон-динь-дон-динь-дон высоким голос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Генератор звука" - тянем гласные звуки [а], [о], [у], постепенно изменяя высоту голоса, как будто поворачиваем ручку звукового генера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Инопланетянин" - попеременно произносим звуки [у], [и], при этом звук [у] произносился низким голосом, а [и] - высок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"Шагаем по ступенькам" - произносим фразы "Первый этаж, второй этаж: седьмой этаж", постепенно повышая свой голос, как бы шагаем по ступенька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ренировки темпа ре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052640"/>
            <a:ext cx="82296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читать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диктуете нерадивому ученику данное сообщ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ую новость хорошему другу в неторопливой бес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ое сообщение большой ауд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рассказываете данную новость кому-либо, когда у вас совсем нет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редать стук колес поезда в разном темп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езд отходит от станции: тук-тук-тук-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бавляет ход: туктуктуктук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чится быстрее: так-чики,так-чики,так-чики.так-ч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медляет ход: туктуктук-тук-тук-ту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витие мелодико-интонационной стороны ре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ти скорогово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нтонациями радости, удивления, восхи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нтонациями порицания, печали, безразлич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просительной интон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заданный текст с интонациями удивления, страха, восхи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ести строчки из различных стихотворений сначала с интонацией вопроса, а затем утверждения, как бы отвечая н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стихотворения, повышая на пол тона каждую строчку, как бы идя вверх по лестнице, чтобы звук голоса усилива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пражнения на развитие интонационной стороны ре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интонациями радости, удивления, восхищения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а горке на пригорке жили тридцать три Егор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интонациями порицания, печали, безразличия скороговор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имой бы съел грибок, да снег глуб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нести с вопросительной интонацией скороговор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ы ли были у Невы, где стынут бронзовые ль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ронила ворона ворон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ло колодца кольцо не найдет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арактеристики профессионального голоса педаг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•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статочный уровень громкости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большая устойчивость и способность выдерживать длительную нагрузку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разнообразие тембра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благозвуч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полет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суггестивность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адаптивность к профессиональным ситуациям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• гибкость и выносливость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комендуемая литература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мазова Е. С. Логопедическая работа по восстановлению голоса у детей. - М., 2005-192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школьная педагогика / под ред. В. И. Логиновой и П. Г. Саморуковой в 2-х частях ч.2 - М., 1988 - 280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рицкий Л. А, Тринос В. А., Тринос Л. А. Практическая фониатрия - Киев, 1984-165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вановская Ф. А. Сборник логопедических упражнений при расстройствах голоса - М., 1961-51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нязьков А. А. Техника речи и постановка голоса - М., 1989 - 5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злянинова И. П., Чарели Э. М. Тайны нашего голоса. - Екатеринбург 1992-319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рекционно-педагогическое воздействие при функциональных нарушениях голоса. Методические рекомендации. / сост. О. С. Орлова, Ю. С. Василенко и др. - М., 1990-21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аврова Е. В. Логопедия. Основы фонопедии М., 2007 - 1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рева Н. А. Тренинг педагогического общения - М., 2003 - 30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ов И. И. Фониатрия. Изд. Медицина - М., 1987-286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керская Е. М. Вокальный букварь - М., 1996 - 126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востьянов А. И. 300 упражнений учителю для работы над дыханием, голосом, дикцией и орфоэпией. - М., 2005-160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229200" cy="1917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2124000" y="170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асибо за внимание!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ля использования голос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 смены по 7 часов кажда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-64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-50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, оказывающие неблагоприятное влияние на голос педагог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большое количество воспитанников в груп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стоянные гул и шум, создаваемые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очередное пребывание то в помещении, то на 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3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жесткий режим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тсутствие возможности проводить релаксационные упражнения в течение рабочей сме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хронические эмоциональные перегрузк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при приёме дет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йте на стендах группы памятки для родителей о том, как нужно готовить детей к детскому саду после выходных или болезни, как успокоить плачущего ребенка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отвлекающие игры типа «Зайка, зайка убегает, маму на работу провожает»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 родителями негромко, используя суггестивность голоса и создавая положительный эмоциональный фон для общен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на занятиях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я система общения с детьм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, подобранный с учетом возрастных и индивидуальных особенностей дошкольников дидактический материа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имики и пантомимики, игр на внима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«Руки-ноги»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одному хлопку  поднять руки, на два хлопка — встать, на три хлопка — топать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на занятиях фрагментов мультфильмов, видеороликов с компьютерными героями, произносящими определенные инструкции, фонограммы голосов дикторов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 НЕОЖИДАН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39640" y="33336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меры рефлекси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имеры рефлекси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БУКЕТ НАСТРОЕНИЯ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ить детям расставить цветы в вазу ( красный – есть проблема, нужна помощь; желтый – не все понятно; зеленый – все хорошо)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РЕВО УСПЕХ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ереве расположить листочки ( выбрать цвет – красный, желтый, зеленый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СОЛНЫШКО И  ТУЧКА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РЕВО ЧУВСТ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чувствую себя хорошо, комфортно, то вешаю на дерево яблоки красного  цвета, если нет,  зелёного.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611280" y="5589720"/>
            <a:ext cx="48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МАЙЛИ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снижения голосо-речевой нагрузки в ходе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амостоятельной деятельности  детей: 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йте внимание детей с помощью красивой мелодии, сигнальных карточек, красочных игруш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внимание  «Кто меня слыш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Кто меня слышит, поднимите обе руки. Кто меня слышит, хлопните в ладоши. Кто меня слышит, встаньт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ем по правилам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авила изображают графически (картинкой) и для краткости выражаются одним словом: «Помирись», «Помоги» «Поиграл - убери» и т. 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айте наиболее активных воспитанников своими помощниками, дежурными, которые помогут организовать уборку игрушек, подготовить группу к занятию, первыми водят в играх, выполняют простые пор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е их на микрогруппы и формируйте сюжет игры для каждой из 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ы снижения голосо-речевого напряжения на прогулка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полнение особых упражнений с детьми, координирующих дыхание, фонацию и артикуля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ыработка системы жестов и зна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«Воспитатель — регулировщик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гры «Ручеек» или «Золотые ворот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1:22:13Z</dcterms:created>
  <dc:creator>Homeps</dc:creator>
  <dc:description/>
  <dc:language>en-US</dc:language>
  <cp:lastModifiedBy>User</cp:lastModifiedBy>
  <dcterms:modified xsi:type="dcterms:W3CDTF">2022-02-19T12:09:26Z</dcterms:modified>
  <cp:revision>19</cp:revision>
  <dc:subject/>
  <dc:title>Методы снижения голосо-речевой нагрузки воспитателей ДОО</dc:title>
</cp:coreProperties>
</file>