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6F7B-642E-42CD-A77F-05B552BEB0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E1F1-612D-4B3D-B639-3D7B11C2C7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70C-7E4B-4A83-AA16-7872E023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155-DF0A-41DD-B38C-E5A40C50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54F-A1A1-4B60-A032-778C6121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EBC-F33C-4237-86D0-F61B3F5F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78A14-4F5D-40C9-B9E0-F54F65AE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5D59C-F2A7-487F-9EA5-8389EEE1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76DA4-7543-441D-9BC0-CA2F0F87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D5AE2-9071-4CA9-8EBC-C34F4EE8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D47EA-DA7C-478F-B315-8C2CEDED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DE061-E351-4565-AE67-F5E493C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0684D-EE9A-4C7A-8250-9DC2AA63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376-7623-447D-B579-B6EED25C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1E02C-1A8C-4345-9F13-DE030D36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8DEDD-4E89-4635-AB79-7301FD30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97963-6A2B-4F12-AD4A-6F10A159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D8357-3DF1-421E-976D-93D84355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00FB5-B86B-45EC-8B2A-60A4B00B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38F-7909-4422-A3E4-7253809D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A32-75D7-4802-896A-C1806FB4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025-D5A9-47BC-A9AB-D540D212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206-E08F-4C43-9464-C17887E3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574-1561-4BDE-89DE-EED22457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581-BECF-48AD-8D95-82F34691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7A5-429B-46CF-ABA2-671B3EEF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2486-B616-4CCD-B6B2-16B6C25D07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B296-2822-4353-ABF8-F7D308F179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e3e3ff"/>
                </a:solidFill>
                <a:latin typeface="Verdana"/>
                <a:ea typeface="Verdana"/>
              </a:rPr>
              <a:t>Основатель тувинского государства.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1547640" y="620640"/>
            <a:ext cx="633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4643280" y="1071720"/>
            <a:ext cx="3786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тувинский Хурал утвердил первую конституцию ТНР (19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C:\Users\Кабинет 17\Desktop\1313702795_5.jpg"/>
          <p:cNvPicPr/>
          <p:nvPr/>
        </p:nvPicPr>
        <p:blipFill>
          <a:blip r:embed="rId1"/>
          <a:stretch/>
        </p:blipFill>
        <p:spPr>
          <a:xfrm>
            <a:off x="214200" y="714240"/>
            <a:ext cx="41436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ТНР 007"/>
          <p:cNvPicPr/>
          <p:nvPr/>
        </p:nvPicPr>
        <p:blipFill>
          <a:blip r:embed="rId1"/>
          <a:stretch/>
        </p:blipFill>
        <p:spPr>
          <a:xfrm>
            <a:off x="285840" y="857160"/>
            <a:ext cx="8501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ТНР 006"/>
          <p:cNvPicPr/>
          <p:nvPr/>
        </p:nvPicPr>
        <p:blipFill>
          <a:blip r:embed="rId1"/>
          <a:stretch/>
        </p:blipFill>
        <p:spPr>
          <a:xfrm>
            <a:off x="928800" y="714240"/>
            <a:ext cx="7572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ТНР 004"/>
          <p:cNvPicPr/>
          <p:nvPr/>
        </p:nvPicPr>
        <p:blipFill>
          <a:blip r:embed="rId1"/>
          <a:stretch/>
        </p:blipFill>
        <p:spPr>
          <a:xfrm>
            <a:off x="1692360" y="285840"/>
            <a:ext cx="5832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ТНР 017"/>
          <p:cNvPicPr/>
          <p:nvPr/>
        </p:nvPicPr>
        <p:blipFill>
          <a:blip r:embed="rId1"/>
          <a:stretch/>
        </p:blipFill>
        <p:spPr>
          <a:xfrm>
            <a:off x="714240" y="642960"/>
            <a:ext cx="78584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ТНР 010"/>
          <p:cNvPicPr/>
          <p:nvPr/>
        </p:nvPicPr>
        <p:blipFill>
          <a:blip r:embed="rId1"/>
          <a:stretch/>
        </p:blipFill>
        <p:spPr>
          <a:xfrm>
            <a:off x="571680" y="428760"/>
            <a:ext cx="8143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ТНР 009"/>
          <p:cNvPicPr/>
          <p:nvPr/>
        </p:nvPicPr>
        <p:blipFill>
          <a:blip r:embed="rId1"/>
          <a:stretch/>
        </p:blipFill>
        <p:spPr>
          <a:xfrm>
            <a:off x="1214280" y="214200"/>
            <a:ext cx="70009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2786040" y="50004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ы в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Прямая со стрелкой 5"/>
          <p:cNvCxnSpPr/>
          <p:nvPr/>
        </p:nvCxnSpPr>
        <p:spPr>
          <a:xfrm flipH="1">
            <a:off x="1571040" y="1143000"/>
            <a:ext cx="1857960" cy="1286640"/>
          </a:xfrm>
          <a:prstGeom prst="straightConnector1">
            <a:avLst/>
          </a:prstGeom>
          <a:ln w="9360">
            <a:solidFill>
              <a:srgbClr val="2d95fe"/>
            </a:solidFill>
            <a:miter/>
            <a:tailEnd len="med" type="arrow" w="med"/>
          </a:ln>
        </p:spPr>
      </p:cxnSp>
      <p:cxnSp>
        <p:nvCxnSpPr>
          <p:cNvPr id="153" name="Прямая со стрелкой 7"/>
          <p:cNvCxnSpPr/>
          <p:nvPr/>
        </p:nvCxnSpPr>
        <p:spPr>
          <a:xfrm>
            <a:off x="5643360" y="1214280"/>
            <a:ext cx="1929240" cy="1215360"/>
          </a:xfrm>
          <a:prstGeom prst="straightConnector1">
            <a:avLst/>
          </a:prstGeom>
          <a:ln w="9360">
            <a:solidFill>
              <a:srgbClr val="2d95fe"/>
            </a:solidFill>
            <a:miter/>
            <a:tailEnd len="med" type="arrow" w="med"/>
          </a:ln>
        </p:spPr>
      </p:cxnSp>
      <p:sp>
        <p:nvSpPr>
          <p:cNvPr id="154" name="TextBox 8"/>
          <p:cNvSpPr/>
          <p:nvPr/>
        </p:nvSpPr>
        <p:spPr>
          <a:xfrm>
            <a:off x="500040" y="2857680"/>
            <a:ext cx="339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Великий Хур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(верховная вла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000760" y="2786040"/>
            <a:ext cx="357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Центральный 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(правительст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Users\Кабинет 17\Desktop\4.jpg"/>
          <p:cNvPicPr/>
          <p:nvPr/>
        </p:nvPicPr>
        <p:blipFill>
          <a:blip r:embed="rId1"/>
          <a:stretch/>
        </p:blipFill>
        <p:spPr>
          <a:xfrm>
            <a:off x="785880" y="857160"/>
            <a:ext cx="7786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ТНР 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ТНР 014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4572000" y="2421000"/>
            <a:ext cx="432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Монгуш Хайдып огл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Буян-Бадырг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928440" y="571680"/>
            <a:ext cx="7631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4 министерств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Verdana"/>
              </a:rPr>
              <a:t>Министерство иностранных д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Verdana"/>
              </a:rPr>
              <a:t>Министерство внутренних д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Verdana"/>
              </a:rPr>
              <a:t>Министерство юст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Verdana"/>
              </a:rPr>
              <a:t>Министерство финансов (1922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Verdan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ТНР 002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3"/>
          <p:cNvSpPr/>
          <p:nvPr/>
        </p:nvSpPr>
        <p:spPr>
          <a:xfrm>
            <a:off x="0" y="857160"/>
            <a:ext cx="892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1921г - Буян-Бадыргы занимал руководящие посты в Правительстве ЦК ТНР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С 1922 по 1924 гг – заместитель председателя Совета Министров ТН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С 1924 по 1925 гг – председатель Совета Министров ТН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1925 – Генеральный секретарь  ЦК ТНР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1926 – министр ТН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Кабинет 17\Desktop\i (3).jpg"/>
          <p:cNvPicPr/>
          <p:nvPr/>
        </p:nvPicPr>
        <p:blipFill>
          <a:blip r:embed="rId1"/>
          <a:stretch/>
        </p:blipFill>
        <p:spPr>
          <a:xfrm>
            <a:off x="1428840" y="214200"/>
            <a:ext cx="6858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ТНР 001"/>
          <p:cNvPicPr/>
          <p:nvPr/>
        </p:nvPicPr>
        <p:blipFill>
          <a:blip r:embed="rId1"/>
          <a:stretch/>
        </p:blipFill>
        <p:spPr>
          <a:xfrm>
            <a:off x="714240" y="714240"/>
            <a:ext cx="77155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ТНР 008"/>
          <p:cNvPicPr/>
          <p:nvPr/>
        </p:nvPicPr>
        <p:blipFill>
          <a:blip r:embed="rId1"/>
          <a:stretch/>
        </p:blipFill>
        <p:spPr>
          <a:xfrm>
            <a:off x="785880" y="285840"/>
            <a:ext cx="76438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ТНР 024"/>
          <p:cNvPicPr/>
          <p:nvPr/>
        </p:nvPicPr>
        <p:blipFill>
          <a:blip r:embed="rId1"/>
          <a:stretch/>
        </p:blipFill>
        <p:spPr>
          <a:xfrm>
            <a:off x="0" y="0"/>
            <a:ext cx="4896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>
            <a:off x="5508720" y="2924280"/>
            <a:ext cx="3024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Значки 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ТНР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ТНР 025"/>
          <p:cNvPicPr/>
          <p:nvPr/>
        </p:nvPicPr>
        <p:blipFill>
          <a:blip r:embed="rId1"/>
          <a:stretch/>
        </p:blipFill>
        <p:spPr>
          <a:xfrm>
            <a:off x="250920" y="0"/>
            <a:ext cx="44272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5724360" y="3141720"/>
            <a:ext cx="295128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Значки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ТНР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ТНР 022"/>
          <p:cNvPicPr/>
          <p:nvPr/>
        </p:nvPicPr>
        <p:blipFill>
          <a:blip r:embed="rId1"/>
          <a:stretch/>
        </p:blipFill>
        <p:spPr>
          <a:xfrm>
            <a:off x="714240" y="714240"/>
            <a:ext cx="7786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ТНР 023"/>
          <p:cNvPicPr/>
          <p:nvPr/>
        </p:nvPicPr>
        <p:blipFill>
          <a:blip r:embed="rId1"/>
          <a:stretch/>
        </p:blipFill>
        <p:spPr>
          <a:xfrm>
            <a:off x="785880" y="714240"/>
            <a:ext cx="7715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Кабинет 17\Desktop\i.jpg"/>
          <p:cNvPicPr/>
          <p:nvPr/>
        </p:nvPicPr>
        <p:blipFill>
          <a:blip r:embed="rId1"/>
          <a:stretch/>
        </p:blipFill>
        <p:spPr>
          <a:xfrm>
            <a:off x="0" y="0"/>
            <a:ext cx="3500280" cy="57862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3643200" y="285840"/>
            <a:ext cx="5143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Монгуш Буян-Бадыргы 26 октября 1913года подал прошение принятии Тувы под протекторат Российской импер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Российский император Николай II утвердил требования 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прошен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 29 марта 1914 года, собственноручно написав «Согласен!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ТНР 014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5"/>
          <p:cNvSpPr txBox="1"/>
          <p:nvPr/>
        </p:nvSpPr>
        <p:spPr>
          <a:xfrm>
            <a:off x="4643280" y="1700280"/>
            <a:ext cx="4500720" cy="31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1921-1929 гг.-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Председатель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Совета Министров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Народной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Республики Танну-Тува.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785880" y="1989000"/>
            <a:ext cx="7715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Благодарю за внимание!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Кабинет 17\Desktop\1392701649_slayd1.jpg"/>
          <p:cNvPicPr/>
          <p:nvPr/>
        </p:nvPicPr>
        <p:blipFill>
          <a:blip r:embed="rId1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5000760" y="1214280"/>
            <a:ext cx="3929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Verdana"/>
              </a:rPr>
              <a:t>Прощени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Verdana"/>
              </a:rPr>
              <a:t>о покровительстве нойона Буян-Бадыргы  к царю Николаю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Verdana"/>
              </a:rPr>
              <a:t>(26 октября 1913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3"/>
          <p:cNvSpPr/>
          <p:nvPr/>
        </p:nvSpPr>
        <p:spPr>
          <a:xfrm>
            <a:off x="357120" y="357120"/>
            <a:ext cx="8429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13 – 15 августа 1921 год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 местечке Суг-Бажы состоялся Всетувинский учредительный Хурал (съезд). Председателем был Монгуш Буян-Бадырг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ТНР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Кабинет 17\Desktop\1284215765_safyanov-i-g.jpg"/>
          <p:cNvPicPr/>
          <p:nvPr/>
        </p:nvPicPr>
        <p:blipFill>
          <a:blip r:embed="rId1"/>
          <a:stretch/>
        </p:blipFill>
        <p:spPr>
          <a:xfrm>
            <a:off x="285840" y="714240"/>
            <a:ext cx="4000320" cy="40006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4643280" y="1071720"/>
            <a:ext cx="4000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Съезд открыл председатель Сибирского революционного комитета И.Г.Сафья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0" y="5716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Провозглашение образование первого  в  истории   тувинского  народа  самостоятельного,  независимого  государства -  Тувинской  Народной  Республики (ТНР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ТНР 013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4:58:02Z</dcterms:created>
  <dc:creator>Admin</dc:creator>
  <dc:description/>
  <dc:language>en-US</dc:language>
  <cp:lastModifiedBy>нач</cp:lastModifiedBy>
  <dcterms:modified xsi:type="dcterms:W3CDTF">2022-02-19T19:40:49Z</dcterms:modified>
  <cp:revision>17</cp:revision>
  <dc:subject/>
  <dc:title> Торээн Тывам тоогузу  аас-журнал</dc:title>
</cp:coreProperties>
</file>