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EDF-87C1-4717-A1AF-E47145EA77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8EA3-E241-428E-84E8-570D4DB40E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128-DFD9-4C36-A4F3-9A7951CF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B66-286D-4A03-9E21-98D43F2B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C6A-6F06-4219-A53F-454E148E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4D1-6E34-46A6-9161-EED757B1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D3FDF-1681-4FC0-9D5D-3933C5E2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AFF5A-673A-4431-9AE2-13CED885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D46DF-3D8F-461D-A3DE-6BCEF3EA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1BADB-FCD1-4104-89AF-850F070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D10DC-D9D7-4886-A396-3584DC84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4D400-338D-4094-AC5A-A9017608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0008D-D074-4402-9F87-C4E7735C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EF8-9A96-469A-87BC-3907B2D5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BFB8E-D3D6-45FB-AC99-25AE307C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CC25E-722C-4729-BDFB-BD323297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EF431-9CE9-431C-8826-94AE6CF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B1938-1887-41F5-8B7B-7B957FFE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D95A7-BC9B-4692-8121-20B37ED1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D07-F4AE-448B-B602-AAE1ACE1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52E-A767-4734-96B4-498E50AF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28B-6BA4-40CA-9B51-AAE84880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7B2-FDE1-4458-87D6-C70CE8DA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AA4-5E98-45F4-834A-13FFCCD1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878-5AC3-489E-A2F5-38CACE43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B38-09AB-4AF1-AECD-7942FEA8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2B32-C87F-47F0-892C-62ADED302E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4C88-2525-481F-8187-1A005DDB1C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e3e3ff"/>
                </a:solidFill>
                <a:latin typeface="Verdana"/>
                <a:ea typeface="Verdana"/>
              </a:rPr>
              <a:t>Основатель тувинского государства.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1547640" y="620640"/>
            <a:ext cx="633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4643280" y="1071720"/>
            <a:ext cx="3786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тувинский Хурал утвердил первую конституцию ТНР (19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C:\Users\Кабинет 17\Desktop\1313702795_5.jpg"/>
          <p:cNvPicPr/>
          <p:nvPr/>
        </p:nvPicPr>
        <p:blipFill>
          <a:blip r:embed="rId1"/>
          <a:stretch/>
        </p:blipFill>
        <p:spPr>
          <a:xfrm>
            <a:off x="214200" y="714240"/>
            <a:ext cx="41436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ТНР 007"/>
          <p:cNvPicPr/>
          <p:nvPr/>
        </p:nvPicPr>
        <p:blipFill>
          <a:blip r:embed="rId1"/>
          <a:stretch/>
        </p:blipFill>
        <p:spPr>
          <a:xfrm>
            <a:off x="285840" y="857160"/>
            <a:ext cx="8501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ТНР 006"/>
          <p:cNvPicPr/>
          <p:nvPr/>
        </p:nvPicPr>
        <p:blipFill>
          <a:blip r:embed="rId1"/>
          <a:stretch/>
        </p:blipFill>
        <p:spPr>
          <a:xfrm>
            <a:off x="928800" y="714240"/>
            <a:ext cx="7572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ТНР 004"/>
          <p:cNvPicPr/>
          <p:nvPr/>
        </p:nvPicPr>
        <p:blipFill>
          <a:blip r:embed="rId1"/>
          <a:stretch/>
        </p:blipFill>
        <p:spPr>
          <a:xfrm>
            <a:off x="1692360" y="285840"/>
            <a:ext cx="5832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ТНР 017"/>
          <p:cNvPicPr/>
          <p:nvPr/>
        </p:nvPicPr>
        <p:blipFill>
          <a:blip r:embed="rId1"/>
          <a:stretch/>
        </p:blipFill>
        <p:spPr>
          <a:xfrm>
            <a:off x="714240" y="642960"/>
            <a:ext cx="78584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ТНР 010"/>
          <p:cNvPicPr/>
          <p:nvPr/>
        </p:nvPicPr>
        <p:blipFill>
          <a:blip r:embed="rId1"/>
          <a:stretch/>
        </p:blipFill>
        <p:spPr>
          <a:xfrm>
            <a:off x="571680" y="428760"/>
            <a:ext cx="8143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ТНР 009"/>
          <p:cNvPicPr/>
          <p:nvPr/>
        </p:nvPicPr>
        <p:blipFill>
          <a:blip r:embed="rId1"/>
          <a:stretch/>
        </p:blipFill>
        <p:spPr>
          <a:xfrm>
            <a:off x="1214280" y="214200"/>
            <a:ext cx="70009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2786040" y="50004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ы в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Прямая со стрелкой 5"/>
          <p:cNvCxnSpPr/>
          <p:nvPr/>
        </p:nvCxnSpPr>
        <p:spPr>
          <a:xfrm flipH="1">
            <a:off x="1571040" y="1143000"/>
            <a:ext cx="1857960" cy="1286640"/>
          </a:xfrm>
          <a:prstGeom prst="straightConnector1">
            <a:avLst/>
          </a:prstGeom>
          <a:ln w="9360">
            <a:solidFill>
              <a:srgbClr val="2d95fe"/>
            </a:solidFill>
            <a:miter/>
            <a:tailEnd len="med" type="arrow" w="med"/>
          </a:ln>
        </p:spPr>
      </p:cxnSp>
      <p:cxnSp>
        <p:nvCxnSpPr>
          <p:cNvPr id="153" name="Прямая со стрелкой 7"/>
          <p:cNvCxnSpPr/>
          <p:nvPr/>
        </p:nvCxnSpPr>
        <p:spPr>
          <a:xfrm>
            <a:off x="5643360" y="1214280"/>
            <a:ext cx="1929240" cy="1215360"/>
          </a:xfrm>
          <a:prstGeom prst="straightConnector1">
            <a:avLst/>
          </a:prstGeom>
          <a:ln w="9360">
            <a:solidFill>
              <a:srgbClr val="2d95fe"/>
            </a:solidFill>
            <a:miter/>
            <a:tailEnd len="med" type="arrow" w="med"/>
          </a:ln>
        </p:spPr>
      </p:cxnSp>
      <p:sp>
        <p:nvSpPr>
          <p:cNvPr id="154" name="TextBox 8"/>
          <p:cNvSpPr/>
          <p:nvPr/>
        </p:nvSpPr>
        <p:spPr>
          <a:xfrm>
            <a:off x="500040" y="2857680"/>
            <a:ext cx="339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Великий Хур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(верховная вла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000760" y="2786040"/>
            <a:ext cx="357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Центральный 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(правительст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Кабинет 17\Desktop\4.jpg"/>
          <p:cNvPicPr/>
          <p:nvPr/>
        </p:nvPicPr>
        <p:blipFill>
          <a:blip r:embed="rId1"/>
          <a:stretch/>
        </p:blipFill>
        <p:spPr>
          <a:xfrm>
            <a:off x="785880" y="857160"/>
            <a:ext cx="7786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ТНР 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ТНР 014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4572000" y="2421000"/>
            <a:ext cx="432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Монгуш Хайдып огл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Буян-Бадырг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928440" y="571680"/>
            <a:ext cx="7631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4 министерств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Verdana"/>
              </a:rPr>
              <a:t>Министерство иностранных 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Verdana"/>
              </a:rPr>
              <a:t>Министерство внутренних 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Verdana"/>
              </a:rPr>
              <a:t>Министерство юст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Verdana"/>
              </a:rPr>
              <a:t>Министерство финансов (1922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Verdan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ТНР 002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"/>
          <p:cNvSpPr/>
          <p:nvPr/>
        </p:nvSpPr>
        <p:spPr>
          <a:xfrm>
            <a:off x="0" y="857160"/>
            <a:ext cx="892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1921г - Буян-Бадыргы занимал руководящие посты в Правительстве ЦК ТНР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С 1922 по 1924 гг – заместитель председателя Совета Министров ТН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С 1924 по 1925 гг – председатель Совета Министров ТН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1925 – Генеральный секретарь  ЦК ТНР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1926 – министр ТН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Кабинет 17\Desktop\i (3).jpg"/>
          <p:cNvPicPr/>
          <p:nvPr/>
        </p:nvPicPr>
        <p:blipFill>
          <a:blip r:embed="rId1"/>
          <a:stretch/>
        </p:blipFill>
        <p:spPr>
          <a:xfrm>
            <a:off x="1428840" y="214200"/>
            <a:ext cx="6858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ТНР 001"/>
          <p:cNvPicPr/>
          <p:nvPr/>
        </p:nvPicPr>
        <p:blipFill>
          <a:blip r:embed="rId1"/>
          <a:stretch/>
        </p:blipFill>
        <p:spPr>
          <a:xfrm>
            <a:off x="714240" y="714240"/>
            <a:ext cx="77155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ТНР 008"/>
          <p:cNvPicPr/>
          <p:nvPr/>
        </p:nvPicPr>
        <p:blipFill>
          <a:blip r:embed="rId1"/>
          <a:stretch/>
        </p:blipFill>
        <p:spPr>
          <a:xfrm>
            <a:off x="785880" y="285840"/>
            <a:ext cx="76438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ТНР 024"/>
          <p:cNvPicPr/>
          <p:nvPr/>
        </p:nvPicPr>
        <p:blipFill>
          <a:blip r:embed="rId1"/>
          <a:stretch/>
        </p:blipFill>
        <p:spPr>
          <a:xfrm>
            <a:off x="0" y="0"/>
            <a:ext cx="4896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5508720" y="2924280"/>
            <a:ext cx="3024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Значки 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ТНР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ТНР 025"/>
          <p:cNvPicPr/>
          <p:nvPr/>
        </p:nvPicPr>
        <p:blipFill>
          <a:blip r:embed="rId1"/>
          <a:stretch/>
        </p:blipFill>
        <p:spPr>
          <a:xfrm>
            <a:off x="250920" y="0"/>
            <a:ext cx="44272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5724360" y="3141720"/>
            <a:ext cx="295128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Значки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ТН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ТНР 022"/>
          <p:cNvPicPr/>
          <p:nvPr/>
        </p:nvPicPr>
        <p:blipFill>
          <a:blip r:embed="rId1"/>
          <a:stretch/>
        </p:blipFill>
        <p:spPr>
          <a:xfrm>
            <a:off x="714240" y="714240"/>
            <a:ext cx="7786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ТНР 023"/>
          <p:cNvPicPr/>
          <p:nvPr/>
        </p:nvPicPr>
        <p:blipFill>
          <a:blip r:embed="rId1"/>
          <a:stretch/>
        </p:blipFill>
        <p:spPr>
          <a:xfrm>
            <a:off x="785880" y="714240"/>
            <a:ext cx="7715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Кабинет 17\Desktop\i.jpg"/>
          <p:cNvPicPr/>
          <p:nvPr/>
        </p:nvPicPr>
        <p:blipFill>
          <a:blip r:embed="rId1"/>
          <a:stretch/>
        </p:blipFill>
        <p:spPr>
          <a:xfrm>
            <a:off x="0" y="0"/>
            <a:ext cx="3500280" cy="57862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3643200" y="285840"/>
            <a:ext cx="514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Монгуш Буян-Бадыргы 26 октября 1913года подал прошение принятии Тувы под протекторат Российской импер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Российский император Николай II утвердил требования 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прошен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 29 марта 1914 года, собственноручно написав «Согласен!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ТНР 014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5"/>
          <p:cNvSpPr txBox="1"/>
          <p:nvPr/>
        </p:nvSpPr>
        <p:spPr>
          <a:xfrm>
            <a:off x="4643280" y="1700280"/>
            <a:ext cx="4500720" cy="31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1921-1929 гг.-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Председатель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Совета Министров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Народной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Республики Танну-Тува.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785880" y="1989000"/>
            <a:ext cx="7715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Благодарю за внимание!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Кабинет 17\Desktop\1392701649_slayd1.jpg"/>
          <p:cNvPicPr/>
          <p:nvPr/>
        </p:nvPicPr>
        <p:blipFill>
          <a:blip r:embed="rId1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5000760" y="1214280"/>
            <a:ext cx="3929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Verdana"/>
              </a:rPr>
              <a:t>Прощени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Verdana"/>
              </a:rPr>
              <a:t>о покровительстве нойона Буян-Бадыргы  к царю Николаю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Verdana"/>
              </a:rPr>
              <a:t>(26 октября 1913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"/>
          <p:cNvSpPr/>
          <p:nvPr/>
        </p:nvSpPr>
        <p:spPr>
          <a:xfrm>
            <a:off x="357120" y="357120"/>
            <a:ext cx="8429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13 – 15 августа 1921 год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 местечке Суг-Бажы состоялся Всетувинский учредительный Хурал (съезд). Председателем был Монгуш Буян-Бадырг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ТНР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Кабинет 17\Desktop\1284215765_safyanov-i-g.jpg"/>
          <p:cNvPicPr/>
          <p:nvPr/>
        </p:nvPicPr>
        <p:blipFill>
          <a:blip r:embed="rId1"/>
          <a:stretch/>
        </p:blipFill>
        <p:spPr>
          <a:xfrm>
            <a:off x="285840" y="714240"/>
            <a:ext cx="4000320" cy="40006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4643280" y="1071720"/>
            <a:ext cx="4000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Съезд открыл председатель Сибирского революционного комитета И.Г.Сафья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0" y="5716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Провозглашение образование первого  в  истории   тувинского  народа  самостоятельного,  независимого  государства -  Тувинской  Народной  Республики (ТНР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ТНР 013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4:58:02Z</dcterms:created>
  <dc:creator>Admin</dc:creator>
  <dc:description/>
  <dc:language>en-US</dc:language>
  <cp:lastModifiedBy>нач</cp:lastModifiedBy>
  <dcterms:modified xsi:type="dcterms:W3CDTF">2022-02-19T19:40:49Z</dcterms:modified>
  <cp:revision>17</cp:revision>
  <dc:subject/>
  <dc:title> Торээн Тывам тоогузу  аас-журнал</dc:title>
</cp:coreProperties>
</file>