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69600"/>
            <a:ext cx="45626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D8A0-095D-43F7-85AD-780C15534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FD4BC-14A5-4AD1-B64F-06410160F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7483A-DC24-493B-8026-FA37787E6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9E0D4-0649-4381-A34E-BEA3FBB9D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73BE-48A9-49C4-BCD1-D80A5DFED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0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58D3-EA47-4B4B-B613-943ACF1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3C48-1636-48A2-B7EE-647BC7F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036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0360"/>
            <a:ext cx="26467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2719-68DA-4955-8355-AC16AB2A9A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243A-9466-4F26-8A84-E78240E7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883B-E217-424C-BC5E-698F976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7CA6-5114-496D-87EA-75530B9E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BD71-0582-4ADD-AF26-2D088A0A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02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9A1D-F355-47F9-A0FF-AB21BB3D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36E9-CB26-4550-9CA6-5E8BE533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036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203F-4473-4FFF-B8E2-48930F5D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0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15B6-66A0-405E-8F37-DF894691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171CE1-4084-41B3-8A13-80299DD1389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755640" y="206064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менение образовательных практико-ориентированных технологий на уроках истори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1680" y="4643280"/>
            <a:ext cx="3357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дыназын Р.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Баян-Колская СОШ МР «Кызылский кожуун» Р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0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,ЕГЭ по истори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857240"/>
          <a:ext cx="8220240" cy="3857760"/>
        </p:xfrm>
        <a:graphic>
          <a:graphicData uri="http://schemas.openxmlformats.org/drawingml/2006/table">
            <a:tbl>
              <a:tblPr/>
              <a:tblGrid>
                <a:gridCol w="2739960"/>
                <a:gridCol w="2739960"/>
                <a:gridCol w="274032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Е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21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 О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2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 О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3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ОГ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–2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274680"/>
            <a:ext cx="7427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26920" y="0"/>
            <a:ext cx="78598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5b40"/>
                </a:solidFill>
                <a:latin typeface="Antiqu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669636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071720"/>
            <a:ext cx="82202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тем, что практико-ориентированные технологии на уроках истории позволяют повысить эффективность в качестве обучения. В отличие от традиционного образования направлена на приобретение кроме знаний, умений  и навыков – опыта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214720" y="981000"/>
            <a:ext cx="585756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1800000" cy="532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57280" y="1285560"/>
            <a:ext cx="63201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изучен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 применения практико-ориентированных технологий на уроках истории и не только на них, предложить собственные идеи по его распространени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142640"/>
            <a:ext cx="82202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339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технолог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акая организация учебного занятия, которая предполагает активную самостоятельную деятельность учащихся с документами, картами, рабочими листами, историческими источниками, в результате чего происходит практическое и творческое овладение профессиональными знаниями, навыками, умениями и развитие мыслительных способнос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339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02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технология построена на трех кита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ышление, переживание, воля. Она может быть реализована только на основе системного подхо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-357120" y="6245280"/>
            <a:ext cx="8858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японского ученого Каору Исик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F:\ОТКРЫТЫЙ УРОК\img34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02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рактико-ориентированные задания на уроках истории позволяют  не только облегчить усвоение учебного материала, но и дают возможность для развития творческих способностей учащихся, активизируют познавательную активность, развивают мышление, повышают качество наглядности в учебном процессе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ые задания формируют у детей гармонически развитую личность, способную логически мыслить, находить решения в различных проблемных ситуациях, способную систематизировать и накапливать знания, способную к высокому самоанализу, саморазвит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достижений предметных олимпиад по истории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714760"/>
          <a:ext cx="8258040" cy="3286080"/>
        </p:xfrm>
        <a:graphic>
          <a:graphicData uri="http://schemas.openxmlformats.org/drawingml/2006/table">
            <a:tbl>
              <a:tblPr/>
              <a:tblGrid>
                <a:gridCol w="2739960"/>
                <a:gridCol w="2739960"/>
                <a:gridCol w="27781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 всероссийской олимпиады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укаеваСайдаш -10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тик-оол Бадма- 11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 на муниципальном этап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укаева Алдынай-9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лакпан Довук-10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 на муниципальном этап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дыр Кан-Демир-8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нзынмаа Шенне-9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ыг-оол Дан-Хая-10 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0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достижений НПК по истории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8760" y="2428920"/>
          <a:ext cx="8219880" cy="3929040"/>
        </p:xfrm>
        <a:graphic>
          <a:graphicData uri="http://schemas.openxmlformats.org/drawingml/2006/table">
            <a:tbl>
              <a:tblPr/>
              <a:tblGrid>
                <a:gridCol w="2739960"/>
                <a:gridCol w="2739960"/>
                <a:gridCol w="2739960"/>
              </a:tblGrid>
              <a:tr h="97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95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гаа Сырга –ученица 11 класса- призе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ыназын Айрана- ученица 10 класса - диплом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в всероссийском конкурск конкурсе презентаций  по теме «70-лет  Кызылскому кожуун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дыр Кан-Демир– ученик 8 класса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7:57:01Z</dcterms:created>
  <dc:creator>Галя</dc:creator>
  <dc:description/>
  <dc:language>en-US</dc:language>
  <cp:lastModifiedBy>нач</cp:lastModifiedBy>
  <cp:lastPrinted>2019-02-17T19:28:00Z</cp:lastPrinted>
  <dcterms:modified xsi:type="dcterms:W3CDTF">2022-02-19T18:30:03Z</dcterms:modified>
  <cp:revision>48</cp:revision>
  <dc:subject/>
  <dc:title>Слайд 1</dc:title>
</cp:coreProperties>
</file>