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69600"/>
            <a:ext cx="456264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3"/>
          </p:nvPr>
        </p:nvSpPr>
        <p:spPr>
          <a:xfrm>
            <a:off x="3884760" y="8685000"/>
            <a:ext cx="296208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1A3C46-B235-40AF-B5E2-93ED2CEFD4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13FB88-C3B8-4DC7-9B1C-F25BF20508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F2DD54-8DE6-4DCE-A107-045E045E3B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C178E3-18FF-425F-936B-94970671B8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57AEC-1E86-460D-B1EE-5E2286DBE3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02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0360"/>
            <a:ext cx="82202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DB4AB-C7E1-4388-A5FD-D5E75E28F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02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1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200" y="3960360"/>
            <a:ext cx="40111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438D6-5575-4791-AB2B-EC3543217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02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67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67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5960" y="1600200"/>
            <a:ext cx="26467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0360"/>
            <a:ext cx="26467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960360"/>
            <a:ext cx="26467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5960" y="3960360"/>
            <a:ext cx="26467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E77C8-9045-4378-80E8-FBB35EA496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02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02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095AC-FBE2-424D-802A-E855ECBF2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02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D159B-19FF-4B1F-99E2-D7E1C17D1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02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712FE-86F4-40D8-B826-E73745536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02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3F824-297B-4DA4-8162-858A80F53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206640"/>
            <a:ext cx="822024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2BE33-4057-4265-94BD-F1117E73A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02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1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FFA5A-CDB9-4BD7-9367-94D412D8F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02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200" y="3960360"/>
            <a:ext cx="40111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57F97-ADD8-497A-977B-92867007F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02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82202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54B55-A39A-4417-B554-5E48B1206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02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02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240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6.12.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2436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FE6FA0F-4996-4324-B158-F054666FCE35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"/>
          <p:cNvSpPr/>
          <p:nvPr/>
        </p:nvSpPr>
        <p:spPr>
          <a:xfrm>
            <a:off x="755640" y="2060640"/>
            <a:ext cx="77724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именение образовательных практико-ориентированных технологий на уроках истории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71680" y="4643280"/>
            <a:ext cx="33577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дыназын Р.Х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истории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БОУ Баян-Колская СОШ МР «Кызылский кожуун» РТ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024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4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ОГЭ,ЕГЭ по истории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57200" y="1857240"/>
          <a:ext cx="8220240" cy="3857760"/>
        </p:xfrm>
        <a:graphic>
          <a:graphicData uri="http://schemas.openxmlformats.org/drawingml/2006/table">
            <a:tbl>
              <a:tblPr/>
              <a:tblGrid>
                <a:gridCol w="2739960"/>
                <a:gridCol w="2739960"/>
                <a:gridCol w="2740320"/>
              </a:tblGrid>
              <a:tr h="13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-20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6-201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-20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55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балл ЕГЭ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щихся –21,2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балл  ОГЭ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щихся –2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балл  ОГЭ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щихся –38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балл ОГЭ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щихся –26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06.12.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2"/>
          <p:cNvSpPr/>
          <p:nvPr/>
        </p:nvSpPr>
        <p:spPr>
          <a:xfrm>
            <a:off x="457200" y="274680"/>
            <a:ext cx="7427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826920" y="0"/>
            <a:ext cx="785988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3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35b40"/>
                </a:solidFill>
                <a:latin typeface="Antiqua"/>
              </a:rPr>
              <a:t>СПАСИБО ЗА ВНИМАНИЕ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539640" y="3860640"/>
            <a:ext cx="6696360" cy="25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1071720"/>
            <a:ext cx="8220240" cy="50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342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34272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темы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словлена тем, что практико-ориентированные технологии на уроках истории позволяют повысить эффективность в качестве обучения. В отличие от традиционного образования направлена на приобретение кроме знаний, умений  и навыков – опыта практической деятельност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342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214720" y="981000"/>
            <a:ext cx="5857560" cy="50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324000" y="765000"/>
            <a:ext cx="1800000" cy="532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2357280" y="1285560"/>
            <a:ext cx="6320160" cy="48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342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342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работы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ается в изучении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ффективности применения практико-ориентированных технологий на уроках истории и не только на них, предложить собственные идеи по его распространению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342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1142640"/>
            <a:ext cx="82202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33912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ко-ориентированная технология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такая организация учебного занятия, которая предполагает активную самостоятельную деятельность учащихся с документами, картами, рабочими листами, историческими источниками, в результате чего происходит практическое и творческое овладение профессиональными знаниями, навыками, умениями и развитие мыслительных способностей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339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999720"/>
            <a:ext cx="8220240" cy="51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ко-ориентированная технология построена на трех китах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мышление, переживание, воля. Она может быть реализована только на основе системного подход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02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Дата 3"/>
          <p:cNvSpPr/>
          <p:nvPr/>
        </p:nvSpPr>
        <p:spPr>
          <a:xfrm>
            <a:off x="-357120" y="6245280"/>
            <a:ext cx="8858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од японского ученого Каору Исикав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2" descr="F:\ОТКРЫТЫЙ УРОК\img34.jpg"/>
          <p:cNvPicPr/>
          <p:nvPr/>
        </p:nvPicPr>
        <p:blipFill>
          <a:blip r:embed="rId1"/>
          <a:stretch/>
        </p:blipFill>
        <p:spPr>
          <a:xfrm>
            <a:off x="0" y="285840"/>
            <a:ext cx="91440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0240" cy="24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214280"/>
            <a:ext cx="8220240" cy="54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algn="just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практико-ориентированные задания на уроках истории позволяют  не только облегчить усвоение учебного материала, но и дают возможность для развития творческих способностей учащихся, активизируют познавательную активность, развивают мышление, повышают качество наглядности в учебном процессе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ко-ориентированные задания формируют у детей гармонически развитую личность, способную логически мыслить, находить решения в различных проблемных ситуациях, способную систематизировать и накапливать знания, способную к высокому самоанализу, саморазвитию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02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йтинг достижений предметных олимпиад по истории.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57200" y="2714760"/>
          <a:ext cx="8258040" cy="3286080"/>
        </p:xfrm>
        <a:graphic>
          <a:graphicData uri="http://schemas.openxmlformats.org/drawingml/2006/table">
            <a:tbl>
              <a:tblPr/>
              <a:tblGrid>
                <a:gridCol w="2739960"/>
                <a:gridCol w="2739960"/>
                <a:gridCol w="2778120"/>
              </a:tblGrid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-20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6-201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-20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78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зеры всероссийской олимпиады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укаеваСайдаш -10 кл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ертик-оол Бадма- 11 кл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зеры на муниципальном этапе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укаева Алдынай-9 кл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глакпан Довук-10 кл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зеры на муниципальном этапе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агдыр Кан-Демир-8 кл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нзынмаа Шенне-9 кл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рыг-оол Дан-Хая-10 кл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02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йтинг достижений НПК по истории.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28760" y="2428920"/>
          <a:ext cx="8219880" cy="3929040"/>
        </p:xfrm>
        <a:graphic>
          <a:graphicData uri="http://schemas.openxmlformats.org/drawingml/2006/table">
            <a:tbl>
              <a:tblPr/>
              <a:tblGrid>
                <a:gridCol w="2739960"/>
                <a:gridCol w="2739960"/>
                <a:gridCol w="2739960"/>
              </a:tblGrid>
              <a:tr h="974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-20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6-20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-20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9545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гаа Сырга –ученица 11 класса- призер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дыназын Айрана- ученица 10 класса - диплом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пени в всероссийском конкурск конкурсе презентаций  по теме «70-лет  Кызылскому кожууну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агдыр Кан-Демир– ученик 8 класса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о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7T17:57:01Z</dcterms:created>
  <dc:creator>Галя</dc:creator>
  <dc:description/>
  <dc:language>en-US</dc:language>
  <cp:lastModifiedBy>нач</cp:lastModifiedBy>
  <cp:lastPrinted>2019-02-17T19:28:00Z</cp:lastPrinted>
  <dcterms:modified xsi:type="dcterms:W3CDTF">2022-02-19T18:30:03Z</dcterms:modified>
  <cp:revision>48</cp:revision>
  <dc:subject/>
  <dc:title>Слайд 1</dc:title>
</cp:coreProperties>
</file>