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67DD-8DEC-4336-80EC-9797F6010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EC8D-4F3E-470B-B502-6CAE3C10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0FCA-101E-4590-AB37-1E82D9917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40CF-431A-440C-8D33-51ACEBF6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1320-1CC6-423F-AEDB-CE916CAD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A6EB-70D7-42BE-AA29-746EB05A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198B-507F-4F7E-A736-AE5A5380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CF6B-37D4-44D3-B4E9-BEC333EE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F9AE-93FF-4CF2-AC79-21F76413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0960" cy="80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2860-7330-46C6-98B8-C8F74090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0007-A5B7-440E-BE24-38E8122F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E5BE-EAD6-4517-9850-1C309609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B0F5-70F3-4A1E-A4ED-4D438267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88AD-BDC1-4A35-9753-04F59B68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2942-8A34-4EAD-88CB-9D1E0375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6272-587A-4921-BDE9-0C9178664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A376-9BD0-45EB-937E-9B00D756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2FBA-FA5F-4EAA-A3DE-A614A01B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25C8-B40D-413A-B817-4E30FB08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F945-C1D7-4ADC-BA6C-E8562245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0960" cy="80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F56B-B4FB-4AA1-8A0A-C3535C36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5EAF-424C-4C68-9CB8-21507A25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1507-A31D-4F04-9DD8-0F7A41C8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346B-8192-442B-AB0C-8CB33EE1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0068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5680" cy="825480"/>
              <a:chOff x="5600880" y="5897520"/>
              <a:chExt cx="1255680" cy="825480"/>
            </a:xfrm>
          </p:grpSpPr>
          <p:sp>
            <p:nvSpPr>
              <p:cNvPr id="4" name=""/>
              <p:cNvSpPr/>
              <p:nvPr/>
            </p:nvSpPr>
            <p:spPr>
              <a:xfrm>
                <a:off x="5853240" y="6048360"/>
                <a:ext cx="842760" cy="517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604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4680" cy="327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4360" cy="2509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3480" cy="1681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6600" cy="2541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3440" cy="1029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39680" cy="3412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480" y="5945040"/>
                <a:ext cx="1189080" cy="7304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0840" cy="457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1760" cy="82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79400" cy="1082520"/>
              <a:chOff x="2819520" y="5764320"/>
              <a:chExt cx="2579400" cy="10825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1240" cy="596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0400" cy="525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3800" cy="473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3440" cy="407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4120" cy="379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4200" cy="3031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58920" cy="21276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1120" cy="936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1360" cy="29376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440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69920" cy="3985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a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4080" cy="2365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000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69880" cy="8920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0964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3720" cy="3697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1760" cy="10159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3080" cy="1301760"/>
              <a:chOff x="6553080" y="5334120"/>
              <a:chExt cx="2143080" cy="130176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5120" cy="11588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2200" cy="11685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5520" cy="3985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2680" cy="838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7440" cy="16992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5360" cy="5396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29960" cy="1411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144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7800" cy="1029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0440" cy="505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6320" cy="42876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1280" cy="3686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1600" cy="2793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0640" cy="219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198360" cy="1270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3200" cy="407880"/>
              <a:chOff x="8381880" y="4800600"/>
              <a:chExt cx="673200" cy="4078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6600" cy="1508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7880" cy="8424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360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3480" cy="2700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416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3760" cy="33192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3040" cy="29376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58560" cy="208080"/>
                <a:chOff x="8542440" y="4897440"/>
                <a:chExt cx="358560" cy="2080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58560" cy="20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7280" cy="16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6920" cy="1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4480" cy="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05FE77-9403-42CB-B9CD-63433E3856D3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0068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5680" cy="825480"/>
              <a:chOff x="5600880" y="5897520"/>
              <a:chExt cx="1255680" cy="8254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3240" y="6048360"/>
                <a:ext cx="842760" cy="517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604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4680" cy="327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4360" cy="2509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3480" cy="1681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6600" cy="2541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3440" cy="1029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39680" cy="3412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480" y="5945040"/>
                <a:ext cx="1189080" cy="7304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0840" cy="457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1760" cy="82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79400" cy="1082520"/>
              <a:chOff x="2819520" y="5764320"/>
              <a:chExt cx="2579400" cy="10825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1240" cy="596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0400" cy="525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3800" cy="473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3440" cy="407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4120" cy="379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4200" cy="3031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58920" cy="21276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1120" cy="936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1360" cy="29376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440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69920" cy="3985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a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4080" cy="2365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000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69880" cy="8920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0964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3720" cy="3697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1760" cy="10159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3080" cy="1301760"/>
              <a:chOff x="6553080" y="5334120"/>
              <a:chExt cx="2143080" cy="130176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5120" cy="11588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2200" cy="11685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5520" cy="3985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2680" cy="838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7440" cy="16992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5360" cy="5396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29960" cy="1411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144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7800" cy="1029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0440" cy="505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6320" cy="42876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1280" cy="3686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1600" cy="2793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0640" cy="219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198360" cy="1270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3200" cy="407880"/>
              <a:chOff x="8381880" y="4800600"/>
              <a:chExt cx="673200" cy="4078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6600" cy="1508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7880" cy="8424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360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3480" cy="2700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416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3760" cy="33192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3040" cy="29376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58560" cy="208080"/>
                <a:chOff x="8542440" y="4897440"/>
                <a:chExt cx="358560" cy="2080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58560" cy="20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7280" cy="16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6920" cy="1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4480" cy="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DA3EBA7-70A2-45E4-B0A6-1DB4F6B10478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8876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Игра 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Кто хочет стать сказочником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4. Какой музыкальный инструмент был у Свинопаса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47560" y="2509920"/>
            <a:ext cx="7918560" cy="29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котело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флей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музыкальная шкатул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шарма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dur="indefinite" fill="hold">
                      <p:stCondLst>
                        <p:cond delay="0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шарманка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dur="indefinite" fill="hold">
                      <p:stCondLst>
                        <p:cond delay="0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5. Что подарил месяц Апрель Падчерице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000" y="2781000"/>
            <a:ext cx="821844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колечк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плать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машин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д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dur="indefinite" fill="hold">
                      <p:stCondLst>
                        <p:cond delay="0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колечко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dur="indefinite" fill="hold">
                      <p:stCondLst>
                        <p:cond delay="0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6.Как зовут девочку с голубыми волосами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9152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Барб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Мальвин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Синд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Алёнуш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dur="indefinite" fill="hold">
                      <p:stCondLst>
                        <p:cond delay="0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Мальвина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dur="indefinite" fill="hold">
                      <p:stCondLst>
                        <p:cond delay="0"/>
                      </p:stCondLst>
                      <p:childTnLst>
                        <p:par>
                          <p:cTn id="1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7. Назовите маленьких друзей Белоснежки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000" y="2997000"/>
            <a:ext cx="821844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снежин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гном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тролл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мыша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dur="indefinite" fill="hold">
                      <p:stCondLst>
                        <p:cond delay="0"/>
                      </p:stCondLst>
                      <p:childTnLst>
                        <p:par>
                          <p:cTn id="2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гномы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dur="indefinite" fill="hold">
                      <p:stCondLst>
                        <p:cond delay="0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8. Кем был папа Карло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29152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столяро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клоуно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шарманщико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фокусник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dur="indefinite" fill="hold">
                      <p:stCondLst>
                        <p:cond delay="0"/>
                      </p:stCondLst>
                      <p:childTnLst>
                        <p:par>
                          <p:cTn id="2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столяром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dur="indefinite" fill="hold">
                      <p:stCondLst>
                        <p:cond delay="0"/>
                      </p:stCondLst>
                      <p:childTnLst>
                        <p:par>
                          <p:cTn id="2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Ведущий.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годня у нас игра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Кто хочет стать сказочником?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9. Какой цветок больше всего любило Чудовище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5280" y="2924280"/>
            <a:ext cx="829152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аленький цветоче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тюльпан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ромашк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колокольчи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dur="indefinite" fill="hold">
                      <p:stCondLst>
                        <p:cond delay="0"/>
                      </p:stCondLst>
                      <p:childTnLst>
                        <p:par>
                          <p:cTn id="2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аленький цветочек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dur="indefinite" fill="hold">
                      <p:stCondLst>
                        <p:cond delay="0"/>
                      </p:stCondLst>
                      <p:childTnLst>
                        <p:par>
                          <p:cTn id="2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10. Где встретились поп и Балда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829152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на вечеринк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в церкв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на улиц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на базар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dur="indefinite" fill="hold">
                      <p:stCondLst>
                        <p:cond delay="0"/>
                      </p:stCondLst>
                      <p:childTnLst>
                        <p:par>
                          <p:cTn id="2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на базаре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dur="indefinite" fill="hold">
                      <p:stCondLst>
                        <p:cond delay="0"/>
                      </p:stCondLst>
                      <p:childTnLst>
                        <p:par>
                          <p:cTn id="3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Вторая игр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dur="indefinite" fill="hold">
                      <p:stCondLst>
                        <p:cond delay="0"/>
                      </p:stCondLst>
                      <p:childTnLst>
                        <p:par>
                          <p:cTn id="3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768" fill="hold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1" dur="768" fill="hold"/>
                                        <p:tgtEl>
                                          <p:spTgt spid="2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3" dur="768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5" dur="768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1.Кто разрушил теремок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421000"/>
            <a:ext cx="821844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слон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медвед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носорог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бегемо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dur="indefinite" fill="hold">
                      <p:stCondLst>
                        <p:cond delay="0"/>
                      </p:stCondLst>
                      <p:childTnLst>
                        <p:par>
                          <p:cTn id="3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35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медведь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dur="indefinite" fill="hold">
                      <p:stCondLst>
                        <p:cond delay="0"/>
                      </p:stCondLst>
                      <p:childTnLst>
                        <p:par>
                          <p:cTn id="3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2.На каком транспорте любил ездить Емеля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829152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на саня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в карет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на «мерседесе»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на пе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dur="indefinite" fill="hold">
                      <p:stCondLst>
                        <p:cond delay="0"/>
                      </p:stCondLst>
                      <p:childTnLst>
                        <p:par>
                          <p:cTn id="3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на печи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dur="indefinite" fill="hold">
                      <p:stCondLst>
                        <p:cond delay="0"/>
                      </p:stCondLst>
                      <p:childTnLst>
                        <p:par>
                          <p:cTn id="3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3.Куда нельзя садиться медведю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000" y="2637000"/>
            <a:ext cx="821844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на скамейк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на бревн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на пенё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на каме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dur="indefinite" fill="hold">
                      <p:stCondLst>
                        <p:cond delay="0"/>
                      </p:stCondLst>
                      <p:childTnLst>
                        <p:par>
                          <p:cTn id="3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1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Первая игр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 fill="hold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на пенёк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dur="indefinite" fill="hold">
                      <p:stCondLst>
                        <p:cond delay="0"/>
                      </p:stCondLst>
                      <p:childTnLst>
                        <p:par>
                          <p:cTn id="4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4. Что стало причиной разрушения Кошкиного дома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000" y="2924280"/>
            <a:ext cx="821844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пожа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вете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землетрясе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дожд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dur="indefinite" fill="hold">
                      <p:stCondLst>
                        <p:cond delay="0"/>
                      </p:stCondLst>
                      <p:childTnLst>
                        <p:par>
                          <p:cTn id="4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1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43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1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пожар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dur="indefinite" fill="hold">
                      <p:stCondLst>
                        <p:cond delay="0"/>
                      </p:stCondLst>
                      <p:childTnLst>
                        <p:par>
                          <p:cTn id="4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5.Кто носил сапоги сорок пятого размера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3068280"/>
            <a:ext cx="821844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дядя Фёдо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дядя Стёп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Дед Мороз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Илья Муроме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dur="indefinite" fill="hold">
                      <p:stCondLst>
                        <p:cond delay="0"/>
                      </p:stCondLst>
                      <p:childTnLst>
                        <p:par>
                          <p:cTn id="4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дядя Стёпа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dur="indefinite" fill="hold">
                      <p:stCondLst>
                        <p:cond delay="0"/>
                      </p:stCondLst>
                      <p:childTnLst>
                        <p:par>
                          <p:cTn id="4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6.Какой цветок исполняет желания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000" y="2997000"/>
            <a:ext cx="821844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аленький цветоче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ромаш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цветик-семицвети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василё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dur="indefinite" fill="hold">
                      <p:stCondLst>
                        <p:cond delay="0"/>
                      </p:stCondLst>
                      <p:childTnLst>
                        <p:par>
                          <p:cTn id="4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1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48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1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цветик-семицветик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dur="indefinite" fill="hold">
                      <p:stCondLst>
                        <p:cond delay="0"/>
                      </p:stCondLst>
                      <p:childTnLst>
                        <p:par>
                          <p:cTn id="4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7. Причина гибели Снегурочки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95280" y="2924280"/>
            <a:ext cx="829152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солнц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огон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выстрел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авар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dur="indefinite" fill="hold">
                      <p:stCondLst>
                        <p:cond delay="0"/>
                      </p:stCondLst>
                      <p:childTnLst>
                        <p:par>
                          <p:cTn id="5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1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10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51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10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огонь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dur="indefinite" fill="hold">
                      <p:stCondLst>
                        <p:cond delay="0"/>
                      </p:stCondLst>
                      <p:childTnLst>
                        <p:par>
                          <p:cTn id="5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8. Назовите кличку собаки Мальвины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8000" y="2781000"/>
            <a:ext cx="821844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Шари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Артис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Боби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Артем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dur="indefinite" fill="hold">
                      <p:stCondLst>
                        <p:cond delay="0"/>
                      </p:stCondLst>
                      <p:childTnLst>
                        <p:par>
                          <p:cTn id="5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10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10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54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10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1.Что Рукодельница уронила в колодец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0920" y="2852280"/>
            <a:ext cx="8002440" cy="32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кольц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веретен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ведёрк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прял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dur="indefinite" fill="hold">
                      <p:stCondLst>
                        <p:cond delay="0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Артемон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dur="indefinite" fill="hold">
                      <p:stCondLst>
                        <p:cond delay="0"/>
                      </p:stCondLst>
                      <p:childTnLst>
                        <p:par>
                          <p:cTn id="5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9. Где находится царство Гвидона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8000" y="2781000"/>
            <a:ext cx="821844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в Африк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в тридесятом государств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на острове Буян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на острове Чунга-Чанг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dur="indefinite" fill="hold">
                      <p:stCondLst>
                        <p:cond delay="0"/>
                      </p:stCondLst>
                      <p:childTnLst>
                        <p:par>
                          <p:cTn id="5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на острове Буяне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dur="indefinite" fill="hold">
                      <p:stCondLst>
                        <p:cond delay="0"/>
                      </p:stCondLst>
                      <p:childTnLst>
                        <p:par>
                          <p:cTn id="5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10. Куда сунул свой нос Буратино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95280" y="2924280"/>
            <a:ext cx="829152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в очаг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не в своё дел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в каш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в замочную скважи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dur="indefinite" fill="hold">
                      <p:stCondLst>
                        <p:cond delay="0"/>
                      </p:stCondLst>
                      <p:childTnLst>
                        <p:par>
                          <p:cTn id="5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59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10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в замочную скважину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dur="indefinite" fill="hold">
                      <p:stCondLst>
                        <p:cond delay="0"/>
                      </p:stCondLst>
                      <p:childTnLst>
                        <p:par>
                          <p:cTn id="6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Третья игр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dur="indefinite" fill="hold">
                      <p:stCondLst>
                        <p:cond delay="0"/>
                      </p:stCondLst>
                      <p:childTnLst>
                        <p:par>
                          <p:cTn id="6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768" fill="hold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4" dur="768" fill="hold"/>
                                        <p:tgtEl>
                                          <p:spTgt spid="2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6" dur="768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8" dur="768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1.Что посадил дед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000" y="2924280"/>
            <a:ext cx="821844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тыкв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помидо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картошк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реп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dur="indefinite" fill="hold">
                      <p:stCondLst>
                        <p:cond delay="0"/>
                      </p:stCondLst>
                      <p:childTnLst>
                        <p:par>
                          <p:cTn id="6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1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63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10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репку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dur="indefinite" fill="hold">
                      <p:stCondLst>
                        <p:cond delay="0"/>
                      </p:stCondLst>
                      <p:childTnLst>
                        <p:par>
                          <p:cTn id="6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 fill="hold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2. Как звали братца Алёнушки 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821844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Ивануш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Васил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Петруш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Алёш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dur="indefinite" fill="hold">
                      <p:stCondLst>
                        <p:cond delay="0"/>
                      </p:stCondLst>
                      <p:childTnLst>
                        <p:par>
                          <p:cTn id="6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1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661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1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66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7" dur="10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Иванушка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dur="indefinite" fill="hold">
                      <p:stCondLst>
                        <p:cond delay="0"/>
                      </p:stCondLst>
                      <p:childTnLst>
                        <p:par>
                          <p:cTn id="6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 fill="hold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ведёрко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0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3. К кому обратился Волк, чтобы изменить голос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000" y="2997000"/>
            <a:ext cx="821844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к доктор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к кузнец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к соловью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к дрозд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dur="indefinite" fill="hold">
                      <p:stCondLst>
                        <p:cond delay="0"/>
                      </p:stCondLst>
                      <p:childTnLst>
                        <p:par>
                          <p:cTn id="6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1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69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1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69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1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к кузнецу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dur="indefinite" fill="hold">
                      <p:stCondLst>
                        <p:cond delay="0"/>
                      </p:stCondLst>
                      <p:childTnLst>
                        <p:par>
                          <p:cTn id="7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 fill="hold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4. Что передал Удав для Мартышки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000" y="2997000"/>
            <a:ext cx="821844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подаро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банан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приве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письм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dur="indefinite" fill="hold">
                      <p:stCondLst>
                        <p:cond delay="0"/>
                      </p:stCondLst>
                      <p:childTnLst>
                        <p:par>
                          <p:cTn id="7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3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71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1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71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1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723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1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привет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dur="indefinite" fill="hold">
                      <p:stCondLst>
                        <p:cond delay="0"/>
                      </p:stCondLst>
                      <p:childTnLst>
                        <p:par>
                          <p:cTn id="7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 fill="hold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5. К кому пошёл Винни-Пух на день рождение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000" y="2708280"/>
            <a:ext cx="821844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к Кролик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к Пятачк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к Сов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к Осли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dur="indefinite" fill="hold">
                      <p:stCondLst>
                        <p:cond delay="0"/>
                      </p:stCondLst>
                      <p:childTnLst>
                        <p:par>
                          <p:cTn id="7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74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6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74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0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75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1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к Пятачку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dur="indefinite" fill="hold">
                      <p:stCondLst>
                        <p:cond delay="0"/>
                      </p:stCondLst>
                      <p:childTnLst>
                        <p:par>
                          <p:cTn id="7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 fill="hold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6.Что всегда кот Леопольд говорит мышатам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95280" y="2781000"/>
            <a:ext cx="829152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давайте жить дружн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перестаньте шали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приходите в г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вы- мои друзь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dur="indefinite" fill="hold">
                      <p:stCondLst>
                        <p:cond delay="0"/>
                      </p:stCondLst>
                      <p:childTnLst>
                        <p:par>
                          <p:cTn id="7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1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773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5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77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9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781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1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давайте жить дружно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dur="indefinite" fill="hold">
                      <p:stCondLst>
                        <p:cond delay="0"/>
                      </p:stCondLst>
                      <p:childTnLst>
                        <p:par>
                          <p:cTn id="7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 fill="hold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7.Когда, считал Винни-Пух, лучше ходить в гости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8000" y="2924280"/>
            <a:ext cx="821844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утро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вечеро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днё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по праздника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dur="indefinite" fill="hold">
                      <p:stCondLst>
                        <p:cond delay="0"/>
                      </p:stCondLst>
                      <p:childTnLst>
                        <p:par>
                          <p:cTn id="7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0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80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4" dur="1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10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81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10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утром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dur="indefinite" fill="hold">
                      <p:stCondLst>
                        <p:cond delay="0"/>
                      </p:stCondLst>
                      <p:childTnLst>
                        <p:par>
                          <p:cTn id="8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 fill="hold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2. Кого позвал Петушок, когда нашёл колосок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3068280"/>
            <a:ext cx="821844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курицу с цыплята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Мурку и Боби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Круть и Вер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хозяй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0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8. У кого рост – тридцать восемь попугаев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000" y="2924280"/>
            <a:ext cx="821844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у дяди Стёп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у уда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у жираф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у пит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dur="indefinite" fill="hold">
                      <p:stCondLst>
                        <p:cond delay="0"/>
                      </p:stCondLst>
                      <p:childTnLst>
                        <p:par>
                          <p:cTn id="8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9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831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3" dur="1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7" dur="1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83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1" dur="1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у удава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dur="indefinite" fill="hold">
                      <p:stCondLst>
                        <p:cond delay="0"/>
                      </p:stCondLst>
                      <p:childTnLst>
                        <p:par>
                          <p:cTn id="8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6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500" fill="hold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9. Какую еду помогла делить лиса двум жадным медвежатам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9152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рыб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мё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малин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сы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dur="indefinite" fill="hold">
                      <p:stCondLst>
                        <p:cond delay="0"/>
                      </p:stCondLst>
                      <p:childTnLst>
                        <p:par>
                          <p:cTn id="8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86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2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86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6" dur="10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86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0" dur="10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сыр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dur="indefinite" fill="hold">
                      <p:stCondLst>
                        <p:cond delay="0"/>
                      </p:stCondLst>
                      <p:childTnLst>
                        <p:par>
                          <p:cTn id="8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500" fill="hold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10. За кого вышла замуж Дюймовочка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000" y="2708280"/>
            <a:ext cx="821844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за жу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за эльф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за кро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за нового русско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dur="indefinite" fill="hold">
                      <p:stCondLst>
                        <p:cond delay="0"/>
                      </p:stCondLst>
                      <p:childTnLst>
                        <p:par>
                          <p:cTn id="8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7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88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1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893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5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89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9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за крота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dur="indefinite" fill="hold">
                      <p:stCondLst>
                        <p:cond delay="0"/>
                      </p:stCondLst>
                      <p:childTnLst>
                        <p:par>
                          <p:cTn id="9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4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Круть и Верть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dur="indefinite" fill="hold">
                      <p:stCondLst>
                        <p:cond delay="0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3. Где жил Джинн тысячу лет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000" y="2997000"/>
            <a:ext cx="821844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во дворц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в бутылк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в ламп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за границ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dur="indefinite" fill="hold">
                      <p:stCondLst>
                        <p:cond delay="0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в лампе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dur="indefinite" fill="hold">
                      <p:stCondLst>
                        <p:cond delay="0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08:36:00Z</dcterms:created>
  <dc:creator>nic1302</dc:creator>
  <dc:description/>
  <dc:language>en-US</dc:language>
  <cp:lastModifiedBy>nic1302</cp:lastModifiedBy>
  <dcterms:modified xsi:type="dcterms:W3CDTF">2013-02-26T09:28:06Z</dcterms:modified>
  <cp:revision>2</cp:revision>
  <dc:subject/>
  <dc:title>Игра  </dc:title>
</cp:coreProperties>
</file>