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32D-B883-459E-A336-7730D43A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D15-E15B-4A0A-8F72-257640CC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D9A-E9D5-4A64-B794-7AB997C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FFA-3B3E-4674-9970-8DE1EC9E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93B1-20F8-492F-B4CB-5EF3D378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0EC-080B-4EC0-B73A-09AFBDD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6CB-47D1-41CF-B7E8-CB0660B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07D4-54BE-48EC-805C-27FF6FD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67BC-9F12-4EB9-9C47-029CEB1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09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22A-A75D-4CF5-9027-8892C61D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7A9-E303-4CAB-96DA-B47BD2D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737-0665-40AD-A48F-1B7F5B93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3A1C-3EF2-4718-9202-B193773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9128-4A16-42D5-8A60-B730B8C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5979-FD6D-4863-8DA9-2E79C840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34F-0E55-4274-8DC3-1729FD54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E776-6EAC-4D3B-8879-DE8C3428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E18-A53F-4B00-9E34-22801D3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B68-B19F-4D52-8293-280885AF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E58-20A9-47E6-B9F8-E2E863A8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0960" cy="80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79E-8321-4C72-BC1D-1256D86A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BCF-3F97-4ED3-BE13-B18DC13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47B-05BF-4390-BF8C-6484D0A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005-114A-4C75-9729-545C8D4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930A43-8963-43AC-9374-75E5EF279DF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49E0B8-F775-47A4-8835-C27D58A0772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Игра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то хочет стать сказочником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Какой музыкальный инструмент был у Свинопас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47560" y="2509920"/>
            <a:ext cx="791856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тел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флей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узыкальная шкатул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шарма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шарманк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 Что подарил месяц Апрель Падчериц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леч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лат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аши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олечк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0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Как зовут девочку с голубыми волоса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Барб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альви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Синд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лён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Мальвин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dur="indefinite" fill="hold">
                      <p:stCondLst>
                        <p:cond delay="0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 Назовите маленьких друзей Белоснеж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нежин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гно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трол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мыш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0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гномы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0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8. Кем был папа Карл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9152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толя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лоу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шарманщик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фокусни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0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толяром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0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едущий.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у нас игр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то хочет стать сказочником?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Какой цветок больше всего любило Чудовищ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аленький цвет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тюльп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рома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олоко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0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ленький цветоче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fill="hold">
                      <p:stCondLst>
                        <p:cond delay="0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Где встретились поп и Балд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вечерин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церкв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ули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база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0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базар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0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тора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dur="indefinite" fill="hold">
                      <p:stCondLst>
                        <p:cond delay="0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68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68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68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Кто разрушил теремок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л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двед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осоро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бегем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0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медвед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dur="indefinite" fill="hold">
                      <p:stCondLst>
                        <p:cond delay="0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На каком транспорте любил ездить Емел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сан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каре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«мерседес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п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dur="indefinite" fill="hold">
                      <p:stCondLst>
                        <p:cond delay="0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печ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dur="indefinite" fill="hold">
                      <p:stCondLst>
                        <p:cond delay="0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Куда нельзя садиться медведю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на скамей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а брев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пенё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кам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dur="indefinite" fill="hold">
                      <p:stCondLst>
                        <p:cond delay="0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ерва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пенё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0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Что стало причиной разрушения Кошкиного дом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ожа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те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землетряс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дож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dur="indefinite" fill="hold">
                      <p:stCondLst>
                        <p:cond delay="0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ожар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dur="indefinite" fill="hold">
                      <p:stCondLst>
                        <p:cond delay="0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Кто носил сапоги сорок пятого размер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дядя Фёд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дядя Стёп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Дед Моро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Илья Муром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dur="indefinite" fill="hold">
                      <p:stCondLst>
                        <p:cond delay="0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дядя Стёп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dur="indefinite" fill="hold">
                      <p:stCondLst>
                        <p:cond delay="0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Какой цветок исполняет жела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аленький цветоче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рома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цветик-семицвет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асилё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dur="indefinite" fill="hold">
                      <p:stCondLst>
                        <p:cond delay="0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цветик-семицветик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dur="indefinite" fill="hold">
                      <p:stCondLst>
                        <p:cond delay="0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 Причина гибели Снегуроч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олн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ого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ыстре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вар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dur="indefinite" fill="hold">
                      <p:stCondLst>
                        <p:cond delay="0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огон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dur="indefinite" fill="hold">
                      <p:stCondLst>
                        <p:cond delay="0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Назовите кличку собаки Мальвин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Шар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Арти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Боб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ртем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dur="indefinite" fill="hold">
                      <p:stCondLst>
                        <p:cond delay="0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.Что Рукодельница уронила в колодец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800244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ольц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рете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едёр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рял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ртемон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dur="indefinite" fill="hold">
                      <p:stCondLst>
                        <p:cond delay="0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Где находится царство Гвидон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 Афри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тридесятом государ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на острове Буя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на острове Чунга-Чан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dur="indefinite" fill="hold">
                      <p:stCondLst>
                        <p:cond delay="0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на острове Буян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dur="indefinite" fill="hold">
                      <p:stCondLst>
                        <p:cond delay="0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Куда сунул свой нос Буратин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 оча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 в своё де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 каш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 замочную скваж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dur="indefinite" fill="hold">
                      <p:stCondLst>
                        <p:cond delay="0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 замочную скважин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dur="indefinite" fill="hold">
                      <p:stCondLst>
                        <p:cond delay="0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ретья иг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dur="indefinite" fill="hold">
                      <p:stCondLst>
                        <p:cond delay="0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68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68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68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.Что посадил дед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тык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омид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арто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реп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dur="indefinite" fill="hold">
                      <p:stCondLst>
                        <p:cond delay="0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епк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dur="indefinite" fill="hold">
                      <p:stCondLst>
                        <p:cond delay="0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 Как звали братца Алёнушки 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Ивану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асил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етруш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Алё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dur="indefinite" fill="hold">
                      <p:stCondLst>
                        <p:cond delay="0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1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Иванушк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0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едёрк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К кому обратился Волк, чтобы изменить голо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 докто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 кузнец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 солов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 дроз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dur="indefinite" fill="hold">
                      <p:stCondLst>
                        <p:cond delay="0"/>
                      </p:stCondLst>
                      <p:childTnLst>
                        <p:par>
                          <p:cTn id="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 кузнец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dur="indefinite" fill="hold">
                      <p:stCondLst>
                        <p:cond delay="0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Что передал Удав для Мартышк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одар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бан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рив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ись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dur="indefinite" fill="hold">
                      <p:stCondLst>
                        <p:cond delay="0"/>
                      </p:stCondLst>
                      <p:childTnLst>
                        <p:par>
                          <p:cTn id="7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привет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dur="indefinite" fill="hold">
                      <p:stCondLst>
                        <p:cond delay="0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. К кому пошёл Винни-Пух на день рождени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 Кроли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к Пятач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 Со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к Осл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dur="indefinite" fill="hold">
                      <p:stCondLst>
                        <p:cond delay="0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 Пятачку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dur="indefinite" fill="hold">
                      <p:stCondLst>
                        <p:cond delay="0"/>
                      </p:stCondLst>
                      <p:childTnLst>
                        <p:par>
                          <p:cTn id="7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6.Что всегда кот Леопольд говорит мышат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91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давайте жить друж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перестаньте шали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приходите в г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вы- мои друз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dur="indefinite" fill="hold">
                      <p:stCondLst>
                        <p:cond delay="0"/>
                      </p:stCondLst>
                      <p:childTnLst>
                        <p:par>
                          <p:cTn id="7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давайте жить дружно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dur="indefinite" fill="hold">
                      <p:stCondLst>
                        <p:cond delay="0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7.Когда, считал Винни-Пух, лучше ходить в гост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т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ечер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днё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по праздник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dur="indefinite" fill="hold">
                      <p:stCondLst>
                        <p:cond delay="0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утром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dur="indefinite" fill="hold">
                      <p:stCondLst>
                        <p:cond delay="0"/>
                      </p:stCondLst>
                      <p:childTnLst>
                        <p:par>
                          <p:cTn id="8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2. Кого позвал Петушок, когда нашёл колосо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18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курицу с цыпля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урку и Боб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Круть и Вер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хозяй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У кого рост – тридцать восемь попугаев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 дяди Стёп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у уд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у жираф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у пит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dur="indefinite" fill="hold">
                      <p:stCondLst>
                        <p:cond delay="0"/>
                      </p:stCondLst>
                      <p:childTnLst>
                        <p:par>
                          <p:cTn id="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у удав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dur="indefinite" fill="hold">
                      <p:stCondLst>
                        <p:cond delay="0"/>
                      </p:stCondLst>
                      <p:childTnLst>
                        <p:par>
                          <p:cTn id="8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9. Какую еду помогла делить лиса двум жадным медвежат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рыб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ё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мали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сы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dur="indefinite" fill="hold">
                      <p:stCondLst>
                        <p:cond delay="0"/>
                      </p:stCondLst>
                      <p:childTnLst>
                        <p:par>
                          <p:cTn id="8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ыр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dur="indefinite" fill="hold">
                      <p:stCondLst>
                        <p:cond delay="0"/>
                      </p:stCondLst>
                      <p:childTnLst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 За кого вышла замуж Дюймовоч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за жу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за эльф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за кр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за нового рус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dur="indefinite" fill="hold">
                      <p:stCondLst>
                        <p:cond delay="0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за крота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dur="indefinite" fill="hold">
                      <p:stCondLst>
                        <p:cond delay="0"/>
                      </p:stCondLst>
                      <p:childTnLst>
                        <p:par>
                          <p:cTn id="9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Круть и Верть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 Где жил Джинн тысячу ле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во дворц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в бутыл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в ламп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за границ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в лампе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8:36:00Z</dcterms:created>
  <dc:creator>nic1302</dc:creator>
  <dc:description/>
  <dc:language>en-US</dc:language>
  <cp:lastModifiedBy>nic1302</cp:lastModifiedBy>
  <dcterms:modified xsi:type="dcterms:W3CDTF">2013-02-26T09:28:06Z</dcterms:modified>
  <cp:revision>2</cp:revision>
  <dc:subject/>
  <dc:title>Игра  </dc:title>
</cp:coreProperties>
</file>