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rcRect l="0" t="0" r="23" b="0"/>
          <a:stretch/>
        </p:blipFill>
        <p:spPr>
          <a:xfrm>
            <a:off x="-3240" y="-2700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/>
          <p:nvPr/>
        </p:nvSpPr>
        <p:spPr>
          <a:xfrm flipV="1" rot="10800000">
            <a:off x="4140000" y="5358240"/>
            <a:ext cx="395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чик: Кокорина Е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900000" y="1989000"/>
            <a:ext cx="702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Метеостанция в ДОУ – наблюдаем, познаем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611280" y="858600"/>
            <a:ext cx="731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е бюджетное дошкольное образовательное учреждение г. Иркутска детский сад № 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8993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773360"/>
            <a:ext cx="30956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000080" y="3505320"/>
            <a:ext cx="2932200" cy="44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0" r="23" b="0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26920" y="981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 rot="10800000">
            <a:off x="856800" y="473760"/>
            <a:ext cx="692964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57160" y="981000"/>
            <a:ext cx="7170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держание проекта: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прогулки на метеоплощадке проводим наблюдение за погодой: относительную оценку силы и направления ветра с помощью флюгера и ветряного рукава, измеряем количество осадков с помощью осадком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33240" y="3249720"/>
            <a:ext cx="2494080" cy="6296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772240" y="3236760"/>
            <a:ext cx="2493720" cy="6309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236760" y="3206880"/>
            <a:ext cx="2414880" cy="636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23" b="0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26920" y="981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14800" y="85716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держание проекта: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 rot="10800000">
            <a:off x="856800" y="473760"/>
            <a:ext cx="692964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0" t="0" r="23" b="0"/>
          <a:stretch/>
        </p:blipFill>
        <p:spPr>
          <a:xfrm>
            <a:off x="21420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71640" y="857160"/>
            <a:ext cx="6743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метром определяем температуру воздуха, с помощью барометра составляем предполагаемый прогноз погоды и измеряем атмосферное давл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290840" y="3157560"/>
            <a:ext cx="3614760" cy="5327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1030320" y="2389320"/>
            <a:ext cx="2981160" cy="785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23" b="0"/>
          <a:stretch/>
        </p:blipFill>
        <p:spPr>
          <a:xfrm>
            <a:off x="0" y="1440"/>
            <a:ext cx="9215280" cy="6856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26920" y="981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 rot="10800000">
            <a:off x="856800" y="473760"/>
            <a:ext cx="692964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1285920"/>
            <a:ext cx="70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вец облаков – позволяет детям  вести наблюдение за неб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254480" y="2938320"/>
            <a:ext cx="3614760" cy="5327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957240" y="2316240"/>
            <a:ext cx="2871720" cy="75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0" t="0" r="23" b="0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26920" y="981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14800" y="85716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держание проекта: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 rot="10800000">
            <a:off x="856800" y="473760"/>
            <a:ext cx="692964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0" t="0" r="23" b="0"/>
          <a:stretch/>
        </p:blipFill>
        <p:spPr>
          <a:xfrm>
            <a:off x="21420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071720" y="9810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ечные часы – дают возможность детям учиться определять время по солнц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786120" y="2871720"/>
            <a:ext cx="4449960" cy="6570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950760" y="1852560"/>
            <a:ext cx="2640240" cy="65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0" t="0" r="23" b="0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26920" y="981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14800" y="85716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держание проекта: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 rot="10800000">
            <a:off x="856800" y="473760"/>
            <a:ext cx="692964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0" t="0" r="23" b="0"/>
          <a:stretch/>
        </p:blipFill>
        <p:spPr>
          <a:xfrm>
            <a:off x="21420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28800" y="829800"/>
            <a:ext cx="684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этих приборов, на метеостанции установлены: гололёдный станок, стенд магнитно-маркерный для рисования мелом, где можно вести таблицу прогноза погоды на каждый день, стол круглый, скамейка, осадкометр, измерительная будка с подиумом, кормушка для пти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006560" y="3041640"/>
            <a:ext cx="1627200" cy="3309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584520" y="3005280"/>
            <a:ext cx="1584360" cy="3376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6248520" y="2882880"/>
            <a:ext cx="1627200" cy="3640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6156360" y="4925880"/>
            <a:ext cx="1652400" cy="2638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1225440" y="4846680"/>
            <a:ext cx="1548000" cy="2955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3408480" y="4780080"/>
            <a:ext cx="2047680" cy="30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0" t="0" r="23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971640" y="1195560"/>
            <a:ext cx="57610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57160" y="1143000"/>
            <a:ext cx="7015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роводят наблюдения за погодой в определенной последовательнос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ставляют показания в дневнике наблю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лают прогноз погоды на текущий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432080" y="2639880"/>
            <a:ext cx="2627280" cy="7272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962600" y="2639880"/>
            <a:ext cx="2388960" cy="72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0" t="0" r="23" b="0"/>
          <a:stretch/>
        </p:blipFill>
        <p:spPr>
          <a:xfrm>
            <a:off x="-324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26920" y="981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57280" y="857160"/>
            <a:ext cx="5143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 rot="10800000">
            <a:off x="856800" y="795960"/>
            <a:ext cx="6929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4240" y="687240"/>
            <a:ext cx="673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оказания приборов мы  фиксируем на специальном стенде, где можно проследить и сделать свой метеопрогн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505400" y="3144960"/>
            <a:ext cx="2565360" cy="64371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206360" y="3144960"/>
            <a:ext cx="2500560" cy="6352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1285920" y="1908000"/>
            <a:ext cx="5761080" cy="22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0" t="0" r="23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01640" y="2200320"/>
            <a:ext cx="2638440" cy="3852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151600" y="2438280"/>
            <a:ext cx="2925720" cy="7486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24040" y="907920"/>
            <a:ext cx="67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продолжается не только на метеостанции, но и в группе в центре экспериментир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2298600" y="4170240"/>
            <a:ext cx="2675160" cy="402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rcRect l="0" t="0" r="23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4000" y="1274400"/>
            <a:ext cx="79200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811080" tIns="630000" bIns="809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85880" y="2938320"/>
            <a:ext cx="2890800" cy="4230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00000" y="1052640"/>
            <a:ext cx="59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 с воспитателем дети заполняют календарь природы, рисуют рисунки, проводят опыты: с водой, снегом, льдом, песком, воздухом, наблюдаем за огородом на ок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248440" y="2951280"/>
            <a:ext cx="2895480" cy="4357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3249720" y="4406760"/>
            <a:ext cx="2644560" cy="398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rcRect l="0" t="0" r="23" b="0"/>
          <a:stretch/>
        </p:blipFill>
        <p:spPr>
          <a:xfrm>
            <a:off x="-324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771640" y="2060640"/>
            <a:ext cx="56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3141720"/>
            <a:ext cx="56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43280" y="42210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692280"/>
            <a:ext cx="66978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созданием метеостанции появилась возможность уйти от стереотипов во время прогулок и погрузить детей в мир исследований и открытий, научить их восхищенно смотреть на окружающую прир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108240" y="2792520"/>
            <a:ext cx="3011400" cy="40892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5132520" y="4164120"/>
            <a:ext cx="2944800" cy="4321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731880" y="3267000"/>
            <a:ext cx="2425680" cy="61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23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00000" y="1557360"/>
            <a:ext cx="720108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д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направленност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 – исследователь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астники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таршего возр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сто провед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- площадка ДО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центр экспериментирования «Школа волшебник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rcRect l="0" t="0" r="23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55640" y="437760"/>
            <a:ext cx="7056360" cy="57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еоплощад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беспечивает проведение практических работ, систематических наблюдений за погодой, сезонных явлений в окружающей природе, а также изучение микроклимата территории детского сада. Дети имеют возможность ежедневно поиграть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еорологов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спользуя не только самодельные приборы, но и настоящие. У детей появится огромный интерес снять показание с приборов и составить прогноз пог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DejaVu San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981000"/>
            <a:ext cx="2675160" cy="52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Вывод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0" t="0" r="23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50920" y="910800"/>
            <a:ext cx="7993080" cy="56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оварик юного метеоролога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еостанция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ка на которой установле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е оборудование для элементарного прогнозирования пог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ометр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ибор для измерения атмосферного давления, изме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ого предвещает перемену пог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мет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используется для измерения температуры возду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юге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прибор для определения направления и силы ве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еме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служит для измерения количества осад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оме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прибор для измерения глубины снежного пок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прибор  для  определения  сторон  света  (ориентированию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мест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ечные час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зволяют детям учиться определять время по солн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ряной рука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атель  для определения силы и направления ве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танчики, вертушк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оры для определения ве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еобуд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мик, который служит для размещения метеоприб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грометр из шишек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змерения влажности возду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вец облаков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ор для наблюдения за обла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адкомер 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ор для сбора и измерения колич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авших атмосферных осад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23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620640"/>
            <a:ext cx="860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1037880"/>
            <a:ext cx="7416720" cy="53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тво - это радостная пора открытий. В процессе ознакомления с природой и окружающей действительностью ребёнок учится говорить, мыслить, общаться, осваивает нормы социальной и экологической этики. Одним из важнейших условий реализации системы экологического образования в дошкольном учреждении в соответствии с ФГОС ДО является правильная организация развивающей предметной среды, которая обеспечивает реализацию образовательного потенциала пространства организации, как группы, так и участка, поэтому в воспитании детей так велико значение  наличия метеостан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еостанция должна обеспечить проведение наблюдений, практических работ, организовать систематические наблюдения за погодой, сезонными явлениями в окружающей природе, а также изучение микроклимата территории детского са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23" b="0"/>
          <a:stretch/>
        </p:blipFill>
        <p:spPr>
          <a:xfrm>
            <a:off x="-324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26920" y="285264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137880"/>
            <a:ext cx="7056360" cy="65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ики – прирожденные исследователи и тому подтверждение – их любознательность, постоянное стремление к эксперименту, желание самостоятельно находить решение в проблемной ситуации. Познавательно-исследовательская деятельность – позволяет ребенку моделировать в своем сознании картину мира, основанную на собственных наблюдениях, ответах, установлении взаимозависимостей, закономерностей и т.д. Почему мы считаем, что такой способ взаимодействия с детьми, как наблюдение за погодой, актуален? У детей, в ходе организованной деятельности, будут развиваться умения выявлять проблему, наблюдать, проводить эксперимент, анализировать, обобщать, делиться полученной информац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 детского сада поставил перед собой задачу: заинтересовать детей, представив природу, как таинственный мир, полный приключений и увлекательных открыт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23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26920" y="1197000"/>
            <a:ext cx="6840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бл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временном уровне развития науки и техники легче узнать прогноз погоды из средств массовой информации, чем определять самому, но «легче» не значит «лучше»: у дошкольников не сформированы знания о погоде, недостаточно условий для практики организации наблюдений за явлениями погоды с использованием измерительных прибо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285264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23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00000" y="3357720"/>
            <a:ext cx="770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836640"/>
            <a:ext cx="63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4240" y="1143000"/>
            <a:ext cx="6569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редметно - развивающей среды для познавательной и исследовательской деятельности старших дошкольников, формирование у дошкольников элементарных представлений о погоде и ее значении в жизни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359000" y="2809800"/>
            <a:ext cx="5979960" cy="673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23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00000" y="3357720"/>
            <a:ext cx="770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4240" y="1143000"/>
            <a:ext cx="771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rcRect l="0" t="0" r="23" b="0"/>
          <a:stretch/>
        </p:blipFill>
        <p:spPr>
          <a:xfrm>
            <a:off x="-50760" y="0"/>
            <a:ext cx="9350280" cy="7010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V="1" rot="10800000">
            <a:off x="747360" y="1401120"/>
            <a:ext cx="720900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звитие познавательной и исследовательской деятельности старших дошкольник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накомство с приборами –помощниками: термометром, флюгером, дождемером, снегомером, солнечными час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ловцом облаков»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звитие собственного познавательного опыта с помощью наглядных средств (с помощью знаков, символов в календарях природы, условных заместителей, моделе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оддержание у детей инициативы, сообразительности, пытливости, критичности, самосто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23" b="0"/>
          <a:stretch/>
        </p:blipFill>
        <p:spPr>
          <a:xfrm>
            <a:off x="-324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26920" y="981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14800" y="85716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держание проекта: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 rot="10800000">
            <a:off x="856800" y="-438120"/>
            <a:ext cx="69296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подготовки проекта к реализации, мы постарались трансформировать развивающую предметно – пространственную среду в соответствии с темой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м элементом развивающей среды в нашем дошкольном учреждении стала постройка на территории ДОУ метеостанции, которая стала важной составляющей частью работы  по познавательно-исследовательск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122480" y="3517920"/>
            <a:ext cx="6430680" cy="53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0" r="23" b="0"/>
          <a:stretch/>
        </p:blipFill>
        <p:spPr>
          <a:xfrm>
            <a:off x="-324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26920" y="981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 rot="10800000">
            <a:off x="856800" y="473760"/>
            <a:ext cx="692964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6920" y="1654200"/>
            <a:ext cx="7129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еостан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положена компактно на специально построенной, на территории детского сада, площадке, что позволяет детям в доступной форме, самостоятельно или при помощи воспитателя вести наблюдения за изменением параметров погоды, а также наблюдать и оценивать изменения внешнего вида окружающих площадку объектов в зависимости от времени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олучают возможность определять погоду с помощью специального оборудования, что вызывает у них большой интере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0T18:35:25Z</dcterms:created>
  <dc:creator>Светлана Ермолина</dc:creator>
  <dc:description/>
  <dc:language>en-US</dc:language>
  <cp:lastModifiedBy>Ксения Александровна Кузнецова</cp:lastModifiedBy>
  <dcterms:modified xsi:type="dcterms:W3CDTF">2022-01-27T12:47:46Z</dcterms:modified>
  <cp:revision>238</cp:revision>
  <dc:subject/>
  <dc:title>Проект метеост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87d0100000000010291210207f7000400038000</vt:lpwstr>
  </property>
</Properties>
</file>