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380F-636C-4462-B3E8-B813CDED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D1B-0AD8-47B5-9BEF-F7E49882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4E8-99AF-46F2-99A0-532E7696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1DC-C12E-4BFD-8411-58116AE9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0F5-71EA-4868-B051-946326C3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FCD-2C5A-499B-BF27-8FA973A1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B30-FBA3-4FFE-8F2E-9677152C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9E1-9775-4D93-83E5-28A28C9A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725-5516-44B7-BC4F-330FF82A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C2F-77EF-4268-B831-856B7CBF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3E6-8641-4F64-8634-31C2099B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BD4-D485-4167-81B2-03EE5E2C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634D-39CC-4EA3-BA80-3901D8C2A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7240" y="499680"/>
            <a:ext cx="660096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детский сад № 27 «Сказка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632523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r>
              <a:rPr b="1" lang="ru-RU" sz="1800" spc="-1" strike="noStrike">
                <a:solidFill>
                  <a:srgbClr val="632523"/>
                </a:solidFill>
                <a:latin typeface="Bookman Old Style"/>
              </a:rPr>
              <a:t>Консультация для педагогов ДОУ на тему:</a:t>
            </a:r>
            <a:br>
              <a:rPr sz="1800"/>
            </a:br>
            <a:r>
              <a:rPr b="1" lang="ru-RU" sz="1800" spc="-1" strike="noStrike">
                <a:solidFill>
                  <a:srgbClr val="632523"/>
                </a:solidFill>
                <a:latin typeface="Bookman Old Style"/>
              </a:rPr>
              <a:t>«Профессиональный стандарт педагога дошкольного образования»</a:t>
            </a:r>
            <a:br>
              <a:rPr sz="18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готовил: ст. воспитатель Фролова Е.С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99840" y="4857480"/>
            <a:ext cx="5272200" cy="7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32523"/>
                </a:solidFill>
                <a:latin typeface="Bookman Old Styl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32523"/>
                </a:solidFill>
                <a:latin typeface="Bookman Old Style"/>
              </a:rPr>
              <a:t>г. о. г. Выкс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32523"/>
                </a:solidFill>
                <a:latin typeface="Bookman Old Style"/>
              </a:rPr>
              <a:t>2022 г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8588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643040" y="1357200"/>
            <a:ext cx="7143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  3. Трудовые действ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рганизация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идов деятельности, осуществляемых в раннем и дошкольном возрасте: предметных, познавательно-исследовательских, игры (ролевых, режиссерских, с правилом), продуктивных; конструирования, создания широких возможностей для развития свободной игры детей, в том числе обеспечение игрового времени и простран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структивного взаимодействия детей в разных видах деятельности, создание условий для свободного выбора детьми деятельности, участников совместной деятельности, материал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бразовательного процесса на основе непосредственного общения с каждым ребенком с учетом его особых образовательных потреб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85880" y="500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285920" y="1071720"/>
            <a:ext cx="771516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  3. Трудовые действ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еобходимые ум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ганизовывать виды деятельности, осуществляемые в раннем и дошкольном возрасте: предметная, познавательно-исследовательская, игра (ролевая, режиссерская, с правилом, продуктивная; конструирование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менять методы физического, познавательного и личностного развития детей раннего и дошкольного возраста в соответствии с образовательной программой орган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ть методы и средства анализа психолого-педагогического мониторинг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ладеть всеми видами развивающих деятельностей дошкольника (игровой, продуктивной, познавательно-исследовательской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ыстраивать партнерское взаимодействие с родителями (законными представителями) детей раннего и дошкольного возраста для решения образовательных задач, использовать методы и средства для их психолого-педагогического просвещ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ладеть ИКТ-компетентностью, необходимой и достаточной для планирования, реализации и оценки образовательной работы с детьми раннего и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8588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785960" y="1357200"/>
            <a:ext cx="71438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аздел   3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Трудовые действ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Необходимые зн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пецифика дошкольного образования и особенностей организации работы с детьми раннего и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сихологические подходы: культурно-исторический, деятельностный и личностный; основы дошкольной педагогики, включая классические системы дошкольного воспит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щие закономерности развития ребенка в раннем и дошкольном возрас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обенности становления и развития детских деятельностей в раннем и дошкольном возрас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ы теории физического, познавательного и личностного развития детей раннего и дошкольного возрас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облюдение правовых, нравственных и этических норм,                                          требований профессиональной эти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npVZFBbuHKk.jpg"/>
          <p:cNvPicPr/>
          <p:nvPr/>
        </p:nvPicPr>
        <p:blipFill>
          <a:blip r:embed="rId1"/>
          <a:stretch/>
        </p:blipFill>
        <p:spPr>
          <a:xfrm>
            <a:off x="7929720" y="5072040"/>
            <a:ext cx="92844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143080" y="499680"/>
            <a:ext cx="64152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Не допускаются к работе в ДО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071800" y="135720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ица, лишённые по приговору суда права заниматься педагогической деятельностью; имеющие судимость текущую или погашенную; признанные решением суда недееспособны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ица, имеющие медицинские  противопоказания для занятия педагогической деятельност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429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Профессиональный стандарт педагога дошкольного образ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28880" y="1500120"/>
            <a:ext cx="675792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окумент, регламентирующий требования к профессиональным знаниям и навыкам воспита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обходим д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установления  квалификационного  уровня 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формирования  должностных инструк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м.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иказ Министерства труда и социальной защиты РФ №544н от 08.10. 2013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216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Основные по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143080" y="1947240"/>
            <a:ext cx="628668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11111"/>
                </a:solidFill>
                <a:latin typeface="Bookman Old Style"/>
                <a:ea typeface="Calibri"/>
              </a:rPr>
              <a:t>Стандарт</a:t>
            </a:r>
            <a:r>
              <a:rPr b="0" lang="ru-RU" sz="2000" spc="-1" strike="noStrike">
                <a:solidFill>
                  <a:srgbClr val="111111"/>
                </a:solidFill>
                <a:latin typeface="Bookman Old Style"/>
                <a:ea typeface="Calibri"/>
              </a:rPr>
              <a:t> - это перечень требований, определяющих квалификацию работника, необходимую для качественного выполнения возложенных на него обяза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офессиональный стандар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 – характеристика квалификации, которая необходима работнику для осуществления определенного вида профессиональной деятельности или выполнения трудовой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216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тандарты для педработ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хема 3" descr=""/>
          <p:cNvPicPr/>
          <p:nvPr/>
        </p:nvPicPr>
        <p:blipFill>
          <a:blip r:embed="rId1"/>
          <a:stretch/>
        </p:blipFill>
        <p:spPr>
          <a:xfrm>
            <a:off x="2193840" y="1420920"/>
            <a:ext cx="61326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0" y="500040"/>
            <a:ext cx="65008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Цели профессионального стандар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хема 4" descr=""/>
          <p:cNvPicPr/>
          <p:nvPr/>
        </p:nvPicPr>
        <p:blipFill>
          <a:blip r:embed="rId1"/>
          <a:stretch/>
        </p:blipFill>
        <p:spPr>
          <a:xfrm>
            <a:off x="2193840" y="1706400"/>
            <a:ext cx="64436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85560" y="500040"/>
            <a:ext cx="727236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143160" y="2143080"/>
            <a:ext cx="4786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1. Общие с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бщие данные о специальности, для которой разрабатывался данный станда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928600" y="500040"/>
            <a:ext cx="56293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143000" y="135720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 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рудовые функ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хема 4" descr=""/>
          <p:cNvPicPr/>
          <p:nvPr/>
        </p:nvPicPr>
        <p:blipFill>
          <a:blip r:embed="rId1"/>
          <a:stretch/>
        </p:blipFill>
        <p:spPr>
          <a:xfrm>
            <a:off x="2109960" y="2041560"/>
            <a:ext cx="6143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8588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man Old Style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571840" y="2143080"/>
            <a:ext cx="521496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  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Характеристика обобщенных трудовых функц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ребования к образова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ребования к практическому опы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ые услов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8588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571760" y="1714680"/>
            <a:ext cx="7143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  3. Трудовые действ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частие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разработке основной общеобразовательной программы ДО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создании безопасной и психологически комфортной образовательной среды образовательной организации через обеспечение безопасности жизни детей, поддержание эмоционального благополучия ребенка в период пребывания в образовательной организ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планировании и корректировке образовательных задач (совместно с психологом и другими специалистами) по результатам мониторинга с учетом индивидуальных особенностей развития каждого ребенка раннего и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Пользователь Windows</cp:lastModifiedBy>
  <dcterms:modified xsi:type="dcterms:W3CDTF">2022-02-19T10:14:16Z</dcterms:modified>
  <cp:revision>35</cp:revision>
  <dc:subject/>
  <dc:title>Шаблон презентации</dc:title>
</cp:coreProperties>
</file>