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94B-E79D-4AD7-8506-B2E416BA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B07-5721-4004-8556-F8AE744A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F23-034F-44F7-9844-FC7067D7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9FCE-FA4A-44C4-BDB4-961074C1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544-2CB5-49E7-A692-ABDDD582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68E-9F61-4F7F-AB4E-E8331B3D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437-F584-4A40-890E-8EB78C2F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E5A-EBEE-4303-B4AF-DCBF7CED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34B-CF4B-4C72-A7C1-E8CAFE56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4376-E364-4C82-891F-43AD4A95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F6A-E1E7-4CF3-8151-BC04A188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F20-AE04-4A52-8E6F-0D3FE222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A298-13A3-4CD5-A566-7F14ADA728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57240" y="499680"/>
            <a:ext cx="660096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детский сад № 27 «Сказка»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632523"/>
                </a:solidFill>
                <a:latin typeface="Bookman Old Style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600"/>
            </a:br>
            <a:r>
              <a:rPr b="1" lang="ru-RU" sz="1800" spc="-1" strike="noStrike">
                <a:solidFill>
                  <a:srgbClr val="632523"/>
                </a:solidFill>
                <a:latin typeface="Bookman Old Style"/>
              </a:rPr>
              <a:t>Консультация для педагогов ДОУ на тему:</a:t>
            </a:r>
            <a:br>
              <a:rPr sz="1800"/>
            </a:br>
            <a:r>
              <a:rPr b="1" lang="ru-RU" sz="1800" spc="-1" strike="noStrike">
                <a:solidFill>
                  <a:srgbClr val="632523"/>
                </a:solidFill>
                <a:latin typeface="Bookman Old Style"/>
              </a:rPr>
              <a:t>«Профессиональный стандарт педагога дошкольного образования»</a:t>
            </a:r>
            <a:br>
              <a:rPr sz="18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готовил: ст. воспитатель Фролова Е.С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99840" y="4857480"/>
            <a:ext cx="5272200" cy="7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32523"/>
                </a:solidFill>
                <a:latin typeface="Bookman Old Styl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32523"/>
                </a:solidFill>
                <a:latin typeface="Bookman Old Style"/>
              </a:rPr>
              <a:t>г. о. г. Выкс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32523"/>
                </a:solidFill>
                <a:latin typeface="Bookman Old Style"/>
              </a:rPr>
              <a:t>2022 г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8588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Содержание  профессионального станд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643040" y="1357200"/>
            <a:ext cx="7143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дел   3. Трудовые действ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Организация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идов деятельности, осуществляемых в раннем и дошкольном возрасте: предметных, познавательно-исследовательских, игры (ролевых, режиссерских, с правилом), продуктивных; конструирования, создания широких возможностей для развития свободной игры детей, в том числе обеспечение игрового времени и простран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структивного взаимодействия детей в разных видах деятельности, создание условий для свободного выбора детьми деятельности, участников совместной деятельности, материал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бразовательного процесса на основе непосредственного общения с каждым ребенком с учетом его особых образовательных потреб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85880" y="500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Содержание  профессионального станд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285920" y="1071720"/>
            <a:ext cx="771516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дел   3. Трудовые действ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еобходимые ум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ганизовывать виды деятельности, осуществляемые в раннем и дошкольном возрасте: предметная, познавательно-исследовательская, игра (ролевая, режиссерская, с правилом, продуктивная; конструирование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менять методы физического, познавательного и личностного развития детей раннего и дошкольного возраста в соответствии с образовательной программой организ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ть методы и средства анализа психолого-педагогического мониторинг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ладеть всеми видами развивающих деятельностей дошкольника (игровой, продуктивной, познавательно-исследовательской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ыстраивать партнерское взаимодействие с родителями (законными представителями) детей раннего и дошкольного возраста для решения образовательных задач, использовать методы и средства для их психолого-педагогического просвещ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ладеть ИКТ-компетентностью, необходимой и достаточной для планирования, реализации и оценки образовательной работы с детьми раннего и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8588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Содержание  профессионального станд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1785960" y="1357200"/>
            <a:ext cx="714384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аздел   3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Трудовые действ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Необходимые зн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пецифика дошкольного образования и особенностей организации работы с детьми раннего и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сихологические подходы: культурно-исторический, деятельностный и личностный; основы дошкольной педагогики, включая классические системы дошкольного воспит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щие закономерности развития ребенка в раннем и дошкольном возрас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обенности становления и развития детских деятельностей в раннем и дошкольном возрас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ы теории физического, познавательного и личностного развития детей раннего и дошкольного возрас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облюдение правовых, нравственных и этических норм,                                          требований профессиональной эти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" descr="npVZFBbuHKk.jpg"/>
          <p:cNvPicPr/>
          <p:nvPr/>
        </p:nvPicPr>
        <p:blipFill>
          <a:blip r:embed="rId1"/>
          <a:stretch/>
        </p:blipFill>
        <p:spPr>
          <a:xfrm>
            <a:off x="7929720" y="5072040"/>
            <a:ext cx="92844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143080" y="499680"/>
            <a:ext cx="64152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Не допускаются к работе в ДО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2071800" y="1357200"/>
            <a:ext cx="685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ица, лишённые по приговору суда права заниматься педагогической деятельностью; имеющие судимость текущую или погашенную; признанные решением суда недееспособны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ица, имеющие медицинские  противопоказания для занятия педагогической деятельность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429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Профессиональный стандарт педагога дошкольного образ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28880" y="1500120"/>
            <a:ext cx="675792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окумент, регламентирующий требования к профессиональным знаниям и навыкам воспитате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обходим дл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установления  квалификационного  уровня  педаг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формирования  должностных инструк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м.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иказ Министерства труда и социальной защиты РФ №544н от 08.10. 2013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2216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Основные пон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143080" y="1947240"/>
            <a:ext cx="628668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11111"/>
                </a:solidFill>
                <a:latin typeface="Bookman Old Style"/>
                <a:ea typeface="Calibri"/>
              </a:rPr>
              <a:t>Стандарт</a:t>
            </a:r>
            <a:r>
              <a:rPr b="0" lang="ru-RU" sz="2000" spc="-1" strike="noStrike">
                <a:solidFill>
                  <a:srgbClr val="111111"/>
                </a:solidFill>
                <a:latin typeface="Bookman Old Style"/>
                <a:ea typeface="Calibri"/>
              </a:rPr>
              <a:t> - это перечень требований, определяющих квалификацию работника, необходимую для качественного выполнения возложенных на него обязан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офессиональный стандарт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 – характеристика квалификации, которая необходима работнику для осуществления определенного вида профессиональной деятельности или выполнения трудовой фун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2160" y="428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Стандарты для педработ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хема 3" descr=""/>
          <p:cNvPicPr/>
          <p:nvPr/>
        </p:nvPicPr>
        <p:blipFill>
          <a:blip r:embed="rId1"/>
          <a:stretch/>
        </p:blipFill>
        <p:spPr>
          <a:xfrm>
            <a:off x="2193840" y="1420920"/>
            <a:ext cx="613260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0" y="500040"/>
            <a:ext cx="65008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Цели профессионального стандар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хема 4" descr=""/>
          <p:cNvPicPr/>
          <p:nvPr/>
        </p:nvPicPr>
        <p:blipFill>
          <a:blip r:embed="rId1"/>
          <a:stretch/>
        </p:blipFill>
        <p:spPr>
          <a:xfrm>
            <a:off x="2193840" y="1706400"/>
            <a:ext cx="64436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85560" y="500040"/>
            <a:ext cx="727236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Содержание  профессионального стандар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143160" y="2143080"/>
            <a:ext cx="4786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дел 1. Общие с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бщие данные о специальности, для которой разрабатывался данный стандар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928600" y="500040"/>
            <a:ext cx="56293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Содержание  профессионального станд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143000" y="135720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дел  2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Трудовые функ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хема 4" descr=""/>
          <p:cNvPicPr/>
          <p:nvPr/>
        </p:nvPicPr>
        <p:blipFill>
          <a:blip r:embed="rId1"/>
          <a:stretch/>
        </p:blipFill>
        <p:spPr>
          <a:xfrm>
            <a:off x="2109960" y="2041560"/>
            <a:ext cx="6143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8588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man Old Style"/>
              </a:rPr>
              <a:t> </a:t>
            </a: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Содержание  профессионального станд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571840" y="2143080"/>
            <a:ext cx="521496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дел   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Характеристика обобщенных трудовых функц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Требования к образова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Требования к практическому опы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обые услов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8588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632523"/>
                </a:solidFill>
                <a:latin typeface="Bookman Old Style"/>
              </a:rPr>
              <a:t>Содержание  профессионального станд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85840" y="264564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1571760" y="1714680"/>
            <a:ext cx="7143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дел   3. Трудовые действ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частие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разработке основной общеобразовательной программы ДО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создании безопасной и психологически комфортной образовательной среды образовательной организации через обеспечение безопасности жизни детей, поддержание эмоционального благополучия ребенка в период пребывания в образовательной организ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планировании и корректировке образовательных задач (совместно с психологом и другими специалистами) по результатам мониторинга с учетом индивидуальных особенностей развития каждого ребенка раннего и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Пользователь Windows</cp:lastModifiedBy>
  <dcterms:modified xsi:type="dcterms:W3CDTF">2022-02-19T10:14:16Z</dcterms:modified>
  <cp:revision>35</cp:revision>
  <dc:subject/>
  <dc:title>Шаблон презентации</dc:title>
</cp:coreProperties>
</file>