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FA2-871A-49B6-8C47-F2EE2538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653-995F-4589-9E7F-D6AF0EA3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109-2989-4797-868B-932999B2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20C2-9993-4C4C-B3B1-A559CBC0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232C-A5AC-4D26-9051-BE36EE5F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F826-7E51-4D85-92BF-205B6381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AA0-7DEA-4F61-B48C-6B7A95B0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9483-7396-486B-8E17-5F9D6379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5C6-01B3-4D65-B9AE-76A1C0E5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894-0F69-44C8-A052-EC243434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446-2582-4700-87A5-5E7A3384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D806-ABF6-411D-ABD9-8FFBCC20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4F38-C488-475E-8A36-5F66FCBA53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2.ppt-online.org%2Ffiles2%2Fslide%2Fe%2Feda9VvyF6C0x2NzhOf7R8PsBMTHAcLi15UIpoEjtK%2Fslide-24.jpg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885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b0f0"/>
                </a:solidFill>
                <a:latin typeface="Arial"/>
                <a:ea typeface="Arial"/>
              </a:rPr>
              <a:t>Государственное бюджетное общеобразовательное учреждение Самарской области </a:t>
            </a:r>
            <a:br>
              <a:rPr sz="1400"/>
            </a:br>
            <a:r>
              <a:rPr b="1" lang="ru-RU" sz="1400" spc="-1" strike="noStrike">
                <a:solidFill>
                  <a:srgbClr val="00b0f0"/>
                </a:solidFill>
                <a:latin typeface="Arial"/>
                <a:ea typeface="Arial"/>
              </a:rPr>
              <a:t>средняя общеобразовательная школа №1 «Образовательный центр»</a:t>
            </a:r>
            <a:br>
              <a:rPr sz="1400"/>
            </a:br>
            <a:r>
              <a:rPr b="1" lang="ru-RU" sz="1400" spc="-1" strike="noStrike">
                <a:solidFill>
                  <a:srgbClr val="00b0f0"/>
                </a:solidFill>
                <a:latin typeface="Arial"/>
                <a:ea typeface="Arial"/>
              </a:rPr>
              <a:t> имени 21 армии Вооруженных сил СССР п.г.т. Стройкерамика</a:t>
            </a:r>
            <a:br>
              <a:rPr sz="1400"/>
            </a:br>
            <a:r>
              <a:rPr b="1" lang="ru-RU" sz="1400" spc="-1" strike="noStrike">
                <a:solidFill>
                  <a:srgbClr val="00b0f0"/>
                </a:solidFill>
                <a:latin typeface="Arial"/>
                <a:ea typeface="Arial"/>
              </a:rPr>
              <a:t> муниципального района Волжский Самарской области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b0f0"/>
                </a:solidFill>
                <a:latin typeface="Arial"/>
                <a:ea typeface="Arial"/>
              </a:rPr>
              <a:t>структурное подразделение «Детский сад «Солныш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1640" y="5373360"/>
            <a:ext cx="7461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b0f0"/>
                </a:solidFill>
                <a:latin typeface="Arial"/>
                <a:ea typeface="Arial"/>
              </a:rPr>
              <a:t>Назырова Гузяль  Анвяровна, старший воспита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Прямоугольник 1" descr=""/>
          <p:cNvPicPr/>
          <p:nvPr/>
        </p:nvPicPr>
        <p:blipFill>
          <a:blip r:embed="rId1"/>
          <a:stretch/>
        </p:blipFill>
        <p:spPr>
          <a:xfrm>
            <a:off x="1219320" y="2487600"/>
            <a:ext cx="7102440" cy="19018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1270080" y="5950080"/>
            <a:ext cx="7461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  <a:ea typeface="Arial"/>
              </a:rPr>
              <a:t>п.г.т. Стройкерам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Игра, для знакомства дошкольников с симметри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Рисунок 5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3780000" cy="4535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ы по декоративно-прикладному искусству. Выбирают элементы росписи и раскладывают узор на дос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780000" cy="45356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а-домино «Городецкая и дымковская роспис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5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256360" cy="37436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а «Смешай цвет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4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256360" cy="37447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042920" y="1557360"/>
            <a:ext cx="73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s://moluch.ru/archive/100/22521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2.pptonline.org%2Ffiles2%2Fslide%2Fe%2Feda9VvyF6C0x2NzhOf7R8PsBMTHAcLi15UIpoEjtK%2Fslide-24.jp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1042920" y="298944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ПАСИБО ЗА ВНИМАНИЕ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547640" y="1125000"/>
            <a:ext cx="65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авный мотив детского творчества - это стремление выражать свои впечатления, переживания, осваивать их в деятельности. Большой потенциал для раскрытия детского творчества заключен в изобразительной деятельности. А именно в рисова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Ну чего же тут скрывать. Дети любят, очень любят рисовать! На бумаге, на асфальте, на стене, И в трамвае на окне.» (Э. Успенский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помощью нетрадиционных способов рисования можно незаметно для ребенка развивать его воображение, а развивать творческие способности помогут дидактические игры. Даже малоактивный ребенок, проникаясь интересным и новым занятием, делает свои первые успех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Объект 4"/>
          <p:cNvSpPr/>
          <p:nvPr/>
        </p:nvSpPr>
        <p:spPr>
          <a:xfrm>
            <a:off x="1547640" y="1052640"/>
            <a:ext cx="6553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ительность одной игры должна составлять не более 5-10 мину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-дидактические игры можно разделить на условные групп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гры, способствующие развитию графических навыков, пониманию конструктивных особенностей формы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ая в эти игры, дети развивают пространственное воображение, учатся узнавать предмет по его отдельным свойствам и частям. Например: «Собери фигуру по картинке», «Формы», «На что это похоже», «Узнай предмет по силуэту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Объект 4"/>
          <p:cNvSpPr/>
          <p:nvPr/>
        </p:nvSpPr>
        <p:spPr>
          <a:xfrm>
            <a:off x="1547640" y="1125360"/>
            <a:ext cx="65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Объект 4"/>
          <p:cNvSpPr/>
          <p:nvPr/>
        </p:nvSpPr>
        <p:spPr>
          <a:xfrm>
            <a:off x="1547640" y="1052640"/>
            <a:ext cx="6553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бъект 4"/>
          <p:cNvSpPr/>
          <p:nvPr/>
        </p:nvSpPr>
        <p:spPr>
          <a:xfrm>
            <a:off x="1700280" y="1204920"/>
            <a:ext cx="6553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 Игры, развивающие у детей цветовое восприятие, способствующие реализации живописных и колористических задач обуч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: в игре «Теплый – холодный», мы уточняем с детьми понятия «теплые и холодные цвета»; в игре «На лугу расцвели красивые цветы» дети собирают букеты цветов определенной цветовой гаммы: теплой или холодной; в играх «Палитра осени», «Палитра весны», «Времена года» ребята подбирают цветовую гамму к определенному времени года и закрепляют знания о сезонных изменениях в природ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Объект 4"/>
          <p:cNvSpPr/>
          <p:nvPr/>
        </p:nvSpPr>
        <p:spPr>
          <a:xfrm>
            <a:off x="1547640" y="1125360"/>
            <a:ext cx="65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Объект 4"/>
          <p:cNvSpPr/>
          <p:nvPr/>
        </p:nvSpPr>
        <p:spPr>
          <a:xfrm>
            <a:off x="1547640" y="1052640"/>
            <a:ext cx="6553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Объект 4"/>
          <p:cNvSpPr/>
          <p:nvPr/>
        </p:nvSpPr>
        <p:spPr>
          <a:xfrm>
            <a:off x="1700280" y="1204920"/>
            <a:ext cx="6553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3. Игры, закрепляющие знания о свойствах предмета: их цвете, форме, строении, величин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: в игре «Парные картинки» необходимо найти сходство и отличия предметов; играя в конструктор «Животные», дети собирают целое животное из различных частей тела (голова, уши, туловище, лапы, хвост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Объект 4"/>
          <p:cNvSpPr/>
          <p:nvPr/>
        </p:nvSpPr>
        <p:spPr>
          <a:xfrm>
            <a:off x="1547640" y="1125360"/>
            <a:ext cx="65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Объект 4"/>
          <p:cNvSpPr/>
          <p:nvPr/>
        </p:nvSpPr>
        <p:spPr>
          <a:xfrm>
            <a:off x="1547640" y="1052640"/>
            <a:ext cx="6553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Объект 4"/>
          <p:cNvSpPr/>
          <p:nvPr/>
        </p:nvSpPr>
        <p:spPr>
          <a:xfrm>
            <a:off x="1700280" y="1204920"/>
            <a:ext cx="6553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4. Игры, на развитие чувства ритма и симметр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этих играх дети учатся самостоятельно составлять узоры, принимая во внимание пространственные отношения между его элементами, соблюдать симметрию и ритм учат игры - «Выложи узор на коврике», «Продолжи орнамент», «Сложи узор из предложенных элементов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Объект 4"/>
          <p:cNvSpPr/>
          <p:nvPr/>
        </p:nvSpPr>
        <p:spPr>
          <a:xfrm>
            <a:off x="1547640" y="1125360"/>
            <a:ext cx="65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Объект 4"/>
          <p:cNvSpPr/>
          <p:nvPr/>
        </p:nvSpPr>
        <p:spPr>
          <a:xfrm>
            <a:off x="1547640" y="1052640"/>
            <a:ext cx="6553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бъект 4"/>
          <p:cNvSpPr/>
          <p:nvPr/>
        </p:nvSpPr>
        <p:spPr>
          <a:xfrm>
            <a:off x="1700280" y="1204920"/>
            <a:ext cx="6553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5. Игры, способствующие развитию композиционных умений, начиная от равномерного расположения предметов на листе бумаги в рисовании и аппликации с осознанным сочетанием предметов по форме, цвету и величин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: «Составь натюрморт», «Дорисуй картину», «Перспектива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Объект 4"/>
          <p:cNvSpPr/>
          <p:nvPr/>
        </p:nvSpPr>
        <p:spPr>
          <a:xfrm>
            <a:off x="1547640" y="1125360"/>
            <a:ext cx="65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бъект 4"/>
          <p:cNvSpPr/>
          <p:nvPr/>
        </p:nvSpPr>
        <p:spPr>
          <a:xfrm>
            <a:off x="1547640" y="1052640"/>
            <a:ext cx="6553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бъект 4"/>
          <p:cNvSpPr/>
          <p:nvPr/>
        </p:nvSpPr>
        <p:spPr>
          <a:xfrm>
            <a:off x="1700280" y="1204920"/>
            <a:ext cx="6553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им образом, в процессе дидактических игр дошкольники овладевают многими практическими навыками, которые позднее будут нужны для выполнения самых разнообразных работ, приобретают ручную умелость, которая позволит им чувствовать себя самостоятельны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а "Собери гусеничку". Несколько вариантов игр, для разного возраста. Можно собрать гусеничку из холодных (или тёплых) цветов; или начиная с самого тёмного цвета до самого светло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253120" cy="3743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Гость</cp:lastModifiedBy>
  <dcterms:modified xsi:type="dcterms:W3CDTF">2022-02-20T11:10:02Z</dcterms:modified>
  <cp:revision>102</cp:revision>
  <dc:subject/>
  <dc:title>Слайд 1</dc:title>
</cp:coreProperties>
</file>