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7F5-4AA3-45C3-9F36-11FEA99B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90C-36F5-4405-B033-10EB2F02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8A3-C9FA-4538-A343-3B09351C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9CD-7D1D-4871-8C4B-CD44FE47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BF27-F5E6-419D-B847-38C3AF8C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2F3-3881-4BAC-8F7D-D6368FAC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4E1-B54F-4425-94E9-D9383FF4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C8D-D6D9-48BE-B506-901C6670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E20-AA08-46FF-9AE1-15C5F3D0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0B6-21B8-4223-BA48-42E2D38C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C8A-B28E-4602-A0EC-4D69BB28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783-B1FF-49BE-B7D5-67AED578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3B27-7862-4AEB-8FA4-0F0C67AF49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2.ppt-online.org%2Ffiles2%2Fslide%2Fe%2Feda9VvyF6C0x2NzhOf7R8PsBMTHAcLi15UIpoEjtK%2Fslide-24.jpg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885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b0f0"/>
                </a:solidFill>
                <a:latin typeface="Arial"/>
                <a:ea typeface="Arial"/>
              </a:rPr>
              <a:t>Государственное бюджетное общеобразовательное учреждение Самарской области </a:t>
            </a:r>
            <a:br>
              <a:rPr sz="1400"/>
            </a:br>
            <a:r>
              <a:rPr b="1" lang="ru-RU" sz="1400" spc="-1" strike="noStrike">
                <a:solidFill>
                  <a:srgbClr val="00b0f0"/>
                </a:solidFill>
                <a:latin typeface="Arial"/>
                <a:ea typeface="Arial"/>
              </a:rPr>
              <a:t>средняя общеобразовательная школа №1 «Образовательный центр»</a:t>
            </a:r>
            <a:br>
              <a:rPr sz="1400"/>
            </a:br>
            <a:r>
              <a:rPr b="1" lang="ru-RU" sz="1400" spc="-1" strike="noStrike">
                <a:solidFill>
                  <a:srgbClr val="00b0f0"/>
                </a:solidFill>
                <a:latin typeface="Arial"/>
                <a:ea typeface="Arial"/>
              </a:rPr>
              <a:t> имени 21 армии Вооруженных сил СССР п.г.т. Стройкерамика</a:t>
            </a:r>
            <a:br>
              <a:rPr sz="1400"/>
            </a:br>
            <a:r>
              <a:rPr b="1" lang="ru-RU" sz="1400" spc="-1" strike="noStrike">
                <a:solidFill>
                  <a:srgbClr val="00b0f0"/>
                </a:solidFill>
                <a:latin typeface="Arial"/>
                <a:ea typeface="Arial"/>
              </a:rPr>
              <a:t> муниципального района Волжский Самарской области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b0f0"/>
                </a:solidFill>
                <a:latin typeface="Arial"/>
                <a:ea typeface="Arial"/>
              </a:rPr>
              <a:t>структурное подразделение «Детский сад «Солныш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1640" y="5373360"/>
            <a:ext cx="7461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Назырова Гузяль  Анвяровна, старший воспит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1219320" y="2487600"/>
            <a:ext cx="7102440" cy="19018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1270080" y="5950080"/>
            <a:ext cx="7461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п.г.т. Стройкерам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Игра, для знакомства дошкольников с симметри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5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3780000" cy="4535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по декоративно-прикладному искусству. Выбирают элементы росписи и раскладывают узор на дос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780000" cy="4535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а-домино «Городецкая и дымковская роспис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5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256360" cy="3743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а «Смешай цвет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4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256360" cy="3744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042920" y="1557360"/>
            <a:ext cx="73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s://moluch.ru/archive/100/22521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2.pptonline.org%2Ffiles2%2Fslide%2Fe%2Feda9VvyF6C0x2NzhOf7R8PsBMTHAcLi15UIpoEjtK%2Fslide-24.jp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1042920" y="298944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ПАСИБО ЗА ВНИМАНИЕ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47640" y="1125000"/>
            <a:ext cx="65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вный мотив детского творчества - это стремление выражать свои впечатления, переживания, осваивать их в деятельности. Большой потенциал для раскрытия детского творчества заключен в изобразительной деятельности. А именно в рисова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Ну чего же тут скрывать. Дети любят, очень любят рисовать! На бумаге, на асфальте, на стене, И в трамвае на окне.» (Э. Успенский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помощью нетрадиционных способов рисования можно незаметно для ребенка развивать его воображение, а развивать творческие способности помогут дидактические игры. Даже малоактивный ребенок, проникаясь интересным и новым занятием, делает свои первые успех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бъект 4"/>
          <p:cNvSpPr/>
          <p:nvPr/>
        </p:nvSpPr>
        <p:spPr>
          <a:xfrm>
            <a:off x="1547640" y="1052640"/>
            <a:ext cx="6553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тельность одной игры должна составлять не более 5-10 мину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-дидактические игры можно разделить на условные груп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гры, способствующие развитию графических навыков, пониманию конструктивных особенностей форм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ая в эти игры, дети развивают пространственное воображение, учатся узнавать предмет по его отдельным свойствам и частям. Например: «Собери фигуру по картинке», «Формы», «На что это похоже», «Узнай предмет по силуэту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Объект 4"/>
          <p:cNvSpPr/>
          <p:nvPr/>
        </p:nvSpPr>
        <p:spPr>
          <a:xfrm>
            <a:off x="1547640" y="1125360"/>
            <a:ext cx="65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Объект 4"/>
          <p:cNvSpPr/>
          <p:nvPr/>
        </p:nvSpPr>
        <p:spPr>
          <a:xfrm>
            <a:off x="1547640" y="1052640"/>
            <a:ext cx="6553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бъект 4"/>
          <p:cNvSpPr/>
          <p:nvPr/>
        </p:nvSpPr>
        <p:spPr>
          <a:xfrm>
            <a:off x="1700280" y="1204920"/>
            <a:ext cx="6553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Игры, развивающие у детей цветовое восприятие, способствующие реализации живописных и колористических задач обуч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: в игре «Теплый – холодный», мы уточняем с детьми понятия «теплые и холодные цвета»; в игре «На лугу расцвели красивые цветы» дети собирают букеты цветов определенной цветовой гаммы: теплой или холодной; в играх «Палитра осени», «Палитра весны», «Времена года» ребята подбирают цветовую гамму к определенному времени года и закрепляют знания о сезонных изменениях в природ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Объект 4"/>
          <p:cNvSpPr/>
          <p:nvPr/>
        </p:nvSpPr>
        <p:spPr>
          <a:xfrm>
            <a:off x="1547640" y="1125360"/>
            <a:ext cx="65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Объект 4"/>
          <p:cNvSpPr/>
          <p:nvPr/>
        </p:nvSpPr>
        <p:spPr>
          <a:xfrm>
            <a:off x="1547640" y="1052640"/>
            <a:ext cx="6553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Объект 4"/>
          <p:cNvSpPr/>
          <p:nvPr/>
        </p:nvSpPr>
        <p:spPr>
          <a:xfrm>
            <a:off x="1700280" y="1204920"/>
            <a:ext cx="6553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3. Игры, закрепляющие знания о свойствах предмета: их цвете, форме, строении, величин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: в игре «Парные картинки» необходимо найти сходство и отличия предметов; играя в конструктор «Животные», дети собирают целое животное из различных частей тела (голова, уши, туловище, лапы, хвост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Объект 4"/>
          <p:cNvSpPr/>
          <p:nvPr/>
        </p:nvSpPr>
        <p:spPr>
          <a:xfrm>
            <a:off x="1547640" y="1125360"/>
            <a:ext cx="65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Объект 4"/>
          <p:cNvSpPr/>
          <p:nvPr/>
        </p:nvSpPr>
        <p:spPr>
          <a:xfrm>
            <a:off x="1547640" y="1052640"/>
            <a:ext cx="6553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бъект 4"/>
          <p:cNvSpPr/>
          <p:nvPr/>
        </p:nvSpPr>
        <p:spPr>
          <a:xfrm>
            <a:off x="1700280" y="1204920"/>
            <a:ext cx="6553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4. Игры, на развитие чувства ритма и симметр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этих играх дети учатся самостоятельно составлять узоры, принимая во внимание пространственные отношения между его элементами, соблюдать симметрию и ритм учат игры - «Выложи узор на коврике», «Продолжи орнамент», «Сложи узор из предложенных элементов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Объект 4"/>
          <p:cNvSpPr/>
          <p:nvPr/>
        </p:nvSpPr>
        <p:spPr>
          <a:xfrm>
            <a:off x="1547640" y="1125360"/>
            <a:ext cx="65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Объект 4"/>
          <p:cNvSpPr/>
          <p:nvPr/>
        </p:nvSpPr>
        <p:spPr>
          <a:xfrm>
            <a:off x="1547640" y="1052640"/>
            <a:ext cx="6553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бъект 4"/>
          <p:cNvSpPr/>
          <p:nvPr/>
        </p:nvSpPr>
        <p:spPr>
          <a:xfrm>
            <a:off x="1700280" y="1204920"/>
            <a:ext cx="6553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5. Игры, способствующие развитию композиционных умений, начиная от равномерного расположения предметов на листе бумаги в рисовании и аппликации с осознанным сочетанием предметов по форме, цвету и величин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: «Составь натюрморт», «Дорисуй картину», «Перспектива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Объект 4"/>
          <p:cNvSpPr/>
          <p:nvPr/>
        </p:nvSpPr>
        <p:spPr>
          <a:xfrm>
            <a:off x="1547640" y="1125360"/>
            <a:ext cx="65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бъект 4"/>
          <p:cNvSpPr/>
          <p:nvPr/>
        </p:nvSpPr>
        <p:spPr>
          <a:xfrm>
            <a:off x="1547640" y="1052640"/>
            <a:ext cx="6553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бъект 4"/>
          <p:cNvSpPr/>
          <p:nvPr/>
        </p:nvSpPr>
        <p:spPr>
          <a:xfrm>
            <a:off x="1700280" y="1204920"/>
            <a:ext cx="6553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им образом, в процессе дидактических игр дошкольники овладевают многими практическими навыками, которые позднее будут нужны для выполнения самых разнообразных работ, приобретают ручную умелость, которая позволит им чувствовать себя самостоятельны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а "Собери гусеничку". Несколько вариантов игр, для разного возраста. Можно собрать гусеничку из холодных (или тёплых) цветов; или начиная с самого тёмного цвета до самого светло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253120" cy="3743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Гость</cp:lastModifiedBy>
  <dcterms:modified xsi:type="dcterms:W3CDTF">2022-02-20T11:10:02Z</dcterms:modified>
  <cp:revision>102</cp:revision>
  <dc:subject/>
  <dc:title>Слайд 1</dc:title>
</cp:coreProperties>
</file>