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1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1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14733-D031-41E6-97FE-DF997589E3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12945-BFB2-4B4A-A604-38D8C034BE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B395C-F01E-4DDC-A4BF-636C76E8D03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13295-736E-4232-B7B1-0758D5D649F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01517-31FE-45D7-83FB-0140A46E558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79C27-E931-4AAB-A497-DECCFED1406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079A5-A761-4175-99B6-EF137D8BC4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A6C2-1838-4058-AD20-37C4FE32E7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AFFCE-AC5E-4BB3-8C93-C392AEF4EA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6391-6030-44C9-876F-706C96998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A6D-8D54-4DE9-8F0B-C4F8F92D0F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2744-852F-4F8C-A770-37DB7B67B6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178A-AA72-43F0-8AEB-0FD0194073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4A70-E139-42F9-ADA9-17383C995E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40BC-004A-40A7-9E84-6F1411522E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E40F-B640-471C-8BC1-1F9FFED57F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F086-8FDC-40E8-AB60-F84E23A3AB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0677-6C3A-4695-B760-B35DE2C6DA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1692-D0EA-43EC-B8C4-8C783A2D02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354B-3286-49E7-8B5D-1C6272718C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A573A-1536-4E35-9D2B-99A08A1D7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5296-74EB-44ED-9F60-7E4FED474D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6D909-B49F-471E-B087-2C3BB5977A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0809B-F504-4F5A-A325-373083AE26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8C9B8-AA39-4E32-9AFE-2DD27448E1D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ADCB1-7EF5-4DC9-97FE-491F6AF987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6CC94-A9F7-47A3-BF5E-B4CA2BC921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9B61B-56EA-4CCA-930B-EC68CFD410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90677-CA49-4E56-95C9-B095C8E956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396AC-A8C0-4793-8CE8-6AFC9827AE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AF809-FB32-4E5D-88D4-8EA6335E71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17F39-32CF-4BB5-9AA4-15E6344E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423B-E220-4FBD-B039-2CEEA864B32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C9A8A-A7BC-4E0B-B670-D6790C4459C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02888-0A00-42DA-8DCB-5D4325A875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5BF69-30FD-41E6-A491-CF0730018B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C38BF-CBA8-4F2D-BDDB-DB47E36F3E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A00B2-34B8-41D8-BFD2-15E2B3F7CE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088FB-DCBB-464C-B153-E57003F627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50E1F-CC4B-4217-9973-8C44BD0990A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14968-5AAE-4C2D-B028-CAC644E3FF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7CA59-91C0-4410-B534-380D17943C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8A712-3EC9-451F-BD12-660E6512D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0A2C-E892-4FEB-AC88-143DA164B8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8684B-40EF-49D0-9044-E9BC905D38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B1919-9B32-42EC-9DF3-7A456308A7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569C9-4CC2-4C3E-B127-AA8BB9D5CB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E63C-9500-477F-863F-175EE779A2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1A33-E624-43BD-A071-BBC70EF0E1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4F1E-AB84-4CA4-AC07-74091B95A9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BFEB-FFC9-456A-B92D-BDB0CCE7C84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7CC4-8E92-402E-9829-CDA66DC881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29D7-5610-49E8-A970-6C718953096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2C37-F1B2-487A-B416-E71CD13BB0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AF6B-18F1-4EEA-BD5B-6F2959CA46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5444-74B2-4D98-AFEA-4AA5B02CD2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241A-7F04-491F-B5A9-ADDCEDF5B6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C7C4-9E1F-4368-8EDB-163BAE2106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86B6-A8CD-4DD8-94D9-B5B3ADC19B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1B54-3B6D-4AC9-B281-91D6BC012F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F55F7-9BA3-41B6-B047-BF187A3131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A0883-AE69-41C3-B69C-2C01B904F1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147450-B9EF-482A-91BD-4F630D18BE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08309-9B3E-4D7F-B80C-922709DB71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E358C-375E-40B9-B665-BA7E828D3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4D1A-2015-4189-9FE4-31BFA0022A4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8900B5-881C-4562-9F1A-056A2DA630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B6268-394C-4952-9543-D435802CB6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0B61A-4D6F-4D51-A369-FC7D42C58A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B3B65-D52F-4B6F-8D09-B895B36F72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46B04-B0E3-40B9-932A-F6A2A15181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FA14A-2A41-4B01-8431-54AAB14D64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57AD9-5565-4894-9022-61C70882C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A5C1-0CC1-4AB6-BEEC-CABD21285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0085-C477-44C0-A558-1C0EC45E3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C936-2581-441A-864E-D20584AE91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1EE9-E045-49A7-A7D6-426E03131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5E38-1C88-4715-9F2B-59F8FD328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83D2-5DAE-4B3C-8E02-77D9D94AB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08D3-01C3-47C6-8133-7CA99611BB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83F9-80B5-4BFF-84CC-7616E9B38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1ED2-57EF-4AD1-8998-B782AA2BAA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183F-6367-4418-807F-2C2B45FD5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F2F-9B72-45A7-BC58-8B3C10B1AA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15F-A1EA-431B-96AF-67445DE8D7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D53-1399-46B3-AEBE-BFD040D0D3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252-9886-4760-8F79-C1BC4E512D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3A-5C5B-4945-B6FD-E51543464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4F8F-F9EC-40D1-A425-B1AAF1DEA6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CB5-D495-4494-A2E9-1F3B1F22D0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7BD-F4A4-4F72-846A-DF102F5F03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28-C336-4E1C-9F59-1E7E031F61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E7B-7EC0-4B61-9F88-EAD0BC469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0C1-2644-46AC-8893-E8FC648AB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682-4938-41ED-B5AC-36775852D8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CB8-696F-422B-A7EE-CD8029DA8A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6D4FD-D69A-4451-AE3A-66D97CB6A6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68A16-7D01-474D-B8E0-70C3F25D2B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0A5B-9EB4-41DE-8E75-CBA089F77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8853-E7BB-4D3C-A69A-2ADDE101CC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C4582-439B-4E1A-A346-DD4033CF9F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7F1E1-1CFE-4A82-8E1F-A9EF42E523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5A998-12E0-4A36-BD93-55C1804239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23D2-2E1F-48CB-9573-87F7052F10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D697-8C16-4C57-8CC3-04D2A19490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E2FA-B084-4541-887E-C7809DB433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3559-C482-401C-A2CB-8FCF58FA7B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50A7-34AC-4ADA-B40C-E47B0743AF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C2BD3-307B-4544-9CB2-01E7D5009D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67FB6-E9D9-473A-B04B-30D2251D6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B22-EE23-4CCB-837E-CEC4D087FE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6312-2CCE-45A1-95CE-F25B0FD8AA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1BA4-7442-4477-BB07-CC8BC79E2C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6B97-C0AC-4B69-8032-DEBE885C4C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97BAF-8C3E-4104-AF8C-5D49156191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B1069-C149-43FD-974E-D04C4930DE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0E92-7286-497F-AE7A-E83161BDFA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F5D6-6D3B-4CE3-A269-EBCE05CB74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D6097-7C0E-4D2B-8992-C6B01A087A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B8C2-4376-4C8F-ABDD-F82E17EBD1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3E88F-1CEB-4C1D-9414-5F5D31C31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86B6-BAF5-401D-8E86-4B736CFAA6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BE53-98C1-4808-AC9F-148EC38418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C95A-C8E9-4913-BD78-211CAA2D10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CA75-94AC-41A4-B270-B217CE84B9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59E1-9A6F-442E-AFBD-A353FA6B1A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B461-FC71-41E4-9E39-4AB607AB21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3423-2F40-433A-9381-D0DA9303EF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A5A-9315-4A0A-B1BC-96D974CC60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479-4D0B-4168-9D3A-E80AC06B92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B78-EFED-4AB7-89A9-B981FA8BD1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5B7C-144D-48A6-B7A8-20CB4E22D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B0F0-4E05-4667-AC0E-3900084FBB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FDD-392D-4177-BF4C-C5D51AA1F4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CFF-0C59-446E-909E-848C193A8A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D137-E107-4083-93D6-128E448451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291A4-1B5C-43D9-B929-AD6155FEA9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3E9FA-BA43-4CF8-8CC8-A15825EAB9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4CBFB-BB4A-4DCD-A5F2-F96DC17C6B4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07C45-F101-44C0-A1F5-2033805036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DD5DE-C6EF-440C-A243-EFDC631EC5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D3307-0B74-4B88-913F-1E62C7E0F1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275D9-0364-4187-9432-0F69CB84E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96EB-5E53-4827-91AA-B4120805A1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588B7-5661-4947-BE22-F23F6A7809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BC9FF-3B06-4FD7-9F67-D17680C5A1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9104E-6FE4-40CB-978F-5BEA0ED645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D900D-BF48-4BB4-AAFD-5251A4C0C5A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E6966-3628-4CB1-AE0A-F1200704CD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0BCF8-519D-45C0-B25B-1CB9DB738D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0BBFC-6FB3-4312-8656-7896FEDD66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5C816-81A7-47B4-B045-74F2F9EAB0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98488-D509-43EA-BFEC-3FD906CDF7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8D000-52DC-429C-A7EA-2ACCA1751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F1FE-2C67-43EC-9B44-BA6B127DCD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1F20E-980B-4812-9F8D-5A72369161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C694D-652B-4784-A68D-910D1AAB84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252DF-7A32-4D02-97AD-261C555268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07C86-DF4D-47BC-AEF5-E78F0978D9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C3361-F735-42CD-B519-9B31167026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6D48F-4293-444F-9D21-EB84F6DCD4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78765-27C3-40A9-B0B7-F47CA54265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5F04-EA90-49FD-9357-8D8995B3F4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C1E6-A5BB-4D72-8FC8-17181D9317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7F30-BCDF-4E13-B326-CBD684DB6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F598DC-67D0-4A62-A172-5A17F48158B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D69086-0BC6-4978-9BDB-30474A2023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213CE6-40F8-4899-AC70-8673BF7243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8E355E-4622-42D6-ABCB-8C919FFF2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D3F475-E047-47F5-B2BB-73383AECC8A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FB775A-3020-435B-AD96-90D84DF5B9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A17C4-0DF7-4CF4-9595-A11C86D8D7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3B7F2-024B-4194-B580-7BAAE958E9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348512-8794-4223-BCE7-3B56B07FE1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2E36FC-4D34-4970-A3DC-4C65CF3530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0CB4E1-F503-40F3-A448-2699B04B5C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6D7166-BD4E-436D-B06A-54C623870E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489A0E-893B-4A3F-B9BE-C9393F4876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97164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ОУ «СОШ №12 г. Нижнеудинск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мена людей  и их характер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сследовательский про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4405320" y="4449600"/>
            <a:ext cx="439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опенков Даниил 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A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Бращунова И.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1"/>
          <p:cNvSpPr/>
          <p:nvPr/>
        </p:nvSpPr>
        <p:spPr>
          <a:xfrm>
            <a:off x="2684520" y="476280"/>
            <a:ext cx="38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Александ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684360" y="1484280"/>
          <a:ext cx="7920000" cy="4925880"/>
        </p:xfrm>
        <a:graphic>
          <a:graphicData uri="http://schemas.openxmlformats.org/drawingml/2006/table">
            <a:tbl>
              <a:tblPr/>
              <a:tblGrid>
                <a:gridCol w="3958920"/>
                <a:gridCol w="3961080"/>
              </a:tblGrid>
              <a:tr h="11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ндарев Александр-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и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лопамя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щенок Александр-дружелюбный,            целеустремлённый,   доброжела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есел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обозначает"защитник людей", "защита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ужествен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ктив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его нелегко понять, он достаточно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зависи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бладает актерскими способностями. Может стать талантливым артистом, режиссером, но может быть и одиноки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"/>
          <p:cNvSpPr/>
          <p:nvPr/>
        </p:nvSpPr>
        <p:spPr>
          <a:xfrm>
            <a:off x="3041280" y="476280"/>
            <a:ext cx="30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Дании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68360" y="1397160"/>
          <a:ext cx="8496360" cy="5341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опенков Даниил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нима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ленивый, торопливый, добрый, иногда вспыльчив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умный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клевич Даниил- веселый, медли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ежли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ртистичный, заводн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ии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уетятся, не спеша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сновные черты этих людей -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нтелле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, интуици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равственнос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ительно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бладают крепкой волей, но  все время в чем-то сомневаются. Люди этого типа не пытаются быть в центре компании, они милые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иятные в общении люд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Прямоугольник 1"/>
          <p:cNvSpPr/>
          <p:nvPr/>
        </p:nvSpPr>
        <p:spPr>
          <a:xfrm>
            <a:off x="3267360" y="476280"/>
            <a:ext cx="26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Заха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36600" y="1268280"/>
          <a:ext cx="8497800" cy="5303880"/>
        </p:xfrm>
        <a:graphic>
          <a:graphicData uri="http://schemas.openxmlformats.org/drawingml/2006/table">
            <a:tbl>
              <a:tblPr/>
              <a:tblGrid>
                <a:gridCol w="4314600"/>
                <a:gridCol w="4183200"/>
              </a:tblGrid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пошников Захар -адекват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и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                         бди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здор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олтли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тороплив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се знает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ар хорошо себя чувствует только тогда, когда активно участвует в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ественной жиз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н старается всегда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о всё вмешаться, раздать всем советы, что-то измени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Если ему это не удаётся, то он чувствует себя ненужным и несчастным. Захар очень горд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сегда стремится нравиться абсолютно вс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"/>
          <p:cNvSpPr/>
          <p:nvPr/>
        </p:nvSpPr>
        <p:spPr>
          <a:xfrm>
            <a:off x="3164760" y="4762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Мара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95280" y="1184400"/>
          <a:ext cx="8331120" cy="5102280"/>
        </p:xfrm>
        <a:graphic>
          <a:graphicData uri="http://schemas.openxmlformats.org/drawingml/2006/table">
            <a:tbl>
              <a:tblPr/>
              <a:tblGrid>
                <a:gridCol w="4202280"/>
                <a:gridCol w="412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лаяров Марат - вспыльчивый, ленив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иль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дружелюб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тзывчивый, доброжела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ескорыс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ие имени Марат очень благоприятно для мальчика. Марат проявляет смекалку и целеустремленность. Это человек, обладающий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ольшой силой во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изобретательностью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ожет найти общий язык с любым человек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чень сердечный и прост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оугольник 1"/>
          <p:cNvSpPr/>
          <p:nvPr/>
        </p:nvSpPr>
        <p:spPr>
          <a:xfrm>
            <a:off x="2993040" y="476280"/>
            <a:ext cx="31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ои 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498600" y="1628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так, обращаясь к предыдущим фактам, делаю вывод , что многие характеристики исследованных мною имен у ребят  совпадают с теми , которые даны в книгах по ономастике, в энциклопедиях . Особенно  мы можем увидеть это  с именами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хар, Даниил, Мара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Меньше совпадений у ребят с именами : Маша, Лера, Александр. Поэтому, считаю, что гипотеза , выдвинутая мною, доказана ч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"/>
          <p:cNvSpPr/>
          <p:nvPr/>
        </p:nvSpPr>
        <p:spPr>
          <a:xfrm>
            <a:off x="1431720" y="476280"/>
            <a:ext cx="63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актическая значи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468360" y="162864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родители перед рождением ребенка задумываются над тем, какое имя ему дать.  Ведь оно будет сопровождать малыша всю его жизнь и звучать чаще, чем остальные слова. В поиске счастливого имени родители советуются с родственниками, открывают словари, гороскопы, календари. И в каждом случае можно найти то имя, которое будет удачным для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я , в свою очередь, теперь много узнал о значении имени своем и одноклассников. Думаю, им тоже  будет интересно узнать об этом  на классном час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рямоугольник 1"/>
          <p:cNvSpPr/>
          <p:nvPr/>
        </p:nvSpPr>
        <p:spPr>
          <a:xfrm>
            <a:off x="3089880" y="47628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Прямоугольник 6"/>
          <p:cNvSpPr/>
          <p:nvPr/>
        </p:nvSpPr>
        <p:spPr>
          <a:xfrm>
            <a:off x="684360" y="141300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заключении своей работы хочу дать несколько совет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зывайте друг друга по имени, оно дано человеку неслучай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давайте друг другу прозвищ-это обид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забывайте о вежливом обращении ко взрослы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тноситесь к людям так, как хотите , чтобы относились и к в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6,94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6,94)"/>
                                      </p:to>
                                    </p:se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97164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4427640" y="4467240"/>
            <a:ext cx="4392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436680" y="1916280"/>
            <a:ext cx="813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ши, Маши и Наташ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ы, Иры и Мар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и, Насти, Вари, 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мы, Тани, Юры, К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разных есть имен?!!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значений их миллион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97164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4427640" y="4467240"/>
            <a:ext cx="4392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Box 3"/>
          <p:cNvSpPr/>
          <p:nvPr/>
        </p:nvSpPr>
        <p:spPr>
          <a:xfrm>
            <a:off x="469800" y="1916280"/>
            <a:ext cx="813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узнать , что значит мое имя-Даниил?  С самого раннего детства хотелось найти ответ на этот вопрос. А что обозначают  другие имена, ведь  принято считать, что   значение   имени влияет на характер человека. Именно поэтому я выбрал такую тему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240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Цел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доказать, что имя человека влияет на его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Задач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учить литературу по теме исследования, написать работ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имя человека влияет на его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743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ы решения зада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900000" y="1461960"/>
            <a:ext cx="7804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 литературы по теме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7" descr="http://cv01.twirpx.net/0567/0567665.jpg"/>
          <p:cNvPicPr/>
          <p:nvPr/>
        </p:nvPicPr>
        <p:blipFill>
          <a:blip r:embed="rId1"/>
          <a:stretch/>
        </p:blipFill>
        <p:spPr>
          <a:xfrm>
            <a:off x="6114960" y="2811600"/>
            <a:ext cx="2857680" cy="3281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http://cv01.twirpx.net/1182/1182869.jpg"/>
          <p:cNvPicPr/>
          <p:nvPr/>
        </p:nvPicPr>
        <p:blipFill>
          <a:blip r:embed="rId2"/>
          <a:stretch/>
        </p:blipFill>
        <p:spPr>
          <a:xfrm>
            <a:off x="3219480" y="2770200"/>
            <a:ext cx="2705040" cy="3322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3" descr="http://cv0.litres.ru/static/bookimages/06/68/23/06682308.bin.dir/06682308.cover.jpg"/>
          <p:cNvPicPr/>
          <p:nvPr/>
        </p:nvPicPr>
        <p:blipFill>
          <a:blip r:embed="rId3"/>
          <a:stretch/>
        </p:blipFill>
        <p:spPr>
          <a:xfrm>
            <a:off x="179280" y="2770200"/>
            <a:ext cx="280836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ономас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457200" y="1433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омастика- раздел языкознания, изучающий собственные имена ( С.И.Ожегов « Словарь русского языка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Picture 6" descr="http://ppt4web.ru/images/1413/40028/640/img3.jpg"/>
          <p:cNvPicPr/>
          <p:nvPr/>
        </p:nvPicPr>
        <p:blipFill>
          <a:blip r:embed="rId1"/>
          <a:stretch/>
        </p:blipFill>
        <p:spPr>
          <a:xfrm>
            <a:off x="2570040" y="2924280"/>
            <a:ext cx="60962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ТОРИЯ НЕКОТОРЫХ ИМЕ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431640" y="15890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мя Даниил (разг. Данил, Данила) происходит от древнееврейского слова "даниел", означающее "мой судья - Бог", "Бог мне судья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Александр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ит от древнегреческих слов "алекс" - защищать и "андрос" -  мужчина, то есть "защитник людей", "защита мужественная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Валерия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мя Лера русско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Имя Мария имеет древнееврейское происхождение, самое распространенное имя в мире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3216240" y="47628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Маш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50920" y="1401840"/>
          <a:ext cx="8642160" cy="42480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яго Мария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тли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эмоциональ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добрая, веселая, самовлюблен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пова Мар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- застенчивая, скромная, тих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увствитель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покой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с именем Маша внешн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покой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и уравновешенная. Скрытная. Она обладает особым даром внутренне переживать весь огромный спектр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эмоц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Это наделяет ее особой, редко кому свойственной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увствительность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"/>
          <p:cNvSpPr/>
          <p:nvPr/>
        </p:nvSpPr>
        <p:spPr>
          <a:xfrm>
            <a:off x="3354480" y="47628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Ле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11280" y="1397160"/>
          <a:ext cx="8353440" cy="498456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ченко Валерия-вежливая, застенчивая, дружелюбная, ласко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тветствен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етчикова Валерия- хитрая, лени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крыт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добрая, отзывчивая, иногда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ерди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ра – это яркая, смелая и довольно авторитарная девушка, которая часто проявляет сво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довольств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Но нельзя сказать, что она характеризуется отсутствием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дисципли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гибкости. Лера стремится добиться успеха в жизни, поэтому может часто быть гордой и немного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мкнут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8:31Z</dcterms:created>
  <dc:creator>Katekin</dc:creator>
  <dc:description/>
  <dc:language>en-US</dc:language>
  <cp:lastModifiedBy>home</cp:lastModifiedBy>
  <dcterms:modified xsi:type="dcterms:W3CDTF">2022-02-18T16:30:21Z</dcterms:modified>
  <cp:revision>122</cp:revision>
  <dc:subject/>
  <dc:title>            ЧТО В СЕБЕ ТАИТ ЛЕСНАЯ ЯГОДА ?   (исследовательский  проект)  автор  КАТЕКИНА  ЛАДА         </dc:title>
</cp:coreProperties>
</file>