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dt" idx="14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ldImg"/>
          </p:nvPr>
        </p:nvSpPr>
        <p:spPr>
          <a:xfrm>
            <a:off x="1142640" y="676440"/>
            <a:ext cx="4568760" cy="34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sldNum" idx="15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5E44D-E2EA-4C54-AAA5-B5948BF814A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581CC-FE26-42C3-8385-87DDD029A25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13ADF-0AFB-4A15-97AE-2F4C9ED85E4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26ACC-D2F3-49A9-974F-197B3411C7E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49556-D087-4403-9E06-DA07509CE27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9EF50-5119-4945-A97F-CB0224A94E8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2D318-B37B-40F8-8C88-8658C792B62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21813-9DFC-4D8F-AD8E-3BA587545AB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19D01-F3A2-4D88-93D9-B58CD608870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6F7C8-2663-4766-8728-43CC15827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27360-072E-4F16-A1EF-835ECA04429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BC66E-C36F-4B87-9240-1A868BFAB38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DE825-80FF-4A2D-A2CA-A220C245688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AE20E-F277-47EA-ADA1-4B22C6BB0AF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6BFDD-E86E-499D-ABE4-FF7728EE1CB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ADD0A-569D-4875-9DEA-7292F29C95F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65664-9E6F-4939-8F82-47B066FD99B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3D72C-7135-4AFD-8A7E-D817F4DEE2B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1F811-DE29-4EC0-ADC2-62B3C1C72FD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684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820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1956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B228F-DF5E-44C0-A4F1-6DCD9270A1B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995685-48EC-4C66-B6FE-9C0742D0EA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7F172-16D5-41DA-A230-1F4D2E5642B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135605-9D82-4423-B78C-16AEF1D2024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CFBC1A-25E3-479D-829C-65B658DD42F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86629A-0173-47C5-926F-4A79F6FCC4D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0C124E-47B5-41FD-8397-2CD78C6FA00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91DFB1-B4A8-46D4-9A25-BBE4A489CB1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3D191A-9BD2-434F-9E29-A0402B5EC5D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CD981C-A160-4026-9B1B-88BAD7D1995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41E2A4-746E-4CFF-AF4E-30FDE7FE18E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AB607B-0BA9-4467-BE15-69CE9488AED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E1DFC4-9177-4129-9CC7-244EE72D1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684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820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956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E46E6-9D5C-4B43-B188-74111BDEF48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684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820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1956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2A26D4-F30D-48C6-AF3C-330D4CDE563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7FDA06-51A5-497E-8FC9-5E329D5EC90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13C249-8A1E-444B-93EA-3EB28DDDFB2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102B6E-9D60-4182-B5D4-E495C6D4006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446577-71E9-46EF-9884-9941042268E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2A6DD5-3A36-4E54-8691-7766E5D2B20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DC05C6-B834-449A-9865-7BF771D7B37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F62D2E-1434-4B12-98F3-1BFDA26CBCB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B6EA49-688B-4BAD-8C00-BBB7A814B23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386B23-EEF0-4B85-BDFA-2A8AA1BA44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F6794-C74D-45FB-B444-85F39C33AA9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A55BFD-F31F-4BCC-9C43-4205E88CF56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4C8038-1573-4963-AC5B-337E7FFB513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684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820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1956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6E52F9-ACDF-4E4D-B207-48AAD1071FA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966BA-514B-4437-A1DC-7A255AF83C5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1DD15-0C3E-4ADC-895C-FA1407F2EB2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A94BC-B669-41E6-93F3-8D84C9175F8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2F30F-B7C7-4E78-9BEE-C911E78DE37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F7799-0C7B-4357-B07F-8E2F7868557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033C7-A205-4B1E-9511-621D6B2EB29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8D81F-FF13-4B38-8BB8-08A72697D3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3730A-D2F8-423C-96CB-DBB619F26BE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C270C-FF6B-4BA5-80AF-DFA99DFA206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8F8FF-6992-4A79-A1BE-EA348CDA4EF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18519-FF63-4267-969B-C5F41A1A87D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C2786-9190-413D-A5CD-01FC742D32F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684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820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1956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4B261-CB85-4C20-81D8-995378F8C1B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343EBC-F5FB-49E6-8E41-986989AB541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407E62-20D6-499D-84E5-96969196A16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772E49-A497-4965-B370-116C2666E1F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BF0BDA-4915-4868-BA22-3C4EC255A60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340666-B110-471A-949D-5915056800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3A409-8F25-407C-B652-93BB132C625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12CB3E-E517-4E07-AF18-ADED4C9032E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73EE60-E380-4CA1-A9F3-F27F197B1BA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F684B4-50BC-49EA-B311-5391CC56225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7303F3-94A7-4765-8ECE-AE4784AB0E8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9B6D55-163D-42CC-81D5-8718F8F8C21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41DB07-6191-4DD9-85EC-FC56B43FA4B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684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820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1956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AAD287-4FEE-46D7-8FF1-C8A07BEA8E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C9FEA-C95A-4451-B34D-2B70A3A9EE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DE21B-29D7-4FAD-B33E-6161ABD191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BD0E3-DA66-4CE9-B364-330A4437E0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D8B75-6FA5-4646-A839-1DC31770DB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77908-6D4E-4B5F-B0B1-41CC321C0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C55A8-FD79-4FF6-8789-65283D77DE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CEA99-37A2-4E6B-B324-7B30AF2F90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04D93-AF4F-4B94-B298-16F59BD741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4F27B-1E3D-4547-A0B6-384B8832D7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684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820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956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C5D7E-8F47-4048-877E-E6747A17A2A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552A-4EEE-4227-963D-C8E3D5BAE0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D0D7-8F66-42A4-9EEE-DDCD49CFB2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25E6-9047-4935-8742-A2E5C0ECDA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9911-BDB4-4423-87EE-5EE6A514ED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1AF4-D41F-4EF3-8234-B00B7D9DD4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C197D-97A1-4579-A3ED-A9B354A067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5EE3-AA17-485B-BCC8-5687FC46B2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5F63-F1F5-430F-B603-698BBCDDBB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6803-B2C9-4844-92F2-63ABAA474BA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4BB9-E7CF-49F2-8CC2-85DAAC9F77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9634-94DB-4475-8B0B-C5BB671333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FD51-DF7A-492F-9EBE-DB31D4D5E8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820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1956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7704-A034-4CEB-AF71-552C5FDF46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95755-00D5-4D9C-A6E5-E5E609CE750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0ED7A-042F-41E4-A58E-242E503DDEB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8B958-9FE4-404E-AFA5-39946FCC9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6F44D-15EF-4C97-B46D-8A2AE695603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BF44B-EDC6-4F66-BD9C-B02EB52E9D2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FE134-76D3-43B8-945A-5AC3F83D500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DFC09-14D9-4461-B86E-61AE6336B64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E5C90-D5AF-4055-927F-9C4F1B664BD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DDFCB-555A-4863-B2F8-C2390DC8BFE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07596-2832-472D-9B60-AD10B6BD74A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D4845-4CAC-4CD0-8641-C79CB8B3F1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6A3D3-74F1-4A66-BFBF-FD06E5503C6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684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820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1956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397CF-F0EA-4564-961A-AE1DBCC7CFF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5ED03-745A-4E74-AEF4-870D5F0933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3614C-7ECD-43A5-A490-FA97915212E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F4068-6E52-4BDD-AF00-2AD7D509F77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56852-696E-4F5A-B1B7-68B2E3844EA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8221A-F5F8-4FE0-AC0B-F40EB46C12C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B36D5-A834-4BC0-84DF-58973C446C6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916D6-A7E2-4B2F-9340-2F2F27498C6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41B36-FD7C-4ABA-A5E6-52371E4378A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D66A1-5F94-469D-A4E2-71EC1336997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BD2E8-4C30-487F-92F2-180E6F356B8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AC46C-FEF3-4D90-B899-EF507CCFB35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FC3E7-17D4-4D1E-A3FD-B3FB10132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AE085-A7B1-491D-AE3A-4AFA711AF5A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684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820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1956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C2F01-DE72-4EE8-9E88-D21940A3D0C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5637-B5E2-48EA-BEC0-E88D1F1D0E8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A327-7CBE-4C3C-9DB7-89B2CE7F046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1215-0241-4CBE-BF93-315A1F1F660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4D6A-3659-4D85-95F2-441E7871B09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9C04-05B5-4955-92B6-3F6FF5D707A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016B-80CD-4A96-8FFD-81B618AAA28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699D-0C12-40F5-90D1-36D3418F04A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4664-36A3-40D8-BBCA-8693F91858C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006D-37F5-4820-BF68-0FAFF950A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4C933-21C1-4445-BB7B-4F1530AFC60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1431-D5A3-45BE-9DDA-7E84E09C14D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A619-A547-44A2-83E7-B2371FD9DAA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684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820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1956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9CDB-4E15-4D37-A806-3A3B346D8BA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3D051E-0AA4-47AF-9964-3F8ED961A08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D71810-A445-41BA-8BEB-6E8C92F1D75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CBA071-A7C1-4164-BB12-AD85C2D305E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3C5679-FD73-4203-8764-99F1D0D813E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D6F5BA-7ACC-4D07-B2F2-CADEF4C81CE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B72B2A-BBEF-4934-AA9C-832925F25D6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0CD6BD-475E-4CD5-9355-6293BF1CE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2CF3E-0E0A-4C20-9B6D-117DEC3B04E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ED32ED-28E0-469C-9360-93B88780D36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E4CF1A-960D-46DE-B053-31445E1FFE5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D72651-9AEF-46EF-9F87-EA1E6221EB4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E07901-1E15-4A76-A090-00A01D09FDC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684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820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1956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E958CD-68C0-4EBC-A281-BC9C35F8529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C275CF-9BA9-4002-9AF0-D6741FC46B4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92793-E3A4-4453-B4E1-7FA148DA789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207F1D-E658-4DCD-82EA-BFAB9C99E1D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0D5F91-5715-4E0F-B9DD-B595E24DB27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E75E6-C4BE-44D5-8D77-2FD1F4743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41359-3A34-4183-BA4E-C620BFB6395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D7E47B-853E-42A7-B1AC-567896A79A9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FED86C-89FC-4F6C-8C5F-823DC122C6D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82B753-3F99-41EB-9243-2EDCD396C35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E4237D-DE95-48C3-8C32-F95D528340D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6840" y="3676680"/>
            <a:ext cx="8226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E2ADE-3CD9-4140-AC34-D9BC0FD1C17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68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2440" y="3676680"/>
            <a:ext cx="401436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959016-2DD4-43B8-8A28-DA821BEFECB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684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820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19560" y="3676680"/>
            <a:ext cx="264852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F200D4-17CC-4DA7-B791-50D715F0F88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A4A12-BE0C-4156-A0D0-5C980BC6CEB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CF5B5-5928-42A4-82D5-5987583E606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2B528-829A-487D-BA66-2D9E2C711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1" name="AutoShape 2"/>
            <p:cNvSpPr/>
            <p:nvPr/>
          </p:nvSpPr>
          <p:spPr>
            <a:xfrm>
              <a:off x="0" y="3505320"/>
              <a:ext cx="3989520" cy="3124080"/>
            </a:xfrm>
            <a:custGeom>
              <a:avLst/>
              <a:gdLst>
                <a:gd name="textAreaLeft" fmla="*/ 0 w 3989520"/>
                <a:gd name="textAreaRight" fmla="*/ 3989880 w 3989520"/>
                <a:gd name="textAreaTop" fmla="*/ 0 h 3124080"/>
                <a:gd name="textAreaBottom" fmla="*/ 3124440 h 312408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0" y="3962520"/>
              <a:ext cx="3349800" cy="2543040"/>
            </a:xfrm>
            <a:custGeom>
              <a:avLst/>
              <a:gdLst>
                <a:gd name="textAreaLeft" fmla="*/ 0 w 3349800"/>
                <a:gd name="textAreaRight" fmla="*/ 3350160 w 3349800"/>
                <a:gd name="textAreaTop" fmla="*/ 0 h 2543040"/>
                <a:gd name="textAreaBottom" fmla="*/ 2543040 h 254304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>
              <a:off x="3321000" y="5132520"/>
              <a:ext cx="5819760" cy="1493640"/>
            </a:xfrm>
            <a:custGeom>
              <a:avLst/>
              <a:gdLst>
                <a:gd name="textAreaLeft" fmla="*/ 0 w 5819760"/>
                <a:gd name="textAreaRight" fmla="*/ 5820120 w 5819760"/>
                <a:gd name="textAreaTop" fmla="*/ 0 h 1493640"/>
                <a:gd name="textAreaBottom" fmla="*/ 1494000 h 149364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0" y="831960"/>
              <a:ext cx="1541520" cy="1893600"/>
            </a:xfrm>
            <a:custGeom>
              <a:avLst/>
              <a:gdLst>
                <a:gd name="textAreaLeft" fmla="*/ 0 w 1541520"/>
                <a:gd name="textAreaRight" fmla="*/ 1541880 w 1541520"/>
                <a:gd name="textAreaTop" fmla="*/ 0 h 1893600"/>
                <a:gd name="textAreaBottom" fmla="*/ 1893960 h 189360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5060880" y="1440"/>
              <a:ext cx="4076640" cy="3594240"/>
            </a:xfrm>
            <a:custGeom>
              <a:avLst/>
              <a:gdLst>
                <a:gd name="textAreaLeft" fmla="*/ 0 w 4076640"/>
                <a:gd name="textAreaRight" fmla="*/ 4077000 w 4076640"/>
                <a:gd name="textAreaTop" fmla="*/ 0 h 3594240"/>
                <a:gd name="textAreaBottom" fmla="*/ 3594240 h 359424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7"/>
            <p:cNvSpPr/>
            <p:nvPr/>
          </p:nvSpPr>
          <p:spPr>
            <a:xfrm>
              <a:off x="5595840" y="1440"/>
              <a:ext cx="3465720" cy="2390760"/>
            </a:xfrm>
            <a:custGeom>
              <a:avLst/>
              <a:gdLst>
                <a:gd name="textAreaLeft" fmla="*/ 0 w 3465720"/>
                <a:gd name="textAreaRight" fmla="*/ 3466080 w 3465720"/>
                <a:gd name="textAreaTop" fmla="*/ 0 h 2390760"/>
                <a:gd name="textAreaBottom" fmla="*/ 2391120 h 239076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0" y="1030320"/>
              <a:ext cx="1292400" cy="1276200"/>
            </a:xfrm>
            <a:custGeom>
              <a:avLst/>
              <a:gdLst>
                <a:gd name="textAreaLeft" fmla="*/ 0 w 1292400"/>
                <a:gd name="textAreaRight" fmla="*/ 1292760 w 1292400"/>
                <a:gd name="textAreaTop" fmla="*/ 0 h 1276200"/>
                <a:gd name="textAreaBottom" fmla="*/ 1276560 h 127620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0" y="2452680"/>
              <a:ext cx="1206360" cy="16668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AutoShape 10"/>
            <p:cNvSpPr/>
            <p:nvPr/>
          </p:nvSpPr>
          <p:spPr>
            <a:xfrm>
              <a:off x="3673440" y="5446800"/>
              <a:ext cx="5048280" cy="1179360"/>
            </a:xfrm>
            <a:custGeom>
              <a:avLst/>
              <a:gdLst>
                <a:gd name="textAreaLeft" fmla="*/ 0 w 5048280"/>
                <a:gd name="textAreaRight" fmla="*/ 5048640 w 5048280"/>
                <a:gd name="textAreaTop" fmla="*/ 0 h 1179360"/>
                <a:gd name="textAreaBottom" fmla="*/ 1179360 h 117936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3"/>
            <p:cNvSpPr/>
            <p:nvPr/>
          </p:nvSpPr>
          <p:spPr>
            <a:xfrm>
              <a:off x="0" y="6400800"/>
              <a:ext cx="9140760" cy="4539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AutoShape 14"/>
            <p:cNvSpPr/>
            <p:nvPr/>
          </p:nvSpPr>
          <p:spPr>
            <a:xfrm>
              <a:off x="0" y="6400800"/>
              <a:ext cx="9140760" cy="5302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AutoShape 15"/>
            <p:cNvSpPr/>
            <p:nvPr/>
          </p:nvSpPr>
          <p:spPr>
            <a:xfrm>
              <a:off x="0" y="0"/>
              <a:ext cx="9140760" cy="4539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6935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AutoShape 16"/>
            <p:cNvSpPr/>
            <p:nvPr/>
          </p:nvSpPr>
          <p:spPr>
            <a:xfrm>
              <a:off x="808200" y="363600"/>
              <a:ext cx="5057640" cy="3209760"/>
            </a:xfrm>
            <a:custGeom>
              <a:avLst/>
              <a:gdLst>
                <a:gd name="textAreaLeft" fmla="*/ 0 w 5057640"/>
                <a:gd name="textAreaRight" fmla="*/ 5058000 w 5057640"/>
                <a:gd name="textAreaTop" fmla="*/ 0 h 3209760"/>
                <a:gd name="textAreaBottom" fmla="*/ 3210120 h 320976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7"/>
            <p:cNvSpPr/>
            <p:nvPr/>
          </p:nvSpPr>
          <p:spPr>
            <a:xfrm>
              <a:off x="2133720" y="465120"/>
              <a:ext cx="3400200" cy="2833560"/>
            </a:xfrm>
            <a:custGeom>
              <a:avLst/>
              <a:gdLst>
                <a:gd name="textAreaLeft" fmla="*/ 0 w 3400200"/>
                <a:gd name="textAreaRight" fmla="*/ 3400560 w 340020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8"/>
            <p:cNvSpPr/>
            <p:nvPr/>
          </p:nvSpPr>
          <p:spPr>
            <a:xfrm>
              <a:off x="4654440" y="2743200"/>
              <a:ext cx="4486320" cy="3753000"/>
            </a:xfrm>
            <a:custGeom>
              <a:avLst/>
              <a:gdLst>
                <a:gd name="textAreaLeft" fmla="*/ 0 w 4486320"/>
                <a:gd name="textAreaRight" fmla="*/ 4486680 w 4486320"/>
                <a:gd name="textAreaTop" fmla="*/ 0 h 3753000"/>
                <a:gd name="textAreaBottom" fmla="*/ 3753360 h 375300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19"/>
            <p:cNvSpPr/>
            <p:nvPr/>
          </p:nvSpPr>
          <p:spPr>
            <a:xfrm>
              <a:off x="5016600" y="2952720"/>
              <a:ext cx="3429000" cy="3067200"/>
            </a:xfrm>
            <a:custGeom>
              <a:avLst/>
              <a:gdLst>
                <a:gd name="textAreaLeft" fmla="*/ 0 w 3429000"/>
                <a:gd name="textAreaRight" fmla="*/ 3429360 w 3429000"/>
                <a:gd name="textAreaTop" fmla="*/ 0 h 3067200"/>
                <a:gd name="textAreaBottom" fmla="*/ 3067560 h 306720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Text Box 2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Text Box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7884B4-D6C8-43A3-8ED0-7AB133FE986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sldNum" idx="10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DB1571-9CB4-49F8-9BBD-6BBC081D9E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11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9FE451-2DCD-47A4-BCF0-30974365FA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Text Box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457EFC-CC71-4A69-A2DD-F531245450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EE841A-9824-4BC7-94EC-C1A6638F5DD0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61" name="AutoShape 2"/>
            <p:cNvSpPr/>
            <p:nvPr/>
          </p:nvSpPr>
          <p:spPr>
            <a:xfrm>
              <a:off x="0" y="3505320"/>
              <a:ext cx="3989520" cy="3124080"/>
            </a:xfrm>
            <a:custGeom>
              <a:avLst/>
              <a:gdLst>
                <a:gd name="textAreaLeft" fmla="*/ 0 w 3989520"/>
                <a:gd name="textAreaRight" fmla="*/ 3989880 w 3989520"/>
                <a:gd name="textAreaTop" fmla="*/ 0 h 3124080"/>
                <a:gd name="textAreaBottom" fmla="*/ 3124440 h 312408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AutoShape 3"/>
            <p:cNvSpPr/>
            <p:nvPr/>
          </p:nvSpPr>
          <p:spPr>
            <a:xfrm>
              <a:off x="0" y="3962520"/>
              <a:ext cx="3349800" cy="2543040"/>
            </a:xfrm>
            <a:custGeom>
              <a:avLst/>
              <a:gdLst>
                <a:gd name="textAreaLeft" fmla="*/ 0 w 3349800"/>
                <a:gd name="textAreaRight" fmla="*/ 3350160 w 3349800"/>
                <a:gd name="textAreaTop" fmla="*/ 0 h 2543040"/>
                <a:gd name="textAreaBottom" fmla="*/ 2543040 h 254304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AutoShape 4"/>
            <p:cNvSpPr/>
            <p:nvPr/>
          </p:nvSpPr>
          <p:spPr>
            <a:xfrm>
              <a:off x="3321000" y="5132520"/>
              <a:ext cx="5819760" cy="1493640"/>
            </a:xfrm>
            <a:custGeom>
              <a:avLst/>
              <a:gdLst>
                <a:gd name="textAreaLeft" fmla="*/ 0 w 5819760"/>
                <a:gd name="textAreaRight" fmla="*/ 5820120 w 5819760"/>
                <a:gd name="textAreaTop" fmla="*/ 0 h 1493640"/>
                <a:gd name="textAreaBottom" fmla="*/ 1494000 h 149364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AutoShape 5"/>
            <p:cNvSpPr/>
            <p:nvPr/>
          </p:nvSpPr>
          <p:spPr>
            <a:xfrm>
              <a:off x="0" y="831960"/>
              <a:ext cx="1541520" cy="1893600"/>
            </a:xfrm>
            <a:custGeom>
              <a:avLst/>
              <a:gdLst>
                <a:gd name="textAreaLeft" fmla="*/ 0 w 1541520"/>
                <a:gd name="textAreaRight" fmla="*/ 1541880 w 1541520"/>
                <a:gd name="textAreaTop" fmla="*/ 0 h 1893600"/>
                <a:gd name="textAreaBottom" fmla="*/ 1893960 h 189360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AutoShape 6"/>
            <p:cNvSpPr/>
            <p:nvPr/>
          </p:nvSpPr>
          <p:spPr>
            <a:xfrm>
              <a:off x="5060880" y="1440"/>
              <a:ext cx="4076640" cy="3594240"/>
            </a:xfrm>
            <a:custGeom>
              <a:avLst/>
              <a:gdLst>
                <a:gd name="textAreaLeft" fmla="*/ 0 w 4076640"/>
                <a:gd name="textAreaRight" fmla="*/ 4077000 w 4076640"/>
                <a:gd name="textAreaTop" fmla="*/ 0 h 3594240"/>
                <a:gd name="textAreaBottom" fmla="*/ 3594240 h 359424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AutoShape 7"/>
            <p:cNvSpPr/>
            <p:nvPr/>
          </p:nvSpPr>
          <p:spPr>
            <a:xfrm>
              <a:off x="5595840" y="1440"/>
              <a:ext cx="3465720" cy="2390760"/>
            </a:xfrm>
            <a:custGeom>
              <a:avLst/>
              <a:gdLst>
                <a:gd name="textAreaLeft" fmla="*/ 0 w 3465720"/>
                <a:gd name="textAreaRight" fmla="*/ 3466080 w 3465720"/>
                <a:gd name="textAreaTop" fmla="*/ 0 h 2390760"/>
                <a:gd name="textAreaBottom" fmla="*/ 2391120 h 239076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AutoShape 8"/>
            <p:cNvSpPr/>
            <p:nvPr/>
          </p:nvSpPr>
          <p:spPr>
            <a:xfrm>
              <a:off x="0" y="1030320"/>
              <a:ext cx="1292400" cy="1276200"/>
            </a:xfrm>
            <a:custGeom>
              <a:avLst/>
              <a:gdLst>
                <a:gd name="textAreaLeft" fmla="*/ 0 w 1292400"/>
                <a:gd name="textAreaRight" fmla="*/ 1292760 w 1292400"/>
                <a:gd name="textAreaTop" fmla="*/ 0 h 1276200"/>
                <a:gd name="textAreaBottom" fmla="*/ 1276560 h 127620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AutoShape 9"/>
            <p:cNvSpPr/>
            <p:nvPr/>
          </p:nvSpPr>
          <p:spPr>
            <a:xfrm>
              <a:off x="0" y="2452680"/>
              <a:ext cx="1206360" cy="16668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0"/>
            <p:cNvSpPr/>
            <p:nvPr/>
          </p:nvSpPr>
          <p:spPr>
            <a:xfrm>
              <a:off x="3673440" y="5446800"/>
              <a:ext cx="5048280" cy="1179360"/>
            </a:xfrm>
            <a:custGeom>
              <a:avLst/>
              <a:gdLst>
                <a:gd name="textAreaLeft" fmla="*/ 0 w 5048280"/>
                <a:gd name="textAreaRight" fmla="*/ 5048640 w 5048280"/>
                <a:gd name="textAreaTop" fmla="*/ 0 h 1179360"/>
                <a:gd name="textAreaBottom" fmla="*/ 1179360 h 117936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3"/>
            <p:cNvSpPr/>
            <p:nvPr/>
          </p:nvSpPr>
          <p:spPr>
            <a:xfrm>
              <a:off x="0" y="6400800"/>
              <a:ext cx="9140760" cy="4539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4"/>
            <p:cNvSpPr/>
            <p:nvPr/>
          </p:nvSpPr>
          <p:spPr>
            <a:xfrm>
              <a:off x="0" y="6400800"/>
              <a:ext cx="9140760" cy="5302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5"/>
            <p:cNvSpPr/>
            <p:nvPr/>
          </p:nvSpPr>
          <p:spPr>
            <a:xfrm>
              <a:off x="0" y="0"/>
              <a:ext cx="9140760" cy="4539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6935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AutoShape 16"/>
            <p:cNvSpPr/>
            <p:nvPr/>
          </p:nvSpPr>
          <p:spPr>
            <a:xfrm>
              <a:off x="808200" y="363600"/>
              <a:ext cx="5057640" cy="3209760"/>
            </a:xfrm>
            <a:custGeom>
              <a:avLst/>
              <a:gdLst>
                <a:gd name="textAreaLeft" fmla="*/ 0 w 5057640"/>
                <a:gd name="textAreaRight" fmla="*/ 5058000 w 5057640"/>
                <a:gd name="textAreaTop" fmla="*/ 0 h 3209760"/>
                <a:gd name="textAreaBottom" fmla="*/ 3210120 h 320976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AutoShape 17"/>
            <p:cNvSpPr/>
            <p:nvPr/>
          </p:nvSpPr>
          <p:spPr>
            <a:xfrm>
              <a:off x="2133720" y="465120"/>
              <a:ext cx="3400200" cy="2833560"/>
            </a:xfrm>
            <a:custGeom>
              <a:avLst/>
              <a:gdLst>
                <a:gd name="textAreaLeft" fmla="*/ 0 w 3400200"/>
                <a:gd name="textAreaRight" fmla="*/ 3400560 w 340020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AutoShape 18"/>
            <p:cNvSpPr/>
            <p:nvPr/>
          </p:nvSpPr>
          <p:spPr>
            <a:xfrm>
              <a:off x="4654440" y="2743200"/>
              <a:ext cx="4486320" cy="3753000"/>
            </a:xfrm>
            <a:custGeom>
              <a:avLst/>
              <a:gdLst>
                <a:gd name="textAreaLeft" fmla="*/ 0 w 4486320"/>
                <a:gd name="textAreaRight" fmla="*/ 4486680 w 4486320"/>
                <a:gd name="textAreaTop" fmla="*/ 0 h 3753000"/>
                <a:gd name="textAreaBottom" fmla="*/ 3753360 h 375300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AutoShape 19"/>
            <p:cNvSpPr/>
            <p:nvPr/>
          </p:nvSpPr>
          <p:spPr>
            <a:xfrm>
              <a:off x="5016600" y="2952720"/>
              <a:ext cx="3429000" cy="3067200"/>
            </a:xfrm>
            <a:custGeom>
              <a:avLst/>
              <a:gdLst>
                <a:gd name="textAreaLeft" fmla="*/ 0 w 3429000"/>
                <a:gd name="textAreaRight" fmla="*/ 3429360 w 3429000"/>
                <a:gd name="textAreaTop" fmla="*/ 0 h 3067200"/>
                <a:gd name="textAreaBottom" fmla="*/ 3067560 h 306720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8C1AF3-9FF7-4B24-8716-07CF7B35FE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8009CE-2B7D-435F-9A23-30337D3D1E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CFA8E6-D0A3-4C99-80E8-069B3619DC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5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398F8F6-CC11-4D28-A5B0-0C74BFD00B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243FE4-07D7-41E8-9CA8-53CDD81B95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EE69950-32F6-4A23-93C3-6860EEBB2A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8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7CF5DA-0D70-48DB-A4A9-F9420122F9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CC4AD0-A147-476A-80A9-CE369F939C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1"/>
          <p:cNvSpPr/>
          <p:nvPr/>
        </p:nvSpPr>
        <p:spPr>
          <a:xfrm>
            <a:off x="97164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КОУ «СОШ №12 г. Нижнеудинск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мена людей  и их характер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исследовательский проек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2"/>
          <p:cNvSpPr/>
          <p:nvPr/>
        </p:nvSpPr>
        <p:spPr>
          <a:xfrm>
            <a:off x="4405320" y="4449600"/>
            <a:ext cx="439272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копенков Даниил 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к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A» клас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: Бращунова И.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Прямоугольник 1"/>
          <p:cNvSpPr/>
          <p:nvPr/>
        </p:nvSpPr>
        <p:spPr>
          <a:xfrm>
            <a:off x="2684520" y="476280"/>
            <a:ext cx="380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мя Александ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684360" y="1484280"/>
          <a:ext cx="7920000" cy="4925880"/>
        </p:xfrm>
        <a:graphic>
          <a:graphicData uri="http://schemas.openxmlformats.org/drawingml/2006/table">
            <a:tbl>
              <a:tblPr/>
              <a:tblGrid>
                <a:gridCol w="3958920"/>
                <a:gridCol w="3961080"/>
              </a:tblGrid>
              <a:tr h="117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нение одноклассни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чение из книг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5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ндарев Александр-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ильны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злопамят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ещенок Александр-дружелюбный,            целеустремлённый,   доброжелательный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весел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я обозначает"защитник людей", "защита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мужественная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Активе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его нелегко понять, он достаточно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независим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Обладает актерскими способностями. Может стать талантливым артистом, режиссером, но может быть и одиноки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Прямоугольник 1"/>
          <p:cNvSpPr/>
          <p:nvPr/>
        </p:nvSpPr>
        <p:spPr>
          <a:xfrm>
            <a:off x="3041280" y="476280"/>
            <a:ext cx="308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мя Дании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468360" y="1397160"/>
          <a:ext cx="8496360" cy="5341680"/>
        </p:xfrm>
        <a:graphic>
          <a:graphicData uri="http://schemas.openxmlformats.org/drawingml/2006/table">
            <a:tbl>
              <a:tblPr/>
              <a:tblGrid>
                <a:gridCol w="4248000"/>
                <a:gridCol w="4248360"/>
              </a:tblGrid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                          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нение одноклассни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чение из книги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38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копенков Даниил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внимательны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ленивый, торопливый, добрый, иногда вспыльчивый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умный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рклевич Даниил- веселый, медлительный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вежливы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артистичный, заводно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иил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уетятся, не спешат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Основные черты этих людей -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интеллек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, интуиция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нравственност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общительность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Обладают крепкой волей, но  все время в чем-то сомневаются. Люди этого типа не пытаются быть в центре компании, они милые и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риятные в общении люд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Прямоугольник 1"/>
          <p:cNvSpPr/>
          <p:nvPr/>
        </p:nvSpPr>
        <p:spPr>
          <a:xfrm>
            <a:off x="3267360" y="476280"/>
            <a:ext cx="263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мя Заха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336600" y="1268280"/>
          <a:ext cx="8497800" cy="5303880"/>
        </p:xfrm>
        <a:graphic>
          <a:graphicData uri="http://schemas.openxmlformats.org/drawingml/2006/table">
            <a:tbl>
              <a:tblPr/>
              <a:tblGrid>
                <a:gridCol w="4314600"/>
                <a:gridCol w="4183200"/>
              </a:tblGrid>
              <a:tr h="11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нение однокласснико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чение из книг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1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апошников Захар -адекватный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общительны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                          бдительный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вздорн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, 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болтливы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торопливый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все знает  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хар хорошо себя чувствует только тогда, когда активно участвует в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общественной жизн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Он старается всегда и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во всё вмешаться, раздать всем советы, что-то изменить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Если ему это не удаётся, то он чувствует себя ненужным и несчастным. Захар очень горд и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всегда стремится нравиться абсолютно всем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Прямоугольник 1"/>
          <p:cNvSpPr/>
          <p:nvPr/>
        </p:nvSpPr>
        <p:spPr>
          <a:xfrm>
            <a:off x="3164760" y="4762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мя Мара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395280" y="1184400"/>
          <a:ext cx="8331120" cy="5102280"/>
        </p:xfrm>
        <a:graphic>
          <a:graphicData uri="http://schemas.openxmlformats.org/drawingml/2006/table">
            <a:tbl>
              <a:tblPr/>
              <a:tblGrid>
                <a:gridCol w="4202280"/>
                <a:gridCol w="4128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нение однокласснико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чение из книг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2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лаяров Марат - вспыльчивый, ленивый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ильн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,  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дружелюбн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отзывчивый, доброжелательны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бескорыст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чение имени Марат очень благоприятно для мальчика. Марат проявляет смекалку и целеустремленность. Это человек, обладающий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большой силой воли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изобретательностью,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может найти общий язык с любым человеком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очень сердечный и просто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Прямоугольник 1"/>
          <p:cNvSpPr/>
          <p:nvPr/>
        </p:nvSpPr>
        <p:spPr>
          <a:xfrm>
            <a:off x="2993040" y="476280"/>
            <a:ext cx="318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ои вывод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xtBox 2"/>
          <p:cNvSpPr/>
          <p:nvPr/>
        </p:nvSpPr>
        <p:spPr>
          <a:xfrm>
            <a:off x="498600" y="1628640"/>
            <a:ext cx="7991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так, обращаясь к предыдущим фактам, делаю вывод , что многие характеристики исследованных мною имен у ребят  совпадают с теми , которые даны в книгах по ономастике, в энциклопедиях . Особенно  мы можем увидеть это  с именами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Захар, Даниил, Марат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 Меньше совпадений у ребят с именами : Маша, Лера, Александр. Поэтому, считаю, что гипотеза , выдвинутая мною, доказана частич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Прямоугольник 1"/>
          <p:cNvSpPr/>
          <p:nvPr/>
        </p:nvSpPr>
        <p:spPr>
          <a:xfrm>
            <a:off x="1431720" y="476280"/>
            <a:ext cx="630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актическая значим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TextBox 2"/>
          <p:cNvSpPr/>
          <p:nvPr/>
        </p:nvSpPr>
        <p:spPr>
          <a:xfrm>
            <a:off x="468360" y="1628640"/>
            <a:ext cx="7991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е родители перед рождением ребенка задумываются над тем, какое имя ему дать.  Ведь оно будет сопровождать малыша всю его жизнь и звучать чаще, чем остальные слова. В поиске счастливого имени родители советуются с родственниками, открывают словари, гороскопы, календари. И в каждом случае можно найти то имя, которое будет удачным для ребен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я , в свою очередь, теперь много узнал о значении имени своем и одноклассников. Думаю, им тоже  будет интересно узнать об этом  на классном час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Прямоугольник 1"/>
          <p:cNvSpPr/>
          <p:nvPr/>
        </p:nvSpPr>
        <p:spPr>
          <a:xfrm>
            <a:off x="3089880" y="476280"/>
            <a:ext cx="299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Заключен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Прямоугольник 6"/>
          <p:cNvSpPr/>
          <p:nvPr/>
        </p:nvSpPr>
        <p:spPr>
          <a:xfrm>
            <a:off x="684360" y="1413000"/>
            <a:ext cx="8353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заключении своей работы хочу дать несколько совето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называйте друг друга по имени, оно дано человеку неслучайно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не давайте друг другу прозвищ-это обидно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не забывайте о вежливом обращении ко взрослым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относитесь к людям так, как хотите , чтобы относились и к ва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1"/>
          <p:cNvSpPr/>
          <p:nvPr/>
        </p:nvSpPr>
        <p:spPr>
          <a:xfrm>
            <a:off x="68436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асибо за внима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500" autoRev="1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6,94)"/>
                                      </p:to>
                                    </p:set>
                                    <p:set>
                                      <p:cBhvr>
                                        <p:cTn id="37" dur="500" autoRev="1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6,94)"/>
                                      </p:to>
                                    </p:set>
                                    <p:set>
                                      <p:cBhvr>
                                        <p:cTn id="38" dur="500" autoRev="1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4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1"/>
          <p:cNvSpPr/>
          <p:nvPr/>
        </p:nvSpPr>
        <p:spPr>
          <a:xfrm>
            <a:off x="971640" y="62064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вед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2"/>
          <p:cNvSpPr/>
          <p:nvPr/>
        </p:nvSpPr>
        <p:spPr>
          <a:xfrm>
            <a:off x="4427640" y="4467240"/>
            <a:ext cx="439236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TextBox 3"/>
          <p:cNvSpPr/>
          <p:nvPr/>
        </p:nvSpPr>
        <p:spPr>
          <a:xfrm>
            <a:off x="436680" y="1916280"/>
            <a:ext cx="8134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ши, Маши и Наташ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ты, Иры и Марин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ти, Насти, Вари, Ол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мы, Тани, Юры, Кол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колько разных есть имен?!!!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значений их миллион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1"/>
          <p:cNvSpPr/>
          <p:nvPr/>
        </p:nvSpPr>
        <p:spPr>
          <a:xfrm>
            <a:off x="971640" y="62064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ктуаль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2"/>
          <p:cNvSpPr/>
          <p:nvPr/>
        </p:nvSpPr>
        <p:spPr>
          <a:xfrm>
            <a:off x="4427640" y="4467240"/>
            <a:ext cx="439236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Box 3"/>
          <p:cNvSpPr/>
          <p:nvPr/>
        </p:nvSpPr>
        <p:spPr>
          <a:xfrm>
            <a:off x="469800" y="1916280"/>
            <a:ext cx="8134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узнать , что значит мое имя-Даниил?  С самого раннего детства хотелось найти ответ на этот вопрос. А что обозначают  другие имена, ведь  принято считать, что   значение   имени влияет на характер человека. Именно поэтому я выбрал такую тему проек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1"/>
          <p:cNvSpPr/>
          <p:nvPr/>
        </p:nvSpPr>
        <p:spPr>
          <a:xfrm>
            <a:off x="32400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Цели и задач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Цель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доказать, что имя человека влияет на его характе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Задачи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зучить литературу по теме исследования, написать работу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Гипоте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имя человека влияет на его характе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1"/>
          <p:cNvSpPr/>
          <p:nvPr/>
        </p:nvSpPr>
        <p:spPr>
          <a:xfrm>
            <a:off x="74304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етоды решения зада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900000" y="1461960"/>
            <a:ext cx="7804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учение литературы по теме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2" name="Picture 7" descr="http://cv01.twirpx.net/0567/0567665.jpg"/>
          <p:cNvPicPr/>
          <p:nvPr/>
        </p:nvPicPr>
        <p:blipFill>
          <a:blip r:embed="rId1"/>
          <a:stretch/>
        </p:blipFill>
        <p:spPr>
          <a:xfrm>
            <a:off x="6114960" y="2811600"/>
            <a:ext cx="2857680" cy="32814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1" descr="http://cv01.twirpx.net/1182/1182869.jpg"/>
          <p:cNvPicPr/>
          <p:nvPr/>
        </p:nvPicPr>
        <p:blipFill>
          <a:blip r:embed="rId2"/>
          <a:stretch/>
        </p:blipFill>
        <p:spPr>
          <a:xfrm>
            <a:off x="3219480" y="2770200"/>
            <a:ext cx="2705040" cy="33228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3" descr="http://cv0.litres.ru/static/bookimages/06/68/23/06682308.bin.dir/06682308.cover.jpg"/>
          <p:cNvPicPr/>
          <p:nvPr/>
        </p:nvPicPr>
        <p:blipFill>
          <a:blip r:embed="rId3"/>
          <a:stretch/>
        </p:blipFill>
        <p:spPr>
          <a:xfrm>
            <a:off x="179280" y="2770200"/>
            <a:ext cx="280836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1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 такое ономас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ти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Text Box 2"/>
          <p:cNvSpPr/>
          <p:nvPr/>
        </p:nvSpPr>
        <p:spPr>
          <a:xfrm>
            <a:off x="457200" y="143352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номастика- раздел языкознания, изучающий собственные имена ( С.И.Ожегов « Словарь русского языка»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7" name="Picture 6" descr="http://ppt4web.ru/images/1413/40028/640/img3.jpg"/>
          <p:cNvPicPr/>
          <p:nvPr/>
        </p:nvPicPr>
        <p:blipFill>
          <a:blip r:embed="rId1"/>
          <a:stretch/>
        </p:blipFill>
        <p:spPr>
          <a:xfrm>
            <a:off x="2570040" y="2924280"/>
            <a:ext cx="609624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1"/>
          <p:cNvSpPr/>
          <p:nvPr/>
        </p:nvSpPr>
        <p:spPr>
          <a:xfrm>
            <a:off x="457200" y="133200"/>
            <a:ext cx="82296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СТОРИЯ НЕКОТОРЫХ ИМЕ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2"/>
          <p:cNvSpPr/>
          <p:nvPr/>
        </p:nvSpPr>
        <p:spPr>
          <a:xfrm>
            <a:off x="431640" y="158904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Имя Даниил (разг. Данил, Данила) происходит от древнееврейского слова "даниел", означающее "мой судья - Бог", "Бог мне судья"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 Александр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исходит от древнегреческих слов "алекс" - защищать и "андрос" -  мужчина, то есть "защитник людей", "защита мужественная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Валерия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мя Лера русско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Имя Мария имеет древнееврейское происхождение, самое распространенное имя в мире 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Прямоугольник 1"/>
          <p:cNvSpPr/>
          <p:nvPr/>
        </p:nvSpPr>
        <p:spPr>
          <a:xfrm>
            <a:off x="3216240" y="476280"/>
            <a:ext cx="273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мя Маш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250920" y="1401840"/>
          <a:ext cx="8642160" cy="4248000"/>
        </p:xfrm>
        <a:graphic>
          <a:graphicData uri="http://schemas.openxmlformats.org/drawingml/2006/table">
            <a:tbl>
              <a:tblPr/>
              <a:tblGrid>
                <a:gridCol w="4321080"/>
                <a:gridCol w="4321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нение одноклассн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чение из книг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яго Мария-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тливая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эмоциональная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добрая, веселая, самовлюблен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типова Мар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- застенчивая, скромная, тихая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чувствительная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покой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вочка с именем Маша внешне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покойн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и уравновешенная. Скрытная. Она обладает особым даром внутренне переживать весь огромный спектр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эмоци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Это наделяет ее особой, редко кому свойственной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чувствительностью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Прямоугольник 1"/>
          <p:cNvSpPr/>
          <p:nvPr/>
        </p:nvSpPr>
        <p:spPr>
          <a:xfrm>
            <a:off x="3354480" y="476280"/>
            <a:ext cx="246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мя Лер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611280" y="1397160"/>
          <a:ext cx="8353440" cy="498456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нение одноклассни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чение из книг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1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ченко Валерия-вежливая, застенчивая, дружелюбная, ласковая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ответствен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етчикова Валерия- хитрая, ленивая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крытная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добрая, отзывчивая, иногда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ердит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ра – это яркая, смелая и довольно авторитарная девушка, которая часто проявляет свое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недовольств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Но нельзя сказать, что она характеризуется отсутствием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дисциплин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 гибкости. Лера стремится добиться успеха в жизни, поэтому может часто быть гордой и немного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замкнутой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4:38:31Z</dcterms:created>
  <dc:creator>Katekin</dc:creator>
  <dc:description/>
  <dc:language>en-US</dc:language>
  <cp:lastModifiedBy>home</cp:lastModifiedBy>
  <dcterms:modified xsi:type="dcterms:W3CDTF">2022-02-18T16:30:21Z</dcterms:modified>
  <cp:revision>122</cp:revision>
  <dc:subject/>
  <dc:title>            ЧТО В СЕБЕ ТАИТ ЛЕСНАЯ ЯГОДА ?   (исследовательский  проект)  автор  КАТЕКИНА  ЛАДА         </dc:title>
</cp:coreProperties>
</file>