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71DB-0B9D-497E-BEDA-24ECABAAB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99F4-AFD2-408C-ABF2-C47BADB7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BEA4-1881-450B-953E-023C7A451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1100-B725-4BE2-B43E-526C0932D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53FB-A48B-4FA8-A639-4391FABD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AD29-1346-4250-B7BE-81C6EA47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CDBC-C50E-4FA2-9105-BB9BBC59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48A5-9D5A-45AF-82BF-1BBEF130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36F8-9B7B-446E-9541-9CFC7AA2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0E73-45BF-4A64-9211-32E431D8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2F6B-40E8-4D1F-9915-3A10F3E0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D4CF-4E7D-4053-83A1-61BD936B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C024-BD9A-4B91-BF05-95EFA8EB28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561080" cy="21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0000"/>
                </a:solidFill>
                <a:latin typeface="Times New Roman"/>
              </a:rPr>
              <a:t>«Использование ИКТ в </a:t>
            </a:r>
            <a:r>
              <a:rPr b="0" lang="ru-RU" sz="3600" spc="-1" strike="noStrike">
                <a:solidFill>
                  <a:srgbClr val="820000"/>
                </a:solidFill>
                <a:latin typeface="Times New Roman"/>
              </a:rPr>
              <a:t>процессе формирования  элементарных математических представлений у дошкольников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2920" y="5229360"/>
            <a:ext cx="403236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овик Еле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Григорьев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няя мультимедийное оборудование на занятиях по ФЭМП достигаются следующие результат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ти легче усваивают понятия формы, цвета и величин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убже постигаются понятия числа и множеств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стрее возникает умение ориентироваться на плоскости и в пространств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нируется эффективность внимания и памят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вается мелкая моторика, формируется тончайшая координация движений глаз, уменьшается время, как простой реакции, так и реакции выбор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итывается целеустремлённость и сосредоточенность; развивается воображение и творческие способност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ваются элементы наглядно-образного и теоретического мыш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2421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Спасибо за внимание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едагог должен владеть необходимыми образовательными технологиями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я развивающего обучени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доровьесберегающие образовательные технологи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я проектной деятельност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я исследовательской деятельност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я проблемного обучения в детском саду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я разноуровневого обучени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терактивная технология в ДОУ - технология ИКТ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гровая технология, технология интегрированного обу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казатели познавательного интереса к математике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астота выбора игр математического содержания в неделю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овень самостоятельности и активности ребенка в игре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овень развития речи при общении детей друг с другом во время иг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Цель  применения  информационно-коммуникативных технологий 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060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ышение уровня познавательной активности дошкольников в процессе ФЭМП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5435640" y="3645000"/>
            <a:ext cx="3240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ние умения решать проблемно-поисковые, игровые задачи в процессе развития  элементарных математических представлений, используя ИК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ие условий для развития самостоятельной познавательной деятель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ие воображения, логического мышления, внимания, зрительной памя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жидаемые результат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использовании ИКТ для развития познавательного интереса дети будут активно использовать математические понятия в познавательно – речевой, творческой и игровой деятельности, в повседневной жиз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дут созданы условия для усвоения дошкольниками элементарных математических представлений, обеспечивающие успешное развитие интеллектуальных способностей детей старшего дошкольного возрас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дет сформирована общая готовность к дальнейшему успешному обучению в школ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ользование ИКТ будет способствовать развитию таких интегративных качеств ка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особный решать интеллектуальные и личностные задачи, адекватные возраст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владевший универсальными предпосылками учебной деятель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владевший необходимыми умениями и навыками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084720" y="4221000"/>
            <a:ext cx="2880000" cy="2303640"/>
          </a:xfrm>
          <a:prstGeom prst="rect">
            <a:avLst/>
          </a:prstGeom>
          <a:ln w="0">
            <a:noFill/>
          </a:ln>
        </p:spPr>
      </p:pic>
      <p:sp>
        <p:nvSpPr>
          <p:cNvPr id="57" name="Скругленный прямоугольник 3"/>
          <p:cNvSpPr/>
          <p:nvPr/>
        </p:nvSpPr>
        <p:spPr>
          <a:xfrm>
            <a:off x="6948360" y="5229360"/>
            <a:ext cx="46080" cy="46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нформационные ресурс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хомировой Л. Ф. «Развитие познавательных способностей детей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лектронные презентации своими рук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тернет-ресурс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http://doshvozrast.r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итание детей дошкольного возраста в детском саду и семь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лектронные пособия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Арифметика-малышка» (Уроки тетушки Совы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Занимательная математика для дошкольников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Веселые уроки» 2+,3+,4+,5+,6-7 л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7236000" y="5235480"/>
            <a:ext cx="17906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спользование ИКТ в воспитательном процесс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ультимедийные презент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пьютерные математические игр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"Считалочка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"Сколько? 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"Устный счет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"Лишняя фигура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"Найди фигуру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6372360" y="3789360"/>
            <a:ext cx="2447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owner</cp:lastModifiedBy>
  <dcterms:modified xsi:type="dcterms:W3CDTF">2021-08-23T00:03:56Z</dcterms:modified>
  <cp:revision>41</cp:revision>
  <dc:subject/>
  <dc:title>Слайд 1</dc:title>
</cp:coreProperties>
</file>