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2C6-7A58-4683-BD26-D75BACE7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5DD-A5AA-4890-903A-4F5FA313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F9F-5326-48BD-881A-667FF1A0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9E9-CB07-4944-8B59-D144129D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171-CB68-4C49-8298-F1686F83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CE4-FAE1-4C8C-856F-F2A40AD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50C-B291-4676-A80B-2B20EAA1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B44-CDDC-4735-9269-68928C27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DC3-912C-424A-B65B-0DBF6E47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A28-13A4-4FA6-A55A-01BD587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877-0060-45E3-9B3B-21255CE4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C3A-D97B-48EA-A5DC-20034B4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597-5593-4288-8E15-CF0525E5D0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756108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«Использование ИКТ в </a:t>
            </a:r>
            <a:r>
              <a:rPr b="0" lang="ru-RU" sz="3600" spc="-1" strike="noStrike">
                <a:solidFill>
                  <a:srgbClr val="820000"/>
                </a:solidFill>
                <a:latin typeface="Times New Roman"/>
              </a:rPr>
              <a:t>процессе формирования  элементарных математических представлений у дошкольников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2920" y="5229360"/>
            <a:ext cx="4032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овик Ел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риго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яя мультимедийное оборудование на занятиях по ФЭМП достигаются следующие результа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легче усваивают понятия формы, цвета и величи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убже постигаются понятия числа и множ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ее возникает умение ориентироваться на плоскости и в пространст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нируется эффективность внимания и памя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ется мелкая моторика, формируется тончайшая координация движений глаз, уменьшается время, как простой реакции, так и реакции выбо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ется целеустремлённость и сосредоточенность; развивается воображение и творческие способ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ются элементы наглядно-образного и теоретического мыш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дагог должен владеть необходимыми образовательными технологиям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проектной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исследовательской деятель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проблемного обучения в детском са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разноуровневого обуч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активная технология в ДОУ - технология ИК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овая технология, технология интегрированного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азатели познавательного интереса к математик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та выбора игр математического содержания в недел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самостоятельности и активности ребенка в игр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развития речи при общении детей друг с другом во время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 применения  информационно-коммуникативных технологий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уровня познавательной активности дошкольников в процессе ФЭМП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мения решать проблемно-поисковые, игровые задачи в процессе развития  элементарных математических представлений, используя И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самостоятельной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воображения, логического мышления, внимания, зрительной памя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использовании ИКТ для развития познавательного интереса дети будут активно использовать математические понятия в познавательно – речевой, творческой и игровой деятельности,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ут созданы условия для усвоения дошкольниками элементарных математических представлений, обеспечивающие успешное развитие интеллектуальных способностей детей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сформирована общая готовность к дальнейшему успешному обучению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ИКТ будет способствовать развитию таких интегративных качеств к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ный решать интеллектуальные и личностные задачи, адекватные возрас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вший универсальными предпосылкам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вший необходимыми умениями и навыками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84720" y="4221000"/>
            <a:ext cx="2880000" cy="230364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3"/>
          <p:cNvSpPr/>
          <p:nvPr/>
        </p:nvSpPr>
        <p:spPr>
          <a:xfrm>
            <a:off x="6948360" y="5229360"/>
            <a:ext cx="46080" cy="4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формационные 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хомировой Л. Ф. «Развитие познавательных способностей дете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е презентации своими ру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нет-ресур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http://doshvozrast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ние детей дошкольного возраста в детском саду и сем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е пособ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рифметика-малышка» (Уроки тетушки Сов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нимательная математика для дошкольников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еселые уроки» 2+,3+,4+,5+,6-7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236000" y="5235480"/>
            <a:ext cx="1790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ИКТ в воспитательном процесс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льтимедийные презент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ьютерные математические иг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Считалочка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Сколько?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Устный счет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Лишняя фигура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"Найди фигуру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372360" y="3789360"/>
            <a:ext cx="244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owner</cp:lastModifiedBy>
  <dcterms:modified xsi:type="dcterms:W3CDTF">2021-08-23T00:03:56Z</dcterms:modified>
  <cp:revision>41</cp:revision>
  <dc:subject/>
  <dc:title>Слайд 1</dc:title>
</cp:coreProperties>
</file>