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917F-55C0-4FE3-B6B5-7E1787CC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8BA0-6985-48F5-A995-087B458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939-A0DE-4279-907A-20D8A42F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8D7B-3679-4EDD-B736-6CD3EA00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34D7-D2C0-4B8C-8273-47967FE4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F4DF-678A-4493-B6D4-94FCDEC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D52-7C8F-4E7C-AFE9-A597808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0AC2-F57E-45E4-BD5F-3E2C2B96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2E59-99C9-445F-834F-F61A8E2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FFF-E43F-4158-A49A-38265906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CBBE-C2E4-409B-B885-2041ACA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9E01-F840-4FB3-A6AA-C53B48C2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4EE6-6930-4397-877C-3714B11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1F9F-2B0C-421A-9BB0-417D3A7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235A-8336-4B5B-B875-231B49F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9EF-1365-4E03-8F3A-37854477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572-D478-4CF0-A42A-418ABC6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0F6B-7E1A-4A95-A42C-46D93B3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5D0C-578E-462D-ADC0-26361D4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A3DD-A445-4094-A920-40F2C09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0072-2E8C-4145-8701-F8870773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0EF3-B912-4416-AF42-BB96A69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D057-4077-467E-A296-DD76EA3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376A-3C64-4AF1-BD5F-A285C43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24A-7844-4AB2-860B-0B961C5FC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32D-702F-403C-8D25-5BE8E2D18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6084720" y="565668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ычева Е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10"/>
          <p:cNvSpPr txBox="1"/>
          <p:nvPr/>
        </p:nvSpPr>
        <p:spPr>
          <a:xfrm>
            <a:off x="3780000" y="1125360"/>
            <a:ext cx="3958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ительные 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фесси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6800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ены возвод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менщик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ышу кроет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вельщик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Объект 5" descr=""/>
          <p:cNvPicPr/>
          <p:nvPr/>
        </p:nvPicPr>
        <p:blipFill>
          <a:blip r:embed="rId1"/>
          <a:stretch/>
        </p:blipFill>
        <p:spPr>
          <a:xfrm>
            <a:off x="4356000" y="604800"/>
            <a:ext cx="3889440" cy="44085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4" descr=""/>
          <p:cNvPicPr/>
          <p:nvPr/>
        </p:nvPicPr>
        <p:blipFill>
          <a:blip r:embed="rId2"/>
          <a:stretch/>
        </p:blipFill>
        <p:spPr>
          <a:xfrm>
            <a:off x="277920" y="2133720"/>
            <a:ext cx="371772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250920" y="2995200"/>
            <a:ext cx="345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Электри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доме провода и устанавлив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озетки и выключ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52912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364000" y="8766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Столяр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авит окна и дв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1032480" y="4380480"/>
            <a:ext cx="270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Сантехни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т труб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станавл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кварти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ковины и ва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5041800" cy="3343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2"/>
          <a:stretch/>
        </p:blipFill>
        <p:spPr>
          <a:xfrm>
            <a:off x="4427640" y="3716280"/>
            <a:ext cx="4537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250920" y="135288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Маляр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крашивают ст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клеивают обо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316400" y="260280"/>
            <a:ext cx="4537080" cy="302112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1" descr=""/>
          <p:cNvPicPr/>
          <p:nvPr/>
        </p:nvPicPr>
        <p:blipFill>
          <a:blip r:embed="rId2"/>
          <a:stretch/>
        </p:blipFill>
        <p:spPr>
          <a:xfrm>
            <a:off x="322200" y="3141720"/>
            <a:ext cx="3676680" cy="343836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2"/>
          <p:cNvSpPr/>
          <p:nvPr/>
        </p:nvSpPr>
        <p:spPr>
          <a:xfrm>
            <a:off x="5292720" y="4076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Штукатур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тдел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ены и пото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у что нужно для рабо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Содержимое 4" descr="i.jpg"/>
          <p:cNvPicPr/>
          <p:nvPr/>
        </p:nvPicPr>
        <p:blipFill>
          <a:blip r:embed="rId1"/>
          <a:stretch/>
        </p:blipFill>
        <p:spPr>
          <a:xfrm>
            <a:off x="250920" y="3284640"/>
            <a:ext cx="273528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3" name="Picture 8" descr="http://im7-tub-ru.yandex.net/i?id=335297568-42-72&amp;n=21"/>
          <p:cNvPicPr/>
          <p:nvPr/>
        </p:nvPicPr>
        <p:blipFill>
          <a:blip r:embed="rId2"/>
          <a:stretch/>
        </p:blipFill>
        <p:spPr>
          <a:xfrm>
            <a:off x="324000" y="1484280"/>
            <a:ext cx="2120760" cy="15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Picture 6" descr="http://im3-tub-ru.yandex.net/i?id=272691576-64-72&amp;n=21"/>
          <p:cNvPicPr/>
          <p:nvPr/>
        </p:nvPicPr>
        <p:blipFill>
          <a:blip r:embed="rId3"/>
          <a:stretch/>
        </p:blipFill>
        <p:spPr>
          <a:xfrm>
            <a:off x="1116000" y="5478480"/>
            <a:ext cx="1800360" cy="137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5" name="Picture 18" descr="http://www.sakhstroy.com/dle/uploads/projects/dachnyiy-dom.jpg"/>
          <p:cNvPicPr/>
          <p:nvPr/>
        </p:nvPicPr>
        <p:blipFill>
          <a:blip r:embed="rId4"/>
          <a:stretch/>
        </p:blipFill>
        <p:spPr>
          <a:xfrm>
            <a:off x="3276720" y="4770360"/>
            <a:ext cx="194472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6" name="Picture 16" descr="http://opencity.narod.ru/predpri/mmz/vodop1.jpg"/>
          <p:cNvPicPr/>
          <p:nvPr/>
        </p:nvPicPr>
        <p:blipFill>
          <a:blip r:embed="rId5"/>
          <a:stretch/>
        </p:blipFill>
        <p:spPr>
          <a:xfrm>
            <a:off x="2987640" y="1268280"/>
            <a:ext cx="208764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7" name="Picture 12" descr="http://www.cbiinternational.com/image/cache/data/building%20materials/cable/911678_cable_inlet__outlet__box-500x500.jpg"/>
          <p:cNvPicPr/>
          <p:nvPr/>
        </p:nvPicPr>
        <p:blipFill>
          <a:blip r:embed="rId6"/>
          <a:stretch/>
        </p:blipFill>
        <p:spPr>
          <a:xfrm>
            <a:off x="6948360" y="4581360"/>
            <a:ext cx="1882800" cy="209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Picture 14" descr="http://im2-tub-ru.yandex.net/i?id=180056457-06-72&amp;n=21"/>
          <p:cNvPicPr/>
          <p:nvPr/>
        </p:nvPicPr>
        <p:blipFill>
          <a:blip r:embed="rId7"/>
          <a:stretch/>
        </p:blipFill>
        <p:spPr>
          <a:xfrm>
            <a:off x="4716360" y="2997360"/>
            <a:ext cx="201636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4" descr="http://activerain.com/image_store/uploads/8/6/3/1/9/ar12320676291368.gif"/>
          <p:cNvPicPr/>
          <p:nvPr/>
        </p:nvPicPr>
        <p:blipFill>
          <a:blip r:embed="rId8"/>
          <a:stretch/>
        </p:blipFill>
        <p:spPr>
          <a:xfrm>
            <a:off x="6659640" y="1197000"/>
            <a:ext cx="2266920" cy="213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6:13:46Z</dcterms:created>
  <dc:creator>пользователь</dc:creator>
  <dc:description/>
  <dc:language>en-US</dc:language>
  <cp:lastModifiedBy>USer</cp:lastModifiedBy>
  <dcterms:modified xsi:type="dcterms:W3CDTF">2022-01-16T17:02:36Z</dcterms:modified>
  <cp:revision>9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200000000000010291210207f7000400038000</vt:lpwstr>
  </property>
</Properties>
</file>