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443C-1976-4D0C-BEFB-1207619F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C59E-9D6A-4ED3-A756-474DF372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4A25-77DC-4A03-B2F1-76AA7D77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B7CE-9B1C-4066-8721-F62D734E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DC7-9F9C-4D51-B328-0A833836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8E73-52DB-4A30-8675-DC1B5309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75A4-91AA-4D56-9DF2-2FE48CB4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4787-501E-4D7B-90F8-CFC56424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8A0F-4752-4D5E-B5D7-997BD516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0E19-DD69-4614-935D-228F3DF3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3C43-2673-4AA8-ABF8-A8680B63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ACBD-BF5F-4CEC-B550-AD09F810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6C4-089D-46AA-86A7-E133589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00A8-AD4C-4AFB-A774-76D54E4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D5BA-314B-48CA-AFEC-A02AB233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65C-BC67-49E9-9EA4-001982FB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B86-5238-4366-98BC-635CBBFD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7EEE-FA89-4339-8D45-DF0C9D8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C369-233A-4AE2-BCF9-4F5D0FAE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EF96-8662-4A69-822C-82E1191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F466-92A7-42E9-A547-882CED85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2540-4C24-4F00-A07B-979C267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E198-E1CD-4D8C-B56B-0EC547B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247E-08C5-41BE-8D76-21B52B54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2FA6-07D8-4B23-8433-DCB8492EA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C907-0E86-4D48-99C6-AF7768ADD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9"/>
          <p:cNvSpPr/>
          <p:nvPr/>
        </p:nvSpPr>
        <p:spPr>
          <a:xfrm>
            <a:off x="6084720" y="565668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ычева Е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10"/>
          <p:cNvSpPr txBox="1"/>
          <p:nvPr/>
        </p:nvSpPr>
        <p:spPr>
          <a:xfrm>
            <a:off x="3780000" y="1125360"/>
            <a:ext cx="3958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ительные 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фесси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6" name="Рисунок 2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6800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ены возвод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менщик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ышу кроет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вельщик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Объект 5" descr=""/>
          <p:cNvPicPr/>
          <p:nvPr/>
        </p:nvPicPr>
        <p:blipFill>
          <a:blip r:embed="rId1"/>
          <a:stretch/>
        </p:blipFill>
        <p:spPr>
          <a:xfrm>
            <a:off x="4356000" y="604800"/>
            <a:ext cx="3889440" cy="44085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4" descr=""/>
          <p:cNvPicPr/>
          <p:nvPr/>
        </p:nvPicPr>
        <p:blipFill>
          <a:blip r:embed="rId2"/>
          <a:stretch/>
        </p:blipFill>
        <p:spPr>
          <a:xfrm>
            <a:off x="277920" y="2133720"/>
            <a:ext cx="37177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250920" y="2995200"/>
            <a:ext cx="345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Электрик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доме провода и устанавлив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озетки и выключ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52912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5364000" y="8766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Столяр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авит окна и дв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1032480" y="4380480"/>
            <a:ext cx="270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Сантехник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т труб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стан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кварти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ковины и ва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5041800" cy="3343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"/>
          <p:cNvPicPr/>
          <p:nvPr/>
        </p:nvPicPr>
        <p:blipFill>
          <a:blip r:embed="rId2"/>
          <a:stretch/>
        </p:blipFill>
        <p:spPr>
          <a:xfrm>
            <a:off x="4427640" y="3716280"/>
            <a:ext cx="4537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250920" y="135288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Маляры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крашивают сте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клеивают обо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316400" y="260280"/>
            <a:ext cx="4537080" cy="302112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1" descr=""/>
          <p:cNvPicPr/>
          <p:nvPr/>
        </p:nvPicPr>
        <p:blipFill>
          <a:blip r:embed="rId2"/>
          <a:stretch/>
        </p:blipFill>
        <p:spPr>
          <a:xfrm>
            <a:off x="322200" y="3141720"/>
            <a:ext cx="3676680" cy="343836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2"/>
          <p:cNvSpPr/>
          <p:nvPr/>
        </p:nvSpPr>
        <p:spPr>
          <a:xfrm>
            <a:off x="5292720" y="4076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Штукатур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дел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ены и пото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у что нужно для рабо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Содержимое 4" descr="i.jpg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9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3" name="Picture 8" descr="http://im7-tub-ru.yandex.net/i?id=335297568-42-72&amp;n=21"/>
          <p:cNvPicPr/>
          <p:nvPr/>
        </p:nvPicPr>
        <p:blipFill>
          <a:blip r:embed="rId2"/>
          <a:stretch/>
        </p:blipFill>
        <p:spPr>
          <a:xfrm>
            <a:off x="324000" y="1484280"/>
            <a:ext cx="2120760" cy="15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Picture 6" descr="http://im3-tub-ru.yandex.net/i?id=272691576-64-72&amp;n=21"/>
          <p:cNvPicPr/>
          <p:nvPr/>
        </p:nvPicPr>
        <p:blipFill>
          <a:blip r:embed="rId3"/>
          <a:stretch/>
        </p:blipFill>
        <p:spPr>
          <a:xfrm>
            <a:off x="1116000" y="5478480"/>
            <a:ext cx="1800360" cy="137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5" name="Picture 18" descr="http://www.sakhstroy.com/dle/uploads/projects/dachnyiy-dom.jpg"/>
          <p:cNvPicPr/>
          <p:nvPr/>
        </p:nvPicPr>
        <p:blipFill>
          <a:blip r:embed="rId4"/>
          <a:stretch/>
        </p:blipFill>
        <p:spPr>
          <a:xfrm>
            <a:off x="3276720" y="4770360"/>
            <a:ext cx="194472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6" name="Picture 16" descr="http://opencity.narod.ru/predpri/mmz/vodop1.jpg"/>
          <p:cNvPicPr/>
          <p:nvPr/>
        </p:nvPicPr>
        <p:blipFill>
          <a:blip r:embed="rId5"/>
          <a:stretch/>
        </p:blipFill>
        <p:spPr>
          <a:xfrm>
            <a:off x="2987640" y="1268280"/>
            <a:ext cx="208764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7" name="Picture 12" descr="http://www.cbiinternational.com/image/cache/data/building%20materials/cable/911678_cable_inlet__outlet__box-500x500.jpg"/>
          <p:cNvPicPr/>
          <p:nvPr/>
        </p:nvPicPr>
        <p:blipFill>
          <a:blip r:embed="rId6"/>
          <a:stretch/>
        </p:blipFill>
        <p:spPr>
          <a:xfrm>
            <a:off x="6948360" y="4581360"/>
            <a:ext cx="1882800" cy="209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Picture 14" descr="http://im2-tub-ru.yandex.net/i?id=180056457-06-72&amp;n=21"/>
          <p:cNvPicPr/>
          <p:nvPr/>
        </p:nvPicPr>
        <p:blipFill>
          <a:blip r:embed="rId7"/>
          <a:stretch/>
        </p:blipFill>
        <p:spPr>
          <a:xfrm>
            <a:off x="4716360" y="2997360"/>
            <a:ext cx="201636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4" descr="http://activerain.com/image_store/uploads/8/6/3/1/9/ar12320676291368.gif"/>
          <p:cNvPicPr/>
          <p:nvPr/>
        </p:nvPicPr>
        <p:blipFill>
          <a:blip r:embed="rId8"/>
          <a:stretch/>
        </p:blipFill>
        <p:spPr>
          <a:xfrm>
            <a:off x="6659640" y="1197000"/>
            <a:ext cx="2266920" cy="213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6:13:46Z</dcterms:created>
  <dc:creator>пользователь</dc:creator>
  <dc:description/>
  <dc:language>en-US</dc:language>
  <cp:lastModifiedBy>USer</cp:lastModifiedBy>
  <dcterms:modified xsi:type="dcterms:W3CDTF">2022-01-16T17:02:36Z</dcterms:modified>
  <cp:revision>9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200000000000010291210207f7000400038000</vt:lpwstr>
  </property>
</Properties>
</file>