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A4BAB-1F10-4BFA-A94B-AD6BD0147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8ECC-0E0E-4EDB-8CC4-F17486E3E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4FD3F-2A86-46FC-8C43-0386E4F6B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A647F-0BBD-4ECF-82D2-84806CCC0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7996F-80E7-439B-BEBB-1E2681995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AC99B-177A-498D-ABB1-87E5ACCA8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F4896-1B69-41C7-AF23-8D2DE8D7F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7F30C-97D9-4273-8180-7BCFC9E7F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B7000-651A-4DAA-B3D1-8B9FB42EA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C8450-8987-46F9-A612-57AC70DD7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8E11F-497A-489B-A5C8-4E3AB6DDB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2D2F5-CE23-4375-B2F6-041572673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3D85F-4BBB-4971-BD9A-39F771172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CC14A-0396-4D77-9E24-4E5E1D09A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B42B1-F064-4E11-BC83-19A1DB41F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F9EB8-A261-4DAE-87F8-188DE87AD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05A45-E0BB-48A1-AC12-E17FAC035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6DD8A3-2273-42AA-BCC7-D2905FCD48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65876-4D89-439B-9CD4-561D616B1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06BFB-187C-46BD-B677-A4C2C2178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10F69-C06F-4465-9A8B-3AC8FDFEB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8A9AB6-840B-4B5B-8D3A-13FA35376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FE1A-542D-4469-AB07-74146BEE8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C35E4-2129-4C34-B441-69A9A8722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1D859-779B-4EDD-80E0-9A0C8D701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3F7850-B84B-4922-9C8F-5379048FF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B58F7-0A6E-45CF-A2B5-A24F9D4CB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17CC52-920C-48E4-B09B-32B26A9CA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ED3D9-4FFC-41F4-B731-3458F7351A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D0E15-8741-491F-B743-7F639C40A9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B29BDC-214E-42D7-A65C-8355567C85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1C8170-5449-498A-9C0C-915C1DB7B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B828C9-0525-40D3-8437-411E368021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053CA-68E3-42F9-8E24-49FEBD540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51ED63-135D-4665-AEA2-72653C20F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96CFB-9868-4F4A-93C3-5292B7975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EA4DF-B0C6-4CF3-814A-F5A51C4C03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273DA-8EF2-4D45-9F9F-6249B1E67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AA381-4834-42D2-8C09-525EDAE6F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6F1D2-C3E2-417F-A568-B73884E14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358247-F9BF-491A-86FA-0468C2425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1240FC-6A69-456F-8798-B9635B4536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1FEB67-B2BF-49C4-96DB-53087F2311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810D6-95D8-4C91-A8BB-0371E172C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E968A-E2BE-4670-900D-811A9D0D4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2788-E466-44D3-987C-3119FED46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265A6-F54A-4CC4-938F-6C50D0A47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AE5F-A814-4CE1-8DCA-1EE0028B9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892E-38AB-479E-BD33-8DF6F6D1F09F}"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86EF-3F98-4ACD-A0F7-55F023E53DEF}"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6082-51C7-4969-902B-FB31873EE14E}"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5D90-815F-429D-A4FE-A5BD2BDD8992}"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Rectangle 2" descr=""/>
          <p:cNvPicPr/>
          <p:nvPr/>
        </p:nvPicPr>
        <p:blipFill>
          <a:blip r:embed="rId1"/>
          <a:stretch/>
        </p:blipFill>
        <p:spPr>
          <a:xfrm>
            <a:off x="401760" y="476280"/>
            <a:ext cx="7772400" cy="3887640"/>
          </a:xfrm>
          <a:prstGeom prst="rect">
            <a:avLst/>
          </a:prstGeom>
          <a:ln w="0">
            <a:noFill/>
          </a:ln>
        </p:spPr>
      </p:pic>
      <p:graphicFrame>
        <p:nvGraphicFramePr>
          <p:cNvPr id="215" name="Object 4"/>
          <p:cNvGraphicFramePr/>
          <p:nvPr/>
        </p:nvGraphicFramePr>
        <p:xfrm>
          <a:off x="6588000" y="2736720"/>
          <a:ext cx="2332080" cy="3645000"/>
        </p:xfrm>
        <a:graphic>
          <a:graphicData uri="http://schemas.openxmlformats.org/presentationml/2006/ole">
            <p:oleObj r:id="rId2" spid="">
              <p:embed/>
              <p:pic>
                <p:nvPicPr>
                  <p:cNvPr id="216" name="Object 4" descr=""/>
                  <p:cNvPicPr/>
                  <p:nvPr/>
                </p:nvPicPr>
                <p:blipFill>
                  <a:blip r:embed="rId3"/>
                  <a:stretch/>
                </p:blipFill>
                <p:spPr>
                  <a:xfrm>
                    <a:off x="6588000" y="2736720"/>
                    <a:ext cx="2332080" cy="36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Rectangle 2" descr=""/>
          <p:cNvPicPr/>
          <p:nvPr/>
        </p:nvPicPr>
        <p:blipFill>
          <a:blip r:embed="rId1"/>
          <a:stretch/>
        </p:blipFill>
        <p:spPr>
          <a:xfrm>
            <a:off x="457200" y="219240"/>
            <a:ext cx="8229600" cy="750600"/>
          </a:xfrm>
          <a:prstGeom prst="rect">
            <a:avLst/>
          </a:prstGeom>
          <a:ln w="0">
            <a:noFill/>
          </a:ln>
        </p:spPr>
      </p:pic>
      <p:sp>
        <p:nvSpPr>
          <p:cNvPr id="218" name="PlaceHolder 1"/>
          <p:cNvSpPr>
            <a:spLocks noGrp="1"/>
          </p:cNvSpPr>
          <p:nvPr>
            <p:ph/>
          </p:nvPr>
        </p:nvSpPr>
        <p:spPr>
          <a:xfrm>
            <a:off x="457200" y="731880"/>
            <a:ext cx="8362800" cy="5394240"/>
          </a:xfrm>
          <a:prstGeom prst="rect">
            <a:avLst/>
          </a:prstGeom>
          <a:noFill/>
          <a:ln w="0">
            <a:noFill/>
          </a:ln>
        </p:spPr>
        <p:txBody>
          <a:bodyPr anchor="t">
            <a:normAutofit fontScale="90000"/>
          </a:bodyPr>
          <a:p>
            <a:pPr marL="39600"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roximaNovaMedium"/>
              </a:rPr>
              <a:t>Сначала приготовим начинку : возьмем три куриных яйца (вареных), две головки лука репчатого и нарезаем их мелко, потом берем одну банку любый консервированной рыбы в масле. Сливаем жидкость, разминаем рыбу вилкой. Берем один пучок любой зелени, одну десятую чайной ложки соли. Все смешиваем вместе. Форму для запекания смазываем растительным маслом и включаем греться печку. Начинаем готовить тесто.  Берем три куриных яйца (сырые), двести пятьдесят грамм майонеза (примерно, один стакан), двести пятьдесят грамм кефира, один стакан муки. Все хорошо перемешиваем. Получается жидкая масса.</a:t>
            </a:r>
            <a:br>
              <a:rPr sz="2400"/>
            </a:br>
            <a:r>
              <a:rPr b="0" lang="ru-RU" sz="2400" spc="-1" strike="noStrike">
                <a:solidFill>
                  <a:srgbClr val="000000"/>
                </a:solidFill>
                <a:latin typeface="ProximaNovaMedium"/>
              </a:rPr>
              <a:t>Далее, две трети теста выливаем в форму, затем раскладываем начинку и сверху распределяем оставшуюся одну треть теста. Запекаем от двадцати до пятидесяти минут в зависимости от температуры печки.</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9T15:15:18Z</dcterms:created>
  <dc:creator>Николай</dc:creator>
  <dc:description/>
  <dc:language>en-US</dc:language>
  <cp:lastModifiedBy>Ольга Монгуш</cp:lastModifiedBy>
  <cp:lastPrinted>2014-11-20T10:26:55Z</cp:lastPrinted>
  <dcterms:modified xsi:type="dcterms:W3CDTF">2022-02-20T15:42:59Z</dcterms:modified>
  <cp:revision>7</cp:revision>
  <dc:subject/>
  <dc:title>Слайд 1</dc:title>
</cp:coreProperties>
</file>