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FAAFE-950A-44B4-8733-591A1E8FA2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02243-8F06-4361-86F2-71D2AB648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F17B7-77CE-4784-9DBC-95F9A70CEE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C2A3B9-67C7-49A8-A015-ACF920FB5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DF4B63-D350-4F4F-9928-8DF0E37DD9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7E7869-60BA-4F73-94FE-BD7ABE67BA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545E95-D7C6-4BCA-9A5B-4E4418FF83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1BA4A8-9B0E-430E-AB62-CFB44B5075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22643-386D-4EB4-AEA0-68A63F53F6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95C6A2-2F48-41B1-B429-454434A378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78C8B-2800-4485-87E4-BF31B0E5B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1C91E-1DB8-4F3D-BCAF-9D50E7D41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5959F-0606-4362-B9AC-56E9FDDC9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A51D8-40B4-4C4F-B2D8-32A66FA19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ED28D2-5C98-4B5B-B15D-85B1EA24DF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390E77-B1CB-400D-909F-C61A5F7D31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B8C3C3-7E76-4977-BC2F-CF6523405B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07BF17-85E0-4594-8A00-0B982D17A9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35F51E-A713-410F-AD7D-B32491C048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5BB213-07C2-454D-94BF-72EF835280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8464D8-DED2-419A-A1A0-D396E779DF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973AF1-EFCA-413A-A4A4-38996B337A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A9650-C317-49EF-8A07-2A7C3F08F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B4B241-4F28-4952-B673-FF85CB9BEF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0137C9-2DCF-451C-ADA8-F54A4AF479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5696EC-E09E-457A-89E9-544235D8CC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FF58D0-A92E-4D59-B894-6E187F1E9D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717DC8-9A64-4300-9D74-5393C08D24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E60F55-0958-49A1-AFB1-43CCDD2AC5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EE7880-A9B7-43CA-AA3D-E1BFD66011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8C724D-F6C3-4831-AAA4-2B31A3AED8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2814C0-A210-49D4-8960-73BD65EC46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39A476-820F-4355-AC2F-EAC9FCA3EA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76CBE-6FB6-4E3E-83BE-8BEA99441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90AFD2-1D27-432E-A413-B11E34297D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4B1671-CC12-4FBA-8A5E-B9FE684962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1175EC-7EF0-4202-AB64-4D66281257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EDAAAC-9BE3-4A16-A2E1-552A965BB6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00E56D-3C8C-45EF-A44A-C930CE3330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BE5FAD-DE1F-4A04-83E7-88A6CED879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BCF2F9-1B37-4BDD-B25F-956ED23459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472C47-228F-47B2-BCD0-4F738D49AF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CCDBC5-C244-4E77-80FE-434CA7D2DC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78851-1E0D-47DD-A7B0-2790DAF15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77A3C-5F89-498B-8FC0-01C5FCAB8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5FE0C-E244-430C-8864-BB0313261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FF894-77F3-4FFA-A7C2-C5162C6F1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85B16-C599-4D5B-B1BA-0A90E5C37A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5108400"/>
            <a:ext cx="9144000" cy="1749600"/>
            <a:chOff x="0" y="5108400"/>
            <a:chExt cx="9144000" cy="1749600"/>
          </a:xfrm>
        </p:grpSpPr>
        <p:pic>
          <p:nvPicPr>
            <p:cNvPr id="1" name="Rectangle 6" descr=""/>
            <p:cNvPicPr/>
            <p:nvPr/>
          </p:nvPicPr>
          <p:blipFill>
            <a:blip r:embed="rId3"/>
            <a:stretch/>
          </p:blipFill>
          <p:spPr>
            <a:xfrm>
              <a:off x="0" y="5110920"/>
              <a:ext cx="9144000" cy="1746720"/>
            </a:xfrm>
            <a:prstGeom prst="rect">
              <a:avLst/>
            </a:prstGeom>
            <a:ln w="0">
              <a:noFill/>
            </a:ln>
          </p:spPr>
        </p:pic>
        <p:sp>
          <p:nvSpPr>
            <p:cNvPr id="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 name="Rectangle 7"/>
          <p:cNvGrpSpPr/>
          <p:nvPr/>
        </p:nvGrpSpPr>
        <p:grpSpPr>
          <a:xfrm>
            <a:off x="0" y="0"/>
            <a:ext cx="9144000" cy="5108400"/>
            <a:chOff x="0" y="0"/>
            <a:chExt cx="9144000" cy="5108400"/>
          </a:xfrm>
        </p:grpSpPr>
        <p:pic>
          <p:nvPicPr>
            <p:cNvPr id="4" name="Rectangle 7" descr=""/>
            <p:cNvPicPr/>
            <p:nvPr/>
          </p:nvPicPr>
          <p:blipFill>
            <a:blip r:embed="rId4"/>
            <a:stretch/>
          </p:blipFill>
          <p:spPr>
            <a:xfrm>
              <a:off x="0" y="0"/>
              <a:ext cx="9144000" cy="510840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Oval 9"/>
          <p:cNvGrpSpPr/>
          <p:nvPr/>
        </p:nvGrpSpPr>
        <p:grpSpPr>
          <a:xfrm>
            <a:off x="0" y="1603440"/>
            <a:ext cx="9144000" cy="5102280"/>
            <a:chOff x="0" y="1603440"/>
            <a:chExt cx="9144000" cy="5102280"/>
          </a:xfrm>
        </p:grpSpPr>
        <p:pic>
          <p:nvPicPr>
            <p:cNvPr id="8" name="Oval 9" descr=""/>
            <p:cNvPicPr/>
            <p:nvPr/>
          </p:nvPicPr>
          <p:blipFill>
            <a:blip r:embed="rId5"/>
            <a:stretch/>
          </p:blipFill>
          <p:spPr>
            <a:xfrm>
              <a:off x="0" y="1603440"/>
              <a:ext cx="9144000" cy="51022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AEDD9-2DE6-45BD-99E8-8F632B31B99F}"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0" y="3865680"/>
            <a:ext cx="9144000" cy="2992320"/>
            <a:chOff x="0" y="3865680"/>
            <a:chExt cx="9144000" cy="2992320"/>
          </a:xfrm>
        </p:grpSpPr>
        <p:pic>
          <p:nvPicPr>
            <p:cNvPr id="52" name="Rectangle 10" descr=""/>
            <p:cNvPicPr/>
            <p:nvPr/>
          </p:nvPicPr>
          <p:blipFill>
            <a:blip r:embed="rId3"/>
            <a:stretch/>
          </p:blipFill>
          <p:spPr>
            <a:xfrm>
              <a:off x="0" y="3865680"/>
              <a:ext cx="9144000" cy="299232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 name="Rectangle 11"/>
          <p:cNvGrpSpPr/>
          <p:nvPr/>
        </p:nvGrpSpPr>
        <p:grpSpPr>
          <a:xfrm>
            <a:off x="0" y="0"/>
            <a:ext cx="9144000" cy="3865680"/>
            <a:chOff x="0" y="0"/>
            <a:chExt cx="9144000" cy="3865680"/>
          </a:xfrm>
        </p:grpSpPr>
        <p:pic>
          <p:nvPicPr>
            <p:cNvPr id="55" name="Rectangle 11" descr=""/>
            <p:cNvPicPr/>
            <p:nvPr/>
          </p:nvPicPr>
          <p:blipFill>
            <a:blip r:embed="rId4"/>
            <a:stretch/>
          </p:blipFill>
          <p:spPr>
            <a:xfrm>
              <a:off x="0" y="0"/>
              <a:ext cx="9144000" cy="3864240"/>
            </a:xfrm>
            <a:prstGeom prst="rect">
              <a:avLst/>
            </a:prstGeom>
            <a:ln w="0">
              <a:noFill/>
            </a:ln>
          </p:spPr>
        </p:pic>
        <p:sp>
          <p:nvSpPr>
            <p:cNvPr id="5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Oval 13"/>
          <p:cNvGrpSpPr/>
          <p:nvPr/>
        </p:nvGrpSpPr>
        <p:grpSpPr>
          <a:xfrm>
            <a:off x="0" y="1603440"/>
            <a:ext cx="9144000" cy="5102280"/>
            <a:chOff x="0" y="1603440"/>
            <a:chExt cx="9144000" cy="5102280"/>
          </a:xfrm>
        </p:grpSpPr>
        <p:pic>
          <p:nvPicPr>
            <p:cNvPr id="59" name="Oval 13" descr=""/>
            <p:cNvPicPr/>
            <p:nvPr/>
          </p:nvPicPr>
          <p:blipFill>
            <a:blip r:embed="rId5"/>
            <a:stretch/>
          </p:blipFill>
          <p:spPr>
            <a:xfrm>
              <a:off x="0" y="1603440"/>
              <a:ext cx="9144000" cy="51022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B6541-09F0-4D29-BFB4-D43A5711259B}"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5108400"/>
            <a:ext cx="9144000" cy="1749600"/>
            <a:chOff x="0" y="5108400"/>
            <a:chExt cx="9144000" cy="1749600"/>
          </a:xfrm>
        </p:grpSpPr>
        <p:pic>
          <p:nvPicPr>
            <p:cNvPr id="103" name="Rectangle 6" descr=""/>
            <p:cNvPicPr/>
            <p:nvPr/>
          </p:nvPicPr>
          <p:blipFill>
            <a:blip r:embed="rId3"/>
            <a:stretch/>
          </p:blipFill>
          <p:spPr>
            <a:xfrm>
              <a:off x="0" y="5110920"/>
              <a:ext cx="9144000" cy="1746720"/>
            </a:xfrm>
            <a:prstGeom prst="rect">
              <a:avLst/>
            </a:prstGeom>
            <a:ln w="0">
              <a:noFill/>
            </a:ln>
          </p:spPr>
        </p:pic>
        <p:sp>
          <p:nvSpPr>
            <p:cNvPr id="10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Rectangle 7"/>
          <p:cNvGrpSpPr/>
          <p:nvPr/>
        </p:nvGrpSpPr>
        <p:grpSpPr>
          <a:xfrm>
            <a:off x="0" y="0"/>
            <a:ext cx="9144000" cy="5108400"/>
            <a:chOff x="0" y="0"/>
            <a:chExt cx="9144000" cy="5108400"/>
          </a:xfrm>
        </p:grpSpPr>
        <p:pic>
          <p:nvPicPr>
            <p:cNvPr id="106" name="Rectangle 7" descr=""/>
            <p:cNvPicPr/>
            <p:nvPr/>
          </p:nvPicPr>
          <p:blipFill>
            <a:blip r:embed="rId4"/>
            <a:stretch/>
          </p:blipFill>
          <p:spPr>
            <a:xfrm>
              <a:off x="0" y="0"/>
              <a:ext cx="9144000" cy="510840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Oval 9"/>
          <p:cNvGrpSpPr/>
          <p:nvPr/>
        </p:nvGrpSpPr>
        <p:grpSpPr>
          <a:xfrm>
            <a:off x="0" y="1603440"/>
            <a:ext cx="9144000" cy="5102280"/>
            <a:chOff x="0" y="1603440"/>
            <a:chExt cx="9144000" cy="5102280"/>
          </a:xfrm>
        </p:grpSpPr>
        <p:pic>
          <p:nvPicPr>
            <p:cNvPr id="110" name="Oval 9" descr=""/>
            <p:cNvPicPr/>
            <p:nvPr/>
          </p:nvPicPr>
          <p:blipFill>
            <a:blip r:embed="rId5"/>
            <a:stretch/>
          </p:blipFill>
          <p:spPr>
            <a:xfrm>
              <a:off x="0" y="1603440"/>
              <a:ext cx="9144000" cy="51022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Rectangle 6"/>
          <p:cNvGrpSpPr/>
          <p:nvPr/>
        </p:nvGrpSpPr>
        <p:grpSpPr>
          <a:xfrm>
            <a:off x="0" y="3865680"/>
            <a:ext cx="9144000" cy="2992320"/>
            <a:chOff x="0" y="3865680"/>
            <a:chExt cx="9144000" cy="2992320"/>
          </a:xfrm>
        </p:grpSpPr>
        <p:pic>
          <p:nvPicPr>
            <p:cNvPr id="113" name="Rectangle 6" descr=""/>
            <p:cNvPicPr/>
            <p:nvPr/>
          </p:nvPicPr>
          <p:blipFill>
            <a:blip r:embed="rId6"/>
            <a:stretch/>
          </p:blipFill>
          <p:spPr>
            <a:xfrm>
              <a:off x="0" y="3865680"/>
              <a:ext cx="9144000" cy="299232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 name="Rectangle 7"/>
          <p:cNvGrpSpPr/>
          <p:nvPr/>
        </p:nvGrpSpPr>
        <p:grpSpPr>
          <a:xfrm>
            <a:off x="0" y="0"/>
            <a:ext cx="9144000" cy="3865680"/>
            <a:chOff x="0" y="0"/>
            <a:chExt cx="9144000" cy="3865680"/>
          </a:xfrm>
        </p:grpSpPr>
        <p:pic>
          <p:nvPicPr>
            <p:cNvPr id="116" name="Rectangle 7" descr=""/>
            <p:cNvPicPr/>
            <p:nvPr/>
          </p:nvPicPr>
          <p:blipFill>
            <a:blip r:embed="rId7"/>
            <a:stretch/>
          </p:blipFill>
          <p:spPr>
            <a:xfrm>
              <a:off x="0" y="0"/>
              <a:ext cx="9144000" cy="3864240"/>
            </a:xfrm>
            <a:prstGeom prst="rect">
              <a:avLst/>
            </a:prstGeom>
            <a:ln w="0">
              <a:noFill/>
            </a:ln>
          </p:spPr>
        </p:pic>
        <p:sp>
          <p:nvSpPr>
            <p:cNvPr id="11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Oval 9"/>
          <p:cNvGrpSpPr/>
          <p:nvPr/>
        </p:nvGrpSpPr>
        <p:grpSpPr>
          <a:xfrm>
            <a:off x="0" y="1603440"/>
            <a:ext cx="9144000" cy="5102280"/>
            <a:chOff x="0" y="1603440"/>
            <a:chExt cx="9144000" cy="5102280"/>
          </a:xfrm>
        </p:grpSpPr>
        <p:pic>
          <p:nvPicPr>
            <p:cNvPr id="120" name="Oval 9" descr=""/>
            <p:cNvPicPr/>
            <p:nvPr/>
          </p:nvPicPr>
          <p:blipFill>
            <a:blip r:embed="rId8"/>
            <a:stretch/>
          </p:blipFill>
          <p:spPr>
            <a:xfrm>
              <a:off x="0" y="1603440"/>
              <a:ext cx="9144000" cy="51022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C9714-3555-40C6-BEEB-FF1AA7B9A2EF}"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7"/>
          <p:cNvGrpSpPr/>
          <p:nvPr/>
        </p:nvGrpSpPr>
        <p:grpSpPr>
          <a:xfrm>
            <a:off x="0" y="3865680"/>
            <a:ext cx="9144000" cy="2992320"/>
            <a:chOff x="0" y="3865680"/>
            <a:chExt cx="9144000" cy="2992320"/>
          </a:xfrm>
        </p:grpSpPr>
        <p:pic>
          <p:nvPicPr>
            <p:cNvPr id="164" name="Rectangle 7" descr=""/>
            <p:cNvPicPr/>
            <p:nvPr/>
          </p:nvPicPr>
          <p:blipFill>
            <a:blip r:embed="rId3"/>
            <a:stretch/>
          </p:blipFill>
          <p:spPr>
            <a:xfrm>
              <a:off x="0" y="3865680"/>
              <a:ext cx="9144000" cy="299232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 name="Rectangle 8"/>
          <p:cNvGrpSpPr/>
          <p:nvPr/>
        </p:nvGrpSpPr>
        <p:grpSpPr>
          <a:xfrm>
            <a:off x="0" y="0"/>
            <a:ext cx="9144000" cy="3865680"/>
            <a:chOff x="0" y="0"/>
            <a:chExt cx="9144000" cy="3865680"/>
          </a:xfrm>
        </p:grpSpPr>
        <p:pic>
          <p:nvPicPr>
            <p:cNvPr id="167" name="Rectangle 8" descr=""/>
            <p:cNvPicPr/>
            <p:nvPr/>
          </p:nvPicPr>
          <p:blipFill>
            <a:blip r:embed="rId4"/>
            <a:stretch/>
          </p:blipFill>
          <p:spPr>
            <a:xfrm>
              <a:off x="0" y="0"/>
              <a:ext cx="9144000" cy="3864240"/>
            </a:xfrm>
            <a:prstGeom prst="rect">
              <a:avLst/>
            </a:prstGeom>
            <a:ln w="0">
              <a:noFill/>
            </a:ln>
          </p:spPr>
        </p:pic>
        <p:sp>
          <p:nvSpPr>
            <p:cNvPr id="16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Oval 10"/>
          <p:cNvGrpSpPr/>
          <p:nvPr/>
        </p:nvGrpSpPr>
        <p:grpSpPr>
          <a:xfrm>
            <a:off x="0" y="1603440"/>
            <a:ext cx="9144000" cy="5102280"/>
            <a:chOff x="0" y="1603440"/>
            <a:chExt cx="9144000" cy="5102280"/>
          </a:xfrm>
        </p:grpSpPr>
        <p:pic>
          <p:nvPicPr>
            <p:cNvPr id="171" name="Oval 10" descr=""/>
            <p:cNvPicPr/>
            <p:nvPr/>
          </p:nvPicPr>
          <p:blipFill>
            <a:blip r:embed="rId5"/>
            <a:stretch/>
          </p:blipFill>
          <p:spPr>
            <a:xfrm>
              <a:off x="0" y="1603440"/>
              <a:ext cx="9144000" cy="51022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E0480-F316-45EE-B503-6CDC4A9678AC}"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Rectangle 2" descr=""/>
          <p:cNvPicPr/>
          <p:nvPr/>
        </p:nvPicPr>
        <p:blipFill>
          <a:blip r:embed="rId1"/>
          <a:stretch/>
        </p:blipFill>
        <p:spPr>
          <a:xfrm>
            <a:off x="401760" y="476280"/>
            <a:ext cx="7772400" cy="3887640"/>
          </a:xfrm>
          <a:prstGeom prst="rect">
            <a:avLst/>
          </a:prstGeom>
          <a:ln w="0">
            <a:noFill/>
          </a:ln>
        </p:spPr>
      </p:pic>
      <p:graphicFrame>
        <p:nvGraphicFramePr>
          <p:cNvPr id="215" name="Object 4"/>
          <p:cNvGraphicFramePr/>
          <p:nvPr/>
        </p:nvGraphicFramePr>
        <p:xfrm>
          <a:off x="6588000" y="2736720"/>
          <a:ext cx="2332080" cy="3645000"/>
        </p:xfrm>
        <a:graphic>
          <a:graphicData uri="http://schemas.openxmlformats.org/presentationml/2006/ole">
            <p:oleObj r:id="rId2" spid="">
              <p:embed/>
              <p:pic>
                <p:nvPicPr>
                  <p:cNvPr id="216" name="Object 4" descr=""/>
                  <p:cNvPicPr/>
                  <p:nvPr/>
                </p:nvPicPr>
                <p:blipFill>
                  <a:blip r:embed="rId3"/>
                  <a:stretch/>
                </p:blipFill>
                <p:spPr>
                  <a:xfrm>
                    <a:off x="6588000" y="2736720"/>
                    <a:ext cx="2332080" cy="364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Rectangle 2" descr=""/>
          <p:cNvPicPr/>
          <p:nvPr/>
        </p:nvPicPr>
        <p:blipFill>
          <a:blip r:embed="rId1"/>
          <a:stretch/>
        </p:blipFill>
        <p:spPr>
          <a:xfrm>
            <a:off x="457200" y="219240"/>
            <a:ext cx="8229600" cy="750600"/>
          </a:xfrm>
          <a:prstGeom prst="rect">
            <a:avLst/>
          </a:prstGeom>
          <a:ln w="0">
            <a:noFill/>
          </a:ln>
        </p:spPr>
      </p:pic>
      <p:sp>
        <p:nvSpPr>
          <p:cNvPr id="218" name="PlaceHolder 1"/>
          <p:cNvSpPr>
            <a:spLocks noGrp="1"/>
          </p:cNvSpPr>
          <p:nvPr>
            <p:ph/>
          </p:nvPr>
        </p:nvSpPr>
        <p:spPr>
          <a:xfrm>
            <a:off x="457200" y="731880"/>
            <a:ext cx="8362800" cy="5394240"/>
          </a:xfrm>
          <a:prstGeom prst="rect">
            <a:avLst/>
          </a:prstGeom>
          <a:noFill/>
          <a:ln w="0">
            <a:noFill/>
          </a:ln>
        </p:spPr>
        <p:txBody>
          <a:bodyPr anchor="t">
            <a:normAutofit fontScale="90000"/>
          </a:bodyPr>
          <a:p>
            <a:pPr marL="39600" indent="0">
              <a:lnSpc>
                <a:spcPct val="10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ProximaNovaMedium"/>
              </a:rPr>
              <a:t>Сначала приготовим начинку : возьмем три куриных яйца (вареных), две головки лука репчатого и нарезаем их мелко, потом берем одну банку любый консервированной рыбы в масле. Сливаем жидкость, разминаем рыбу вилкой. Берем один пучок любой зелени, одну десятую чайной ложки соли. Все смешиваем вместе. Форму для запекания смазываем растительным маслом и включаем греться печку. Начинаем готовить тесто.  Берем три куриных яйца (сырые), двести пятьдесят грамм майонеза (примерно, один стакан), двести пятьдесят грамм кефира, один стакан муки. Все хорошо перемешиваем. Получается жидкая масса.</a:t>
            </a:r>
            <a:br>
              <a:rPr sz="2400"/>
            </a:br>
            <a:r>
              <a:rPr b="0" lang="ru-RU" sz="2400" spc="-1" strike="noStrike">
                <a:solidFill>
                  <a:srgbClr val="000000"/>
                </a:solidFill>
                <a:latin typeface="ProximaNovaMedium"/>
              </a:rPr>
              <a:t>Далее, две трети теста выливаем в форму, затем раскладываем начинку и сверху распределяем оставшуюся одну треть теста. Запекаем от двадцати до пятидесяти минут в зависимости от температуры печки.</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19T15:15:18Z</dcterms:created>
  <dc:creator>Николай</dc:creator>
  <dc:description/>
  <dc:language>en-US</dc:language>
  <cp:lastModifiedBy>Ольга Монгуш</cp:lastModifiedBy>
  <cp:lastPrinted>2014-11-20T10:26:55Z</cp:lastPrinted>
  <dcterms:modified xsi:type="dcterms:W3CDTF">2022-02-20T15:42:59Z</dcterms:modified>
  <cp:revision>7</cp:revision>
  <dc:subject/>
  <dc:title>Слайд 1</dc:title>
</cp:coreProperties>
</file>