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3.png" ContentType="image/png"/>
  <Override PartName="/ppt/media/image11.jpeg" ContentType="image/jpeg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6.png" ContentType="image/png"/>
  <Override PartName="/ppt/media/image14.wmf" ContentType="image/x-wmf"/>
  <Override PartName="/ppt/media/image22.gif" ContentType="image/gif"/>
  <Override PartName="/ppt/media/image20.gif" ContentType="image/gif"/>
  <Override PartName="/ppt/media/image4.png" ContentType="image/png"/>
  <Override PartName="/ppt/media/image10.jpeg" ContentType="image/jpeg"/>
  <Override PartName="/ppt/media/image8.jpeg" ContentType="image/jpeg"/>
  <Override PartName="/ppt/media/image21.png" ContentType="image/png"/>
  <Override PartName="/ppt/media/image19.png" ContentType="image/png"/>
  <Override PartName="/ppt/media/image18.png" ContentType="image/png"/>
  <Override PartName="/ppt/media/image17.gif" ContentType="image/gif"/>
  <Override PartName="/ppt/media/image2.jpeg" ContentType="image/jpeg"/>
  <Override PartName="/ppt/media/image3.png" ContentType="image/png"/>
  <Override PartName="/ppt/media/image16.jpeg" ContentType="image/jpeg"/>
  <Override PartName="/ppt/media/image15.png" ContentType="image/pn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BF51D-A8C8-44DB-AB26-ACFC8DB3D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87CC6-8EE0-406D-AC40-74249FB28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5D65A-F174-49CB-96F7-28721DA12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5528A-A5EE-4609-AA9B-5BD76C474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84C7E-C0F3-43F8-90A1-78FD83A32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F35DC-9588-45A7-9B72-4BB5C936A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78749-173D-4648-8A1E-234B6B362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7536D-138C-4349-BF43-C3CC46D07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F23C9-7EB1-4BCD-AA1C-93A1B9B6E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970E3-6D82-4F89-B48D-D84080F6A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AEEE6-4D8C-4706-9F41-E1BD4BB3B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9D6E7-6273-4EE6-A077-C88C6950E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15B9D-99FB-4072-9650-FB231F577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A8C1F-45E7-475F-8F0C-9C8D2FC20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16D6E-B7BE-45FB-8D26-D754659DF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5C669-5FA1-4141-9E15-469EC53EF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6391D-C495-4D48-8725-109B84B1A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202CF4A-F0DC-45C9-A09E-DC5B32E8F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FB2A4C6-5608-41B6-AD91-8A66219B3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966541C-66CF-400F-AA5A-C42916FB5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3879C72-2F64-4ED9-9E27-FD2BB046E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11FCFE5-273A-45EB-8CE7-5CDE387D2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18D8F-B024-4A5E-B8C6-05B452182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9AB334E-445A-456E-9DC6-6D6E97E9B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7A0EA9C-FD2F-427D-9FF0-F9B25A5BA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31F0345-906F-4025-A29B-C8A1F19C4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7FCCD9A-8255-4637-BED6-8892C15A0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EF4BF01-ABD9-4315-AF55-ADD27203B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5B4E96-9CC5-46A6-80DA-C7538CF22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9213AC0-A3D4-4334-902D-88AE2764F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7787F-1367-4526-86AF-892571BC3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3EA5A-5740-430D-9B5C-3E395E3E3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C506C-7EEF-4B0E-9475-95B00CDEA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F7CB2-84E7-4C96-899B-F5CC90165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2E7EE-777A-4DA2-9159-EC62A299F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E4839-8ABC-484D-BC49-193453977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50000">
              <a:srgbClr val="ffff99"/>
            </a:gs>
            <a:gs pos="100000">
              <a:srgbClr val="ff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C52D9-E710-43D5-A933-993D66BF04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0FF8F-CC6F-428E-A18E-BD999475026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59A30-3DCC-4534-8E57-6907314D2E3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4.wmf"/><Relationship Id="rId3" Type="http://schemas.openxmlformats.org/officeDocument/2006/relationships/image" Target="../media/image14.wmf"/><Relationship Id="rId4" Type="http://schemas.openxmlformats.org/officeDocument/2006/relationships/image" Target="../media/image14.wmf"/><Relationship Id="rId5" Type="http://schemas.openxmlformats.org/officeDocument/2006/relationships/image" Target="../media/image14.wmf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4.wmf"/><Relationship Id="rId3" Type="http://schemas.openxmlformats.org/officeDocument/2006/relationships/image" Target="../media/image14.wmf"/><Relationship Id="rId4" Type="http://schemas.openxmlformats.org/officeDocument/2006/relationships/image" Target="../media/image14.wmf"/><Relationship Id="rId5" Type="http://schemas.openxmlformats.org/officeDocument/2006/relationships/image" Target="../media/image14.wmf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gif"/><Relationship Id="rId4" Type="http://schemas.openxmlformats.org/officeDocument/2006/relationships/image" Target="../media/image17.gif"/><Relationship Id="rId5" Type="http://schemas.openxmlformats.org/officeDocument/2006/relationships/image" Target="../media/image17.gif"/><Relationship Id="rId6" Type="http://schemas.openxmlformats.org/officeDocument/2006/relationships/image" Target="../media/image17.gif"/><Relationship Id="rId7" Type="http://schemas.openxmlformats.org/officeDocument/2006/relationships/image" Target="../media/image17.gif"/><Relationship Id="rId8" Type="http://schemas.openxmlformats.org/officeDocument/2006/relationships/image" Target="../media/image17.gif"/><Relationship Id="rId9" Type="http://schemas.openxmlformats.org/officeDocument/2006/relationships/image" Target="../media/image17.gif"/><Relationship Id="rId10" Type="http://schemas.openxmlformats.org/officeDocument/2006/relationships/image" Target="../media/image17.gif"/><Relationship Id="rId11" Type="http://schemas.openxmlformats.org/officeDocument/2006/relationships/image" Target="../media/image17.gif"/><Relationship Id="rId12" Type="http://schemas.openxmlformats.org/officeDocument/2006/relationships/image" Target="../media/image17.gif"/><Relationship Id="rId13" Type="http://schemas.openxmlformats.org/officeDocument/2006/relationships/image" Target="../media/image17.gif"/><Relationship Id="rId14" Type="http://schemas.openxmlformats.org/officeDocument/2006/relationships/image" Target="../media/image17.gif"/><Relationship Id="rId15" Type="http://schemas.openxmlformats.org/officeDocument/2006/relationships/image" Target="../media/image17.gif"/><Relationship Id="rId16" Type="http://schemas.openxmlformats.org/officeDocument/2006/relationships/image" Target="../media/image17.gif"/><Relationship Id="rId17" Type="http://schemas.openxmlformats.org/officeDocument/2006/relationships/image" Target="../media/image17.gif"/><Relationship Id="rId18" Type="http://schemas.openxmlformats.org/officeDocument/2006/relationships/image" Target="../media/image17.gif"/><Relationship Id="rId19" Type="http://schemas.openxmlformats.org/officeDocument/2006/relationships/image" Target="../media/image17.gif"/><Relationship Id="rId20" Type="http://schemas.openxmlformats.org/officeDocument/2006/relationships/image" Target="../media/image17.gif"/><Relationship Id="rId21" Type="http://schemas.openxmlformats.org/officeDocument/2006/relationships/image" Target="../media/image17.gif"/><Relationship Id="rId22" Type="http://schemas.openxmlformats.org/officeDocument/2006/relationships/image" Target="../media/image17.gif"/><Relationship Id="rId23" Type="http://schemas.openxmlformats.org/officeDocument/2006/relationships/image" Target="../media/image17.gif"/><Relationship Id="rId24" Type="http://schemas.openxmlformats.org/officeDocument/2006/relationships/image" Target="../media/image17.gif"/><Relationship Id="rId25" Type="http://schemas.openxmlformats.org/officeDocument/2006/relationships/image" Target="../media/image17.gif"/><Relationship Id="rId26" Type="http://schemas.openxmlformats.org/officeDocument/2006/relationships/image" Target="../media/image17.gif"/><Relationship Id="rId27" Type="http://schemas.openxmlformats.org/officeDocument/2006/relationships/image" Target="../media/image17.gif"/><Relationship Id="rId28" Type="http://schemas.openxmlformats.org/officeDocument/2006/relationships/image" Target="../media/image17.gif"/><Relationship Id="rId29" Type="http://schemas.openxmlformats.org/officeDocument/2006/relationships/image" Target="../media/image17.gif"/><Relationship Id="rId30" Type="http://schemas.openxmlformats.org/officeDocument/2006/relationships/image" Target="../media/image17.gif"/><Relationship Id="rId31" Type="http://schemas.openxmlformats.org/officeDocument/2006/relationships/image" Target="../media/image17.gif"/><Relationship Id="rId32" Type="http://schemas.openxmlformats.org/officeDocument/2006/relationships/image" Target="../media/image17.gif"/><Relationship Id="rId33" Type="http://schemas.openxmlformats.org/officeDocument/2006/relationships/image" Target="../media/image17.gif"/><Relationship Id="rId34" Type="http://schemas.openxmlformats.org/officeDocument/2006/relationships/image" Target="../media/image17.gif"/><Relationship Id="rId35" Type="http://schemas.openxmlformats.org/officeDocument/2006/relationships/image" Target="../media/image17.gif"/><Relationship Id="rId36" Type="http://schemas.openxmlformats.org/officeDocument/2006/relationships/image" Target="../media/image17.gif"/><Relationship Id="rId37" Type="http://schemas.openxmlformats.org/officeDocument/2006/relationships/slideLayout" Target="../slideLayouts/slideLayout1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png"/><Relationship Id="rId3" Type="http://schemas.openxmlformats.org/officeDocument/2006/relationships/image" Target="../media/image22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3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50000">
              <a:srgbClr val="ffff99"/>
            </a:gs>
            <a:gs pos="100000">
              <a:srgbClr val="ff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1476360" y="259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Урок русского язы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 1 класс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УМК «Начальная школа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XXI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ека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79280" y="692280"/>
            <a:ext cx="8785440" cy="49417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2411280" y="5305320"/>
            <a:ext cx="6551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оставила: учитель начальных классов БОУ г. Омска «Средня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бщеобразовательная школа № 132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ононова Оксана Владимиро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" dur="5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" dur="5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50000">
              <a:srgbClr val="ffff99"/>
            </a:gs>
            <a:gs pos="100000">
              <a:srgbClr val="ff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>
            <a:off x="250920" y="404640"/>
            <a:ext cx="8713800" cy="60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50000">
              <a:srgbClr val="ffff99"/>
            </a:gs>
            <a:gs pos="100000">
              <a:srgbClr val="ff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971640" y="189000"/>
            <a:ext cx="244800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Arial"/>
              </a:rPr>
              <a:t>стран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971640" y="1916280"/>
            <a:ext cx="25207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Arial"/>
              </a:rPr>
              <a:t>народ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971640" y="2781360"/>
            <a:ext cx="216216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Arial"/>
              </a:rPr>
              <a:t>язык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900000" y="3573360"/>
            <a:ext cx="2519640" cy="43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Arial"/>
              </a:rPr>
              <a:t>пальт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900000" y="4221000"/>
            <a:ext cx="251964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Arial"/>
              </a:rPr>
              <a:t>лей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971640" y="5084640"/>
            <a:ext cx="22320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Arial"/>
              </a:rPr>
              <a:t>въезд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5076720" y="4941720"/>
            <a:ext cx="32403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въ - езд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5076720" y="2708280"/>
            <a:ext cx="280692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я - зык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5076720" y="1844640"/>
            <a:ext cx="280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на - род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5076720" y="907920"/>
            <a:ext cx="33829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ро - ди - н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5076720" y="115920"/>
            <a:ext cx="288000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стра - н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971640" y="981000"/>
            <a:ext cx="280836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Arial"/>
              </a:rPr>
              <a:t>родин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4685040" y="2938680"/>
            <a:ext cx="1170360" cy="580680"/>
            <a:chOff x="4685040" y="2938680"/>
            <a:chExt cx="1170360" cy="580680"/>
          </a:xfrm>
        </p:grpSpPr>
        <p:pic>
          <p:nvPicPr>
            <p:cNvPr id="287" name="" descr=""/>
            <p:cNvPicPr/>
            <p:nvPr/>
          </p:nvPicPr>
          <p:blipFill>
            <a:blip r:embed="rId1"/>
            <a:srcRect l="0" t="43045" r="63970" b="13730"/>
            <a:stretch/>
          </p:blipFill>
          <p:spPr>
            <a:xfrm rot="20779800">
              <a:off x="5218200" y="3213000"/>
              <a:ext cx="287280" cy="27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8" name="" descr=""/>
            <p:cNvPicPr/>
            <p:nvPr/>
          </p:nvPicPr>
          <p:blipFill>
            <a:blip r:embed="rId2"/>
            <a:srcRect l="0" t="43045" r="63970" b="13730"/>
            <a:stretch/>
          </p:blipFill>
          <p:spPr>
            <a:xfrm rot="870600">
              <a:off x="4716360" y="3069000"/>
              <a:ext cx="287280" cy="28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9" name="" descr=""/>
            <p:cNvPicPr/>
            <p:nvPr/>
          </p:nvPicPr>
          <p:blipFill>
            <a:blip r:embed="rId3"/>
            <a:srcRect l="0" t="43045" r="63970" b="13730"/>
            <a:stretch/>
          </p:blipFill>
          <p:spPr>
            <a:xfrm rot="19223400">
              <a:off x="5508720" y="2997000"/>
              <a:ext cx="287280" cy="289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90" name=""/>
          <p:cNvGrpSpPr/>
          <p:nvPr/>
        </p:nvGrpSpPr>
        <p:grpSpPr>
          <a:xfrm>
            <a:off x="4958640" y="5403600"/>
            <a:ext cx="1109520" cy="597960"/>
            <a:chOff x="4958640" y="5403600"/>
            <a:chExt cx="1109520" cy="597960"/>
          </a:xfrm>
        </p:grpSpPr>
        <p:pic>
          <p:nvPicPr>
            <p:cNvPr id="291" name="" descr=""/>
            <p:cNvPicPr/>
            <p:nvPr/>
          </p:nvPicPr>
          <p:blipFill>
            <a:blip r:embed="rId4"/>
            <a:srcRect l="0" t="43045" r="63970" b="13730"/>
            <a:stretch/>
          </p:blipFill>
          <p:spPr>
            <a:xfrm rot="1470000">
              <a:off x="5005080" y="5500080"/>
              <a:ext cx="287280" cy="28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2" name="" descr=""/>
            <p:cNvPicPr/>
            <p:nvPr/>
          </p:nvPicPr>
          <p:blipFill>
            <a:blip r:embed="rId5"/>
            <a:srcRect l="0" t="43045" r="63970" b="13730"/>
            <a:stretch/>
          </p:blipFill>
          <p:spPr>
            <a:xfrm rot="234600">
              <a:off x="5333400" y="5704560"/>
              <a:ext cx="287280" cy="28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3" name="" descr=""/>
            <p:cNvPicPr/>
            <p:nvPr/>
          </p:nvPicPr>
          <p:blipFill>
            <a:blip r:embed="rId6"/>
            <a:srcRect l="0" t="43045" r="63970" b="13730"/>
            <a:stretch/>
          </p:blipFill>
          <p:spPr>
            <a:xfrm rot="20619000">
              <a:off x="5746320" y="5438160"/>
              <a:ext cx="287280" cy="287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4" name=""/>
          <p:cNvSpPr txBox="1"/>
          <p:nvPr/>
        </p:nvSpPr>
        <p:spPr>
          <a:xfrm>
            <a:off x="971640" y="5950080"/>
            <a:ext cx="237816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Arial"/>
              </a:rPr>
              <a:t>деньк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859280" y="3284640"/>
            <a:ext cx="57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4859280" y="3933720"/>
            <a:ext cx="57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859280" y="5661000"/>
            <a:ext cx="57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50000">
              <a:srgbClr val="ffff99"/>
            </a:gs>
            <a:gs pos="100000">
              <a:srgbClr val="ff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 txBox="1"/>
          <p:nvPr/>
        </p:nvSpPr>
        <p:spPr>
          <a:xfrm>
            <a:off x="971640" y="189000"/>
            <a:ext cx="244800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Arial"/>
              </a:rPr>
              <a:t>стран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971640" y="1916280"/>
            <a:ext cx="25207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Arial"/>
              </a:rPr>
              <a:t>народ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971640" y="2781360"/>
            <a:ext cx="216216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Arial"/>
              </a:rPr>
              <a:t>язык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900000" y="3573360"/>
            <a:ext cx="2519640" cy="43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Arial"/>
              </a:rPr>
              <a:t>пальт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900000" y="4221000"/>
            <a:ext cx="251964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Arial"/>
              </a:rPr>
              <a:t>лей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971640" y="5084640"/>
            <a:ext cx="22320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Arial"/>
              </a:rPr>
              <a:t>въезд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443640" y="4941720"/>
            <a:ext cx="1440000" cy="57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езд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5076720" y="1844640"/>
            <a:ext cx="280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на - род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5076720" y="907920"/>
            <a:ext cx="33829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ро - ди - н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5076720" y="115920"/>
            <a:ext cx="288000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стра - н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971640" y="981000"/>
            <a:ext cx="280836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Arial"/>
              </a:rPr>
              <a:t>родин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971640" y="5950080"/>
            <a:ext cx="237816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Arial"/>
              </a:rPr>
              <a:t>деньк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859280" y="3284640"/>
            <a:ext cx="57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859280" y="3933720"/>
            <a:ext cx="57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4859280" y="5661000"/>
            <a:ext cx="57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156360" y="2852640"/>
            <a:ext cx="151272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зык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4932360" y="2852640"/>
            <a:ext cx="50472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я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5796000" y="2997360"/>
            <a:ext cx="216000" cy="71280"/>
          </a:xfrm>
          <a:prstGeom prst="rect">
            <a:avLst/>
          </a:prstGeom>
        </p:spPr>
        <p:txBody>
          <a:bodyPr wrap="none" lIns="90000" rIns="90000" tIns="24840" bIns="2484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-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6012000" y="5157720"/>
            <a:ext cx="215640" cy="71640"/>
          </a:xfrm>
          <a:prstGeom prst="rect">
            <a:avLst/>
          </a:prstGeom>
        </p:spPr>
        <p:txBody>
          <a:bodyPr wrap="none" lIns="90000" rIns="90000" tIns="25200" bIns="252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-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5003640" y="4941720"/>
            <a:ext cx="64800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въ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  <p:grpSp>
        <p:nvGrpSpPr>
          <p:cNvPr id="318" name=""/>
          <p:cNvGrpSpPr/>
          <p:nvPr/>
        </p:nvGrpSpPr>
        <p:grpSpPr>
          <a:xfrm>
            <a:off x="4756680" y="5386680"/>
            <a:ext cx="1169640" cy="580320"/>
            <a:chOff x="4756680" y="5386680"/>
            <a:chExt cx="1169640" cy="580320"/>
          </a:xfrm>
        </p:grpSpPr>
        <p:pic>
          <p:nvPicPr>
            <p:cNvPr id="319" name="" descr=""/>
            <p:cNvPicPr/>
            <p:nvPr/>
          </p:nvPicPr>
          <p:blipFill>
            <a:blip r:embed="rId1"/>
            <a:srcRect l="0" t="43045" r="63970" b="13730"/>
            <a:stretch/>
          </p:blipFill>
          <p:spPr>
            <a:xfrm rot="20779800">
              <a:off x="5289480" y="5660640"/>
              <a:ext cx="286920" cy="27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0" name="" descr=""/>
            <p:cNvPicPr/>
            <p:nvPr/>
          </p:nvPicPr>
          <p:blipFill>
            <a:blip r:embed="rId2"/>
            <a:srcRect l="0" t="43045" r="63970" b="13730"/>
            <a:stretch/>
          </p:blipFill>
          <p:spPr>
            <a:xfrm rot="870600">
              <a:off x="4788000" y="5516640"/>
              <a:ext cx="286920" cy="28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1" name="" descr=""/>
            <p:cNvPicPr/>
            <p:nvPr/>
          </p:nvPicPr>
          <p:blipFill>
            <a:blip r:embed="rId3"/>
            <a:srcRect l="0" t="43045" r="63970" b="13730"/>
            <a:stretch/>
          </p:blipFill>
          <p:spPr>
            <a:xfrm rot="19223400">
              <a:off x="5580000" y="5444640"/>
              <a:ext cx="286920" cy="289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22" name=""/>
          <p:cNvGrpSpPr/>
          <p:nvPr/>
        </p:nvGrpSpPr>
        <p:grpSpPr>
          <a:xfrm>
            <a:off x="4685040" y="3154320"/>
            <a:ext cx="1170360" cy="580680"/>
            <a:chOff x="4685040" y="3154320"/>
            <a:chExt cx="1170360" cy="580680"/>
          </a:xfrm>
        </p:grpSpPr>
        <p:pic>
          <p:nvPicPr>
            <p:cNvPr id="323" name="" descr=""/>
            <p:cNvPicPr/>
            <p:nvPr/>
          </p:nvPicPr>
          <p:blipFill>
            <a:blip r:embed="rId4"/>
            <a:srcRect l="0" t="43045" r="63970" b="13730"/>
            <a:stretch/>
          </p:blipFill>
          <p:spPr>
            <a:xfrm rot="20779800">
              <a:off x="5218200" y="3428640"/>
              <a:ext cx="287280" cy="27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4" name="" descr=""/>
            <p:cNvPicPr/>
            <p:nvPr/>
          </p:nvPicPr>
          <p:blipFill>
            <a:blip r:embed="rId5"/>
            <a:srcRect l="0" t="43045" r="63970" b="13730"/>
            <a:stretch/>
          </p:blipFill>
          <p:spPr>
            <a:xfrm rot="870600">
              <a:off x="4716360" y="3284640"/>
              <a:ext cx="287280" cy="28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5" name="" descr=""/>
            <p:cNvPicPr/>
            <p:nvPr/>
          </p:nvPicPr>
          <p:blipFill>
            <a:blip r:embed="rId6"/>
            <a:srcRect l="0" t="43045" r="63970" b="13730"/>
            <a:stretch/>
          </p:blipFill>
          <p:spPr>
            <a:xfrm rot="19223400">
              <a:off x="5508720" y="3212640"/>
              <a:ext cx="287280" cy="2890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" dur="2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3.01874E-006 L 0.06892 -3.01874E-006 E">
                                      <p:cBhvr>
                                        <p:cTn id="117" dur="2000" fill="hold"/>
                                        <p:tgtEl>
                                          <p:spTgt spid="3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9" dur="500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" dur="2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7084 0 L -1.94444E-006 0 E">
                                      <p:cBhvr>
                                        <p:cTn id="128" dur="2000" fill="hold"/>
                                        <p:tgtEl>
                                          <p:spTgt spid="3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0" dur="500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50000">
              <a:srgbClr val="ffff99"/>
            </a:gs>
            <a:gs pos="100000">
              <a:srgbClr val="ff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755640" y="620640"/>
            <a:ext cx="781992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9900"/>
                    </a:gs>
                    <a:gs pos="50000">
                      <a:srgbClr val="99cc00"/>
                    </a:gs>
                    <a:gs pos="100000">
                      <a:srgbClr val="009900"/>
                    </a:gs>
                  </a:gsLst>
                  <a:lin ang="5400000"/>
                </a:gradFill>
                <a:latin typeface="Arial"/>
              </a:rPr>
              <a:t>Кто сделал больно буковке?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9900"/>
                  </a:gs>
                  <a:gs pos="50000">
                    <a:srgbClr val="99cc00"/>
                  </a:gs>
                  <a:gs pos="100000">
                    <a:srgbClr val="0099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9900"/>
                    </a:gs>
                    <a:gs pos="50000">
                      <a:srgbClr val="99cc00"/>
                    </a:gs>
                    <a:gs pos="100000">
                      <a:srgbClr val="009900"/>
                    </a:gs>
                  </a:gsLst>
                  <a:lin ang="5400000"/>
                </a:gradFill>
                <a:latin typeface="Arial"/>
              </a:rPr>
              <a:t>Важнее нет вопроса!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9900"/>
                  </a:gs>
                  <a:gs pos="50000">
                    <a:srgbClr val="99cc00"/>
                  </a:gs>
                  <a:gs pos="100000">
                    <a:srgbClr val="0099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4360" y="3573360"/>
            <a:ext cx="79200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9900"/>
                    </a:gs>
                    <a:gs pos="50000">
                      <a:srgbClr val="99cc00"/>
                    </a:gs>
                    <a:gs pos="100000">
                      <a:srgbClr val="009900"/>
                    </a:gs>
                  </a:gsLst>
                  <a:lin ang="5400000"/>
                </a:gradFill>
                <a:latin typeface="Arial"/>
              </a:rPr>
              <a:t>Тот, кто одну оставил букву на строке 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9900"/>
                  </a:gs>
                  <a:gs pos="50000">
                    <a:srgbClr val="99cc00"/>
                  </a:gs>
                  <a:gs pos="100000">
                    <a:srgbClr val="0099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641520" y="5157720"/>
            <a:ext cx="796284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9900"/>
                    </a:gs>
                    <a:gs pos="50000">
                      <a:srgbClr val="99cc00"/>
                    </a:gs>
                    <a:gs pos="100000">
                      <a:srgbClr val="009900"/>
                    </a:gs>
                  </a:gsLst>
                  <a:lin ang="5400000"/>
                </a:gradFill>
                <a:latin typeface="Arial"/>
              </a:rPr>
              <a:t>Не знает правил переноса!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9900"/>
                  </a:gs>
                  <a:gs pos="50000">
                    <a:srgbClr val="99cc00"/>
                  </a:gs>
                  <a:gs pos="100000">
                    <a:srgbClr val="0099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50000">
              <a:srgbClr val="ffff99"/>
            </a:gs>
            <a:gs pos="100000">
              <a:srgbClr val="ff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971640" y="189000"/>
            <a:ext cx="244800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Arial"/>
              </a:rPr>
              <a:t>стран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971640" y="1916280"/>
            <a:ext cx="25207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Arial"/>
              </a:rPr>
              <a:t>народ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971640" y="2781360"/>
            <a:ext cx="216216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Arial"/>
              </a:rPr>
              <a:t>язык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900000" y="3573360"/>
            <a:ext cx="2519640" cy="43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Arial"/>
              </a:rPr>
              <a:t>пальт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900000" y="4221000"/>
            <a:ext cx="251964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Arial"/>
              </a:rPr>
              <a:t>лей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971640" y="5084640"/>
            <a:ext cx="22320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Arial"/>
              </a:rPr>
              <a:t>въезд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6443640" y="4941720"/>
            <a:ext cx="1440000" cy="57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езд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5076720" y="1844640"/>
            <a:ext cx="280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на - род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5076720" y="907920"/>
            <a:ext cx="33829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ро - ди - н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5076720" y="115920"/>
            <a:ext cx="288000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стра - н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971640" y="981000"/>
            <a:ext cx="280836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Arial"/>
              </a:rPr>
              <a:t>родин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971640" y="5950080"/>
            <a:ext cx="237816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Arial"/>
              </a:rPr>
              <a:t>деньк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859280" y="3284640"/>
            <a:ext cx="57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4859280" y="3933720"/>
            <a:ext cx="57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4859280" y="5661000"/>
            <a:ext cx="57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6156360" y="2852640"/>
            <a:ext cx="151272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зык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4932360" y="2852640"/>
            <a:ext cx="50472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я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5796000" y="2997360"/>
            <a:ext cx="216000" cy="71280"/>
          </a:xfrm>
          <a:prstGeom prst="rect">
            <a:avLst/>
          </a:prstGeom>
        </p:spPr>
        <p:txBody>
          <a:bodyPr wrap="none" lIns="90000" rIns="90000" tIns="24840" bIns="2484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-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6012000" y="5157720"/>
            <a:ext cx="215640" cy="71640"/>
          </a:xfrm>
          <a:prstGeom prst="rect">
            <a:avLst/>
          </a:prstGeom>
        </p:spPr>
        <p:txBody>
          <a:bodyPr wrap="none" lIns="90000" rIns="90000" tIns="25200" bIns="252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-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5003640" y="4941720"/>
            <a:ext cx="64800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въ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50000">
              <a:srgbClr val="ffff99"/>
            </a:gs>
            <a:gs pos="100000">
              <a:srgbClr val="ff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Работа с учебнико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355640" y="2492280"/>
            <a:ext cx="4319640" cy="30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. 5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" name="" descr="Иванов, Кузнецова, Евдокимова - Русский язык. 1 класс. Учебник. ФГОС обложка книги"/>
          <p:cNvPicPr/>
          <p:nvPr/>
        </p:nvPicPr>
        <p:blipFill>
          <a:blip r:embed="rId1"/>
          <a:stretch/>
        </p:blipFill>
        <p:spPr>
          <a:xfrm rot="21017400">
            <a:off x="971640" y="2205000"/>
            <a:ext cx="2817720" cy="3651120"/>
          </a:xfrm>
          <a:prstGeom prst="rect">
            <a:avLst/>
          </a:prstGeom>
          <a:ln w="0">
            <a:noFill/>
          </a:ln>
        </p:spPr>
      </p:pic>
      <p:pic>
        <p:nvPicPr>
          <p:cNvPr id="352" name="" descr=""/>
          <p:cNvPicPr/>
          <p:nvPr/>
        </p:nvPicPr>
        <p:blipFill>
          <a:blip r:embed="rId2"/>
          <a:stretch/>
        </p:blipFill>
        <p:spPr>
          <a:xfrm>
            <a:off x="4284720" y="3213000"/>
            <a:ext cx="3983040" cy="8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50000">
              <a:srgbClr val="ffff99"/>
            </a:gs>
            <a:gs pos="100000">
              <a:srgbClr val="ff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971640" y="189000"/>
            <a:ext cx="244800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Arial"/>
              </a:rPr>
              <a:t>стран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971640" y="1916280"/>
            <a:ext cx="25207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Arial"/>
              </a:rPr>
              <a:t>народ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971640" y="2781360"/>
            <a:ext cx="216216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Arial"/>
              </a:rPr>
              <a:t>язык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900000" y="3573360"/>
            <a:ext cx="2519640" cy="43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Arial"/>
              </a:rPr>
              <a:t>пальт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900000" y="4221000"/>
            <a:ext cx="251964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Arial"/>
              </a:rPr>
              <a:t>лей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971640" y="5084640"/>
            <a:ext cx="22320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Arial"/>
              </a:rPr>
              <a:t>въезд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4932360" y="5013360"/>
            <a:ext cx="237636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въезд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5076720" y="1844640"/>
            <a:ext cx="280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на - род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5076720" y="907920"/>
            <a:ext cx="33829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ро - ди - н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5076720" y="115920"/>
            <a:ext cx="288000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стра - н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971640" y="981000"/>
            <a:ext cx="280836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Arial"/>
              </a:rPr>
              <a:t>родин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971640" y="5950080"/>
            <a:ext cx="237816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Arial"/>
              </a:rPr>
              <a:t>деньк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859280" y="3284640"/>
            <a:ext cx="57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4859280" y="3933720"/>
            <a:ext cx="57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859280" y="5661000"/>
            <a:ext cx="57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5003640" y="2781360"/>
            <a:ext cx="180036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язык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5003640" y="3573360"/>
            <a:ext cx="280836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паль - т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4932360" y="4149720"/>
            <a:ext cx="2808360" cy="57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лей - 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4859280" y="5805360"/>
            <a:ext cx="2808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день - к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2" dur="500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2" dur="500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2" dur="500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73" name="" descr=""/>
          <p:cNvPicPr/>
          <p:nvPr/>
        </p:nvPicPr>
        <p:blipFill>
          <a:blip r:embed="rId3"/>
          <a:stretch/>
        </p:blipFill>
        <p:spPr>
          <a:xfrm>
            <a:off x="6084720" y="549360"/>
            <a:ext cx="2519640" cy="2381040"/>
          </a:xfrm>
          <a:prstGeom prst="rect">
            <a:avLst/>
          </a:prstGeom>
          <a:ln w="0">
            <a:noFill/>
          </a:ln>
        </p:spPr>
      </p:pic>
      <p:pic>
        <p:nvPicPr>
          <p:cNvPr id="374" name="" descr=""/>
          <p:cNvPicPr/>
          <p:nvPr/>
        </p:nvPicPr>
        <p:blipFill>
          <a:blip r:embed="rId4"/>
          <a:stretch/>
        </p:blipFill>
        <p:spPr>
          <a:xfrm rot="19359600">
            <a:off x="323640" y="691920"/>
            <a:ext cx="2519280" cy="2381040"/>
          </a:xfrm>
          <a:prstGeom prst="rect">
            <a:avLst/>
          </a:prstGeom>
          <a:ln w="0">
            <a:noFill/>
          </a:ln>
        </p:spPr>
      </p:pic>
      <p:pic>
        <p:nvPicPr>
          <p:cNvPr id="375" name="" descr=""/>
          <p:cNvPicPr/>
          <p:nvPr/>
        </p:nvPicPr>
        <p:blipFill>
          <a:blip r:embed="rId5"/>
          <a:stretch/>
        </p:blipFill>
        <p:spPr>
          <a:xfrm rot="19359600">
            <a:off x="6013080" y="549000"/>
            <a:ext cx="2519280" cy="2381040"/>
          </a:xfrm>
          <a:prstGeom prst="rect">
            <a:avLst/>
          </a:prstGeom>
          <a:ln w="0">
            <a:noFill/>
          </a:ln>
        </p:spPr>
      </p:pic>
      <p:pic>
        <p:nvPicPr>
          <p:cNvPr id="376" name="" descr=""/>
          <p:cNvPicPr/>
          <p:nvPr/>
        </p:nvPicPr>
        <p:blipFill>
          <a:blip r:embed="rId6"/>
          <a:stretch/>
        </p:blipFill>
        <p:spPr>
          <a:xfrm rot="19359600">
            <a:off x="324000" y="3933360"/>
            <a:ext cx="2519280" cy="2381400"/>
          </a:xfrm>
          <a:prstGeom prst="rect">
            <a:avLst/>
          </a:prstGeom>
          <a:ln w="0">
            <a:noFill/>
          </a:ln>
        </p:spPr>
      </p:pic>
      <p:pic>
        <p:nvPicPr>
          <p:cNvPr id="377" name="" descr=""/>
          <p:cNvPicPr/>
          <p:nvPr/>
        </p:nvPicPr>
        <p:blipFill>
          <a:blip r:embed="rId7"/>
          <a:stretch/>
        </p:blipFill>
        <p:spPr>
          <a:xfrm rot="19359600">
            <a:off x="6084360" y="3933360"/>
            <a:ext cx="2519640" cy="2381400"/>
          </a:xfrm>
          <a:prstGeom prst="rect">
            <a:avLst/>
          </a:prstGeom>
          <a:ln w="0">
            <a:noFill/>
          </a:ln>
        </p:spPr>
      </p:pic>
      <p:pic>
        <p:nvPicPr>
          <p:cNvPr id="378" name="" descr=""/>
          <p:cNvPicPr/>
          <p:nvPr/>
        </p:nvPicPr>
        <p:blipFill>
          <a:blip r:embed="rId8"/>
          <a:stretch/>
        </p:blipFill>
        <p:spPr>
          <a:xfrm>
            <a:off x="395280" y="615960"/>
            <a:ext cx="2519280" cy="2381400"/>
          </a:xfrm>
          <a:prstGeom prst="rect">
            <a:avLst/>
          </a:prstGeom>
          <a:ln w="0">
            <a:noFill/>
          </a:ln>
        </p:spPr>
      </p:pic>
      <p:pic>
        <p:nvPicPr>
          <p:cNvPr id="379" name="" descr=""/>
          <p:cNvPicPr/>
          <p:nvPr/>
        </p:nvPicPr>
        <p:blipFill>
          <a:blip r:embed="rId9"/>
          <a:stretch/>
        </p:blipFill>
        <p:spPr>
          <a:xfrm>
            <a:off x="6156360" y="3933720"/>
            <a:ext cx="2519280" cy="2381400"/>
          </a:xfrm>
          <a:prstGeom prst="rect">
            <a:avLst/>
          </a:prstGeom>
          <a:ln w="0">
            <a:noFill/>
          </a:ln>
        </p:spPr>
      </p:pic>
      <p:pic>
        <p:nvPicPr>
          <p:cNvPr id="380" name="" descr=""/>
          <p:cNvPicPr/>
          <p:nvPr/>
        </p:nvPicPr>
        <p:blipFill>
          <a:blip r:embed="rId10"/>
          <a:stretch/>
        </p:blipFill>
        <p:spPr>
          <a:xfrm>
            <a:off x="395280" y="4005360"/>
            <a:ext cx="2519280" cy="2381040"/>
          </a:xfrm>
          <a:prstGeom prst="rect">
            <a:avLst/>
          </a:prstGeom>
          <a:ln w="0">
            <a:noFill/>
          </a:ln>
        </p:spPr>
      </p:pic>
      <p:pic>
        <p:nvPicPr>
          <p:cNvPr id="381" name="" descr=""/>
          <p:cNvPicPr/>
          <p:nvPr/>
        </p:nvPicPr>
        <p:blipFill>
          <a:blip r:embed="rId11"/>
          <a:stretch/>
        </p:blipFill>
        <p:spPr>
          <a:xfrm>
            <a:off x="3419640" y="2416320"/>
            <a:ext cx="2519280" cy="2381040"/>
          </a:xfrm>
          <a:prstGeom prst="rect">
            <a:avLst/>
          </a:prstGeom>
          <a:ln w="0">
            <a:noFill/>
          </a:ln>
        </p:spPr>
      </p:pic>
      <p:pic>
        <p:nvPicPr>
          <p:cNvPr id="382" name="" descr=""/>
          <p:cNvPicPr/>
          <p:nvPr/>
        </p:nvPicPr>
        <p:blipFill>
          <a:blip r:embed="rId12"/>
          <a:stretch/>
        </p:blipFill>
        <p:spPr>
          <a:xfrm rot="19528800">
            <a:off x="3276720" y="2487240"/>
            <a:ext cx="2519280" cy="2381400"/>
          </a:xfrm>
          <a:prstGeom prst="rect">
            <a:avLst/>
          </a:prstGeom>
          <a:ln w="0">
            <a:noFill/>
          </a:ln>
        </p:spPr>
      </p:pic>
      <p:sp>
        <p:nvSpPr>
          <p:cNvPr id="383" name=""/>
          <p:cNvSpPr txBox="1"/>
          <p:nvPr/>
        </p:nvSpPr>
        <p:spPr>
          <a:xfrm>
            <a:off x="6443640" y="1557360"/>
            <a:ext cx="17287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3300"/>
                </a:solidFill>
                <a:latin typeface="Arial"/>
              </a:rPr>
              <a:t>пеньк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3300"/>
              </a:solidFill>
              <a:latin typeface="Arial"/>
              <a:ea typeface="Arial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684360" y="1557360"/>
            <a:ext cx="1871640" cy="716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3300"/>
                </a:solidFill>
                <a:latin typeface="Arial"/>
              </a:rPr>
              <a:t>чайка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cc3300"/>
              </a:solidFill>
              <a:latin typeface="Arial"/>
              <a:ea typeface="Arial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684360" y="4797360"/>
            <a:ext cx="2016000" cy="89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3300"/>
                </a:solidFill>
                <a:latin typeface="Arial"/>
              </a:rPr>
              <a:t>объём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3300"/>
              </a:solidFill>
              <a:latin typeface="Arial"/>
              <a:ea typeface="Arial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6516720" y="4724280"/>
            <a:ext cx="1871640" cy="78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3300"/>
                </a:solidFill>
                <a:latin typeface="Arial"/>
              </a:rPr>
              <a:t>майка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cc3300"/>
              </a:solidFill>
              <a:latin typeface="Arial"/>
              <a:ea typeface="Arial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3924360" y="3357720"/>
            <a:ext cx="1466640" cy="70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3300"/>
                </a:solidFill>
                <a:latin typeface="Arial"/>
              </a:rPr>
              <a:t>полька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cc3300"/>
              </a:solidFill>
              <a:latin typeface="Arial"/>
              <a:ea typeface="Arial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3"/>
          <a:stretch/>
        </p:blipFill>
        <p:spPr>
          <a:xfrm rot="18884400">
            <a:off x="5127120" y="5754600"/>
            <a:ext cx="719280" cy="677880"/>
          </a:xfrm>
          <a:prstGeom prst="rect">
            <a:avLst/>
          </a:prstGeom>
          <a:ln w="0">
            <a:noFill/>
          </a:ln>
        </p:spPr>
      </p:pic>
      <p:pic>
        <p:nvPicPr>
          <p:cNvPr id="389" name="" descr=""/>
          <p:cNvPicPr/>
          <p:nvPr/>
        </p:nvPicPr>
        <p:blipFill>
          <a:blip r:embed="rId14"/>
          <a:stretch/>
        </p:blipFill>
        <p:spPr>
          <a:xfrm rot="21080400">
            <a:off x="5148360" y="5733720"/>
            <a:ext cx="718920" cy="677880"/>
          </a:xfrm>
          <a:prstGeom prst="rect">
            <a:avLst/>
          </a:prstGeom>
          <a:ln w="0">
            <a:noFill/>
          </a:ln>
        </p:spPr>
      </p:pic>
      <p:pic>
        <p:nvPicPr>
          <p:cNvPr id="390" name="" descr=""/>
          <p:cNvPicPr/>
          <p:nvPr/>
        </p:nvPicPr>
        <p:blipFill>
          <a:blip r:embed="rId15"/>
          <a:stretch/>
        </p:blipFill>
        <p:spPr>
          <a:xfrm rot="18884400">
            <a:off x="8080560" y="3161880"/>
            <a:ext cx="718920" cy="677880"/>
          </a:xfrm>
          <a:prstGeom prst="rect">
            <a:avLst/>
          </a:prstGeom>
          <a:ln w="0">
            <a:noFill/>
          </a:ln>
        </p:spPr>
      </p:pic>
      <p:pic>
        <p:nvPicPr>
          <p:cNvPr id="391" name="" descr=""/>
          <p:cNvPicPr/>
          <p:nvPr/>
        </p:nvPicPr>
        <p:blipFill>
          <a:blip r:embed="rId16"/>
          <a:stretch/>
        </p:blipFill>
        <p:spPr>
          <a:xfrm rot="18884400">
            <a:off x="3398760" y="712800"/>
            <a:ext cx="718920" cy="677520"/>
          </a:xfrm>
          <a:prstGeom prst="rect">
            <a:avLst/>
          </a:prstGeom>
          <a:ln w="0">
            <a:noFill/>
          </a:ln>
        </p:spPr>
      </p:pic>
      <p:pic>
        <p:nvPicPr>
          <p:cNvPr id="392" name="" descr=""/>
          <p:cNvPicPr/>
          <p:nvPr/>
        </p:nvPicPr>
        <p:blipFill>
          <a:blip r:embed="rId17"/>
          <a:stretch/>
        </p:blipFill>
        <p:spPr>
          <a:xfrm rot="21196200">
            <a:off x="3419640" y="691920"/>
            <a:ext cx="718920" cy="677880"/>
          </a:xfrm>
          <a:prstGeom prst="rect">
            <a:avLst/>
          </a:prstGeom>
          <a:ln w="0">
            <a:noFill/>
          </a:ln>
        </p:spPr>
      </p:pic>
      <p:pic>
        <p:nvPicPr>
          <p:cNvPr id="393" name="" descr=""/>
          <p:cNvPicPr/>
          <p:nvPr/>
        </p:nvPicPr>
        <p:blipFill>
          <a:blip r:embed="rId18"/>
          <a:stretch/>
        </p:blipFill>
        <p:spPr>
          <a:xfrm rot="21103200">
            <a:off x="3471840" y="5681520"/>
            <a:ext cx="719280" cy="677880"/>
          </a:xfrm>
          <a:prstGeom prst="rect">
            <a:avLst/>
          </a:prstGeom>
          <a:ln w="0">
            <a:noFill/>
          </a:ln>
        </p:spPr>
      </p:pic>
      <p:pic>
        <p:nvPicPr>
          <p:cNvPr id="394" name="" descr=""/>
          <p:cNvPicPr/>
          <p:nvPr/>
        </p:nvPicPr>
        <p:blipFill>
          <a:blip r:embed="rId19"/>
          <a:stretch/>
        </p:blipFill>
        <p:spPr>
          <a:xfrm rot="18884400">
            <a:off x="3471120" y="5681520"/>
            <a:ext cx="719280" cy="677880"/>
          </a:xfrm>
          <a:prstGeom prst="rect">
            <a:avLst/>
          </a:prstGeom>
          <a:ln w="0">
            <a:noFill/>
          </a:ln>
        </p:spPr>
      </p:pic>
      <p:pic>
        <p:nvPicPr>
          <p:cNvPr id="395" name="" descr=""/>
          <p:cNvPicPr/>
          <p:nvPr/>
        </p:nvPicPr>
        <p:blipFill>
          <a:blip r:embed="rId20"/>
          <a:stretch/>
        </p:blipFill>
        <p:spPr>
          <a:xfrm rot="18884400">
            <a:off x="229680" y="3233520"/>
            <a:ext cx="719280" cy="677880"/>
          </a:xfrm>
          <a:prstGeom prst="rect">
            <a:avLst/>
          </a:prstGeom>
          <a:ln w="0">
            <a:noFill/>
          </a:ln>
        </p:spPr>
      </p:pic>
      <p:pic>
        <p:nvPicPr>
          <p:cNvPr id="396" name="" descr=""/>
          <p:cNvPicPr/>
          <p:nvPr/>
        </p:nvPicPr>
        <p:blipFill>
          <a:blip r:embed="rId21"/>
          <a:stretch/>
        </p:blipFill>
        <p:spPr>
          <a:xfrm rot="20943000">
            <a:off x="8100720" y="3141720"/>
            <a:ext cx="718920" cy="677880"/>
          </a:xfrm>
          <a:prstGeom prst="rect">
            <a:avLst/>
          </a:prstGeom>
          <a:ln w="0">
            <a:noFill/>
          </a:ln>
        </p:spPr>
      </p:pic>
      <p:pic>
        <p:nvPicPr>
          <p:cNvPr id="397" name="" descr=""/>
          <p:cNvPicPr/>
          <p:nvPr/>
        </p:nvPicPr>
        <p:blipFill>
          <a:blip r:embed="rId22"/>
          <a:stretch/>
        </p:blipFill>
        <p:spPr>
          <a:xfrm rot="18884400">
            <a:off x="5127120" y="714240"/>
            <a:ext cx="719280" cy="677880"/>
          </a:xfrm>
          <a:prstGeom prst="rect">
            <a:avLst/>
          </a:prstGeom>
          <a:ln w="0">
            <a:noFill/>
          </a:ln>
        </p:spPr>
      </p:pic>
      <p:pic>
        <p:nvPicPr>
          <p:cNvPr id="398" name="" descr=""/>
          <p:cNvPicPr/>
          <p:nvPr/>
        </p:nvPicPr>
        <p:blipFill>
          <a:blip r:embed="rId23"/>
          <a:stretch/>
        </p:blipFill>
        <p:spPr>
          <a:xfrm rot="21045600">
            <a:off x="250920" y="3212640"/>
            <a:ext cx="718920" cy="677880"/>
          </a:xfrm>
          <a:prstGeom prst="rect">
            <a:avLst/>
          </a:prstGeom>
          <a:ln w="0">
            <a:noFill/>
          </a:ln>
        </p:spPr>
      </p:pic>
      <p:pic>
        <p:nvPicPr>
          <p:cNvPr id="399" name="" descr=""/>
          <p:cNvPicPr/>
          <p:nvPr/>
        </p:nvPicPr>
        <p:blipFill>
          <a:blip r:embed="rId24"/>
          <a:stretch/>
        </p:blipFill>
        <p:spPr>
          <a:xfrm rot="20850000">
            <a:off x="5148360" y="691920"/>
            <a:ext cx="718920" cy="677880"/>
          </a:xfrm>
          <a:prstGeom prst="rect">
            <a:avLst/>
          </a:prstGeom>
          <a:ln w="0">
            <a:noFill/>
          </a:ln>
        </p:spPr>
      </p:pic>
      <p:pic>
        <p:nvPicPr>
          <p:cNvPr id="400" name="" descr=""/>
          <p:cNvPicPr/>
          <p:nvPr/>
        </p:nvPicPr>
        <p:blipFill>
          <a:blip r:embed="rId25"/>
          <a:stretch/>
        </p:blipFill>
        <p:spPr>
          <a:xfrm rot="20965200">
            <a:off x="8295840" y="209160"/>
            <a:ext cx="719280" cy="677880"/>
          </a:xfrm>
          <a:prstGeom prst="rect">
            <a:avLst/>
          </a:prstGeom>
          <a:ln w="0">
            <a:noFill/>
          </a:ln>
        </p:spPr>
      </p:pic>
      <p:pic>
        <p:nvPicPr>
          <p:cNvPr id="401" name="" descr=""/>
          <p:cNvPicPr/>
          <p:nvPr/>
        </p:nvPicPr>
        <p:blipFill>
          <a:blip r:embed="rId26"/>
          <a:stretch/>
        </p:blipFill>
        <p:spPr>
          <a:xfrm rot="18884400">
            <a:off x="8296200" y="209520"/>
            <a:ext cx="718920" cy="677520"/>
          </a:xfrm>
          <a:prstGeom prst="rect">
            <a:avLst/>
          </a:prstGeom>
          <a:ln w="0">
            <a:noFill/>
          </a:ln>
        </p:spPr>
      </p:pic>
      <p:pic>
        <p:nvPicPr>
          <p:cNvPr id="402" name="" descr=""/>
          <p:cNvPicPr/>
          <p:nvPr/>
        </p:nvPicPr>
        <p:blipFill>
          <a:blip r:embed="rId27"/>
          <a:stretch/>
        </p:blipFill>
        <p:spPr>
          <a:xfrm rot="21273000">
            <a:off x="158400" y="280800"/>
            <a:ext cx="719280" cy="67752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8"/>
          <a:stretch/>
        </p:blipFill>
        <p:spPr>
          <a:xfrm rot="18884400">
            <a:off x="158040" y="353880"/>
            <a:ext cx="719280" cy="67788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29"/>
          <a:stretch/>
        </p:blipFill>
        <p:spPr>
          <a:xfrm rot="20677200">
            <a:off x="8295840" y="5991120"/>
            <a:ext cx="719280" cy="677880"/>
          </a:xfrm>
          <a:prstGeom prst="rect">
            <a:avLst/>
          </a:prstGeom>
          <a:ln w="0">
            <a:noFill/>
          </a:ln>
        </p:spPr>
      </p:pic>
      <p:pic>
        <p:nvPicPr>
          <p:cNvPr id="405" name="" descr=""/>
          <p:cNvPicPr/>
          <p:nvPr/>
        </p:nvPicPr>
        <p:blipFill>
          <a:blip r:embed="rId30"/>
          <a:stretch/>
        </p:blipFill>
        <p:spPr>
          <a:xfrm rot="18884400">
            <a:off x="8296200" y="5970600"/>
            <a:ext cx="718920" cy="677520"/>
          </a:xfrm>
          <a:prstGeom prst="rect">
            <a:avLst/>
          </a:prstGeom>
          <a:ln w="0">
            <a:noFill/>
          </a:ln>
        </p:spPr>
      </p:pic>
      <p:pic>
        <p:nvPicPr>
          <p:cNvPr id="406" name="" descr=""/>
          <p:cNvPicPr/>
          <p:nvPr/>
        </p:nvPicPr>
        <p:blipFill>
          <a:blip r:embed="rId31"/>
          <a:stretch/>
        </p:blipFill>
        <p:spPr>
          <a:xfrm rot="20496600">
            <a:off x="181080" y="6135480"/>
            <a:ext cx="718920" cy="677880"/>
          </a:xfrm>
          <a:prstGeom prst="rect">
            <a:avLst/>
          </a:prstGeom>
          <a:ln w="0">
            <a:noFill/>
          </a:ln>
        </p:spPr>
      </p:pic>
      <p:pic>
        <p:nvPicPr>
          <p:cNvPr id="407" name="" descr=""/>
          <p:cNvPicPr/>
          <p:nvPr/>
        </p:nvPicPr>
        <p:blipFill>
          <a:blip r:embed="rId32"/>
          <a:stretch/>
        </p:blipFill>
        <p:spPr>
          <a:xfrm rot="18884400">
            <a:off x="158040" y="6159240"/>
            <a:ext cx="719280" cy="677880"/>
          </a:xfrm>
          <a:prstGeom prst="rect">
            <a:avLst/>
          </a:prstGeom>
          <a:ln w="0">
            <a:noFill/>
          </a:ln>
        </p:spPr>
      </p:pic>
      <p:pic>
        <p:nvPicPr>
          <p:cNvPr id="408" name="" descr=""/>
          <p:cNvPicPr/>
          <p:nvPr/>
        </p:nvPicPr>
        <p:blipFill>
          <a:blip r:embed="rId33"/>
          <a:stretch/>
        </p:blipFill>
        <p:spPr>
          <a:xfrm rot="20827800">
            <a:off x="2319120" y="3304800"/>
            <a:ext cx="718920" cy="677880"/>
          </a:xfrm>
          <a:prstGeom prst="rect">
            <a:avLst/>
          </a:prstGeom>
          <a:ln w="0">
            <a:noFill/>
          </a:ln>
        </p:spPr>
      </p:pic>
      <p:pic>
        <p:nvPicPr>
          <p:cNvPr id="409" name="" descr=""/>
          <p:cNvPicPr/>
          <p:nvPr/>
        </p:nvPicPr>
        <p:blipFill>
          <a:blip r:embed="rId34"/>
          <a:stretch/>
        </p:blipFill>
        <p:spPr>
          <a:xfrm rot="18884400">
            <a:off x="2319480" y="3304800"/>
            <a:ext cx="718920" cy="677880"/>
          </a:xfrm>
          <a:prstGeom prst="rect">
            <a:avLst/>
          </a:prstGeom>
          <a:ln w="0">
            <a:noFill/>
          </a:ln>
        </p:spPr>
      </p:pic>
      <p:pic>
        <p:nvPicPr>
          <p:cNvPr id="410" name="" descr=""/>
          <p:cNvPicPr/>
          <p:nvPr/>
        </p:nvPicPr>
        <p:blipFill>
          <a:blip r:embed="rId35"/>
          <a:stretch/>
        </p:blipFill>
        <p:spPr>
          <a:xfrm rot="20844000">
            <a:off x="6229440" y="3212640"/>
            <a:ext cx="718920" cy="677880"/>
          </a:xfrm>
          <a:prstGeom prst="rect">
            <a:avLst/>
          </a:prstGeom>
          <a:ln w="0">
            <a:noFill/>
          </a:ln>
        </p:spPr>
      </p:pic>
      <p:pic>
        <p:nvPicPr>
          <p:cNvPr id="411" name="" descr=""/>
          <p:cNvPicPr/>
          <p:nvPr/>
        </p:nvPicPr>
        <p:blipFill>
          <a:blip r:embed="rId36"/>
          <a:stretch/>
        </p:blipFill>
        <p:spPr>
          <a:xfrm rot="18884400">
            <a:off x="6206400" y="3233520"/>
            <a:ext cx="719280" cy="67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77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2" dur="770" fill="hold"/>
                                        <p:tgtEl>
                                          <p:spTgt spid="39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4" dur="77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6" dur="77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77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1" dur="770" fill="hold"/>
                                        <p:tgtEl>
                                          <p:spTgt spid="39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83" dur="77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85" dur="77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77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0" dur="770" fill="hold"/>
                                        <p:tgtEl>
                                          <p:spTgt spid="39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92" dur="77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94" dur="77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77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9" dur="770" fill="hold"/>
                                        <p:tgtEl>
                                          <p:spTgt spid="39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01" dur="77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03" dur="77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77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8" dur="770" fill="hold"/>
                                        <p:tgtEl>
                                          <p:spTgt spid="39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10" dur="77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12" dur="77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77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7" dur="770" fill="hold"/>
                                        <p:tgtEl>
                                          <p:spTgt spid="39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19" dur="77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21" dur="77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77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6" dur="770" fill="hold"/>
                                        <p:tgtEl>
                                          <p:spTgt spid="39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28" dur="77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0" dur="77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77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5" dur="770" fill="hold"/>
                                        <p:tgtEl>
                                          <p:spTgt spid="39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37" dur="77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9" dur="77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77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4" dur="770" fill="hold"/>
                                        <p:tgtEl>
                                          <p:spTgt spid="39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46" dur="77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48" dur="77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77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3" dur="770" fill="hold"/>
                                        <p:tgtEl>
                                          <p:spTgt spid="39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55" dur="77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57" dur="77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77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2" dur="770" fill="hold"/>
                                        <p:tgtEl>
                                          <p:spTgt spid="40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64" dur="77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66" dur="77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6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77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1" dur="770" fill="hold"/>
                                        <p:tgtEl>
                                          <p:spTgt spid="40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7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73" dur="77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7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75" dur="77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77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0" dur="770" fill="hold"/>
                                        <p:tgtEl>
                                          <p:spTgt spid="40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8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82" dur="77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8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84" dur="77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8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77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9" dur="770" fill="hold"/>
                                        <p:tgtEl>
                                          <p:spTgt spid="40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91" dur="77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9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93" dur="77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9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77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8" dur="770" fill="hold"/>
                                        <p:tgtEl>
                                          <p:spTgt spid="40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00" dur="77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02" dur="77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0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77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7" dur="770" fill="hold"/>
                                        <p:tgtEl>
                                          <p:spTgt spid="40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0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09" dur="77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1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11" dur="77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1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77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6" dur="770" fill="hold"/>
                                        <p:tgtEl>
                                          <p:spTgt spid="40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18" dur="77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20" dur="77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77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5" dur="770" fill="hold"/>
                                        <p:tgtEl>
                                          <p:spTgt spid="40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27" dur="77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29" dur="77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77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4" dur="770" fill="hold"/>
                                        <p:tgtEl>
                                          <p:spTgt spid="38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36" dur="77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38" dur="77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77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3" dur="770" fill="hold"/>
                                        <p:tgtEl>
                                          <p:spTgt spid="38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45" dur="77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47" dur="77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77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2" dur="770" fill="hold"/>
                                        <p:tgtEl>
                                          <p:spTgt spid="37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54" dur="77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56" dur="77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77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61" dur="770" fill="hold"/>
                                        <p:tgtEl>
                                          <p:spTgt spid="37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63" dur="77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65" dur="77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77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70" dur="770" fill="hold"/>
                                        <p:tgtEl>
                                          <p:spTgt spid="37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7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72" dur="77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74" dur="77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77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79" dur="770" fill="hold"/>
                                        <p:tgtEl>
                                          <p:spTgt spid="37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81" dur="77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83" dur="77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77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88" dur="770" fill="hold"/>
                                        <p:tgtEl>
                                          <p:spTgt spid="38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90" dur="77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92" dur="77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77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97" dur="770" fill="hold"/>
                                        <p:tgtEl>
                                          <p:spTgt spid="38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99" dur="77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01" dur="77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77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06" dur="770" fill="hold"/>
                                        <p:tgtEl>
                                          <p:spTgt spid="38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08" dur="77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10" dur="77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77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5" dur="770" fill="hold"/>
                                        <p:tgtEl>
                                          <p:spTgt spid="37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17" dur="77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19" dur="77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77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24" dur="770" fill="hold"/>
                                        <p:tgtEl>
                                          <p:spTgt spid="37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26" dur="77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28" dur="77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77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33" dur="770" fill="hold"/>
                                        <p:tgtEl>
                                          <p:spTgt spid="37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35" dur="77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37" dur="77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77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42" dur="770" fill="hold"/>
                                        <p:tgtEl>
                                          <p:spTgt spid="40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44" dur="77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46" dur="77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77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51" dur="770" fill="hold"/>
                                        <p:tgtEl>
                                          <p:spTgt spid="40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53" dur="77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55" dur="77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77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60" dur="770" fill="hold"/>
                                        <p:tgtEl>
                                          <p:spTgt spid="41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62" dur="77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64" dur="77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8" dur="77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69" dur="770" fill="hold"/>
                                        <p:tgtEl>
                                          <p:spTgt spid="41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7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71" dur="77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7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73" dur="77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7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2" dur="1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8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4" dur="1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0" dur="1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6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8" dur="2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1" dur="2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4" dur="2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7" dur="2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0" dur="2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3" dur="2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6" dur="2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9" dur="2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2" dur="2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5" dur="2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8" dur="2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1" dur="2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4" dur="2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7" dur="2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0" dur="2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3" dur="2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6" dur="2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9" dur="2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2" dur="2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5" dur="2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8" dur="2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1" dur="2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4" dur="2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7" dur="2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0" dur="2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50000">
              <a:srgbClr val="ffff99"/>
            </a:gs>
            <a:gs pos="100000">
              <a:srgbClr val="ff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Работа в печатной тетрад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355640" y="2492280"/>
            <a:ext cx="4319640" cy="30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. 47 упр. 4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. 48 упр.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4" name="" descr="Иванов, Кузнецова, Евдокимова - Русский язык. 1 класс. Учебник. ФГОС обложка книги"/>
          <p:cNvPicPr/>
          <p:nvPr/>
        </p:nvPicPr>
        <p:blipFill>
          <a:blip r:embed="rId1"/>
          <a:stretch/>
        </p:blipFill>
        <p:spPr>
          <a:xfrm rot="21017400">
            <a:off x="971640" y="2205000"/>
            <a:ext cx="2817720" cy="3651120"/>
          </a:xfrm>
          <a:prstGeom prst="rect">
            <a:avLst/>
          </a:prstGeom>
          <a:ln w="0">
            <a:noFill/>
          </a:ln>
        </p:spPr>
      </p:pic>
      <p:pic>
        <p:nvPicPr>
          <p:cNvPr id="415" name="" descr=""/>
          <p:cNvPicPr/>
          <p:nvPr/>
        </p:nvPicPr>
        <p:blipFill>
          <a:blip r:embed="rId2"/>
          <a:stretch/>
        </p:blipFill>
        <p:spPr>
          <a:xfrm>
            <a:off x="4356000" y="3789360"/>
            <a:ext cx="4103640" cy="14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50000">
              <a:srgbClr val="ffff99"/>
            </a:gs>
            <a:gs pos="100000">
              <a:srgbClr val="ff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755640" y="549360"/>
            <a:ext cx="7781760" cy="113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9900"/>
                    </a:gs>
                    <a:gs pos="50000">
                      <a:srgbClr val="66ff66"/>
                    </a:gs>
                    <a:gs pos="100000">
                      <a:srgbClr val="009900"/>
                    </a:gs>
                  </a:gsLst>
                  <a:lin ang="13500000"/>
                </a:gradFill>
                <a:latin typeface="Arial"/>
              </a:rPr>
              <a:t>Дорогие ребята!</a:t>
            </a:r>
            <a:endParaRPr b="1" lang="en-US" sz="8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9900"/>
                  </a:gs>
                  <a:gs pos="50000">
                    <a:srgbClr val="66ff66"/>
                  </a:gs>
                  <a:gs pos="100000">
                    <a:srgbClr val="009900"/>
                  </a:gs>
                </a:gsLst>
                <a:lin ang="13500000"/>
              </a:gradFill>
              <a:latin typeface="Arial"/>
              <a:ea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4360" y="1989000"/>
            <a:ext cx="4381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П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900000" y="2133720"/>
            <a:ext cx="333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1042920" y="2133720"/>
            <a:ext cx="333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м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258920" y="2133720"/>
            <a:ext cx="333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1476360" y="2133720"/>
            <a:ext cx="333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692360" y="2133720"/>
            <a:ext cx="333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763640" y="2133720"/>
            <a:ext cx="333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979640" y="2133720"/>
            <a:ext cx="333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2843280" y="2133720"/>
            <a:ext cx="333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н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2916360" y="2133720"/>
            <a:ext cx="333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2987640" y="2133720"/>
            <a:ext cx="333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м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419640" y="2637000"/>
            <a:ext cx="7128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067280" y="2133720"/>
            <a:ext cx="333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п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284720" y="2133720"/>
            <a:ext cx="333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427640" y="2133720"/>
            <a:ext cx="333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ж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643280" y="2133720"/>
            <a:ext cx="333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788000" y="2133720"/>
            <a:ext cx="333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л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003640" y="2133720"/>
            <a:ext cx="333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у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5219640" y="1989000"/>
            <a:ext cx="333360" cy="66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364000" y="2133720"/>
            <a:ext cx="333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5508720" y="2133720"/>
            <a:ext cx="333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5651640" y="2133720"/>
            <a:ext cx="333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6156360" y="2637000"/>
            <a:ext cx="71280" cy="71280"/>
          </a:xfrm>
          <a:prstGeom prst="rect">
            <a:avLst/>
          </a:prstGeom>
        </p:spPr>
        <p:txBody>
          <a:bodyPr wrap="none" lIns="90000" rIns="90000" tIns="24840" bIns="2484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804000" y="1989000"/>
            <a:ext cx="4381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з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2124000" y="3357720"/>
            <a:ext cx="333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к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835280" y="3357720"/>
            <a:ext cx="333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1692360" y="3357720"/>
            <a:ext cx="333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н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1476360" y="3357720"/>
            <a:ext cx="333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б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1258920" y="3357720"/>
            <a:ext cx="333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042920" y="3357720"/>
            <a:ext cx="333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ш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826920" y="3357720"/>
            <a:ext cx="333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л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611280" y="3357720"/>
            <a:ext cx="333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68360" y="3357720"/>
            <a:ext cx="333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7380360" y="1916280"/>
            <a:ext cx="333360" cy="74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7164360" y="2133720"/>
            <a:ext cx="333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6948360" y="2133720"/>
            <a:ext cx="333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л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5724360" y="3357720"/>
            <a:ext cx="333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к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5292720" y="3357720"/>
            <a:ext cx="333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364000" y="3357720"/>
            <a:ext cx="333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л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932360" y="3357720"/>
            <a:ext cx="333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148360" y="3357720"/>
            <a:ext cx="333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к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5580000" y="3357720"/>
            <a:ext cx="333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2843280" y="3357720"/>
            <a:ext cx="333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п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2987640" y="3357720"/>
            <a:ext cx="333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3132000" y="3357720"/>
            <a:ext cx="333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276720" y="3357720"/>
            <a:ext cx="333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419640" y="3357720"/>
            <a:ext cx="333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3635280" y="3357720"/>
            <a:ext cx="333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780000" y="3357720"/>
            <a:ext cx="333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л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572000" y="3357720"/>
            <a:ext cx="333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н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716360" y="3357720"/>
            <a:ext cx="333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5867280" y="3357720"/>
            <a:ext cx="333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6732720" y="3357720"/>
            <a:ext cx="333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п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6877080" y="3357720"/>
            <a:ext cx="333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р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020000" y="3357720"/>
            <a:ext cx="333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7308720" y="3357720"/>
            <a:ext cx="333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7164360" y="3357720"/>
            <a:ext cx="333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7524720" y="3357720"/>
            <a:ext cx="333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л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4360" y="4653000"/>
            <a:ext cx="333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403280" y="4653000"/>
            <a:ext cx="333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8028000" y="3789360"/>
            <a:ext cx="71280" cy="71280"/>
          </a:xfrm>
          <a:prstGeom prst="rect">
            <a:avLst/>
          </a:prstGeom>
        </p:spPr>
        <p:txBody>
          <a:bodyPr wrap="none" lIns="90000" rIns="90000" tIns="24840" bIns="2484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68360" y="4508640"/>
            <a:ext cx="4381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м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2411280" y="4653000"/>
            <a:ext cx="333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п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2268360" y="4653000"/>
            <a:ext cx="333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2700360" y="4653000"/>
            <a:ext cx="333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2556000" y="4653000"/>
            <a:ext cx="333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2843280" y="4653000"/>
            <a:ext cx="333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н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2987640" y="4653000"/>
            <a:ext cx="333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03640" y="4653000"/>
            <a:ext cx="333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348000" y="4653000"/>
            <a:ext cx="333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492360" y="4653000"/>
            <a:ext cx="333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2916360" y="5805360"/>
            <a:ext cx="33336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3924360" y="4653000"/>
            <a:ext cx="7128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2700360" y="5661000"/>
            <a:ext cx="4381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ж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3132000" y="5805360"/>
            <a:ext cx="33336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3348000" y="5805360"/>
            <a:ext cx="33336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419640" y="5805360"/>
            <a:ext cx="33336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л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3635280" y="5805360"/>
            <a:ext cx="33336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284720" y="5805360"/>
            <a:ext cx="33336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427640" y="5805360"/>
            <a:ext cx="33336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932360" y="5805360"/>
            <a:ext cx="33336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н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788000" y="5805360"/>
            <a:ext cx="33336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643280" y="5805360"/>
            <a:ext cx="33336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р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6732720" y="5805360"/>
            <a:ext cx="33336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м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516720" y="5805360"/>
            <a:ext cx="33336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м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00720" y="5805360"/>
            <a:ext cx="33336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156360" y="5805360"/>
            <a:ext cx="33336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р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5148360" y="5805360"/>
            <a:ext cx="33336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7380360" y="5805360"/>
            <a:ext cx="33336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к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7236000" y="5805360"/>
            <a:ext cx="33336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093080" y="5805360"/>
            <a:ext cx="33336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6948360" y="5805360"/>
            <a:ext cx="33336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7524720" y="5805360"/>
            <a:ext cx="33336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6156360" y="5661000"/>
            <a:ext cx="2872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г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7956720" y="6308640"/>
            <a:ext cx="71280" cy="71640"/>
          </a:xfrm>
          <a:prstGeom prst="rect">
            <a:avLst/>
          </a:prstGeom>
        </p:spPr>
        <p:txBody>
          <a:bodyPr wrap="none" lIns="90000" rIns="90000" tIns="25200" bIns="252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50000">
              <a:srgbClr val="ffff99"/>
            </a:gs>
            <a:gs pos="100000">
              <a:srgbClr val="ff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8" name="" descr=""/>
          <p:cNvPicPr/>
          <p:nvPr/>
        </p:nvPicPr>
        <p:blipFill>
          <a:blip r:embed="rId1"/>
          <a:stretch/>
        </p:blipFill>
        <p:spPr>
          <a:xfrm>
            <a:off x="314280" y="209520"/>
            <a:ext cx="8516880" cy="644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50000">
              <a:srgbClr val="ffff99"/>
            </a:gs>
            <a:gs pos="100000">
              <a:srgbClr val="ff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ИТОГ УРО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Заголовок 1"/>
          <p:cNvSpPr/>
          <p:nvPr/>
        </p:nvSpPr>
        <p:spPr>
          <a:xfrm>
            <a:off x="468360" y="1989000"/>
            <a:ext cx="8207280" cy="27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Я научусь….</a:t>
            </a:r>
            <a:br>
              <a:rPr sz="4400"/>
            </a:br>
            <a:r>
              <a:rPr b="1" lang="en-US" sz="4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Я  вспомню…</a:t>
            </a:r>
            <a:br>
              <a:rPr sz="4400"/>
            </a:br>
            <a:r>
              <a:rPr b="1" lang="en-US" sz="4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Я пойму …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роверю, как я умею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Заголовок 1"/>
          <p:cNvSpPr/>
          <p:nvPr/>
        </p:nvSpPr>
        <p:spPr>
          <a:xfrm>
            <a:off x="934920" y="1844640"/>
            <a:ext cx="820908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Я научился….</a:t>
            </a:r>
            <a:br>
              <a:rPr sz="4400"/>
            </a:br>
            <a:r>
              <a:rPr b="1" lang="en-US" sz="4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Я  вспомнил…</a:t>
            </a:r>
            <a:br>
              <a:rPr sz="4400"/>
            </a:br>
            <a:r>
              <a:rPr b="1" lang="en-US" sz="4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Я понял …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роверил, как я умею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2" name="Picture 18" descr="https://img-fotki.yandex.ru/get/9307/58581001.1c0/0_b5ae9_da172b5_S"/>
          <p:cNvPicPr/>
          <p:nvPr/>
        </p:nvPicPr>
        <p:blipFill>
          <a:blip r:embed="rId1"/>
          <a:stretch/>
        </p:blipFill>
        <p:spPr>
          <a:xfrm>
            <a:off x="7056360" y="260280"/>
            <a:ext cx="2087640" cy="27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2" dur="indefinite" restart="never" nodeType="tmRoot">
          <p:childTnLst>
            <p:seq>
              <p:cTn id="583" dur="indefinite" nodeType="mainSeq">
                <p:childTnLst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8" dur="500"/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1" dur="500"/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2" dur="500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5" dur="500"/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50000">
              <a:srgbClr val="ffff99"/>
            </a:gs>
            <a:gs pos="100000">
              <a:srgbClr val="ff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Прямоугольник 3"/>
          <p:cNvSpPr/>
          <p:nvPr/>
        </p:nvSpPr>
        <p:spPr>
          <a:xfrm>
            <a:off x="2411280" y="1773360"/>
            <a:ext cx="59058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Century Gothic"/>
                <a:ea typeface="Arial"/>
              </a:rPr>
              <a:t> </a:t>
            </a:r>
            <a:r>
              <a:rPr b="1" lang="en-US" sz="2400" spc="-1" strike="noStrike">
                <a:solidFill>
                  <a:srgbClr val="7030a0"/>
                </a:solidFill>
                <a:latin typeface="Times New Roman"/>
                <a:ea typeface="Arial"/>
              </a:rPr>
              <a:t>– </a:t>
            </a:r>
            <a:r>
              <a:rPr b="1" lang="en-US" sz="2400" spc="-1" strike="noStrike">
                <a:solidFill>
                  <a:srgbClr val="7030a0"/>
                </a:solidFill>
                <a:latin typeface="Times New Roman"/>
                <a:ea typeface="Arial"/>
              </a:rPr>
              <a:t>На уроке мне было интересн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Times New Roman"/>
                <a:ea typeface="Arial"/>
              </a:rPr>
              <a:t>    </a:t>
            </a:r>
            <a:r>
              <a:rPr b="1" lang="en-US" sz="2400" spc="-1" strike="noStrike">
                <a:solidFill>
                  <a:srgbClr val="7030a0"/>
                </a:solidFill>
                <a:latin typeface="Times New Roman"/>
                <a:ea typeface="Arial"/>
              </a:rPr>
              <a:t>Мне всё понравилось. У меня всё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Times New Roman"/>
                <a:ea typeface="Arial"/>
              </a:rPr>
              <a:t>    </a:t>
            </a:r>
            <a:r>
              <a:rPr b="1" lang="en-US" sz="2400" spc="-1" strike="noStrike">
                <a:solidFill>
                  <a:srgbClr val="7030a0"/>
                </a:solidFill>
                <a:latin typeface="Times New Roman"/>
                <a:ea typeface="Arial"/>
              </a:rPr>
              <a:t>получалось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Times New Roman"/>
                <a:ea typeface="Arial"/>
              </a:rPr>
              <a:t> – </a:t>
            </a:r>
            <a:r>
              <a:rPr b="1" lang="en-US" sz="2400" spc="-1" strike="noStrike">
                <a:solidFill>
                  <a:srgbClr val="7030a0"/>
                </a:solidFill>
                <a:latin typeface="Times New Roman"/>
                <a:ea typeface="Arial"/>
              </a:rPr>
              <a:t>Урок мне понравился, но у меня не  все получалось. Мне требовалась помощь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Times New Roman"/>
                <a:ea typeface="Arial"/>
              </a:rPr>
              <a:t> – </a:t>
            </a:r>
            <a:r>
              <a:rPr b="1" lang="en-US" sz="2400" spc="-1" strike="noStrike">
                <a:solidFill>
                  <a:srgbClr val="7030a0"/>
                </a:solidFill>
                <a:latin typeface="Times New Roman"/>
                <a:ea typeface="Arial"/>
              </a:rPr>
              <a:t>На уроке мне было скучно. Я ничего не понял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4" name="Picture 2" descr="http://smayli.ru/data/smiles/zvezdia-310.gif"/>
          <p:cNvPicPr/>
          <p:nvPr/>
        </p:nvPicPr>
        <p:blipFill>
          <a:blip r:embed="rId1"/>
          <a:stretch/>
        </p:blipFill>
        <p:spPr>
          <a:xfrm>
            <a:off x="1187280" y="3645000"/>
            <a:ext cx="1079640" cy="97776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4" descr="http://www.nejkams4ever.estranky.cz/img/mid/40/6085681.gif.jpg"/>
          <p:cNvPicPr/>
          <p:nvPr/>
        </p:nvPicPr>
        <p:blipFill>
          <a:blip r:embed="rId2"/>
          <a:stretch/>
        </p:blipFill>
        <p:spPr>
          <a:xfrm>
            <a:off x="1187280" y="2133720"/>
            <a:ext cx="1079640" cy="103176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6" descr="http://img-fotki.yandex.ru/get/5504/val-pryanikova.2a/0_7475b_aa820612_XS.jpg"/>
          <p:cNvPicPr/>
          <p:nvPr/>
        </p:nvPicPr>
        <p:blipFill>
          <a:blip r:embed="rId3"/>
          <a:stretch/>
        </p:blipFill>
        <p:spPr>
          <a:xfrm>
            <a:off x="1116000" y="5013360"/>
            <a:ext cx="1224000" cy="1101600"/>
          </a:xfrm>
          <a:prstGeom prst="rect">
            <a:avLst/>
          </a:prstGeom>
          <a:ln w="0">
            <a:noFill/>
          </a:ln>
        </p:spPr>
      </p:pic>
      <p:sp>
        <p:nvSpPr>
          <p:cNvPr id="42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Рефлекс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50000">
              <a:srgbClr val="ffff99"/>
            </a:gs>
            <a:gs pos="100000">
              <a:srgbClr val="ff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755640" y="549360"/>
            <a:ext cx="7781760" cy="113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9900"/>
                    </a:gs>
                    <a:gs pos="50000">
                      <a:srgbClr val="66ff66"/>
                    </a:gs>
                    <a:gs pos="100000">
                      <a:srgbClr val="009900"/>
                    </a:gs>
                  </a:gsLst>
                  <a:lin ang="13500000"/>
                </a:gradFill>
                <a:latin typeface="Arial"/>
              </a:rPr>
              <a:t>Дорогие ребята!</a:t>
            </a:r>
            <a:endParaRPr b="1" lang="en-US" sz="8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9900"/>
                  </a:gs>
                  <a:gs pos="50000">
                    <a:srgbClr val="66ff66"/>
                  </a:gs>
                  <a:gs pos="100000">
                    <a:srgbClr val="009900"/>
                  </a:gs>
                </a:gsLst>
                <a:lin ang="13500000"/>
              </a:gradFill>
              <a:latin typeface="Arial"/>
              <a:ea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93840" y="1844640"/>
            <a:ext cx="4330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П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925560" y="2133720"/>
            <a:ext cx="33336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1359000" y="2112840"/>
            <a:ext cx="33336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м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1790640" y="2112840"/>
            <a:ext cx="33336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266920" y="2112840"/>
            <a:ext cx="2174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2583000" y="2112840"/>
            <a:ext cx="33336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3086280" y="2112840"/>
            <a:ext cx="33336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446640" y="2112840"/>
            <a:ext cx="33336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383000" y="2112840"/>
            <a:ext cx="33336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н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886280" y="2112840"/>
            <a:ext cx="33336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5391000" y="2112840"/>
            <a:ext cx="33336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м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940360" y="2637000"/>
            <a:ext cx="7164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470640" y="2133720"/>
            <a:ext cx="333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п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6975360" y="2133720"/>
            <a:ext cx="333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7407360" y="2133720"/>
            <a:ext cx="333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ж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7812000" y="2133720"/>
            <a:ext cx="333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8271000" y="2133720"/>
            <a:ext cx="333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л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50000">
              <a:srgbClr val="ffff99"/>
            </a:gs>
            <a:gs pos="100000">
              <a:srgbClr val="ff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 txBox="1"/>
          <p:nvPr/>
        </p:nvSpPr>
        <p:spPr>
          <a:xfrm>
            <a:off x="755640" y="549360"/>
            <a:ext cx="7781760" cy="113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9900"/>
                    </a:gs>
                    <a:gs pos="50000">
                      <a:srgbClr val="66ff66"/>
                    </a:gs>
                    <a:gs pos="100000">
                      <a:srgbClr val="009900"/>
                    </a:gs>
                  </a:gsLst>
                  <a:lin ang="13500000"/>
                </a:gradFill>
                <a:latin typeface="Arial"/>
              </a:rPr>
              <a:t>Дорогие ребята!</a:t>
            </a:r>
            <a:endParaRPr b="1" lang="en-US" sz="8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9900"/>
                  </a:gs>
                  <a:gs pos="50000">
                    <a:srgbClr val="66ff66"/>
                  </a:gs>
                  <a:gs pos="100000">
                    <a:srgbClr val="009900"/>
                  </a:gs>
                </a:gsLst>
                <a:lin ang="13500000"/>
              </a:gradFill>
              <a:latin typeface="Arial"/>
              <a:ea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116000" y="1332360"/>
            <a:ext cx="6626160" cy="1326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0" lang="en-US" sz="7200" spc="-1" strike="noStrike">
                <a:solidFill>
                  <a:srgbClr val="333399"/>
                </a:solidFill>
                <a:latin typeface="Arial"/>
              </a:rPr>
              <a:t>Помогите нам, пожалуйста. Злой волшебник похитил несколько правил. Мы в опасности!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Arial"/>
              </a:rPr>
              <a:t>Жители страны «Грамматика</a:t>
            </a:r>
            <a:r>
              <a:rPr b="0" i="1" lang="en-US" sz="7200" spc="-1" strike="noStrike">
                <a:solidFill>
                  <a:srgbClr val="333399"/>
                </a:solidFill>
                <a:latin typeface="Arial"/>
              </a:rPr>
              <a:t>»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50000">
              <a:srgbClr val="ffff99"/>
            </a:gs>
            <a:gs pos="100000">
              <a:srgbClr val="ff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755640" y="260280"/>
            <a:ext cx="7781760" cy="113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9900"/>
                    </a:gs>
                    <a:gs pos="50000">
                      <a:srgbClr val="66ff66"/>
                    </a:gs>
                    <a:gs pos="100000">
                      <a:srgbClr val="009900"/>
                    </a:gs>
                  </a:gsLst>
                  <a:lin ang="13500000"/>
                </a:gradFill>
                <a:latin typeface="Arial"/>
              </a:rPr>
              <a:t>Дорогие ребята!</a:t>
            </a:r>
            <a:endParaRPr b="1" lang="en-US" sz="8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9900"/>
                  </a:gs>
                  <a:gs pos="50000">
                    <a:srgbClr val="66ff66"/>
                  </a:gs>
                  <a:gs pos="100000">
                    <a:srgbClr val="009900"/>
                  </a:gs>
                </a:gsLst>
                <a:lin ang="13500000"/>
              </a:gradFill>
              <a:latin typeface="Arial"/>
              <a:ea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0" y="1667520"/>
            <a:ext cx="9144000" cy="46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0" lang="ru-RU" sz="6000" spc="-1" strike="noStrike">
                <a:solidFill>
                  <a:srgbClr val="333399"/>
                </a:solidFill>
                <a:latin typeface="Arial"/>
              </a:rPr>
              <a:t>Помогите нам, пожа -луйста. Злой волшебник похитил несколько пра -вил. Мы в опасности!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333399"/>
                </a:solidFill>
                <a:latin typeface="Arial"/>
              </a:rPr>
              <a:t>Жители страны Грамматика.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50000">
              <a:srgbClr val="ffff99"/>
            </a:gs>
            <a:gs pos="100000">
              <a:srgbClr val="ff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Прямоугольник 1" descr=""/>
          <p:cNvPicPr/>
          <p:nvPr/>
        </p:nvPicPr>
        <p:blipFill>
          <a:blip r:embed="rId1"/>
          <a:stretch/>
        </p:blipFill>
        <p:spPr>
          <a:xfrm>
            <a:off x="1420920" y="128520"/>
            <a:ext cx="7607160" cy="2011320"/>
          </a:xfrm>
          <a:prstGeom prst="rect">
            <a:avLst/>
          </a:prstGeom>
          <a:ln w="0">
            <a:noFill/>
          </a:ln>
        </p:spPr>
      </p:pic>
      <p:sp>
        <p:nvSpPr>
          <p:cNvPr id="245" name="Заголовок 1"/>
          <p:cNvSpPr/>
          <p:nvPr/>
        </p:nvSpPr>
        <p:spPr>
          <a:xfrm>
            <a:off x="468360" y="1989000"/>
            <a:ext cx="8207280" cy="27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Я  вспомню…</a:t>
            </a:r>
            <a:br>
              <a:rPr sz="4400"/>
            </a:br>
            <a:r>
              <a:rPr b="1" lang="en-US" sz="4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Я научусь….</a:t>
            </a:r>
            <a:r>
              <a:rPr b="1" lang="en-US" sz="4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Я пойму …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роверю, как я умею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18" descr="https://img-fotki.yandex.ru/get/9307/58581001.1c0/0_b5ae9_da172b5_S"/>
          <p:cNvPicPr/>
          <p:nvPr/>
        </p:nvPicPr>
        <p:blipFill>
          <a:blip r:embed="rId2"/>
          <a:stretch/>
        </p:blipFill>
        <p:spPr>
          <a:xfrm>
            <a:off x="7056360" y="4110120"/>
            <a:ext cx="2087640" cy="27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50000">
              <a:srgbClr val="ffff99"/>
            </a:gs>
            <a:gs pos="100000">
              <a:srgbClr val="ff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47" name="Прямая со стрелкой 2"/>
          <p:cNvCxnSpPr/>
          <p:nvPr/>
        </p:nvCxnSpPr>
        <p:spPr>
          <a:xfrm>
            <a:off x="1332000" y="2636640"/>
            <a:ext cx="648072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oval" w="med"/>
            <a:tailEnd len="med" type="oval" w="med"/>
          </a:ln>
        </p:spPr>
      </p:cxnSp>
      <p:sp>
        <p:nvSpPr>
          <p:cNvPr id="248" name="Прямая соединительная линия 3"/>
          <p:cNvSpPr/>
          <p:nvPr/>
        </p:nvSpPr>
        <p:spPr>
          <a:xfrm>
            <a:off x="1979640" y="2421000"/>
            <a:ext cx="0" cy="576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Прямая соединительная линия 4"/>
          <p:cNvSpPr/>
          <p:nvPr/>
        </p:nvSpPr>
        <p:spPr>
          <a:xfrm>
            <a:off x="2987640" y="2421000"/>
            <a:ext cx="0" cy="576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Прямая соединительная линия 5"/>
          <p:cNvSpPr/>
          <p:nvPr/>
        </p:nvSpPr>
        <p:spPr>
          <a:xfrm>
            <a:off x="4427640" y="2421000"/>
            <a:ext cx="0" cy="576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Прямая соединительная линия 6"/>
          <p:cNvSpPr/>
          <p:nvPr/>
        </p:nvSpPr>
        <p:spPr>
          <a:xfrm>
            <a:off x="5508720" y="2421000"/>
            <a:ext cx="0" cy="576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Прямая соединительная линия 7"/>
          <p:cNvSpPr/>
          <p:nvPr/>
        </p:nvSpPr>
        <p:spPr>
          <a:xfrm>
            <a:off x="6732720" y="2349360"/>
            <a:ext cx="0" cy="57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Овал 11"/>
          <p:cNvSpPr/>
          <p:nvPr/>
        </p:nvSpPr>
        <p:spPr>
          <a:xfrm>
            <a:off x="1403280" y="2708280"/>
            <a:ext cx="360360" cy="36036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3" descr="https://image.freepik.com/free-icon/no-translate-detected_318-58707.jpg"/>
          <p:cNvPicPr/>
          <p:nvPr/>
        </p:nvPicPr>
        <p:blipFill>
          <a:blip r:embed="rId1"/>
          <a:stretch/>
        </p:blipFill>
        <p:spPr>
          <a:xfrm>
            <a:off x="4643280" y="2708280"/>
            <a:ext cx="648000" cy="649440"/>
          </a:xfrm>
          <a:prstGeom prst="rect">
            <a:avLst/>
          </a:prstGeom>
          <a:ln w="0">
            <a:noFill/>
          </a:ln>
        </p:spPr>
      </p:pic>
      <p:pic>
        <p:nvPicPr>
          <p:cNvPr id="255" name="Прямоугольник 13" descr=""/>
          <p:cNvPicPr/>
          <p:nvPr/>
        </p:nvPicPr>
        <p:blipFill>
          <a:blip r:embed="rId2"/>
          <a:stretch/>
        </p:blipFill>
        <p:spPr>
          <a:xfrm>
            <a:off x="4572000" y="3357720"/>
            <a:ext cx="774720" cy="475920"/>
          </a:xfrm>
          <a:prstGeom prst="rect">
            <a:avLst/>
          </a:prstGeom>
          <a:ln w="0">
            <a:noFill/>
          </a:ln>
        </p:spPr>
      </p:pic>
      <p:sp>
        <p:nvSpPr>
          <p:cNvPr id="256" name="Прямоугольник 14"/>
          <p:cNvSpPr/>
          <p:nvPr/>
        </p:nvSpPr>
        <p:spPr>
          <a:xfrm>
            <a:off x="1979640" y="2708280"/>
            <a:ext cx="1008000" cy="360360"/>
          </a:xfrm>
          <a:prstGeom prst="rect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2484360" y="2637000"/>
            <a:ext cx="0" cy="863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Дуга 18"/>
          <p:cNvSpPr/>
          <p:nvPr/>
        </p:nvSpPr>
        <p:spPr>
          <a:xfrm rot="10800000">
            <a:off x="1979640" y="2923920"/>
            <a:ext cx="504720" cy="360360"/>
          </a:xfrm>
          <a:custGeom>
            <a:avLst/>
            <a:gdLst>
              <a:gd name="textAreaLeft" fmla="*/ 0 w 504720"/>
              <a:gd name="textAreaRight" fmla="*/ 504720 w 504720"/>
              <a:gd name="textAreaTop" fmla="*/ 0 h 360360"/>
              <a:gd name="textAreaBottom" fmla="*/ 186120 h 360360"/>
            </a:gdLst>
            <a:ahLst/>
            <a:rect l="textAreaLeft" t="textAreaTop" r="textAreaRight" b="textAreaBottom"/>
            <a:pathLst>
              <a:path stroke="0" w="648072" h="360040">
                <a:moveTo>
                  <a:pt x="171" y="185864"/>
                </a:moveTo>
                <a:lnTo>
                  <a:pt x="171" y="185864"/>
                </a:lnTo>
                <a:arcTo wR="324036" hR="180020" stAng="10737974" swAng="10862036"/>
                <a:lnTo>
                  <a:pt x="324036" y="180020"/>
                </a:lnTo>
                <a:close/>
              </a:path>
              <a:path fill="none" w="648072" h="360040">
                <a:moveTo>
                  <a:pt x="171" y="185864"/>
                </a:moveTo>
                <a:lnTo>
                  <a:pt x="171" y="185864"/>
                </a:lnTo>
                <a:arcTo wR="324036" hR="180020" stAng="10737974" swAng="10862036"/>
              </a:path>
            </a:pathLst>
          </a:custGeom>
          <a:noFill/>
          <a:ln w="25560">
            <a:solidFill>
              <a:srgbClr val="000000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Дуга 19"/>
          <p:cNvSpPr/>
          <p:nvPr/>
        </p:nvSpPr>
        <p:spPr>
          <a:xfrm rot="10800000">
            <a:off x="2484360" y="2923920"/>
            <a:ext cx="503280" cy="360360"/>
          </a:xfrm>
          <a:custGeom>
            <a:avLst/>
            <a:gdLst>
              <a:gd name="textAreaLeft" fmla="*/ 0 w 503280"/>
              <a:gd name="textAreaRight" fmla="*/ 503640 w 503280"/>
              <a:gd name="textAreaTop" fmla="*/ 0 h 360360"/>
              <a:gd name="textAreaBottom" fmla="*/ 186120 h 360360"/>
            </a:gdLst>
            <a:ahLst/>
            <a:rect l="textAreaLeft" t="textAreaTop" r="textAreaRight" b="textAreaBottom"/>
            <a:pathLst>
              <a:path stroke="0" w="648072" h="360040">
                <a:moveTo>
                  <a:pt x="171" y="185864"/>
                </a:moveTo>
                <a:lnTo>
                  <a:pt x="171" y="185864"/>
                </a:lnTo>
                <a:arcTo wR="324036" hR="180020" stAng="10737974" swAng="10862036"/>
                <a:lnTo>
                  <a:pt x="324036" y="180020"/>
                </a:lnTo>
                <a:close/>
              </a:path>
              <a:path fill="none" w="648072" h="360040">
                <a:moveTo>
                  <a:pt x="171" y="185864"/>
                </a:moveTo>
                <a:lnTo>
                  <a:pt x="171" y="185864"/>
                </a:lnTo>
                <a:arcTo wR="324036" hR="180020" stAng="10737974" swAng="10862036"/>
              </a:path>
            </a:pathLst>
          </a:custGeom>
          <a:noFill/>
          <a:ln w="25560">
            <a:solidFill>
              <a:srgbClr val="000000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Picture 5" descr="https://ds04.infourok.ru/uploads/ex/0079/00100608-4c8dce3c/hello_html_m7b22c640.png"/>
          <p:cNvPicPr/>
          <p:nvPr/>
        </p:nvPicPr>
        <p:blipFill>
          <a:blip r:embed="rId3"/>
          <a:stretch/>
        </p:blipFill>
        <p:spPr>
          <a:xfrm>
            <a:off x="5651640" y="2781360"/>
            <a:ext cx="874440" cy="79200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4" descr="https://images.freeimages.com/images/previews/086/couple-in-love-5-1246044.jpg"/>
          <p:cNvPicPr/>
          <p:nvPr/>
        </p:nvPicPr>
        <p:blipFill>
          <a:blip r:embed="rId4"/>
          <a:stretch/>
        </p:blipFill>
        <p:spPr>
          <a:xfrm>
            <a:off x="3132000" y="2708280"/>
            <a:ext cx="1079640" cy="811080"/>
          </a:xfrm>
          <a:prstGeom prst="rect">
            <a:avLst/>
          </a:prstGeom>
          <a:ln w="0">
            <a:noFill/>
          </a:ln>
        </p:spPr>
      </p:pic>
      <p:pic>
        <p:nvPicPr>
          <p:cNvPr id="262" name="Прямоугольник 25" descr=""/>
          <p:cNvPicPr/>
          <p:nvPr/>
        </p:nvPicPr>
        <p:blipFill>
          <a:blip r:embed="rId5"/>
          <a:stretch/>
        </p:blipFill>
        <p:spPr>
          <a:xfrm>
            <a:off x="2050920" y="3213000"/>
            <a:ext cx="762120" cy="64620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2" descr="http://more-cliparts.net/images/RkiMqzRcj.jpg"/>
          <p:cNvPicPr/>
          <p:nvPr/>
        </p:nvPicPr>
        <p:blipFill>
          <a:blip r:embed="rId6"/>
          <a:stretch/>
        </p:blipFill>
        <p:spPr>
          <a:xfrm>
            <a:off x="6875640" y="2852640"/>
            <a:ext cx="649080" cy="647640"/>
          </a:xfrm>
          <a:prstGeom prst="rect">
            <a:avLst/>
          </a:prstGeom>
          <a:ln w="0">
            <a:noFill/>
          </a:ln>
        </p:spPr>
      </p:pic>
      <p:pic>
        <p:nvPicPr>
          <p:cNvPr id="264" name="Прямоугольник 28" descr=""/>
          <p:cNvPicPr/>
          <p:nvPr/>
        </p:nvPicPr>
        <p:blipFill>
          <a:blip r:embed="rId7"/>
          <a:stretch/>
        </p:blipFill>
        <p:spPr>
          <a:xfrm>
            <a:off x="1420920" y="128520"/>
            <a:ext cx="7607160" cy="20113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18" descr="https://img-fotki.yandex.ru/get/9307/58581001.1c0/0_b5ae9_da172b5_S"/>
          <p:cNvPicPr/>
          <p:nvPr/>
        </p:nvPicPr>
        <p:blipFill>
          <a:blip r:embed="rId8"/>
          <a:stretch/>
        </p:blipFill>
        <p:spPr>
          <a:xfrm>
            <a:off x="7056360" y="4110120"/>
            <a:ext cx="2087640" cy="27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50000">
              <a:srgbClr val="ffff99"/>
            </a:gs>
            <a:gs pos="100000">
              <a:srgbClr val="ff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755640" y="620640"/>
            <a:ext cx="781992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9900"/>
                    </a:gs>
                    <a:gs pos="50000">
                      <a:srgbClr val="99cc00"/>
                    </a:gs>
                    <a:gs pos="100000">
                      <a:srgbClr val="009900"/>
                    </a:gs>
                  </a:gsLst>
                  <a:lin ang="5400000"/>
                </a:gradFill>
                <a:latin typeface="Arial"/>
              </a:rPr>
              <a:t>Здесь порядок очень строгий,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9900"/>
                  </a:gs>
                  <a:gs pos="50000">
                    <a:srgbClr val="99cc00"/>
                  </a:gs>
                  <a:gs pos="100000">
                    <a:srgbClr val="0099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9900"/>
                    </a:gs>
                    <a:gs pos="50000">
                      <a:srgbClr val="99cc00"/>
                    </a:gs>
                    <a:gs pos="100000">
                      <a:srgbClr val="009900"/>
                    </a:gs>
                  </a:gsLst>
                  <a:lin ang="5400000"/>
                </a:gradFill>
                <a:latin typeface="Arial"/>
              </a:rPr>
              <a:t>Делим все слова на слоги.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9900"/>
                  </a:gs>
                  <a:gs pos="50000">
                    <a:srgbClr val="99cc00"/>
                  </a:gs>
                  <a:gs pos="100000">
                    <a:srgbClr val="0099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1619280" y="3716280"/>
            <a:ext cx="582624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9900"/>
                    </a:gs>
                    <a:gs pos="50000">
                      <a:srgbClr val="99cc00"/>
                    </a:gs>
                    <a:gs pos="100000">
                      <a:srgbClr val="009900"/>
                    </a:gs>
                  </a:gsLst>
                  <a:lin ang="5400000"/>
                </a:gradFill>
                <a:latin typeface="Arial"/>
              </a:rPr>
              <a:t>Переносим по слогам!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9900"/>
                  </a:gs>
                  <a:gs pos="50000">
                    <a:srgbClr val="99cc00"/>
                  </a:gs>
                  <a:gs pos="100000">
                    <a:srgbClr val="0099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68360" y="5157720"/>
            <a:ext cx="796284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9900"/>
                    </a:gs>
                    <a:gs pos="50000">
                      <a:srgbClr val="99cc00"/>
                    </a:gs>
                    <a:gs pos="100000">
                      <a:srgbClr val="009900"/>
                    </a:gs>
                  </a:gsLst>
                  <a:lin ang="5400000"/>
                </a:gradFill>
                <a:latin typeface="Arial"/>
              </a:rPr>
              <a:t>Только так и нравится словам!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9900"/>
                  </a:gs>
                  <a:gs pos="50000">
                    <a:srgbClr val="99cc00"/>
                  </a:gs>
                  <a:gs pos="100000">
                    <a:srgbClr val="0099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50000">
              <a:srgbClr val="ffff99"/>
            </a:gs>
            <a:gs pos="100000">
              <a:srgbClr val="ff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Работа с учебнико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355640" y="2492280"/>
            <a:ext cx="4319640" cy="30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. 50 упр.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" descr="Иванов, Кузнецова, Евдокимова - Русский язык. 1 класс. Учебник. ФГОС обложка книги"/>
          <p:cNvPicPr/>
          <p:nvPr/>
        </p:nvPicPr>
        <p:blipFill>
          <a:blip r:embed="rId1"/>
          <a:stretch/>
        </p:blipFill>
        <p:spPr>
          <a:xfrm rot="21017400">
            <a:off x="971640" y="2205000"/>
            <a:ext cx="2817720" cy="365112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3886200" y="3213000"/>
            <a:ext cx="5257800" cy="10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8T06:19:38Z</dcterms:created>
  <dc:creator>user</dc:creator>
  <dc:description/>
  <dc:language>en-US</dc:language>
  <cp:lastModifiedBy>Oksana</cp:lastModifiedBy>
  <dcterms:modified xsi:type="dcterms:W3CDTF">2022-02-15T15:12:27Z</dcterms:modified>
  <cp:revision>66</cp:revision>
  <dc:subject/>
  <dc:title>Слайд 1</dc:title>
</cp:coreProperties>
</file>