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22.gif" ContentType="image/gif"/>
  <Override PartName="/ppt/media/image20.gif" ContentType="image/gif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B63-B72F-4B8D-97B5-CA485087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F76-CABF-4925-9396-B639197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28F-AF8F-46F7-9C5E-0E1C31B4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88D-5614-42A4-B65E-D79D6C15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61C-3793-478A-A635-22E55842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19AF-BB33-4FA4-A1B3-7591F0F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DCA8-D4DD-4806-AD12-21EFC66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63E4-EE6A-41ED-BBEF-4C5DD4CE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A77-B835-4233-A0B5-F0331A4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E063-DC45-40B7-B7D2-EDFAF8E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157D-FE7C-494B-8116-399DB8E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7E9-639F-4687-B91D-899DBB10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CF4A-6941-469B-9486-E4408CB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CCF-C429-4152-96C3-B752323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D2E-7B34-47C4-B62F-26D6A95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F73D-B40A-4E68-84B6-541523F6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AD67-8417-4A49-AB87-59180A0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F79B0-C385-433D-B0E2-5F75E739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25213-4C8D-4004-9D1F-9BC11AE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4EF68-D45D-49F6-A28C-B162DB02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43CD7-7006-468F-8855-9B4227C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B560F-BDC8-4336-A96D-553F44CB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33E-662A-4FDE-90B9-9EAD73A1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11FFC-63B6-4FFC-9CC1-2697997F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632E1-DF41-4FF2-AA75-C0F8F4D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449D-90C0-439E-AB46-3F1655B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9D171-5284-4889-9D84-D289452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EA3A5-9E0F-42A7-B297-DB499741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DC994-423C-477C-A3E5-DDBB3347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E57CB-3957-409A-9C42-045AF02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C6B-D951-4F9D-A4E7-4951769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E8F-1F28-4322-8466-42929D9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33B-544F-4EF0-9EEB-26703D0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5A6-A701-4993-B6BA-ECA7B04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F54-3051-498F-BA97-0063248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2DD-6D95-41CA-BE7F-ADF531A8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DA7-C8B4-4BD2-8754-6D93F778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ACE-6EB6-4FA9-86A9-2CDC469E4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1A0A-AE76-4CBF-B37C-44124795C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image" Target="../media/image17.gif"/><Relationship Id="rId27" Type="http://schemas.openxmlformats.org/officeDocument/2006/relationships/image" Target="../media/image17.gif"/><Relationship Id="rId28" Type="http://schemas.openxmlformats.org/officeDocument/2006/relationships/image" Target="../media/image17.gif"/><Relationship Id="rId29" Type="http://schemas.openxmlformats.org/officeDocument/2006/relationships/image" Target="../media/image17.gif"/><Relationship Id="rId30" Type="http://schemas.openxmlformats.org/officeDocument/2006/relationships/image" Target="../media/image17.gif"/><Relationship Id="rId31" Type="http://schemas.openxmlformats.org/officeDocument/2006/relationships/image" Target="../media/image17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7.gif"/><Relationship Id="rId35" Type="http://schemas.openxmlformats.org/officeDocument/2006/relationships/image" Target="../media/image17.gif"/><Relationship Id="rId36" Type="http://schemas.openxmlformats.org/officeDocument/2006/relationships/image" Target="../media/image17.gif"/><Relationship Id="rId3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494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11280" y="5305320"/>
            <a:ext cx="65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ла: учитель начальных классов БОУ г. Омска «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образовательная школа № 13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онова Окс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76720" y="494172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 - 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76720" y="2708280"/>
            <a:ext cx="2806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 - 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85040" y="2938680"/>
            <a:ext cx="1170360" cy="580680"/>
            <a:chOff x="4685040" y="2938680"/>
            <a:chExt cx="1170360" cy="5806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rcRect l="0" t="43045" r="63970" b="13730"/>
            <a:stretch/>
          </p:blipFill>
          <p:spPr>
            <a:xfrm rot="20779800">
              <a:off x="5218200" y="3213000"/>
              <a:ext cx="287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"/>
            <a:srcRect l="0" t="43045" r="63970" b="13730"/>
            <a:stretch/>
          </p:blipFill>
          <p:spPr>
            <a:xfrm rot="870600">
              <a:off x="4716360" y="30690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"/>
            <a:srcRect l="0" t="43045" r="63970" b="13730"/>
            <a:stretch/>
          </p:blipFill>
          <p:spPr>
            <a:xfrm rot="19223400">
              <a:off x="5508720" y="2997000"/>
              <a:ext cx="28728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4958640" y="5403600"/>
            <a:ext cx="1109520" cy="597960"/>
            <a:chOff x="4958640" y="5403600"/>
            <a:chExt cx="1109520" cy="597960"/>
          </a:xfrm>
        </p:grpSpPr>
        <p:pic>
          <p:nvPicPr>
            <p:cNvPr id="291" name="" descr=""/>
            <p:cNvPicPr/>
            <p:nvPr/>
          </p:nvPicPr>
          <p:blipFill>
            <a:blip r:embed="rId4"/>
            <a:srcRect l="0" t="43045" r="63970" b="13730"/>
            <a:stretch/>
          </p:blipFill>
          <p:spPr>
            <a:xfrm rot="1470000">
              <a:off x="5005080" y="550008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5"/>
            <a:srcRect l="0" t="43045" r="63970" b="13730"/>
            <a:stretch/>
          </p:blipFill>
          <p:spPr>
            <a:xfrm rot="234600">
              <a:off x="5333400" y="57045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rcRect l="0" t="43045" r="63970" b="13730"/>
            <a:stretch/>
          </p:blipFill>
          <p:spPr>
            <a:xfrm rot="20619000">
              <a:off x="5746320" y="543816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43640" y="4941720"/>
            <a:ext cx="144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56360" y="2852640"/>
            <a:ext cx="151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32360" y="285264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96000" y="2997360"/>
            <a:ext cx="216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12000" y="5157720"/>
            <a:ext cx="21564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3640" y="4941720"/>
            <a:ext cx="6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756680" y="5386680"/>
            <a:ext cx="1169640" cy="580320"/>
            <a:chOff x="4756680" y="5386680"/>
            <a:chExt cx="1169640" cy="58032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rcRect l="0" t="43045" r="63970" b="13730"/>
            <a:stretch/>
          </p:blipFill>
          <p:spPr>
            <a:xfrm rot="20779800">
              <a:off x="5289480" y="5660640"/>
              <a:ext cx="2869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2"/>
            <a:srcRect l="0" t="43045" r="63970" b="13730"/>
            <a:stretch/>
          </p:blipFill>
          <p:spPr>
            <a:xfrm rot="870600">
              <a:off x="4788000" y="5516640"/>
              <a:ext cx="2869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3"/>
            <a:srcRect l="0" t="43045" r="63970" b="13730"/>
            <a:stretch/>
          </p:blipFill>
          <p:spPr>
            <a:xfrm rot="19223400">
              <a:off x="5580000" y="5444640"/>
              <a:ext cx="28692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685040" y="3154320"/>
            <a:ext cx="1170360" cy="580680"/>
            <a:chOff x="4685040" y="3154320"/>
            <a:chExt cx="1170360" cy="58068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rcRect l="0" t="43045" r="63970" b="13730"/>
            <a:stretch/>
          </p:blipFill>
          <p:spPr>
            <a:xfrm rot="20779800">
              <a:off x="5218200" y="3428640"/>
              <a:ext cx="287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5"/>
            <a:srcRect l="0" t="43045" r="63970" b="13730"/>
            <a:stretch/>
          </p:blipFill>
          <p:spPr>
            <a:xfrm rot="870600">
              <a:off x="4716360" y="3284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6"/>
            <a:srcRect l="0" t="43045" r="63970" b="13730"/>
            <a:stretch/>
          </p:blipFill>
          <p:spPr>
            <a:xfrm rot="19223400">
              <a:off x="5508720" y="3212640"/>
              <a:ext cx="287280" cy="2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01874E-006 L 0.06892 -3.01874E-006 E">
                                      <p:cBhvr>
                                        <p:cTn id="11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 L -1.94444E-006 0 E">
                                      <p:cBhvr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5640" y="620640"/>
            <a:ext cx="78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Кто сделал больно буковке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Важнее нет вопроса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4360" y="3573360"/>
            <a:ext cx="792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Тот, кто одну оставил букву на строке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41520" y="5157720"/>
            <a:ext cx="7962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Не знает правил переноса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443640" y="4941720"/>
            <a:ext cx="144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56360" y="2852640"/>
            <a:ext cx="151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285264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796000" y="2997360"/>
            <a:ext cx="216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12000" y="5157720"/>
            <a:ext cx="21564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003640" y="4941720"/>
            <a:ext cx="6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39830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32360" y="501336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03640" y="2781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3640" y="357336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аль - 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360" y="414972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лей - 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859280" y="580536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ень - 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519640" cy="2381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 rot="19359600">
            <a:off x="323640" y="69192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 rot="19359600">
            <a:off x="6013080" y="54900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 rot="19359600">
            <a:off x="324000" y="393336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 rot="19359600">
            <a:off x="6084360" y="3933360"/>
            <a:ext cx="2519640" cy="2381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395280" y="61596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9"/>
          <a:stretch/>
        </p:blipFill>
        <p:spPr>
          <a:xfrm>
            <a:off x="6156360" y="393372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0"/>
          <a:stretch/>
        </p:blipFill>
        <p:spPr>
          <a:xfrm>
            <a:off x="395280" y="400536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1"/>
          <a:stretch/>
        </p:blipFill>
        <p:spPr>
          <a:xfrm>
            <a:off x="3419640" y="241632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2"/>
          <a:stretch/>
        </p:blipFill>
        <p:spPr>
          <a:xfrm rot="19528800">
            <a:off x="3276720" y="2487240"/>
            <a:ext cx="2519280" cy="2381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6443640" y="155736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ень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4360" y="1557360"/>
            <a:ext cx="1871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ай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4360" y="4797360"/>
            <a:ext cx="2016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бъё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516720" y="4724280"/>
            <a:ext cx="1871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май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24360" y="3357720"/>
            <a:ext cx="14666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оль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 rot="18884400">
            <a:off x="5127120" y="575460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4"/>
          <a:stretch/>
        </p:blipFill>
        <p:spPr>
          <a:xfrm rot="21080400">
            <a:off x="5148360" y="5733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5"/>
          <a:stretch/>
        </p:blipFill>
        <p:spPr>
          <a:xfrm rot="18884400">
            <a:off x="8080560" y="316188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6"/>
          <a:stretch/>
        </p:blipFill>
        <p:spPr>
          <a:xfrm rot="18884400">
            <a:off x="3398760" y="71280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 rot="21196200">
            <a:off x="3419640" y="6919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8"/>
          <a:stretch/>
        </p:blipFill>
        <p:spPr>
          <a:xfrm rot="21103200">
            <a:off x="3471840" y="5681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9"/>
          <a:stretch/>
        </p:blipFill>
        <p:spPr>
          <a:xfrm rot="18884400">
            <a:off x="3471120" y="5681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0"/>
          <a:stretch/>
        </p:blipFill>
        <p:spPr>
          <a:xfrm rot="18884400">
            <a:off x="229680" y="3233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1"/>
          <a:stretch/>
        </p:blipFill>
        <p:spPr>
          <a:xfrm rot="20943000">
            <a:off x="8100720" y="3141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2"/>
          <a:stretch/>
        </p:blipFill>
        <p:spPr>
          <a:xfrm rot="18884400">
            <a:off x="5127120" y="71424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3"/>
          <a:stretch/>
        </p:blipFill>
        <p:spPr>
          <a:xfrm rot="21045600">
            <a:off x="250920" y="321264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4"/>
          <a:stretch/>
        </p:blipFill>
        <p:spPr>
          <a:xfrm rot="20850000">
            <a:off x="5148360" y="6919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5"/>
          <a:stretch/>
        </p:blipFill>
        <p:spPr>
          <a:xfrm rot="20965200">
            <a:off x="8295840" y="20916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 rot="18884400">
            <a:off x="8296200" y="20952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7"/>
          <a:stretch/>
        </p:blipFill>
        <p:spPr>
          <a:xfrm rot="21273000">
            <a:off x="158400" y="280800"/>
            <a:ext cx="719280" cy="677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8"/>
          <a:stretch/>
        </p:blipFill>
        <p:spPr>
          <a:xfrm rot="18884400">
            <a:off x="158040" y="35388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9"/>
          <a:stretch/>
        </p:blipFill>
        <p:spPr>
          <a:xfrm rot="20677200">
            <a:off x="8295840" y="59911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0"/>
          <a:stretch/>
        </p:blipFill>
        <p:spPr>
          <a:xfrm rot="18884400">
            <a:off x="8296200" y="597060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1"/>
          <a:stretch/>
        </p:blipFill>
        <p:spPr>
          <a:xfrm rot="20496600">
            <a:off x="181080" y="613548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2"/>
          <a:stretch/>
        </p:blipFill>
        <p:spPr>
          <a:xfrm rot="18884400">
            <a:off x="158040" y="615924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3"/>
          <a:stretch/>
        </p:blipFill>
        <p:spPr>
          <a:xfrm rot="20827800">
            <a:off x="2319120" y="330480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4"/>
          <a:stretch/>
        </p:blipFill>
        <p:spPr>
          <a:xfrm rot="18884400">
            <a:off x="2319480" y="330480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5"/>
          <a:stretch/>
        </p:blipFill>
        <p:spPr>
          <a:xfrm rot="20844000">
            <a:off x="6229440" y="321264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6"/>
          <a:stretch/>
        </p:blipFill>
        <p:spPr>
          <a:xfrm rot="18884400">
            <a:off x="6206400" y="3233520"/>
            <a:ext cx="7192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печатной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47 упр. 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48 упр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356000" y="3789360"/>
            <a:ext cx="41036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989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79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3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87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19640" y="2637000"/>
            <a:ext cx="7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67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3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88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3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19640" y="1989000"/>
            <a:ext cx="3333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64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087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51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56360" y="2637000"/>
            <a:ext cx="712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04000" y="1989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24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5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92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89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29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335772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916280"/>
            <a:ext cx="3333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64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948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24360" y="335772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292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64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2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48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58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43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32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964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635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8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16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867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732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770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2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308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64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524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03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028000" y="3789360"/>
            <a:ext cx="712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450864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11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68360" y="465300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00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5600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43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8764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0364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4800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92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16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24360" y="4653000"/>
            <a:ext cx="71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700360" y="5661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132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48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1964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352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4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42764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2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88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32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732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516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00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56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148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380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236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0930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948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24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156360" y="5661000"/>
            <a:ext cx="28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956720" y="6308640"/>
            <a:ext cx="7128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14280" y="209520"/>
            <a:ext cx="85168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468360" y="1989000"/>
            <a:ext cx="8207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усь….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ю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йму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ю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Заголовок 1"/>
          <p:cNvSpPr/>
          <p:nvPr/>
        </p:nvSpPr>
        <p:spPr>
          <a:xfrm>
            <a:off x="934920" y="1844640"/>
            <a:ext cx="820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ился….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ил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нял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ил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8" descr="https://img-fotki.yandex.ru/get/9307/58581001.1c0/0_b5ae9_da172b5_S"/>
          <p:cNvPicPr/>
          <p:nvPr/>
        </p:nvPicPr>
        <p:blipFill>
          <a:blip r:embed="rId1"/>
          <a:stretch/>
        </p:blipFill>
        <p:spPr>
          <a:xfrm>
            <a:off x="7056360" y="26028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2411280" y="1773360"/>
            <a:ext cx="59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Gothic"/>
                <a:ea typeface="Arial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На уроке мне было интере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Мне всё понравилось. У меня вс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получ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Урок мне понравился, но у меня не  все получалось. Мне требовалась помощ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На уроке мне было скучно. Я ничего не поня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http://smayli.ru/data/smiles/zvezdia-310.gif"/>
          <p:cNvPicPr/>
          <p:nvPr/>
        </p:nvPicPr>
        <p:blipFill>
          <a:blip r:embed="rId1"/>
          <a:stretch/>
        </p:blipFill>
        <p:spPr>
          <a:xfrm>
            <a:off x="1187280" y="3645000"/>
            <a:ext cx="1079640" cy="977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www.nejkams4ever.estranky.cz/img/mid/40/6085681.gif.jpg"/>
          <p:cNvPicPr/>
          <p:nvPr/>
        </p:nvPicPr>
        <p:blipFill>
          <a:blip r:embed="rId2"/>
          <a:stretch/>
        </p:blipFill>
        <p:spPr>
          <a:xfrm>
            <a:off x="1187280" y="2133720"/>
            <a:ext cx="1079640" cy="1031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img-fotki.yandex.ru/get/5504/val-pryanikova.2a/0_7475b_aa820612_XS.jpg"/>
          <p:cNvPicPr/>
          <p:nvPr/>
        </p:nvPicPr>
        <p:blipFill>
          <a:blip r:embed="rId3"/>
          <a:stretch/>
        </p:blipFill>
        <p:spPr>
          <a:xfrm>
            <a:off x="1116000" y="5013360"/>
            <a:ext cx="1224000" cy="11016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3840" y="1844640"/>
            <a:ext cx="43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25560" y="2133720"/>
            <a:ext cx="333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59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064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66920" y="2112840"/>
            <a:ext cx="21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83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8628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44664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383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8628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1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940360" y="2637000"/>
            <a:ext cx="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470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975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407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12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71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1332360"/>
            <a:ext cx="6626160" cy="13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Помогите нам, пожалуйста. Злой волшебник похитил несколько правил. Мы в опасности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Жители страны «Грамматика</a:t>
            </a:r>
            <a:r>
              <a:rPr b="0" i="1" lang="en-US" sz="72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55640" y="260280"/>
            <a:ext cx="77817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66752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Помогите нам, пожа -луйста. Злой волшебник похитил несколько пра -вил. Мы в опасност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3399"/>
                </a:solidFill>
                <a:latin typeface="Arial"/>
              </a:rPr>
              <a:t>Жители страны Граммати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128520"/>
            <a:ext cx="7607160" cy="201132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1"/>
          <p:cNvSpPr/>
          <p:nvPr/>
        </p:nvSpPr>
        <p:spPr>
          <a:xfrm>
            <a:off x="468360" y="1989000"/>
            <a:ext cx="8207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ю…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усь….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йму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ю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8" descr="https://img-fotki.yandex.ru/get/9307/58581001.1c0/0_b5ae9_da172b5_S"/>
          <p:cNvPicPr/>
          <p:nvPr/>
        </p:nvPicPr>
        <p:blipFill>
          <a:blip r:embed="rId2"/>
          <a:stretch/>
        </p:blipFill>
        <p:spPr>
          <a:xfrm>
            <a:off x="7056360" y="411012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7" name="Прямая со стрелкой 2"/>
          <p:cNvCxnSpPr/>
          <p:nvPr/>
        </p:nvCxnSpPr>
        <p:spPr>
          <a:xfrm>
            <a:off x="1332000" y="2636640"/>
            <a:ext cx="6480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248" name="Прямая соединительная линия 3"/>
          <p:cNvSpPr/>
          <p:nvPr/>
        </p:nvSpPr>
        <p:spPr>
          <a:xfrm>
            <a:off x="1979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2987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"/>
          <p:cNvSpPr/>
          <p:nvPr/>
        </p:nvSpPr>
        <p:spPr>
          <a:xfrm>
            <a:off x="4427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550872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7"/>
          <p:cNvSpPr/>
          <p:nvPr/>
        </p:nvSpPr>
        <p:spPr>
          <a:xfrm>
            <a:off x="6732720" y="234936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1"/>
          <p:cNvSpPr/>
          <p:nvPr/>
        </p:nvSpPr>
        <p:spPr>
          <a:xfrm>
            <a:off x="1403280" y="2708280"/>
            <a:ext cx="360360" cy="360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https://image.freepik.com/free-icon/no-translate-detected_318-58707.jpg"/>
          <p:cNvPicPr/>
          <p:nvPr/>
        </p:nvPicPr>
        <p:blipFill>
          <a:blip r:embed="rId1"/>
          <a:stretch/>
        </p:blipFill>
        <p:spPr>
          <a:xfrm>
            <a:off x="4643280" y="2708280"/>
            <a:ext cx="648000" cy="649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3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774720" cy="475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4"/>
          <p:cNvSpPr/>
          <p:nvPr/>
        </p:nvSpPr>
        <p:spPr>
          <a:xfrm>
            <a:off x="1979640" y="2708280"/>
            <a:ext cx="1008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248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18"/>
          <p:cNvSpPr/>
          <p:nvPr/>
        </p:nvSpPr>
        <p:spPr>
          <a:xfrm rot="10800000">
            <a:off x="1979640" y="2923920"/>
            <a:ext cx="504720" cy="360360"/>
          </a:xfrm>
          <a:custGeom>
            <a:avLst/>
            <a:gdLst>
              <a:gd name="textAreaLeft" fmla="*/ 0 w 504720"/>
              <a:gd name="textAreaRight" fmla="*/ 504720 w 504720"/>
              <a:gd name="textAreaTop" fmla="*/ 0 h 360360"/>
              <a:gd name="textAreaBottom" fmla="*/ 186120 h 360360"/>
            </a:gdLst>
            <a:ahLst/>
            <a:rect l="textAreaLeft" t="textAreaTop" r="textAreaRight" b="textAreaBottom"/>
            <a:pathLst>
              <a:path stroke="0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  <a:lnTo>
                  <a:pt x="324036" y="180020"/>
                </a:lnTo>
                <a:close/>
              </a:path>
              <a:path fill="none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19"/>
          <p:cNvSpPr/>
          <p:nvPr/>
        </p:nvSpPr>
        <p:spPr>
          <a:xfrm rot="10800000">
            <a:off x="2484360" y="292392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186120 h 360360"/>
            </a:gdLst>
            <a:ahLst/>
            <a:rect l="textAreaLeft" t="textAreaTop" r="textAreaRight" b="textAreaBottom"/>
            <a:pathLst>
              <a:path stroke="0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  <a:lnTo>
                  <a:pt x="324036" y="180020"/>
                </a:lnTo>
                <a:close/>
              </a:path>
              <a:path fill="none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https://ds04.infourok.ru/uploads/ex/0079/00100608-4c8dce3c/hello_html_m7b22c640.png"/>
          <p:cNvPicPr/>
          <p:nvPr/>
        </p:nvPicPr>
        <p:blipFill>
          <a:blip r:embed="rId3"/>
          <a:stretch/>
        </p:blipFill>
        <p:spPr>
          <a:xfrm>
            <a:off x="5651640" y="2781360"/>
            <a:ext cx="874440" cy="79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s://images.freeimages.com/images/previews/086/couple-in-love-5-1246044.jpg"/>
          <p:cNvPicPr/>
          <p:nvPr/>
        </p:nvPicPr>
        <p:blipFill>
          <a:blip r:embed="rId4"/>
          <a:stretch/>
        </p:blipFill>
        <p:spPr>
          <a:xfrm>
            <a:off x="3132000" y="2708280"/>
            <a:ext cx="1079640" cy="81108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25" descr=""/>
          <p:cNvPicPr/>
          <p:nvPr/>
        </p:nvPicPr>
        <p:blipFill>
          <a:blip r:embed="rId5"/>
          <a:stretch/>
        </p:blipFill>
        <p:spPr>
          <a:xfrm>
            <a:off x="2050920" y="3213000"/>
            <a:ext cx="762120" cy="646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more-cliparts.net/images/RkiMqzRcj.jpg"/>
          <p:cNvPicPr/>
          <p:nvPr/>
        </p:nvPicPr>
        <p:blipFill>
          <a:blip r:embed="rId6"/>
          <a:stretch/>
        </p:blipFill>
        <p:spPr>
          <a:xfrm>
            <a:off x="6875640" y="2852640"/>
            <a:ext cx="64908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8" descr=""/>
          <p:cNvPicPr/>
          <p:nvPr/>
        </p:nvPicPr>
        <p:blipFill>
          <a:blip r:embed="rId7"/>
          <a:stretch/>
        </p:blipFill>
        <p:spPr>
          <a:xfrm>
            <a:off x="1420920" y="128520"/>
            <a:ext cx="7607160" cy="2011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img-fotki.yandex.ru/get/9307/58581001.1c0/0_b5ae9_da172b5_S"/>
          <p:cNvPicPr/>
          <p:nvPr/>
        </p:nvPicPr>
        <p:blipFill>
          <a:blip r:embed="rId8"/>
          <a:stretch/>
        </p:blipFill>
        <p:spPr>
          <a:xfrm>
            <a:off x="7056360" y="411012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640" y="620640"/>
            <a:ext cx="78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Здесь порядок очень строгий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Делим все слова на слог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19280" y="3716280"/>
            <a:ext cx="5826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Переносим по слога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5157720"/>
            <a:ext cx="7962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Только так и нравится слова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50 упр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886200" y="3213000"/>
            <a:ext cx="52578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6:19:38Z</dcterms:created>
  <dc:creator>user</dc:creator>
  <dc:description/>
  <dc:language>en-US</dc:language>
  <cp:lastModifiedBy>Oksana</cp:lastModifiedBy>
  <dcterms:modified xsi:type="dcterms:W3CDTF">2022-02-15T15:12:27Z</dcterms:modified>
  <cp:revision>66</cp:revision>
  <dc:subject/>
  <dc:title>Слайд 1</dc:title>
</cp:coreProperties>
</file>