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FCA-EBE1-4468-B13F-C9414DB2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F9A-A185-46E5-A118-B41783F5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D43-83B0-41EB-809D-97F0E8AB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41D-1DB1-4E95-8FE8-00BB2DDD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1D3A-BE1F-4060-8749-42997F2E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D63A-E0C7-4C66-B3D5-72CF7B3B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5100-C7B9-4EE6-B497-4B36BFB3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73BF-30B3-4BC7-A63C-64C83A0A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98EF-85AD-42B5-9B6A-8F28B6D9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7D32-BCF8-41DE-8EE5-2C1EB983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29C5-0383-4EF1-AFF6-E0CCED7A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361-54B5-4BF6-AC46-4D255D49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B820-E53B-4906-AB4E-E91EBD57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A08B-169C-44FE-93A2-788DDFA8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BF40-AE06-4A52-8A07-1D2946C8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1DF8-B69F-4E6E-9D79-EEC33B21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278F-A7EE-4012-A560-C3D5F3A9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8B6F9-827A-4A79-B760-C2F0D7F1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AB983-EF08-4F41-B6AD-9C92B401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F6B03-024F-4386-B23C-86071483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1E542-80EE-4123-A9F2-1484A5CA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6BABB-BF8D-47DD-841C-759CEE80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5E6-0DE8-4CCF-A2F8-5163990E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986D-3F32-412B-9A8C-7183AC62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143B9-0233-49DF-83F5-EC1BF774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796F2-7F5D-4A4E-A086-974AA992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DD818-8779-422B-9CB9-322FEA80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BBEC3-8B7D-4903-BE55-DB7629A8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FE6C-CD93-467F-8BF1-7D440AED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3E252-70C2-447F-B61F-48E00AD6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DDF0E-1B7C-47D5-B95A-AB0C39CE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07A3A-174B-4D61-9ADE-BB762F4D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C018A-6F6D-44DA-BF43-C3559960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877-3DB6-4BB3-976D-ED54B86F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BACDA-65C8-4081-92F6-4C2ACC56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E7A27-F724-4A1A-A81D-5F97B5D9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94BAA-0343-4057-91DC-0F7840C5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C289D-E8BD-4556-9773-896414F6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D4A0F-5D72-4FFE-9482-21165D64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D3844-F218-42BF-B67A-A005FA1B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057FD-829B-41C2-9F0D-A42D7B84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01E45-D157-41A8-9D98-5BA241A0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8C8F5-A9B7-415B-8233-EF3231EF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43C-EEAB-427A-B1D6-8CAAA24A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EA6-847E-4842-8F94-90660F47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F62-4BFF-4CE2-91A7-1D750819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2B1-6B8A-4749-9C45-A062A88B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E86-98D9-4552-865C-FFB56F91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83CBB-B7E7-4E21-9E09-7FF6061D438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7493F-5D20-400C-8FB2-CD10CEE0CE2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3239C-FB55-4EC1-B908-8400311E155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27A1E-A051-4654-A97C-094CA7757B9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Овал 6"/>
          <p:cNvSpPr/>
          <p:nvPr/>
        </p:nvSpPr>
        <p:spPr>
          <a:xfrm>
            <a:off x="385920" y="5375160"/>
            <a:ext cx="2976480" cy="94464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0640" y="1584000"/>
            <a:ext cx="98092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Какое из полезных ископаемых самое прочное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20640" y="4184640"/>
            <a:ext cx="3943440" cy="15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1) Известняк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2) Гранит </a:t>
            </a:r>
            <a:r>
              <a:rPr b="0" lang="ru-RU" sz="3600" spc="-1" strike="noStrike">
                <a:solidFill>
                  <a:srgbClr val="7f7f7f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7f7f7f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7f7f7f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7f7f7f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7f7f7f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7f7f7f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rgbClr val="7f7f7f"/>
                </a:solidFill>
                <a:latin typeface="Trebuchet MS"/>
              </a:rPr>
              <a:t>	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5511960" y="4097160"/>
            <a:ext cx="491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3) Каменный уголь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4) Торф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2898720" y="449280"/>
            <a:ext cx="45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ип задания «Узнавание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68160" y="1082160"/>
            <a:ext cx="99475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«Продолжи предложение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68080" y="2857320"/>
            <a:ext cx="9234360" cy="109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Места, где в глубинах земли или на ее поверхности залегают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лезные ископаемые называются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TextBox 16"/>
          <p:cNvSpPr/>
          <p:nvPr/>
        </p:nvSpPr>
        <p:spPr>
          <a:xfrm>
            <a:off x="2798640" y="338040"/>
            <a:ext cx="52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ип задания « Воспроизведение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3164040" y="4753080"/>
            <a:ext cx="46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месторождениям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Овал 4"/>
          <p:cNvSpPr/>
          <p:nvPr/>
        </p:nvSpPr>
        <p:spPr>
          <a:xfrm>
            <a:off x="466560" y="5157720"/>
            <a:ext cx="7716960" cy="117972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97040" y="1029960"/>
            <a:ext cx="8596080" cy="8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a5010"/>
                </a:solidFill>
                <a:latin typeface="Trebuchet MS"/>
              </a:rPr>
              <a:t>Найди неверное утвержде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880" y="2160360"/>
            <a:ext cx="97646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) Известняк используют при строительстве зданий, дорог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) Торф может служить подстилкой для животных на фермах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) Из желтой руды выплавляют чугун, а из чугуна – сталь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) Изделия из гранита называются керамикой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3081240" y="25560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ип задания «Понимание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2840" y="974880"/>
            <a:ext cx="1038708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Подготовь классификационную таблицу </a:t>
            </a:r>
            <a:br>
              <a:rPr sz="3200"/>
            </a:b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«Виды полезных ископаемых». </a:t>
            </a:r>
            <a:br>
              <a:rPr sz="3200"/>
            </a:br>
            <a:r>
              <a:rPr b="0" lang="ru-RU" sz="3200" spc="-1" strike="noStrike">
                <a:solidFill>
                  <a:srgbClr val="2a5010"/>
                </a:solidFill>
                <a:latin typeface="Trebuchet MS"/>
              </a:rPr>
              <a:t>Предложи дополнить таблицу своим одноклассникам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76120" y="3038400"/>
          <a:ext cx="10294920" cy="1023840"/>
        </p:xfrm>
        <a:graphic>
          <a:graphicData uri="http://schemas.openxmlformats.org/drawingml/2006/table">
            <a:tbl>
              <a:tblPr/>
              <a:tblGrid>
                <a:gridCol w="2059200"/>
                <a:gridCol w="2058840"/>
                <a:gridCol w="2059200"/>
                <a:gridCol w="2058840"/>
                <a:gridCol w="205884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лезное ископае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пускает ли в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ругие сво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</a:tbl>
          </a:graphicData>
        </a:graphic>
      </p:graphicFrame>
      <p:sp>
        <p:nvSpPr>
          <p:cNvPr id="227" name="TextBox 3"/>
          <p:cNvSpPr/>
          <p:nvPr/>
        </p:nvSpPr>
        <p:spPr>
          <a:xfrm>
            <a:off x="2093760" y="192240"/>
            <a:ext cx="61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ип задания «Применение в знакомых условиях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84040" y="4059360"/>
          <a:ext cx="10287000" cy="1089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  <a:gridCol w="205740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Гран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красный, розовый, серый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не име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не пропуск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прочный; хорошо полиру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5840" y="5127480"/>
          <a:ext cx="10293120" cy="770040"/>
        </p:xfrm>
        <a:graphic>
          <a:graphicData uri="http://schemas.openxmlformats.org/drawingml/2006/table">
            <a:tbl>
              <a:tblPr/>
              <a:tblGrid>
                <a:gridCol w="2058840"/>
                <a:gridCol w="2059200"/>
                <a:gridCol w="2058840"/>
                <a:gridCol w="2057400"/>
                <a:gridCol w="20588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Известня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белый, серый, 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име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пропуск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2a5010"/>
                          </a:solidFill>
                          <a:latin typeface="Trebuchet MS"/>
                        </a:rPr>
                        <a:t>хруп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1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85520"/>
            <a:ext cx="8597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Подготовь с одноклассниками буклеты на тему «Полезные ископаемые в нашей жизни.»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Объект 4" descr=""/>
          <p:cNvPicPr/>
          <p:nvPr/>
        </p:nvPicPr>
        <p:blipFill>
          <a:blip r:embed="rId1"/>
          <a:stretch/>
        </p:blipFill>
        <p:spPr>
          <a:xfrm>
            <a:off x="1922400" y="2098800"/>
            <a:ext cx="6151680" cy="45655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3"/>
          <p:cNvSpPr/>
          <p:nvPr/>
        </p:nvSpPr>
        <p:spPr>
          <a:xfrm>
            <a:off x="2368440" y="195120"/>
            <a:ext cx="62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ип задания «Применение знаний в новых условиях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16T19:25:49Z</dcterms:created>
  <dc:creator>Пользователь Windows</dc:creator>
  <dc:description/>
  <dc:language>en-US</dc:language>
  <cp:lastModifiedBy>Пользователь Windows</cp:lastModifiedBy>
  <dcterms:modified xsi:type="dcterms:W3CDTF">2020-12-17T19:49:41Z</dcterms:modified>
  <cp:revision>11</cp:revision>
  <dc:subject/>
  <dc:title>Какое из полезных ископаемых самое прочное?</dc:title>
</cp:coreProperties>
</file>