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173-25F1-4D5E-B291-C9BD0D2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14F-B98C-49AC-9DD2-672DD10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058-E31B-43AE-A172-A815D51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5AD-B160-4A56-92C4-DAF92A25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5234-27F6-4B1B-8629-B6677B7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71A-4FF0-4A8A-B8FA-A25E5ED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5C0-4BD7-4170-9477-1B23726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D8BD-A803-4483-89AC-0BB82C6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AA48-0945-41F6-A2C4-666FADFC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ED7-A8FC-4277-91FB-B2B5BE3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952-F0B3-4D3E-A567-E1E6BF2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387-3B2A-4ED7-9033-FB38A17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281-741C-439B-80C3-BB449F8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7DC-CFD0-4548-BF17-0A966FE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607-6117-4D7B-AC61-128AE1C1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A85C-8C77-489A-9435-CF25AFB8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1CF-6A32-43ED-AC8A-202C03D1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C3D0-358C-4E32-A1A8-B9E03071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C3C5-4432-498C-9324-8B06FEA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B03C-F994-485D-B8D4-6743C94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DCE3-F886-4DBE-B0CE-544733E1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FEDA-5A5D-42A2-B7A3-8518EB1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367-7099-4973-92BC-91380C3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5C0F-5F7D-4E13-B057-5CB4EE88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6125-AE78-4F9B-81D8-BD0F65F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3A66-5724-48F9-99D0-87E5C422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62EB-272B-43BF-8430-B3162D6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DDF5-7307-40C8-B3DF-F21AB975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C11E-F2E2-4412-A1BC-FB9A3AC8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9CF1-3836-421B-B6FC-99D0F34F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2C8A-01BA-4CCA-9588-1012AE8A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D20F-85BC-4EDD-994D-74CC1B7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6066-BFB9-4548-A3D0-C85EEDD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541-E2B2-4CA9-978F-A7E55DCB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EB39-4127-4F5E-9D4A-388141F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A92A-5A31-4F15-BDCE-D66F3DD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6088-3F7E-4CA4-BB59-4390766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CF15-940F-4B4A-8821-7406F40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18F0-8500-463D-85F1-E1F97EA4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CEBC-02B9-4AF0-9E6B-7FAC021B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E18E-94AF-48D8-9E61-1625C7D8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F7C1-DA8F-4193-A256-F2799DCD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C09F-A26E-41F6-96D2-C1920875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E3A-FBE4-4C63-8696-D0490A58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469-C2E8-4DD2-9E2F-9475EFC0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EEB-8E30-4E19-88B5-3807862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C93-A01D-400A-980E-F838F0D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0CE-93FD-4C40-A82C-9C5A7CD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6A48B-4EA1-49E4-8E86-401BC17FBD2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9A71E-C130-448B-841C-8BD87BD5A8A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DE2BA-6971-4868-9784-0AB2D309CFC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07308-011F-4115-8A70-1EC35B7DC85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6"/>
          <p:cNvSpPr/>
          <p:nvPr/>
        </p:nvSpPr>
        <p:spPr>
          <a:xfrm>
            <a:off x="385920" y="5375160"/>
            <a:ext cx="2976480" cy="9446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0640" y="1584000"/>
            <a:ext cx="98092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Какое из полезных ископаемых самое прочное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0640" y="4184640"/>
            <a:ext cx="394344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) Известняк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) Гранит 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511960" y="4097160"/>
            <a:ext cx="49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) Каменный угол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) Торф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2898720" y="449280"/>
            <a:ext cx="45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Узнав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8160" y="1082160"/>
            <a:ext cx="99475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«Продолжи предложение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8080" y="2857320"/>
            <a:ext cx="9234360" cy="109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еста, где в глубинах земли или на ее поверхности залегают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лезные ископаемые называютс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2798640" y="33804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 Воспроизведе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3164040" y="4753080"/>
            <a:ext cx="46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месторождениям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Овал 4"/>
          <p:cNvSpPr/>
          <p:nvPr/>
        </p:nvSpPr>
        <p:spPr>
          <a:xfrm>
            <a:off x="466560" y="5157720"/>
            <a:ext cx="7716960" cy="1179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97040" y="1029960"/>
            <a:ext cx="859608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Найди неверное утверж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880" y="2160360"/>
            <a:ext cx="9764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Известняк используют при строительстве зданий, доро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Торф может служить подстилкой для животных на ферма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Из желтой руды выплавляют чугун, а из чугуна – стал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Изделия из гранита называются керамико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3081240" y="25560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оним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2840" y="974880"/>
            <a:ext cx="1038708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одготовь классификационную таблицу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«Виды полезных ископаемых».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редложи дополнить таблицу своим одноклассникам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76120" y="3038400"/>
          <a:ext cx="10294920" cy="1023840"/>
        </p:xfrm>
        <a:graphic>
          <a:graphicData uri="http://schemas.openxmlformats.org/drawingml/2006/table">
            <a:tbl>
              <a:tblPr/>
              <a:tblGrid>
                <a:gridCol w="2059200"/>
                <a:gridCol w="2058840"/>
                <a:gridCol w="2059200"/>
                <a:gridCol w="2058840"/>
                <a:gridCol w="20588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езное ископ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пускает ли в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уг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3"/>
          <p:cNvSpPr/>
          <p:nvPr/>
        </p:nvSpPr>
        <p:spPr>
          <a:xfrm>
            <a:off x="2093760" y="19224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рименение в знакомых условиях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4040" y="4059360"/>
          <a:ext cx="10287000" cy="1089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  <a:gridCol w="20574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Гран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красный, розовый, серый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не им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не пропус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прочный; хорошо полир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5840" y="5127480"/>
          <a:ext cx="10293120" cy="770040"/>
        </p:xfrm>
        <a:graphic>
          <a:graphicData uri="http://schemas.openxmlformats.org/drawingml/2006/table">
            <a:tbl>
              <a:tblPr/>
              <a:tblGrid>
                <a:gridCol w="2058840"/>
                <a:gridCol w="2059200"/>
                <a:gridCol w="2058840"/>
                <a:gridCol w="2057400"/>
                <a:gridCol w="205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Известн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белый, серый, 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име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пропус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хру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8552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одготовь с одноклассниками буклеты на тему «Полезные ископаемые в нашей жизни.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Объект 4" descr=""/>
          <p:cNvPicPr/>
          <p:nvPr/>
        </p:nvPicPr>
        <p:blipFill>
          <a:blip r:embed="rId1"/>
          <a:stretch/>
        </p:blipFill>
        <p:spPr>
          <a:xfrm>
            <a:off x="1922400" y="2098800"/>
            <a:ext cx="6151680" cy="45655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368440" y="19512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рименение знаний в новых условиях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6T19:25:49Z</dcterms:created>
  <dc:creator>Пользователь Windows</dc:creator>
  <dc:description/>
  <dc:language>en-US</dc:language>
  <cp:lastModifiedBy>Пользователь Windows</cp:lastModifiedBy>
  <dcterms:modified xsi:type="dcterms:W3CDTF">2020-12-17T19:49:41Z</dcterms:modified>
  <cp:revision>11</cp:revision>
  <dc:subject/>
  <dc:title>Какое из полезных ископаемых самое прочное?</dc:title>
</cp:coreProperties>
</file>