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9297-F51F-4B8B-A669-EFB06C27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AA9-C822-492A-821E-3C287C9E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C14-84AE-4F2E-8FAE-35ADE787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D2D0-1131-4983-AC63-5ED68A7B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991D-19BC-459B-88F0-B2A50089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45DD-AFB1-45D0-8537-D247FC68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BB32-5162-4E26-A44F-353C92BC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D938-8310-4CE5-9243-D4E6D33B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5B46-05F0-4BB7-8DFC-9353F9AD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5FE9-861B-47E1-9A0E-2A350847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BF35-C228-42E3-B6BD-A30798D1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4FB-DEE3-4ADB-82A5-23E9D16E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5C0B-A5C5-4875-BB25-F0C81A88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A2E1-ABF5-4742-BE26-63F0BB6E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904B-E430-462E-BAD7-C3303C6E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48ED-90E1-49C1-9729-09AB97E0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52A4-3071-42D3-B8D1-A8390EF0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25F4-4E25-435F-80D1-6B622A7E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871-B803-4CA9-8B85-5E0472F9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E585-0ECB-4299-A4E5-07DEAE01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A1DB-02C2-4895-A18C-29578D3C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DB8B-F495-4DB3-9659-9BE337FB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9082-D3DB-4150-B953-3BAC3BB0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14C-88F5-4F82-B67F-4B9EB101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B94D-6D04-41F2-9322-273FD4FE7C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E797-9DC9-425D-8AB2-CC30A56D533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2060640"/>
            <a:ext cx="8317080" cy="13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Родительское собрание</a:t>
            </a:r>
            <a:br>
              <a:rPr sz="3200"/>
            </a:br>
            <a:br>
              <a:rPr sz="2400"/>
            </a:br>
            <a:r>
              <a:rPr b="1" lang="ru-RU" sz="4400" spc="-1" strike="noStrike">
                <a:solidFill>
                  <a:srgbClr val="990033"/>
                </a:solidFill>
                <a:latin typeface="Times New Roman"/>
              </a:rPr>
              <a:t>Тема: «Повышение качества успеваемости»</a:t>
            </a:r>
            <a:br>
              <a:rPr sz="4400"/>
            </a:br>
            <a:r>
              <a:rPr b="1" lang="ru-RU" sz="4400" spc="-1" strike="noStrike">
                <a:solidFill>
                  <a:srgbClr val="990033"/>
                </a:solidFill>
                <a:latin typeface="Times New Roman"/>
              </a:rPr>
              <a:t>6 класс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Причины снижения успеваем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ереходный возрас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явление новых предме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Усложнение Программы в 6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ерегруженность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Недостаточностью общеучебных умений, навыков и способов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Анкетирование учащихся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4000" y="1125360"/>
          <a:ext cx="8569080" cy="5573880"/>
        </p:xfrm>
        <a:graphic>
          <a:graphicData uri="http://schemas.openxmlformats.org/drawingml/2006/table">
            <a:tbl>
              <a:tblPr/>
              <a:tblGrid>
                <a:gridCol w="4063680"/>
                <a:gridCol w="4505400"/>
              </a:tblGrid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 анк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Я учусь, потому чт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Нужно для поступления в ВУЗ 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 Этого требуют мои родители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Учиться необходимо, потому чт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годится в жизни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Мне нравится учитьс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огда (6), всегда (2), никогда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Я хожу на занятия потому, что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ться 4, учиться 4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Сколько времени у вас занимают домашние задани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часа (7), 30 мин.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Что мешает хорошо выполнять домашние задан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 лень, телефон, телевизор, друзья (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усталость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 ничего не мешает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Обязанности по дому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). Есть ли у вас обязанности по дому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 (9), нет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). Какие это обязанност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 уборка, 2 – посуда, 3 –мусор, 4 – помощь по дому (снег, дрова, животн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). Сколько времени вы тратите на их выполнение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 (30 мин. – 2,5 час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Домашнее задание и его роль в самообразовании школьника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аши дети хотят быть людьми на самом деле образованными, они должны приобретать образование самостоятельными занятиями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Г.Черныше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Цель учебной деятельности 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учащихся в 6 класс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1. Развитие самосто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.при выполнении домашних зад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. в результате самостоятельного образования путем участия в проектных и исследовательских работ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. при организации самоуправления в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2. Удержание успеваемости на уровне 5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Функции домашнего зада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ыравнивание знаний и умений ребенка, его навыков в том случае, если он долго болел и много пропустил или не усвоил сложную 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тимулирование познавательного интереса учащихся, желание знать как можно больше по предмету или те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Развитие самостоятельности ученика, его усидчивости и ответственности за выполняемое учебное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7834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Ситуационные задачи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то Вы сделаете в данной ситуации…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920" y="907560"/>
            <a:ext cx="8064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Ситуация №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ок простыл. На больничном находится больше нед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ы сделаете, чтобы ребенок не отстал по учеб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Ситуация №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 собираетесь с ребенком уехать отдыхать. Отъезд намечен за неделю до окончания четверти. Отпуск продлится все каникулы и еще первую неделю следующей четвер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ы сделаете, чтобы отпуск не повлиял на учебу вашего ребен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Ситуация №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ок стал часто опаздывать на первый урок или его вообще пропускает. Нередко отпрашивается или самовольно уходит с последнего урока, особенно в пятни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ши действия в данной ситу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Ситуация №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ш ребенок, по словам учителей, не выполняет домашние задание или выполняет его не в полном объеме. Он объясняет это тем, что ничего не задано. В дневнике записей домашнего задания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ши действия в данной ситуации?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Помощь родителе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Создайте ситуацию успех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ощряйте упорство ребенка в достижении цел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е сравнивайте его умения с умениями других дет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Хвалите и демонстрируйте его достижения перед другим членами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Требования классного руководителя к учащимс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68996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ЕЖЕДНЕВНОЕ заполнение дневни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Е ОПАЗДЫВАТЬ на уро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НЕ ПРОПУСКАТЬ уро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Ежедневно быть ГОТОВЫМ к каждому урок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Школьная фор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21:23:32Z</dcterms:created>
  <dc:creator>Svega</dc:creator>
  <dc:description/>
  <dc:language>en-US</dc:language>
  <cp:lastModifiedBy>Пользователь Windows</cp:lastModifiedBy>
  <dcterms:modified xsi:type="dcterms:W3CDTF">2021-09-28T11:03:54Z</dcterms:modified>
  <cp:revision>18</cp:revision>
  <dc:subject/>
  <dc:title>Родительское собрание №2 6 класс 2 четверть    Тема: «Повышение качества успеваемости»</dc:title>
</cp:coreProperties>
</file>