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20.png" ContentType="image/png"/>
  <Override PartName="/ppt/media/image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9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A3E7-A0AB-4B3D-8E67-528B5D90C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B179-20F4-49CB-8298-9ED4F54FE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BD19-670B-443A-97B0-A991D115D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259F-93B8-48DE-9067-737E7D18A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4BB43-5857-4460-9A14-59EBCF6D0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B1C29-A84A-4542-A587-671445D71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4FB93-93BB-44CE-91B6-C325F4E24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4ACF0-800C-4C78-A15A-1D90BEC08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C5ABE-3D6D-47E8-8241-6C400F2F2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D0C42-0A10-4BEA-A074-252402728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813C9-03A0-463C-94AD-A9F89563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1C5E-7BC4-4182-8DC1-FBD388929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FD84D-7BC4-43D2-988B-4484ECF9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E3B0B-6F69-4A91-9953-2876AE90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5D10B-9503-4DCD-874D-EDFA0C587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17EF8-8A28-4961-B2D1-EF5D1B921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1D51F-B642-4738-9F08-3D10ED997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29099-66FE-44A7-9229-9C868C99E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6CE11-A854-4D54-8CE5-F8B79AFE3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7499F-7802-41B4-8CB0-D416E2010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24A06-7211-4BEC-93BC-2F04B1ECC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2B794-4CA2-4A93-8B5B-0F2669CD0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6A38-A5F7-4AFC-BCB2-B7F29FD21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533D3-EE79-4320-9589-1524E3305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D46A1-1368-4AC6-8104-F3F0AAE7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DAC9B-8543-4DBA-950F-51148814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57342-820D-4859-914E-386F1B12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28385-6FB4-44E8-B172-137A8B488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B9BA1-71E0-4953-A59D-995F77750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C2D06-70D9-4A40-A1CF-6FE675CF4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A18AE-635B-4C41-92DF-A89F578C4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6608F-DCDA-47EA-B887-1BD6DA696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F26A4-0176-4C88-95DB-C6264BA6E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7F9D-39B6-4439-B44C-7B2567797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4F895-0171-4390-A053-8C6F610A5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75FB2-342F-4901-9753-D1A5F66BA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431B4-AC6F-468C-AA13-2664C5AC8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CAC7C-510E-4FD7-8F2C-8F327B84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DFF6E-E8B1-43DB-8BD5-61D7EFD1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65919-E8A4-45FF-9C04-07005E19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7D4B3-D3A0-4068-AD6B-026C81093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CBDA4-D31D-4954-A67B-8B2D5C8F7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39B10-9D31-489E-A74C-1B4714F2B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0C3F3-F221-4302-8166-E80FB2607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DE6B-7C40-4C89-A9EA-49DDD1112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13459-A639-4CCC-834D-652CB68A2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865FA-626E-461B-A1CD-897647069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58C67-1A61-4C78-844F-5DD215015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29DEC-EA69-4787-8956-8D7CD4BB0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2D695-8132-4654-8E59-931B41568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8F9BE-2D75-4B49-B0CD-7477F289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D4BA3-DCA5-46D9-B649-9EE0738B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383D6-BE54-4DB2-96A7-CAB0DA7C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A8A7D-4F6A-437F-83BE-650FC3196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A5CA0-1DEE-4083-9B0C-397788746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2D0D-98F0-48C3-9997-75CDF8888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BB0F3-5EA4-4C63-A325-008BC9D8A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220A7-8B8B-40A4-9E2C-6EBE58CA0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2872C-B9C3-4E67-83B4-32D57C978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EADA9E-11A2-4FF1-9295-490168821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04F39-BF67-4087-8215-698E26EEB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EE9C1B-18C0-45BB-B0D3-9B0F2093A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B8743-D7AB-43D2-AFE5-AF7F919AF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E73A3-9420-4FF6-8EB6-4E1BB740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CD7BE-A103-402B-A99B-F16044DA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161F9-B448-43CF-AAC9-93560FDE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7D8C-FC50-4F2C-B7F6-0DF3D1D8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BAB5F-48C8-4ADF-AFCD-1AD3D6938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7402E-585B-4325-8572-261C8077C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1FEC9-492E-402C-AEFF-D328FFB99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94A27-454E-4075-A35A-752C058FA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CA3D05-A4E4-49B0-8187-6F1C68641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FEA36D-3CA4-4DE6-B2BF-E6FA1D133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89984-1942-42B8-93D4-48604691C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29F8B6-9CE5-44FB-B986-1CB8B7DEB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B8CC0-2D2E-4399-AB01-EC5D2531E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34B332-A712-4AA7-9DF8-65382FAD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7BAE-2DE5-4640-8F9B-761D5A5C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7B00C2-BE97-48D6-9967-56C084DC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D6ADBC-CEDE-4BE3-BC2B-0EBE8EF7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642B8-6620-49C4-9001-D02F3F984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CF970-A47F-490B-BE75-22BC7350A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171084-973D-4B61-95B8-9E406241B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6A124B-D50F-45C8-8165-FD728C0A8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2EDBE5-BC5D-44D8-8F87-2BA88D1B5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9BED3F-E1E2-4248-846F-53E9C0BF0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084578-6C50-4B88-86C1-D9EE27B58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CE43E1-827E-45B4-8CBE-B840D203E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18CA-111D-4E25-AB37-B4D6C9D2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34658C-E54D-42EA-97D5-DE4F83C1C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43BBB6-ECA9-43F3-8DCD-3DAE1CE2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E31306-E019-43DD-AD53-F1C2C845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18BBDF-C5B5-4B74-BEC6-C81ECADD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97CC38-7BDF-4B8D-93D4-49415F138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74EDDF-3CE0-42BD-9565-ED8012A0C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12399F-33B1-481F-AB27-4C404ACA6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cfe8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66AF3-F7D6-414A-A551-FB2078D1BFB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cfe8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0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5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8" name="Полилиния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" name="Прямая соединительная линия 20" descr=""/>
            <p:cNvPicPr/>
            <p:nvPr/>
          </p:nvPicPr>
          <p:blipFill>
            <a:blip r:embed="rId5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CFC7-0FFC-4F14-B07B-F4085334530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cfe8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05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8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7EC2A-02B1-4DF4-A5D5-5E463AB3F11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cfe8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54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6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6A150-067C-4D71-B03C-CA9A71DB2C1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cfe8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01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3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AE134-9498-40FE-BCA0-B85E6E3F961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cfe8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48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0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2D71F-6696-4EC5-AE38-BF89654E056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cfe8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95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7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1416F-F01F-4CE5-A048-A9C9FDDCDA3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cfe8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42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4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45" name="Полилиния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олилиния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48" name="Прямоугольный треугольник 16" descr=""/>
            <p:cNvPicPr/>
            <p:nvPr/>
          </p:nvPicPr>
          <p:blipFill>
            <a:blip r:embed="rId4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0" name="Прямая соединительная линия 18" descr=""/>
          <p:cNvPicPr/>
          <p:nvPr/>
        </p:nvPicPr>
        <p:blipFill>
          <a:blip r:embed="rId5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51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FC80E-7A21-4410-9B72-69C2336CF89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-6480" y="858960"/>
            <a:ext cx="8010720" cy="15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23" name="Text Box 4"/>
          <p:cNvSpPr/>
          <p:nvPr/>
        </p:nvSpPr>
        <p:spPr>
          <a:xfrm>
            <a:off x="556560" y="1413000"/>
            <a:ext cx="3734640" cy="1800360"/>
          </a:xfrm>
          <a:prstGeom prst="rect">
            <a:avLst/>
          </a:prstGeom>
          <a:noFill/>
          <a:ln w="2844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ffirm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/you have pla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he/she/it has pla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we/you/they have pla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1999080" y="3860640"/>
            <a:ext cx="4278600" cy="1800360"/>
          </a:xfrm>
          <a:prstGeom prst="rect">
            <a:avLst/>
          </a:prstGeom>
          <a:noFill/>
          <a:ln w="2844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Neg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/you have not pla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he/she/it has not pla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we/you/they have not pla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6"/>
          <p:cNvSpPr/>
          <p:nvPr/>
        </p:nvSpPr>
        <p:spPr>
          <a:xfrm>
            <a:off x="4878720" y="1484280"/>
            <a:ext cx="3969360" cy="1800360"/>
          </a:xfrm>
          <a:prstGeom prst="rect">
            <a:avLst/>
          </a:prstGeom>
          <a:noFill/>
          <a:ln w="2844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Have I/you play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Has he/she/it play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Have we/you/they play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2000"/>
                            </p:stCondLst>
                            <p:childTnLst>
                              <p:par>
                                <p:cTn id="38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Содержимое 3" descr="slide-19.jpg"/>
          <p:cNvPicPr/>
          <p:nvPr/>
        </p:nvPicPr>
        <p:blipFill>
          <a:blip r:embed="rId1"/>
          <a:stretch/>
        </p:blipFill>
        <p:spPr>
          <a:xfrm>
            <a:off x="0" y="-206280"/>
            <a:ext cx="9431280" cy="70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324000" y="1341000"/>
            <a:ext cx="8362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We use the Present Perfect Simple to talk abo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1f28"/>
                </a:solidFill>
                <a:latin typeface="Times New Roman"/>
              </a:rPr>
              <a:t>Something that happened in the past but we don’t know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Marry has lost her ke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Have they finished their work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1f28"/>
                </a:solidFill>
                <a:latin typeface="Times New Roman"/>
              </a:rPr>
              <a:t>Something that happened in the past but is important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Mark has broken his leg so he can’t play footbal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1f28"/>
                </a:solidFill>
                <a:latin typeface="Times New Roman"/>
              </a:rPr>
              <a:t>Something that started in the past but continues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Suzie has known Tom for 6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1f28"/>
                </a:solidFill>
                <a:latin typeface="Times New Roman"/>
              </a:rPr>
              <a:t>Something that has just happe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John has just finished his wor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They’ve just told me about 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463680" y="182520"/>
            <a:ext cx="82422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8" dur="10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1" dur="10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4" dur="10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7" dur="1000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0" dur="1000"/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3" dur="1000"/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6" dur="1000"/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9" dur="1000"/>
                                        <p:tgtEl>
                                          <p:spTgt spid="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2" dur="1000"/>
                                        <p:tgtEl>
                                          <p:spTgt spid="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5" dur="1000"/>
                                        <p:tgtEl>
                                          <p:spTgt spid="4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8" dur="1000"/>
                                        <p:tgtEl>
                                          <p:spTgt spid="4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57168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a1f28"/>
                </a:solidFill>
                <a:latin typeface="Times New Roman"/>
              </a:rPr>
              <a:t>already              never            so fa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a1f28"/>
                </a:solidFill>
                <a:latin typeface="Times New Roman"/>
              </a:rPr>
              <a:t>ever                   once             this wee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a1f28"/>
                </a:solidFill>
                <a:latin typeface="Times New Roman"/>
              </a:rPr>
              <a:t>for                     recently        latel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a1f28"/>
                </a:solidFill>
                <a:latin typeface="Times New Roman"/>
              </a:rPr>
              <a:t>for ages            since 1995     today  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a1f28"/>
                </a:solidFill>
                <a:latin typeface="Times New Roman"/>
              </a:rPr>
              <a:t>just                   since June      ye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Rectangle 2" descr=""/>
          <p:cNvPicPr/>
          <p:nvPr/>
        </p:nvPicPr>
        <p:blipFill>
          <a:blip r:embed="rId1"/>
          <a:stretch/>
        </p:blipFill>
        <p:spPr>
          <a:xfrm>
            <a:off x="450720" y="115920"/>
            <a:ext cx="824256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4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3000"/>
                            </p:stCondLst>
                            <p:childTnLst>
                              <p:par>
                                <p:cTn id="45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4000"/>
                            </p:stCondLst>
                            <p:childTnLst>
                              <p:par>
                                <p:cTn id="4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0"/>
                            </p:stCondLst>
                            <p:childTnLst>
                              <p:par>
                                <p:cTn id="4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6000"/>
                            </p:stCondLst>
                            <p:childTnLst>
                              <p:par>
                                <p:cTn id="4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32" name="Text Box 4"/>
          <p:cNvSpPr/>
          <p:nvPr/>
        </p:nvSpPr>
        <p:spPr>
          <a:xfrm>
            <a:off x="324000" y="1413000"/>
            <a:ext cx="4535280" cy="1800360"/>
          </a:xfrm>
          <a:prstGeom prst="rect">
            <a:avLst/>
          </a:prstGeom>
          <a:noFill/>
          <a:ln w="2844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ffirm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/you have been pla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he/she/it has been pla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we/you/they have been la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5"/>
          <p:cNvSpPr/>
          <p:nvPr/>
        </p:nvSpPr>
        <p:spPr>
          <a:xfrm>
            <a:off x="179280" y="3645000"/>
            <a:ext cx="4608720" cy="2226960"/>
          </a:xfrm>
          <a:prstGeom prst="rect">
            <a:avLst/>
          </a:prstGeom>
          <a:noFill/>
          <a:ln w="2844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Neg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/you have not been pla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he/she/it has not been pla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we/you/they have not b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pla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6"/>
          <p:cNvSpPr/>
          <p:nvPr/>
        </p:nvSpPr>
        <p:spPr>
          <a:xfrm>
            <a:off x="4981320" y="2492280"/>
            <a:ext cx="4098960" cy="2226960"/>
          </a:xfrm>
          <a:prstGeom prst="rect">
            <a:avLst/>
          </a:prstGeom>
          <a:noFill/>
          <a:ln w="2844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Have I/you been play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Has he/she/it been play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Have we/you/they be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play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2000"/>
                            </p:stCondLst>
                            <p:childTnLst>
                              <p:par>
                                <p:cTn id="48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Содержимое 3" descr="image-14.jpg"/>
          <p:cNvPicPr/>
          <p:nvPr/>
        </p:nvPicPr>
        <p:blipFill>
          <a:blip r:embed="rId1"/>
          <a:stretch/>
        </p:blipFill>
        <p:spPr>
          <a:xfrm>
            <a:off x="214200" y="0"/>
            <a:ext cx="868680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We use the Present Perfect Continuous to talk about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a1f28"/>
                </a:solidFill>
                <a:latin typeface="Times New Roman"/>
              </a:rPr>
              <a:t>Something that started in the past and has happened repeatedly or has continued until now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We have been trying to clean the house all mo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a1f28"/>
                </a:solidFill>
                <a:latin typeface="Times New Roman"/>
              </a:rPr>
              <a:t>Something that happened repeatedly in the past and that may have finished now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I’ve been waiting for you for two hours. Hurry up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7" name="Rectangle 2" descr=""/>
          <p:cNvPicPr/>
          <p:nvPr/>
        </p:nvPicPr>
        <p:blipFill>
          <a:blip r:embed="rId1"/>
          <a:stretch/>
        </p:blipFill>
        <p:spPr>
          <a:xfrm>
            <a:off x="450720" y="182520"/>
            <a:ext cx="824256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2000"/>
                            </p:stCondLst>
                            <p:childTnLst>
                              <p:par>
                                <p:cTn id="5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4000"/>
                            </p:stCondLst>
                            <p:childTnLst>
                              <p:par>
                                <p:cTn id="51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6000"/>
                            </p:stCondLst>
                            <p:childTnLst>
                              <p:par>
                                <p:cTn id="5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8000"/>
                            </p:stCondLst>
                            <p:childTnLst>
                              <p:par>
                                <p:cTn id="5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Rectangle 2" descr=""/>
          <p:cNvPicPr/>
          <p:nvPr/>
        </p:nvPicPr>
        <p:blipFill>
          <a:blip r:embed="rId1"/>
          <a:stretch/>
        </p:blipFill>
        <p:spPr>
          <a:xfrm>
            <a:off x="450720" y="115920"/>
            <a:ext cx="8242560" cy="134784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5"/>
          <p:cNvSpPr/>
          <p:nvPr/>
        </p:nvSpPr>
        <p:spPr>
          <a:xfrm>
            <a:off x="757080" y="1844640"/>
            <a:ext cx="121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1f28"/>
                </a:solidFill>
                <a:latin typeface="Arial"/>
              </a:rPr>
              <a:t>all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7"/>
          <p:cNvSpPr/>
          <p:nvPr/>
        </p:nvSpPr>
        <p:spPr>
          <a:xfrm>
            <a:off x="757440" y="2997360"/>
            <a:ext cx="13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1f28"/>
                </a:solidFill>
                <a:latin typeface="Times New Roman"/>
              </a:rPr>
              <a:t>all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8"/>
          <p:cNvSpPr/>
          <p:nvPr/>
        </p:nvSpPr>
        <p:spPr>
          <a:xfrm>
            <a:off x="6228720" y="1916280"/>
            <a:ext cx="228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1f28"/>
                </a:solidFill>
                <a:latin typeface="Times New Roman"/>
              </a:rPr>
              <a:t>for a long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10"/>
          <p:cNvSpPr/>
          <p:nvPr/>
        </p:nvSpPr>
        <p:spPr>
          <a:xfrm>
            <a:off x="6518520" y="3068640"/>
            <a:ext cx="152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1f28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a1f28"/>
                </a:solidFill>
                <a:latin typeface="Times New Roman"/>
              </a:rPr>
              <a:t>for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12"/>
          <p:cNvSpPr/>
          <p:nvPr/>
        </p:nvSpPr>
        <p:spPr>
          <a:xfrm>
            <a:off x="4141440" y="1844640"/>
            <a:ext cx="99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1f28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a1f28"/>
                </a:solidFill>
                <a:latin typeface="Times New Roman"/>
              </a:rPr>
              <a:t>si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3"/>
          <p:cNvSpPr/>
          <p:nvPr/>
        </p:nvSpPr>
        <p:spPr>
          <a:xfrm>
            <a:off x="5220720" y="407664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1f28"/>
                </a:solidFill>
                <a:latin typeface="Times New Roman"/>
              </a:rPr>
              <a:t>rec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13"/>
          <p:cNvSpPr/>
          <p:nvPr/>
        </p:nvSpPr>
        <p:spPr>
          <a:xfrm>
            <a:off x="4212360" y="2997360"/>
            <a:ext cx="97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1f28"/>
                </a:solidFill>
                <a:latin typeface="Times New Roman"/>
              </a:rPr>
              <a:t>l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4"/>
          <p:cNvSpPr/>
          <p:nvPr/>
        </p:nvSpPr>
        <p:spPr>
          <a:xfrm>
            <a:off x="2196360" y="4076640"/>
            <a:ext cx="151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1f28"/>
                </a:solidFill>
                <a:latin typeface="Times New Roman"/>
              </a:rPr>
              <a:t>how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0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5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Содержимое 3" descr="Goodbye-Transparent-Image.png"/>
          <p:cNvPicPr/>
          <p:nvPr/>
        </p:nvPicPr>
        <p:blipFill>
          <a:blip r:embed="rId1"/>
          <a:stretch/>
        </p:blipFill>
        <p:spPr>
          <a:xfrm>
            <a:off x="928800" y="696960"/>
            <a:ext cx="7923240" cy="6161040"/>
          </a:xfrm>
          <a:prstGeom prst="rect">
            <a:avLst/>
          </a:prstGeom>
          <a:ln w="0">
            <a:noFill/>
          </a:ln>
        </p:spPr>
      </p:pic>
      <p:pic>
        <p:nvPicPr>
          <p:cNvPr id="448" name="Заголовок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Rectangle 2" descr=""/>
          <p:cNvPicPr/>
          <p:nvPr/>
        </p:nvPicPr>
        <p:blipFill>
          <a:blip r:embed="rId1"/>
          <a:stretch/>
        </p:blipFill>
        <p:spPr>
          <a:xfrm>
            <a:off x="-648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96" name="Text Box 5"/>
          <p:cNvSpPr/>
          <p:nvPr/>
        </p:nvSpPr>
        <p:spPr>
          <a:xfrm>
            <a:off x="335520" y="2060640"/>
            <a:ext cx="2640600" cy="2226960"/>
          </a:xfrm>
          <a:prstGeom prst="rect">
            <a:avLst/>
          </a:prstGeom>
          <a:noFill/>
          <a:ln w="2844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ffirm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/you 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he/she/it pl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we/you/they 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3579480" y="4221000"/>
            <a:ext cx="3629520" cy="2226960"/>
          </a:xfrm>
          <a:prstGeom prst="rect">
            <a:avLst/>
          </a:prstGeom>
          <a:noFill/>
          <a:ln w="2844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Neg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/you do not 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he/she/it does not 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we/you/they do not 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7"/>
          <p:cNvSpPr/>
          <p:nvPr/>
        </p:nvSpPr>
        <p:spPr>
          <a:xfrm>
            <a:off x="5380200" y="1628640"/>
            <a:ext cx="3320280" cy="2226960"/>
          </a:xfrm>
          <a:prstGeom prst="rect">
            <a:avLst/>
          </a:prstGeom>
          <a:noFill/>
          <a:ln w="2844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o I/you pl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oes he/she/it pl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o we/you/they pl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ff"/>
                </a:solidFill>
                <a:latin typeface="Times New Roman"/>
              </a:rPr>
              <a:t>We use the Present Simple to talk abou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da1f28"/>
                </a:solidFill>
                <a:latin typeface="Times New Roman"/>
              </a:rPr>
              <a:t>habi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He gets up early every mo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She doesn’t eat chocol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da1f28"/>
                </a:solidFill>
                <a:latin typeface="Times New Roman"/>
              </a:rPr>
              <a:t>things that are true in genera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Water boils at 100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º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da1f28"/>
                </a:solidFill>
                <a:latin typeface="Times New Roman"/>
              </a:rPr>
              <a:t>permanent stat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My mother works as a dent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000"/>
                            </p:stCondLst>
                            <p:childTnLst>
                              <p:par>
                                <p:cTn id="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0"/>
                            </p:stCondLst>
                            <p:childTnLst>
                              <p:par>
                                <p:cTn id="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6000"/>
                            </p:stCondLst>
                            <p:childTnLst>
                              <p:par>
                                <p:cTn id="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7000"/>
                            </p:stCondLst>
                            <p:childTnLst>
                              <p:par>
                                <p:cTn id="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8000"/>
                            </p:stCondLst>
                            <p:childTnLst>
                              <p:par>
                                <p:cTn id="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539280" y="1844640"/>
            <a:ext cx="45370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23b"/>
                </a:solidFill>
                <a:latin typeface="Times New Roman"/>
              </a:rPr>
              <a:t>every day               every wee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23b"/>
                </a:solidFill>
                <a:latin typeface="Times New Roman"/>
              </a:rPr>
              <a:t>every month          every ye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23b"/>
                </a:solidFill>
                <a:latin typeface="Times New Roman"/>
              </a:rPr>
              <a:t>every summer        at the weeke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23b"/>
                </a:solidFill>
                <a:latin typeface="Times New Roman"/>
              </a:rPr>
              <a:t>in the morning       in Janu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23b"/>
                </a:solidFill>
                <a:latin typeface="Times New Roman"/>
              </a:rPr>
              <a:t>on Tuesdays            on Friday mornin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23b"/>
                </a:solidFill>
                <a:latin typeface="Times New Roman"/>
              </a:rPr>
              <a:t>three times a day    once a wee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23b"/>
                </a:solidFill>
                <a:latin typeface="Times New Roman"/>
              </a:rPr>
              <a:t>twice a month         usual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23b"/>
                </a:solidFill>
                <a:latin typeface="Times New Roman"/>
              </a:rPr>
              <a:t>Often                       alway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355640" y="4448160"/>
            <a:ext cx="49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He reads a book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every evening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On Sunday evenings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I visit my grandpar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115920"/>
            <a:ext cx="824256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8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8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900"/>
                            </p:stCondLst>
                            <p:childTnLst>
                              <p:par>
                                <p:cTn id="1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6900"/>
                            </p:stCondLst>
                            <p:childTnLst>
                              <p:par>
                                <p:cTn id="12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7900"/>
                            </p:stCondLst>
                            <p:childTnLst>
                              <p:par>
                                <p:cTn id="13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8900"/>
                            </p:stCondLst>
                            <p:childTnLst>
                              <p:par>
                                <p:cTn id="13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9900"/>
                            </p:stCondLst>
                            <p:childTnLst>
                              <p:par>
                                <p:cTn id="14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900"/>
                            </p:stCondLst>
                            <p:childTnLst>
                              <p:par>
                                <p:cTn id="1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1900"/>
                            </p:stCondLst>
                            <p:childTnLst>
                              <p:par>
                                <p:cTn id="15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Рисунок 4" descr="img2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4"/>
          <p:cNvSpPr/>
          <p:nvPr/>
        </p:nvSpPr>
        <p:spPr>
          <a:xfrm>
            <a:off x="412200" y="1557360"/>
            <a:ext cx="3617280" cy="2226960"/>
          </a:xfrm>
          <a:prstGeom prst="rect">
            <a:avLst/>
          </a:prstGeom>
          <a:noFill/>
          <a:ln w="2844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ffirm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 am pla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you are pla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he/she/it is pla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we/you/they are pla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5"/>
          <p:cNvSpPr/>
          <p:nvPr/>
        </p:nvSpPr>
        <p:spPr>
          <a:xfrm>
            <a:off x="2650320" y="4292640"/>
            <a:ext cx="4518000" cy="2226960"/>
          </a:xfrm>
          <a:prstGeom prst="rect">
            <a:avLst/>
          </a:prstGeom>
          <a:noFill/>
          <a:ln w="2844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Neg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 am not pla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you are  not pla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e/she/it is not pla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e/you/they are not pla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6"/>
          <p:cNvSpPr/>
          <p:nvPr/>
        </p:nvSpPr>
        <p:spPr>
          <a:xfrm>
            <a:off x="4877640" y="1628640"/>
            <a:ext cx="3873240" cy="2226960"/>
          </a:xfrm>
          <a:prstGeom prst="rect">
            <a:avLst/>
          </a:prstGeom>
          <a:noFill/>
          <a:ln w="2844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m I play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re you play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s he/she/it play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re we/you/they play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720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Times New Roman"/>
              </a:rPr>
              <a:t>We use the Present Continuous to talk abou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da1f28"/>
                </a:solidFill>
                <a:latin typeface="Times New Roman"/>
              </a:rPr>
              <a:t>Actions in progress at the time of spea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We are playing in the garden at the mo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Is she reading a book n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da1f28"/>
                </a:solidFill>
                <a:latin typeface="Times New Roman"/>
              </a:rPr>
              <a:t>Actions in progress around the time of spea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He is working hard this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I am studying French at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7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7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7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7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7">
                                  <p:stCondLst>
                                    <p:cond delay="61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7">
                                  <p:stCondLst>
                                    <p:cond delay="69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Rectangle 2" descr=""/>
          <p:cNvPicPr/>
          <p:nvPr/>
        </p:nvPicPr>
        <p:blipFill>
          <a:blip r:embed="rId1"/>
          <a:stretch/>
        </p:blipFill>
        <p:spPr>
          <a:xfrm>
            <a:off x="450720" y="115920"/>
            <a:ext cx="8242560" cy="134784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13"/>
          <p:cNvSpPr/>
          <p:nvPr/>
        </p:nvSpPr>
        <p:spPr>
          <a:xfrm>
            <a:off x="971640" y="18446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1f28"/>
                </a:solidFill>
                <a:latin typeface="Times New Roman"/>
              </a:rPr>
              <a:t>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4"/>
          <p:cNvSpPr/>
          <p:nvPr/>
        </p:nvSpPr>
        <p:spPr>
          <a:xfrm>
            <a:off x="3852360" y="2565360"/>
            <a:ext cx="160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1f28"/>
                </a:solidFill>
                <a:latin typeface="Times New Roman"/>
              </a:rPr>
              <a:t>nowa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5"/>
          <p:cNvSpPr/>
          <p:nvPr/>
        </p:nvSpPr>
        <p:spPr>
          <a:xfrm>
            <a:off x="6875280" y="263700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1f28"/>
                </a:solidFill>
                <a:latin typeface="Times New Roman"/>
              </a:rPr>
              <a:t>ton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6"/>
          <p:cNvSpPr/>
          <p:nvPr/>
        </p:nvSpPr>
        <p:spPr>
          <a:xfrm>
            <a:off x="1187280" y="256536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1f28"/>
                </a:solidFill>
                <a:latin typeface="Times New Roman"/>
              </a:rPr>
              <a:t>st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7"/>
          <p:cNvSpPr/>
          <p:nvPr/>
        </p:nvSpPr>
        <p:spPr>
          <a:xfrm>
            <a:off x="5652360" y="3429000"/>
            <a:ext cx="9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1f28"/>
                </a:solidFill>
                <a:latin typeface="Times New Roman"/>
              </a:rPr>
              <a:t>to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8"/>
          <p:cNvSpPr/>
          <p:nvPr/>
        </p:nvSpPr>
        <p:spPr>
          <a:xfrm>
            <a:off x="3636000" y="1844640"/>
            <a:ext cx="19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1f28"/>
                </a:solidFill>
                <a:latin typeface="Times New Roman"/>
              </a:rPr>
              <a:t>at these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9"/>
          <p:cNvSpPr/>
          <p:nvPr/>
        </p:nvSpPr>
        <p:spPr>
          <a:xfrm>
            <a:off x="6444720" y="1844640"/>
            <a:ext cx="221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1f28"/>
                </a:solidFill>
                <a:latin typeface="Times New Roman"/>
              </a:rPr>
              <a:t>at the mo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0"/>
          <p:cNvSpPr/>
          <p:nvPr/>
        </p:nvSpPr>
        <p:spPr>
          <a:xfrm>
            <a:off x="1980360" y="3357720"/>
            <a:ext cx="155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1f28"/>
                </a:solidFill>
                <a:latin typeface="Times New Roman"/>
              </a:rPr>
              <a:t>at 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250920" y="907920"/>
            <a:ext cx="82296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We don’t usually use stative verbs in the Present Continuous. Stative verbs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a1f28"/>
                </a:solidFill>
                <a:latin typeface="Times New Roman"/>
              </a:rPr>
              <a:t>Verbs of senses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feel, hear, see, smell, sound, ta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The cake smells wonder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a1f28"/>
                </a:solidFill>
                <a:latin typeface="Times New Roman"/>
              </a:rPr>
              <a:t>Verbs of emotion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dislike, hate, like, love, need, prefer, w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She wants to go home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a1f28"/>
                </a:solidFill>
                <a:latin typeface="Times New Roman"/>
              </a:rPr>
              <a:t>Verbs of understanding and opin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appear, believe, forget, hope, know, remember, think,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I remember his name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a1f28"/>
                </a:solidFill>
                <a:latin typeface="Times New Roman"/>
              </a:rPr>
              <a:t>Verbs of possess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belong to, 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They own some land in the cap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Rectangle 2" descr=""/>
          <p:cNvPicPr/>
          <p:nvPr/>
        </p:nvPicPr>
        <p:blipFill>
          <a:blip r:embed="rId1"/>
          <a:stretch/>
        </p:blipFill>
        <p:spPr>
          <a:xfrm>
            <a:off x="463680" y="-6480"/>
            <a:ext cx="82422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3000"/>
                            </p:stCondLst>
                            <p:childTnLst>
                              <p:par>
                                <p:cTn id="30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4000"/>
                            </p:stCondLst>
                            <p:childTnLst>
                              <p:par>
                                <p:cTn id="30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0"/>
                            </p:stCondLst>
                            <p:childTnLst>
                              <p:par>
                                <p:cTn id="31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6000"/>
                            </p:stCondLst>
                            <p:childTnLst>
                              <p:par>
                                <p:cTn id="32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7000"/>
                            </p:stCondLst>
                            <p:childTnLst>
                              <p:par>
                                <p:cTn id="32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8000"/>
                            </p:stCondLst>
                            <p:childTnLst>
                              <p:par>
                                <p:cTn id="33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9000"/>
                            </p:stCondLst>
                            <p:childTnLst>
                              <p:par>
                                <p:cTn id="33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1000"/>
                            </p:stCondLst>
                            <p:childTnLst>
                              <p:par>
                                <p:cTn id="35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4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4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4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3000"/>
                            </p:stCondLst>
                            <p:childTnLst>
                              <p:par>
                                <p:cTn id="36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4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4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4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4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4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4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3T19:07:09Z</dcterms:created>
  <dc:creator>Татьяна</dc:creator>
  <dc:description/>
  <dc:language>en-US</dc:language>
  <cp:lastModifiedBy>школа</cp:lastModifiedBy>
  <dcterms:modified xsi:type="dcterms:W3CDTF">2022-02-20T12:33:40Z</dcterms:modified>
  <cp:revision>20</cp:revision>
  <dc:subject/>
  <dc:title>Present Tenses</dc:title>
</cp:coreProperties>
</file>