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56A-BD89-45C1-888F-D5EF2C0C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6E0-7077-4769-946C-2A986FDA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A1C-03C7-4106-AB31-BE8AA43D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3B-D7AC-4169-A550-683385A9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BF98-5A45-402E-8D9D-38034576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F692-85A5-4529-A1FD-1E8389C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296-DB5B-4B37-A708-786A5BD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F0F-4529-41AC-8003-AA12B29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005-88BC-4BE8-B1A4-48D7B321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1268-DBAB-4BCC-9B57-116CBD6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0BD1-0A53-417A-98D9-BCAFCA4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4FC-0F6E-4BF1-9C81-3768A58A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62A8-6EC1-48FE-9659-A667AEC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0E4-052A-47A7-8000-9731855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149-8194-4160-8845-CE49544B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CC8A-95CD-438D-8BE0-136F3EE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5DD-2F84-4633-BCF7-8D6E9C81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BE8A-F03C-4320-A6B3-229BC8A9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419F-7F48-4765-8493-AA4550BF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0781-213D-4F4A-82FD-13BF0F76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C15D-350F-40E3-B531-230E8C0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DC54-A1C4-4366-AC68-6CAAA853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DEB-63A6-4E6B-83E3-65106B2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70CC-993B-42C8-85E1-100A7133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54F9-C76C-4AB9-8DB0-B3F7B8C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2A46-8568-49D8-86C8-210E55F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6302-AFF3-4DEE-953D-D84FC76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DF5D-43B1-4110-9253-2BFBA3C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58B7-CAD0-4278-9EAE-C34A9ADE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04B6-0928-4C82-8476-845A4DE9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47FB-0FB0-4D40-876D-2CA16764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7027-7CB5-4E89-99A6-3F509A23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5359-EC91-4157-8098-B2D5D82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F77-F4B6-4291-A3B2-C7A784A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989E-9330-41AB-970A-7202E3E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C49A-655C-4107-8854-3AA9EA7E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717F-484F-45BB-89ED-88F42BF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D701-7916-4797-AF93-3C5097F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06D5-0AE8-4BA0-9662-942649B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D57A-15A7-4274-8607-9424095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1BAC-8372-47CD-8876-A73982E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23FF-D93A-4440-8787-77494785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06AD-F30F-4303-91B7-5E9F4AAD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ED5D-8B3E-4CE4-8256-8D09C2A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CC9-0EB3-4677-8BB8-95B82B3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941D-6429-4053-9355-C712426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F4D01-489D-4323-9BA1-FCAA99C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93EF-60E2-4A32-9B66-6A577C8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23B9-876F-4CCC-AD6E-B425808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0314-7B9D-4FF1-91F2-B79355A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E38D-D043-4AFF-830E-A7282CD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8213-6553-4F17-941C-FB9DE39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3F46-6538-44A8-B2E4-BC21311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20B2-40BA-4491-9EB9-564F423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30EF-D938-4F39-8CBD-D74723D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96A-8E21-4CA6-A0AA-ED6F1FF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6763-148D-4BEB-A580-67A82958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8B47-3CEC-4129-B436-F445D1F0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31C6-A508-46B5-AA49-50E93C29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4E7A-0E66-472C-84AA-29E53916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3820-0A47-4556-B67E-43CA1EF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E6BF-DC3C-4BB1-BB56-C4E8F9FF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6150-3E09-4022-8BBA-74919CFB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E537-104F-4A1F-9485-D0982EB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BB48-5C64-4A03-95BC-73569BB0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5EFB-4576-4080-BB11-659A426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8AF-0220-4A1A-8A68-EC7350D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9924-5779-4B3E-8544-89928B7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842C-EB73-4044-9AA6-A45D60E4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76909-0A0C-4FF8-AD44-9720D016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AB327-2B01-465A-BA23-4ABF181F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0E220-6CD5-4FE5-AE83-9209C490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91D8-F8C9-4A03-9AE8-5A311EA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D47B-A991-46D2-B871-91F3463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7BB1-9DD0-4960-94E9-3C3CA33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A259-E8AD-41AD-96CF-CDAC69A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5CCD8-38C1-4255-B343-70F08AD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132-6278-4006-935C-1D4233C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691D-D9CF-4CD4-97E8-7922D12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7E2A-BC6C-46A8-B532-F4405DF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030F-B1A3-4942-AB22-E0E7ACA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C562-1F38-42F2-BBD0-7A313C45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7552-5BB7-4C59-95F7-16989091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6083-AE17-44F0-A5BD-D7B2C1E6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BCEF-9F83-4138-8062-793A9412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F6F86-D8A0-489D-88DC-961A80D5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4A54-756F-40D4-9DA8-918B99F1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3A56-A9EC-42A9-B3BB-2B2A3123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6D8-CCAA-4BAF-9E0D-F5A1A3E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2C82-EF80-4C23-B162-772D9061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0F20-8060-4D54-9AA1-1DAA7EF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B748-688F-4E74-8001-6C72DA2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BA4C0-2910-48F4-9240-544228D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5A72-C378-4672-BB49-3C7EA53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53B5-2EE9-4CD1-B5B8-030D8138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028A-23C9-4DAB-969A-F4090B03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C8D-4A1A-49E7-9939-AB199353FC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7BAC-DCCD-4F0A-82A6-9BFD3C7131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2EE-C6C2-47CD-8A32-E128A477ED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CB6-E898-4242-A615-7ECE5E6295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955-ADFE-40DE-BF08-065380EB2A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D82-82F2-4C98-B97F-8813E30C3C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F63-49C9-4B39-B044-1588291E61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89F-4937-419C-892D-4174A92019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858960"/>
            <a:ext cx="80107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56560" y="1413000"/>
            <a:ext cx="373464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999080" y="3860640"/>
            <a:ext cx="427860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4878720" y="1484280"/>
            <a:ext cx="396936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I/you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he/she/it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we/you/they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3" descr="slide-19.jpg"/>
          <p:cNvPicPr/>
          <p:nvPr/>
        </p:nvPicPr>
        <p:blipFill>
          <a:blip r:embed="rId1"/>
          <a:stretch/>
        </p:blipFill>
        <p:spPr>
          <a:xfrm>
            <a:off x="0" y="-206280"/>
            <a:ext cx="943128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use the Present Perfect Simple to tal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ppened in the past but we don’t know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Marry has lost her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ave they finished their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ppened in the past but is importan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Mark has broken his leg so he can’t play footb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started in the past but continu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uzie has known Tom for 6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s just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ohn has just finished his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y’ve just told me abou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1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10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already              never            so f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ever                   once             this wee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for                     recently        lat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for ages            since 1995     today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just                   since June      y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/>
          <p:cNvSpPr/>
          <p:nvPr/>
        </p:nvSpPr>
        <p:spPr>
          <a:xfrm>
            <a:off x="324000" y="1413000"/>
            <a:ext cx="453528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been 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179280" y="3645000"/>
            <a:ext cx="460872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not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not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not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981320" y="2492280"/>
            <a:ext cx="409896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I/you been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he/she/it been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we/you/they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3" descr="image-14.jpg"/>
          <p:cNvPicPr/>
          <p:nvPr/>
        </p:nvPicPr>
        <p:blipFill>
          <a:blip r:embed="rId1"/>
          <a:stretch/>
        </p:blipFill>
        <p:spPr>
          <a:xfrm>
            <a:off x="214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 use the Present Perfect Continuous to talk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Something that started in the past and has happened repeatedly or has continued until n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We have been trying to clean the house all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Something that happened repeatedly in the past and that may have finished n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’ve been waiting for you for two hours. Hurry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757080" y="184464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</a:rPr>
              <a:t>al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757440" y="299736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ll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228720" y="191628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for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518520" y="30686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4141440" y="184464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5220720" y="407664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rec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212360" y="299736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l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2196360" y="407664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how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Содержимое 3" descr="Goodbye-Transparent-Image.png"/>
          <p:cNvPicPr/>
          <p:nvPr/>
        </p:nvPicPr>
        <p:blipFill>
          <a:blip r:embed="rId1"/>
          <a:stretch/>
        </p:blipFill>
        <p:spPr>
          <a:xfrm>
            <a:off x="928800" y="696960"/>
            <a:ext cx="7923240" cy="6161040"/>
          </a:xfrm>
          <a:prstGeom prst="rect">
            <a:avLst/>
          </a:prstGeom>
          <a:ln w="0">
            <a:noFill/>
          </a:ln>
        </p:spPr>
      </p:pic>
      <p:pic>
        <p:nvPicPr>
          <p:cNvPr id="448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335520" y="2060640"/>
            <a:ext cx="264060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579480" y="4221000"/>
            <a:ext cx="362952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do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does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do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380200" y="1628640"/>
            <a:ext cx="332028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I/you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he/she/it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we/you/they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We use the Present Simple to talk abou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ha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gets up early every 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doesn’t eat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things that are true in gener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Water boils at 100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permanent st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y mother works as a dent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9280" y="1844640"/>
            <a:ext cx="453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day               every we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month          every 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summer        at the week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in the morning       in Janu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on Tuesdays            on Friday morn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three times a day    once a we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twice a month         usu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Often                      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355640" y="44481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reads a book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very even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n Sunday evening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visit my grandpa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8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9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9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9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9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4" descr="img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12200" y="1557360"/>
            <a:ext cx="361728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 am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is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are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650320" y="4292640"/>
            <a:ext cx="451800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am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are 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/she/it is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/you/they are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877640" y="1628640"/>
            <a:ext cx="387324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m I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you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he/she/it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we/you/they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We use the Present Continuous to talk abou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Actions in progress at the time of spe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We are playing in the garden at the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s she reading a book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Actions in progress around the time of spe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is working hard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am studying French at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3"/>
          <p:cNvSpPr/>
          <p:nvPr/>
        </p:nvSpPr>
        <p:spPr>
          <a:xfrm>
            <a:off x="971640" y="184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3852360" y="256536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nowa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6875280" y="26370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1187280" y="25653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565236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636000" y="184464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6444720" y="184464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1980360" y="335772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5092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don’t usually use stative verbs in the Present Continuous. Stative verb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senses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feel, hear, see, smell, sound,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 cake smells wonde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emotion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islike, hate, like, love, need, prefer,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wants to go home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understanding and opi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ppear, believe, forget, hope, know, remember, think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remember his name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posses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elong to,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y own some land in th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школа</cp:lastModifiedBy>
  <dcterms:modified xsi:type="dcterms:W3CDTF">2022-02-20T12:33:40Z</dcterms:modified>
  <cp:revision>20</cp:revision>
  <dc:subject/>
  <dc:title>Present Tenses</dc:title>
</cp:coreProperties>
</file>