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D6E-81F0-4CF6-8BF0-1FED026F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47D-45EE-4040-85CF-60DF1F24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9E1-C458-4F38-81EB-9A4E34A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459-9706-45BF-A6D7-4F471197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9E3B-52E8-402E-9245-C0E40AC9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08AC-CCA1-4C30-953F-7F48C734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B4C-133B-43B5-8FD0-CC86D14F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0F20-2A3D-4DD3-9234-B522C2A6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777-ABAA-4CE6-88EB-B3AA362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A6C0-C2B5-4B4A-8530-08A90A17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ED9-7A9D-42EC-896B-940B7E6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603-9375-40D0-8CA3-023AABE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413-03EB-4DC0-8242-E70128A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CC5-06E3-408B-9C50-3A26A13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92F-F165-46A4-8F7B-667E322B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DB3E-FC91-424E-981A-BC734675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C46-69ED-41F5-AD3C-4A5AB4FF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3BF-1FB6-4D2C-BA6D-6702DEA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F52-DBA7-4A01-B86B-95B2AA1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1A4-001E-4EA6-A857-17D0C5E8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CC7-02EB-4C8C-80FD-CFC3C96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912-931D-4F77-967D-4580314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A83-9373-4B8F-BA50-5825DE1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6FF-9B5E-418D-AC4D-1A21286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D57-495C-4E1F-B7FC-064FD4E040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A29-8E2D-455D-B37F-DC0DF3AA1BF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437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«История Пугаче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«Капитанская дочка»</a:t>
            </a:r>
            <a:br>
              <a:rPr sz="5700"/>
            </a:b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А.С.Пушкин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2" descr="https://tvcenter.ru/wp-content/uploads/2021/10/pushkin1.jpg"/>
          <p:cNvPicPr/>
          <p:nvPr/>
        </p:nvPicPr>
        <p:blipFill>
          <a:blip r:embed="rId1"/>
          <a:stretch/>
        </p:blipFill>
        <p:spPr>
          <a:xfrm>
            <a:off x="179280" y="189000"/>
            <a:ext cx="5446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mage0005"/>
          <p:cNvPicPr/>
          <p:nvPr/>
        </p:nvPicPr>
        <p:blipFill>
          <a:blip r:embed="rId1"/>
          <a:stretch/>
        </p:blipFill>
        <p:spPr>
          <a:xfrm>
            <a:off x="539640" y="2479680"/>
            <a:ext cx="8064720" cy="424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 flipV="1" rot="10800000">
            <a:off x="177480" y="115560"/>
            <a:ext cx="890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ушкин искал материалы по истории Пугачева в государственных и частных архивах, собирал живые свидетельства современников пугачевской войн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Я прочел со вниманием все, что было напечатано о Пугачеве, и сверх того 18 толстых томов разных рукописей, донесений, указов и про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Я посетил места, где произошли главные события эпохи, мною описанной, поверяя мертвые документы словами еще живых, но престарелых очевидцев, и вновь поверяя их дряхлеющую память историческою критикою», войны.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11" descr="Памятник Пушкину в парке его же имени."/>
          <p:cNvPicPr/>
          <p:nvPr/>
        </p:nvPicPr>
        <p:blipFill>
          <a:blip r:embed="rId1"/>
          <a:stretch/>
        </p:blipFill>
        <p:spPr>
          <a:xfrm>
            <a:off x="155520" y="3645000"/>
            <a:ext cx="4048200" cy="30477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4410000" y="3213000"/>
            <a:ext cx="4572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- так писал Пушкин о своей работе над трудом «История Пугачева», к которому приступил вскоре после возникшего замысла исторического романа на тему пугачевской войны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9" descr="https://ds02.infourok.ru/uploads/ex/01dd/00046eac-8f66e3e5/img3.jpg"/>
          <p:cNvPicPr/>
          <p:nvPr/>
        </p:nvPicPr>
        <p:blipFill>
          <a:blip r:embed="rId1"/>
          <a:stretch/>
        </p:blipFill>
        <p:spPr>
          <a:xfrm>
            <a:off x="19080" y="28440"/>
            <a:ext cx="9124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28440"/>
            <a:ext cx="587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История Пугачёва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https://i.ytimg.com/vi/AvzobkNAFa4/maxresdefault.jpg"/>
          <p:cNvPicPr/>
          <p:nvPr/>
        </p:nvPicPr>
        <p:blipFill>
          <a:blip r:embed="rId1"/>
          <a:stretch/>
        </p:blipFill>
        <p:spPr>
          <a:xfrm>
            <a:off x="468360" y="907920"/>
            <a:ext cx="5146560" cy="2897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611280" y="407664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«История Пугачева»                                создавалась одновременно с романом «Капитанская дочка». Два произведения - историческое и художественное - обогащали друг друга. Обретенная в работе над историческим трудом историческая правда воплотилась в художественную правду романа о Пугачеве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2" descr="https://img03litfund.ru/images/lots/194/cache/194-080-5441-2-VB013356_m_600x600.jpg"/>
          <p:cNvPicPr/>
          <p:nvPr/>
        </p:nvPicPr>
        <p:blipFill>
          <a:blip r:embed="rId2"/>
          <a:stretch/>
        </p:blipFill>
        <p:spPr>
          <a:xfrm>
            <a:off x="6012000" y="249120"/>
            <a:ext cx="2901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32720" y="333000"/>
            <a:ext cx="2108160" cy="36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Емельян Пугачёв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89000"/>
            <a:ext cx="6264360" cy="65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ак уже осенью 1831 года Пушкин начал напряженную работу в государственных архивах по изучению документов. Пушкин получил разрешение ознакомиться с обширным сводом рукописей о Петре в библиотеке Вольтера, которая хранилась в Эрмитаже и была доступна только с дозволения царя. Однако, собирая материалы к «Истории Петра», Пушкин был надолго отвлечен новым замыслом: в 1832 году он обратился к теме восстания Емельяна Пугаче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4" descr="Image0005"/>
          <p:cNvPicPr/>
          <p:nvPr/>
        </p:nvPicPr>
        <p:blipFill>
          <a:blip r:embed="rId1"/>
          <a:stretch/>
        </p:blipFill>
        <p:spPr>
          <a:xfrm>
            <a:off x="6659640" y="2997360"/>
            <a:ext cx="223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питанская дочка</a:t>
            </a:r>
            <a:br>
              <a:rPr sz="4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ледуя за Карамзиным 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омане «Капитанская дочка», повествующем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 одном из самых мощных народных выступлений Х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VIII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века – народной войн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д предводительством Емельяна Пугачева, Пушкин пришёл к заключению о бессмысленности и беспощадност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ого бунта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3" descr="Image0014"/>
          <p:cNvPicPr/>
          <p:nvPr/>
        </p:nvPicPr>
        <p:blipFill>
          <a:blip r:embed="rId1"/>
          <a:stretch/>
        </p:blipFill>
        <p:spPr>
          <a:xfrm>
            <a:off x="4572000" y="1268280"/>
            <a:ext cx="417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ервая встреча Гринёва с Пугачёвым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752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Даже известный русский историк В.О.Ключевский признавал, что в «Капитанской дочке» больше истории, чем в «Истории Пугачевского бунта» (под таким названием исторический труд Пушкина о Пугачеве в 1834 году увидел свет, так как верховный цензор поэта Николай </a:t>
            </a:r>
            <a:r>
              <a:rPr b="0" lang="en-GB" sz="25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 полагал, что у мятежника Пугачева не может быть своей истории)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Image0015"/>
          <p:cNvPicPr/>
          <p:nvPr/>
        </p:nvPicPr>
        <p:blipFill>
          <a:blip r:embed="rId1"/>
          <a:stretch/>
        </p:blipFill>
        <p:spPr>
          <a:xfrm>
            <a:off x="5111640" y="1989000"/>
            <a:ext cx="4032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ереги честь смолоду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1083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В «Капитанской дочке», напечатанной в 1836 году в пушкинском журнале «Современник», логика сюжетных ситуаций, художественных образов, сама интонация рассказа приводят читателей к тому, что глубоко осознано Пушкиным - историком и писателем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Image0016"/>
          <p:cNvPicPr/>
          <p:nvPr/>
        </p:nvPicPr>
        <p:blipFill>
          <a:blip r:embed="rId1"/>
          <a:stretch/>
        </p:blipFill>
        <p:spPr>
          <a:xfrm>
            <a:off x="4565520" y="952560"/>
            <a:ext cx="4038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ллюстрация художника Д.Шмарин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640" y="1653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Жестокость взбунтовавшегося народа - ответ на жестокость, которую веками терпел наро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арода и у дворянства, у тех и у других - своя правд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Image0018"/>
          <p:cNvPicPr/>
          <p:nvPr/>
        </p:nvPicPr>
        <p:blipFill>
          <a:blip r:embed="rId1"/>
          <a:stretch/>
        </p:blipFill>
        <p:spPr>
          <a:xfrm>
            <a:off x="4397400" y="1125360"/>
            <a:ext cx="446400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А.Бенуа. Ночная беседа Гринёва с Пугачёвым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олкновение между ними неизбежно, как неизбежна кровавая трагед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Image0002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аша и Пётр Гринёв. Художник С.Герасимо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И все же Пушкин верит в возможность спасения, вы­сказывает надежду на то, что доброта и благородство спасут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Россию от ужасов</a:t>
            </a:r>
            <a:r>
              <a:rPr b="0" lang="en-GB" sz="25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 гра­жданской войны, как спасают они его героев - Петрушу Гринева и Машу Миронову, прошедших через горнило исторических испытаний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Image0019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рта Пугачёвских волне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4788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событиям пугачевской войны поэта побуждала обратиться недавно прокатившаяся по России волна холерных бунтов, вооруженных выступлений солдат в военных поселениях. Настоящее вело Пушкина к размышлениям о будущем страны и государства, о судьбе народа и дворянства. Истоки же настоящего лежали в прошлом России – здесь можно было только найти ответы на многие вопросы, которые волновали Пушкина и его современников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Image0005"/>
          <p:cNvPicPr/>
          <p:nvPr/>
        </p:nvPicPr>
        <p:blipFill>
          <a:blip r:embed="rId1"/>
          <a:stretch/>
        </p:blipFill>
        <p:spPr>
          <a:xfrm>
            <a:off x="4788000" y="1052640"/>
            <a:ext cx="4356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7:24:33Z</dcterms:created>
  <dc:creator>user</dc:creator>
  <dc:description/>
  <dc:language>en-US</dc:language>
  <cp:lastModifiedBy>DELL</cp:lastModifiedBy>
  <dcterms:modified xsi:type="dcterms:W3CDTF">2022-02-20T19:00:58Z</dcterms:modified>
  <cp:revision>13</cp:revision>
  <dc:subject/>
  <dc:title>Пушкин-историк</dc:title>
</cp:coreProperties>
</file>