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9FD8-4180-433F-9964-5A7FEA219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EAE3-73C8-4D16-83A6-9D565A2C4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4CDC-E8BD-4561-9C18-0FEC14368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DFC4-87FA-4468-8C88-7CD27AC32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E77BF-BC27-4814-A4A1-8C966F365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FD59F-3677-4CB0-AC87-2C547A0A5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461CE-FF38-4424-9077-A30D31B39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60183-6381-45F9-8194-595E28CA4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B5763-7572-4F45-BB93-EA02173A4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DB21F-8370-4C8A-852F-04BA9ECA7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D2C21-8C3E-4DCC-9C7D-F7A059CF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1271-92B4-479A-B377-1CF9BE6CA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DE962-7EAF-40CF-9404-E07D91168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03000-7D6B-432B-B0A0-D3C0FC03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6A17E-B092-419C-9F67-D23722536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45885-EBDA-4E8B-9D14-53E08FAF8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432A7-3206-4E36-9B54-E521F63A3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E2FD-4344-4610-A2F7-EFE18949E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1C91-FF10-4B4A-BC62-C76D277EF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6FA9-6E59-45DD-8150-9E4474F9E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13FF-5298-453A-939F-5E6CC646F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3EA2-6B2A-4FED-AFDD-4EA93702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1222-A856-4290-9C81-5208A2D56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B9FA-3139-4D54-9DE3-FB4D9E22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EA618-740F-486F-B747-651FB6E82CB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07980-059C-47D6-8C25-A8D2A7E703B2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4437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«История Пугачева»</a:t>
            </a:r>
            <a:br>
              <a:rPr sz="5700"/>
            </a:b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«Капитанская дочка»</a:t>
            </a:r>
            <a:br>
              <a:rPr sz="5700"/>
            </a:br>
            <a:r>
              <a:rPr b="1" lang="ru-RU" sz="6600" spc="-1" strike="noStrike">
                <a:solidFill>
                  <a:srgbClr val="ffffcc"/>
                </a:solidFill>
                <a:latin typeface="Arial"/>
              </a:rPr>
              <a:t>А.С.Пушкин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5" name="Picture 2" descr="https://tvcenter.ru/wp-content/uploads/2021/10/pushkin1.jpg"/>
          <p:cNvPicPr/>
          <p:nvPr/>
        </p:nvPicPr>
        <p:blipFill>
          <a:blip r:embed="rId1"/>
          <a:stretch/>
        </p:blipFill>
        <p:spPr>
          <a:xfrm>
            <a:off x="179280" y="189000"/>
            <a:ext cx="5446800" cy="30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Image0005"/>
          <p:cNvPicPr/>
          <p:nvPr/>
        </p:nvPicPr>
        <p:blipFill>
          <a:blip r:embed="rId1"/>
          <a:stretch/>
        </p:blipFill>
        <p:spPr>
          <a:xfrm>
            <a:off x="539640" y="2479680"/>
            <a:ext cx="8064720" cy="42498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5"/>
          <p:cNvSpPr/>
          <p:nvPr/>
        </p:nvSpPr>
        <p:spPr>
          <a:xfrm flipV="1" rot="10800000">
            <a:off x="177480" y="115560"/>
            <a:ext cx="8907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Пушкин искал материалы по истории Пугачева в государственных и частных архивах, собирал живые свидетельства современников пугачевской войны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«Я прочел со вниманием все, что было напечатано о Пугачеве, и сверх того 18 толстых томов разных рукописей, донесений, указов и проч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«История Пугачёва»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22960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2500" spc="-1" strike="noStrike">
                <a:solidFill>
                  <a:srgbClr val="eaeaea"/>
                </a:solidFill>
                <a:latin typeface="Verdana"/>
              </a:rPr>
              <a:t>Я посетил места, где произошли главные события эпохи, мною описанной, поверяя мертвые документы словами еще живых, но престарелых очевидцев, и вновь поверяя их дряхлеющую память историческою критикою», войны..</a:t>
            </a:r>
            <a:endParaRPr b="0" lang="en-US" sz="25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3" name="Picture 11" descr="Памятник Пушкину в парке его же имени."/>
          <p:cNvPicPr/>
          <p:nvPr/>
        </p:nvPicPr>
        <p:blipFill>
          <a:blip r:embed="rId1"/>
          <a:stretch/>
        </p:blipFill>
        <p:spPr>
          <a:xfrm>
            <a:off x="155520" y="3645000"/>
            <a:ext cx="4048200" cy="304776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оугольник 1"/>
          <p:cNvSpPr/>
          <p:nvPr/>
        </p:nvSpPr>
        <p:spPr>
          <a:xfrm>
            <a:off x="4410000" y="3213000"/>
            <a:ext cx="4572000" cy="27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eaeaea"/>
                </a:solidFill>
                <a:latin typeface="Verdana"/>
              </a:rPr>
              <a:t>- так писал Пушкин о своей работе над трудом «История Пугачева», к которому приступил вскоре после возникшего замысла исторического романа на тему пугачевской войны. </a:t>
            </a:r>
            <a:endParaRPr b="0" lang="en-US" sz="25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«История Пугачёва»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6" name="Picture 9" descr="https://ds02.infourok.ru/uploads/ex/01dd/00046eac-8f66e3e5/img3.jpg"/>
          <p:cNvPicPr/>
          <p:nvPr/>
        </p:nvPicPr>
        <p:blipFill>
          <a:blip r:embed="rId1"/>
          <a:stretch/>
        </p:blipFill>
        <p:spPr>
          <a:xfrm>
            <a:off x="19080" y="28440"/>
            <a:ext cx="912492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60" y="-28440"/>
            <a:ext cx="587844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«История Пугачёва»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8" name="Picture 5" descr="https://i.ytimg.com/vi/AvzobkNAFa4/maxresdefault.jpg"/>
          <p:cNvPicPr/>
          <p:nvPr/>
        </p:nvPicPr>
        <p:blipFill>
          <a:blip r:embed="rId1"/>
          <a:stretch/>
        </p:blipFill>
        <p:spPr>
          <a:xfrm>
            <a:off x="468360" y="907920"/>
            <a:ext cx="5146560" cy="289728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3"/>
          <p:cNvSpPr/>
          <p:nvPr/>
        </p:nvSpPr>
        <p:spPr>
          <a:xfrm>
            <a:off x="611280" y="4076640"/>
            <a:ext cx="82296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eaeaea"/>
                </a:solidFill>
                <a:latin typeface="Verdana"/>
              </a:rPr>
              <a:t>«История Пугачева»                                создавалась одновременно с романом «Капитанская дочка». Два произведения - историческое и художественное - обогащали друг друга. Обретенная в работе над историческим трудом историческая правда воплотилась в художественную правду романа о Пугачеве.</a:t>
            </a:r>
            <a:endParaRPr b="0" lang="en-US" sz="25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0" name="Picture 2" descr="https://img03litfund.ru/images/lots/194/cache/194-080-5441-2-VB013356_m_600x600.jpg"/>
          <p:cNvPicPr/>
          <p:nvPr/>
        </p:nvPicPr>
        <p:blipFill>
          <a:blip r:embed="rId2"/>
          <a:stretch/>
        </p:blipFill>
        <p:spPr>
          <a:xfrm>
            <a:off x="6012000" y="249120"/>
            <a:ext cx="290196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732720" y="333000"/>
            <a:ext cx="2108160" cy="360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Емельян Пугачёв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4920" y="189000"/>
            <a:ext cx="6264360" cy="65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Так уже осенью 1831 года Пушкин начал напряженную работу в государственных архивах по изучению документов. Пушкин получил разрешение ознакомиться с обширным сводом рукописей о Петре в библиотеке Вольтера, которая хранилась в Эрмитаже и была доступна только с дозволения царя. Однако, собирая материалы к «Истории Петра», Пушкин был надолго отвлечен новым замыслом: в 1832 году он обратился к теме восстания Емельяна Пугачева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8" name="Picture 4" descr="Image0005"/>
          <p:cNvPicPr/>
          <p:nvPr/>
        </p:nvPicPr>
        <p:blipFill>
          <a:blip r:embed="rId1"/>
          <a:stretch/>
        </p:blipFill>
        <p:spPr>
          <a:xfrm>
            <a:off x="6659640" y="2997360"/>
            <a:ext cx="223344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4043520" cy="6319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Капитанская дочка</a:t>
            </a:r>
            <a:br>
              <a:rPr sz="4000"/>
            </a:b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Следуя за Карамзиным в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романе «Капитанская дочка», повествующем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об одном из самых мощных народных выступлений Х</a:t>
            </a:r>
            <a:r>
              <a:rPr b="0" lang="en-GB" sz="2000" spc="-1" strike="noStrike">
                <a:solidFill>
                  <a:srgbClr val="ffffcc"/>
                </a:solidFill>
                <a:latin typeface="Arial"/>
              </a:rPr>
              <a:t>VIII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 века – народной войне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под предводительством Емельяна Пугачева, Пушкин пришёл к заключению о бессмысленности и беспощадности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русского бунта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0" name="Picture 3" descr="Image0014"/>
          <p:cNvPicPr/>
          <p:nvPr/>
        </p:nvPicPr>
        <p:blipFill>
          <a:blip r:embed="rId1"/>
          <a:stretch/>
        </p:blipFill>
        <p:spPr>
          <a:xfrm>
            <a:off x="4572000" y="1268280"/>
            <a:ext cx="417672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Первая встреча Гринёва с Пугачёвым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4752720" cy="53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eaeaea"/>
                </a:solidFill>
                <a:latin typeface="Verdana"/>
              </a:rPr>
              <a:t>Даже известный русский историк В.О.Ключевский признавал, что в «Капитанской дочке» больше истории, чем в «Истории Пугачевского бунта» (под таким названием исторический труд Пушкина о Пугачеве в 1834 году увидел свет, так как верховный цензор поэта Николай </a:t>
            </a:r>
            <a:r>
              <a:rPr b="0" lang="en-GB" sz="2500" spc="-1" strike="noStrike">
                <a:solidFill>
                  <a:srgbClr val="eaeaea"/>
                </a:solidFill>
                <a:latin typeface="Verdana"/>
              </a:rPr>
              <a:t>I</a:t>
            </a:r>
            <a:r>
              <a:rPr b="0" lang="ru-RU" sz="2500" spc="-1" strike="noStrike">
                <a:solidFill>
                  <a:srgbClr val="eaeaea"/>
                </a:solidFill>
                <a:latin typeface="Verdana"/>
              </a:rPr>
              <a:t> полагал, что у мятежника Пугачева не может быть своей истории).</a:t>
            </a:r>
            <a:endParaRPr b="0" lang="en-US" sz="25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3" name="Picture 4" descr="Image0015"/>
          <p:cNvPicPr/>
          <p:nvPr/>
        </p:nvPicPr>
        <p:blipFill>
          <a:blip r:embed="rId1"/>
          <a:stretch/>
        </p:blipFill>
        <p:spPr>
          <a:xfrm>
            <a:off x="5111640" y="1989000"/>
            <a:ext cx="403236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Береги честь смолоду…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10832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eaeaea"/>
                </a:solidFill>
                <a:latin typeface="Verdana"/>
              </a:rPr>
              <a:t>В «Капитанской дочке», напечатанной в 1836 году в пушкинском журнале «Современник», логика сюжетных ситуаций, художественных образов, сама интонация рассказа приводят читателей к тому, что глубоко осознано Пушкиным - историком и писателем. </a:t>
            </a:r>
            <a:endParaRPr b="0" lang="en-US" sz="25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6" name="Picture 4" descr="Image0016"/>
          <p:cNvPicPr/>
          <p:nvPr/>
        </p:nvPicPr>
        <p:blipFill>
          <a:blip r:embed="rId1"/>
          <a:stretch/>
        </p:blipFill>
        <p:spPr>
          <a:xfrm>
            <a:off x="4565520" y="952560"/>
            <a:ext cx="403884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Иллюстрация художника Д.Шмаринов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7640" y="1653840"/>
            <a:ext cx="4032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Жестокость взбунтовавшегося народа - ответ на жестокость, которую веками терпел народ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У народа и у дворянства, у тех и у других - своя правда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9" name="Picture 4" descr="Image0018"/>
          <p:cNvPicPr/>
          <p:nvPr/>
        </p:nvPicPr>
        <p:blipFill>
          <a:blip r:embed="rId1"/>
          <a:stretch/>
        </p:blipFill>
        <p:spPr>
          <a:xfrm>
            <a:off x="4397400" y="1125360"/>
            <a:ext cx="4464000" cy="558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3898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А.Бенуа. Ночная беседа Гринёва с Пугачёвым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394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Столкновение между ними неизбежно, как неизбежна кровавая трагедия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2" name="Picture 4" descr="Image0002"/>
          <p:cNvPicPr/>
          <p:nvPr/>
        </p:nvPicPr>
        <p:blipFill>
          <a:blip r:embed="rId1"/>
          <a:stretch/>
        </p:blipFill>
        <p:spPr>
          <a:xfrm>
            <a:off x="4067280" y="0"/>
            <a:ext cx="507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38275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Маша и Пётр Гринёв. Художник С.Герасимов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-360" y="1699920"/>
            <a:ext cx="4321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eaeaea"/>
                </a:solidFill>
                <a:latin typeface="Verdana"/>
              </a:rPr>
              <a:t>И все же Пушкин верит в возможность спасения, вы­сказывает надежду на то, что доброта и благородство спасут </a:t>
            </a:r>
            <a:endParaRPr b="0" lang="en-US" sz="25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eaeaea"/>
                </a:solidFill>
                <a:latin typeface="Verdana"/>
              </a:rPr>
              <a:t>Россию от ужасов</a:t>
            </a:r>
            <a:r>
              <a:rPr b="0" lang="en-GB" sz="2500" spc="-1" strike="noStrike">
                <a:solidFill>
                  <a:srgbClr val="eaeaea"/>
                </a:solidFill>
                <a:latin typeface="Verdana"/>
              </a:rPr>
              <a:t>           </a:t>
            </a:r>
            <a:r>
              <a:rPr b="0" lang="ru-RU" sz="2500" spc="-1" strike="noStrike">
                <a:solidFill>
                  <a:srgbClr val="eaeaea"/>
                </a:solidFill>
                <a:latin typeface="Verdana"/>
              </a:rPr>
              <a:t> гра­жданской войны, как спасают они его героев - Петрушу Гринева и Машу Миронову, прошедших через горнило исторических испытаний.</a:t>
            </a:r>
            <a:endParaRPr b="0" lang="en-US" sz="25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5" name="Picture 4" descr="Image0019"/>
          <p:cNvPicPr/>
          <p:nvPr/>
        </p:nvPicPr>
        <p:blipFill>
          <a:blip r:embed="rId1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342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                                                       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Карта Пугачёвских волнений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549000"/>
            <a:ext cx="4788000" cy="64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К событиям пугачевской войны поэта побуждала обратиться недавно прокатившаяся по России волна холерных бунтов, вооруженных выступлений солдат в военных поселениях. Настоящее вело Пушкина к размышлениям о будущем страны и государства, о судьбе народа и дворянства. Истоки же настоящего лежали в прошлом России – здесь можно было только найти ответы на многие вопросы, которые волновали Пушкина и его современников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8" name="Picture 5" descr="Image0005"/>
          <p:cNvPicPr/>
          <p:nvPr/>
        </p:nvPicPr>
        <p:blipFill>
          <a:blip r:embed="rId1"/>
          <a:stretch/>
        </p:blipFill>
        <p:spPr>
          <a:xfrm>
            <a:off x="4788000" y="1052640"/>
            <a:ext cx="435600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0T17:24:33Z</dcterms:created>
  <dc:creator>user</dc:creator>
  <dc:description/>
  <dc:language>en-US</dc:language>
  <cp:lastModifiedBy>DELL</cp:lastModifiedBy>
  <dcterms:modified xsi:type="dcterms:W3CDTF">2022-02-20T19:00:58Z</dcterms:modified>
  <cp:revision>13</cp:revision>
  <dc:subject/>
  <dc:title>Пушкин-историк</dc:title>
</cp:coreProperties>
</file>