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4DB-93F3-42A3-8C53-953FF374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6E4-B4AB-42E1-998E-0E176F10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194-CBD8-4290-9E75-FC84E760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528-A5A4-4E8E-9C15-871E122A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B44-F3E6-4349-9845-9B1CE1E2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C96-6EF8-47BE-A668-5BB40883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0B7-2929-4F62-808B-3E49D2D6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001-D19E-458A-8F16-4349BFED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2BD-F9C1-4938-89C1-ED872BE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CFF-C2C3-47CE-ABC7-B9F5E6C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A1E-2032-4C86-96CB-A5F4820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866-A7F8-4218-8906-367B565A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A663-03C9-4C78-99EB-356C3EBF7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1  Запиши слова, котор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ответствуют сх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65724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осквичи, подводный, слезинка, абрикосовый, насто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79040" y="1943280"/>
            <a:ext cx="2907360" cy="2361960"/>
            <a:chOff x="2579040" y="1943280"/>
            <a:chExt cx="2907360" cy="2361960"/>
          </a:xfrm>
        </p:grpSpPr>
        <p:sp>
          <p:nvSpPr>
            <p:cNvPr id="44" name=""/>
            <p:cNvSpPr/>
            <p:nvPr/>
          </p:nvSpPr>
          <p:spPr>
            <a:xfrm rot="19000800">
              <a:off x="2852280" y="23626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495680" y="2209320"/>
              <a:ext cx="533520" cy="381600"/>
              <a:chOff x="4495680" y="2209320"/>
              <a:chExt cx="533520" cy="38160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4495680" y="220932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00600" y="2209680"/>
                <a:ext cx="22860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105520" y="251460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720" y="29718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76720" y="31240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29718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991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сквич и , слезинк а 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рикосов ый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000800">
            <a:off x="185400" y="2210040"/>
            <a:ext cx="1828080" cy="152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04299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04299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133720" y="2057400"/>
            <a:ext cx="532800" cy="380880"/>
            <a:chOff x="2133720" y="2057400"/>
            <a:chExt cx="532800" cy="380880"/>
          </a:xfrm>
        </p:grpSpPr>
        <p:sp>
          <p:nvSpPr>
            <p:cNvPr id="56" name=""/>
            <p:cNvSpPr/>
            <p:nvPr/>
          </p:nvSpPr>
          <p:spPr>
            <a:xfrm flipV="1">
              <a:off x="2133720" y="20574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38280" y="2057400"/>
              <a:ext cx="228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19520" y="2514600"/>
            <a:ext cx="5331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2895480"/>
            <a:ext cx="2361960" cy="152280"/>
            <a:chOff x="380880" y="2895480"/>
            <a:chExt cx="2361960" cy="152280"/>
          </a:xfrm>
        </p:grpSpPr>
        <p:sp>
          <p:nvSpPr>
            <p:cNvPr id="60" name=""/>
            <p:cNvSpPr/>
            <p:nvPr/>
          </p:nvSpPr>
          <p:spPr>
            <a:xfrm>
              <a:off x="380880" y="28954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3047760"/>
              <a:ext cx="2361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2840" y="28954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19000800">
            <a:off x="3356280" y="2417760"/>
            <a:ext cx="18291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86" y="22"/>
                </a:moveTo>
                <a:arcTo wR="10800" hR="10800" stAng="-5181391" swAng="4958211"/>
                <a:lnTo>
                  <a:pt x="10800" y="10800"/>
                </a:lnTo>
                <a:close/>
              </a:path>
              <a:path fill="none" w="21600" h="21600">
                <a:moveTo>
                  <a:pt x="11486" y="22"/>
                </a:moveTo>
                <a:arcTo wR="10800" hR="10800" stAng="-5181391" swAng="495821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559400">
            <a:off x="635040" y="3426480"/>
            <a:ext cx="1828440" cy="229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84" y="65"/>
                </a:moveTo>
                <a:arcTo wR="10800" hR="10800" stAng="-5022488" swAng="9099250"/>
                <a:lnTo>
                  <a:pt x="10800" y="10800"/>
                </a:lnTo>
                <a:close/>
              </a:path>
              <a:path fill="none" w="21600" h="21600">
                <a:moveTo>
                  <a:pt x="11984" y="65"/>
                </a:moveTo>
                <a:arcTo wR="10800" hR="10800" stAng="-5022488" swAng="909925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181480" y="2133720"/>
            <a:ext cx="685440" cy="380880"/>
            <a:chOff x="5181480" y="2133720"/>
            <a:chExt cx="685440" cy="380880"/>
          </a:xfrm>
        </p:grpSpPr>
        <p:sp>
          <p:nvSpPr>
            <p:cNvPr id="66" name=""/>
            <p:cNvSpPr/>
            <p:nvPr/>
          </p:nvSpPr>
          <p:spPr>
            <a:xfrm flipV="1">
              <a:off x="5181480" y="2133720"/>
              <a:ext cx="3916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3160" y="2133720"/>
              <a:ext cx="2937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743200" y="3886200"/>
            <a:ext cx="533520" cy="380880"/>
            <a:chOff x="2743200" y="3886200"/>
            <a:chExt cx="533520" cy="380880"/>
          </a:xfrm>
        </p:grpSpPr>
        <p:sp>
          <p:nvSpPr>
            <p:cNvPr id="69" name=""/>
            <p:cNvSpPr/>
            <p:nvPr/>
          </p:nvSpPr>
          <p:spPr>
            <a:xfrm flipV="1">
              <a:off x="2743200" y="38862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8120" y="3886200"/>
              <a:ext cx="22860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019920" y="2514600"/>
            <a:ext cx="5331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191120"/>
            <a:ext cx="8380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33920" y="2971800"/>
            <a:ext cx="2209320" cy="76320"/>
            <a:chOff x="3733920" y="2971800"/>
            <a:chExt cx="2209320" cy="76320"/>
          </a:xfrm>
        </p:grpSpPr>
        <p:sp>
          <p:nvSpPr>
            <p:cNvPr id="74" name=""/>
            <p:cNvSpPr/>
            <p:nvPr/>
          </p:nvSpPr>
          <p:spPr>
            <a:xfrm>
              <a:off x="3733920" y="297180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3048120"/>
              <a:ext cx="220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240" y="297180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4648320"/>
            <a:ext cx="2971440" cy="152280"/>
            <a:chOff x="380880" y="4648320"/>
            <a:chExt cx="2971440" cy="152280"/>
          </a:xfrm>
        </p:grpSpPr>
        <p:sp>
          <p:nvSpPr>
            <p:cNvPr id="78" name=""/>
            <p:cNvSpPr/>
            <p:nvPr/>
          </p:nvSpPr>
          <p:spPr>
            <a:xfrm>
              <a:off x="380880" y="46483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880" y="4800600"/>
              <a:ext cx="297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320" y="46483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2 Разбери слова по состав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большой, крылышк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варих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больш ой , крылышк о 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арих а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415800">
            <a:off x="976680" y="2134800"/>
            <a:ext cx="2133360" cy="171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896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8961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86000"/>
            <a:ext cx="91440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3048120"/>
            <a:ext cx="2590560" cy="152280"/>
            <a:chOff x="380880" y="3048120"/>
            <a:chExt cx="2590560" cy="152280"/>
          </a:xfrm>
        </p:grpSpPr>
        <p:sp>
          <p:nvSpPr>
            <p:cNvPr id="88" name=""/>
            <p:cNvSpPr/>
            <p:nvPr/>
          </p:nvSpPr>
          <p:spPr>
            <a:xfrm>
              <a:off x="38088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880" y="3200400"/>
              <a:ext cx="259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44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rot="19000800">
            <a:off x="4042440" y="2342160"/>
            <a:ext cx="182916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86" y="22"/>
                </a:moveTo>
                <a:arcTo wR="10800" hR="10800" stAng="-5181391" swAng="4958211"/>
                <a:lnTo>
                  <a:pt x="10800" y="10800"/>
                </a:lnTo>
                <a:close/>
              </a:path>
              <a:path fill="none" w="21600" h="21600">
                <a:moveTo>
                  <a:pt x="11486" y="22"/>
                </a:moveTo>
                <a:arcTo wR="10800" hR="10800" stAng="-5181391" swAng="495821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502600">
            <a:off x="1231560" y="3890160"/>
            <a:ext cx="1362960" cy="209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33" y="1245"/>
                </a:moveTo>
                <a:arcTo wR="10800" hR="10800" stAng="-3733374" swAng="3363882"/>
                <a:lnTo>
                  <a:pt x="10800" y="10800"/>
                </a:lnTo>
                <a:close/>
              </a:path>
              <a:path fill="none" w="21600" h="21600">
                <a:moveTo>
                  <a:pt x="15833" y="1245"/>
                </a:moveTo>
                <a:arcTo wR="10800" hR="10800" stAng="-3733374" swAng="3363882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91320" y="2057400"/>
            <a:ext cx="989640" cy="380880"/>
            <a:chOff x="5791320" y="2057400"/>
            <a:chExt cx="989640" cy="380880"/>
          </a:xfrm>
        </p:grpSpPr>
        <p:sp>
          <p:nvSpPr>
            <p:cNvPr id="94" name=""/>
            <p:cNvSpPr/>
            <p:nvPr/>
          </p:nvSpPr>
          <p:spPr>
            <a:xfrm flipV="1">
              <a:off x="5791320" y="2057400"/>
              <a:ext cx="565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6880" y="2057400"/>
              <a:ext cx="4240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09680" y="3962520"/>
            <a:ext cx="533520" cy="380880"/>
            <a:chOff x="2209680" y="3962520"/>
            <a:chExt cx="533520" cy="380880"/>
          </a:xfrm>
        </p:grpSpPr>
        <p:sp>
          <p:nvSpPr>
            <p:cNvPr id="97" name=""/>
            <p:cNvSpPr/>
            <p:nvPr/>
          </p:nvSpPr>
          <p:spPr>
            <a:xfrm flipV="1">
              <a:off x="2209680" y="39625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600" y="3962520"/>
              <a:ext cx="22860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0280" y="2514600"/>
            <a:ext cx="60984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267080"/>
            <a:ext cx="53352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19720" y="3048120"/>
            <a:ext cx="2514240" cy="152280"/>
            <a:chOff x="4419720" y="3048120"/>
            <a:chExt cx="2514240" cy="152280"/>
          </a:xfrm>
        </p:grpSpPr>
        <p:sp>
          <p:nvSpPr>
            <p:cNvPr id="102" name=""/>
            <p:cNvSpPr/>
            <p:nvPr/>
          </p:nvSpPr>
          <p:spPr>
            <a:xfrm>
              <a:off x="441972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3200400"/>
              <a:ext cx="2514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396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0880" y="4724280"/>
            <a:ext cx="2438280" cy="152280"/>
            <a:chOff x="380880" y="4724280"/>
            <a:chExt cx="2438280" cy="152280"/>
          </a:xfrm>
        </p:grpSpPr>
        <p:sp>
          <p:nvSpPr>
            <p:cNvPr id="106" name=""/>
            <p:cNvSpPr/>
            <p:nvPr/>
          </p:nvSpPr>
          <p:spPr>
            <a:xfrm>
              <a:off x="380880" y="47242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487656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47242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2438280"/>
            <a:ext cx="685800" cy="76320"/>
            <a:chOff x="457200" y="2438280"/>
            <a:chExt cx="685800" cy="76320"/>
          </a:xfrm>
        </p:grpSpPr>
        <p:sp>
          <p:nvSpPr>
            <p:cNvPr id="110" name=""/>
            <p:cNvSpPr/>
            <p:nvPr/>
          </p:nvSpPr>
          <p:spPr>
            <a:xfrm>
              <a:off x="457200" y="24382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243828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4267080"/>
            <a:ext cx="685800" cy="76320"/>
            <a:chOff x="380880" y="4267080"/>
            <a:chExt cx="685800" cy="76320"/>
          </a:xfrm>
        </p:grpSpPr>
        <p:sp>
          <p:nvSpPr>
            <p:cNvPr id="113" name=""/>
            <p:cNvSpPr/>
            <p:nvPr/>
          </p:nvSpPr>
          <p:spPr>
            <a:xfrm>
              <a:off x="380880" y="42670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426708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18288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ш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209680"/>
            <a:ext cx="289584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ё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а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5638680"/>
            <a:ext cx="32004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пёр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ади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7339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289548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слё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Назови слова по их толкован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Назови сочетания слов с переносным значени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0102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ягкий хлеб – мягкий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28600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86104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ежие фрукты – свежие впечат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81280"/>
            <a:ext cx="83059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лезная ограда – железная в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572000"/>
            <a:ext cx="83059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тицы поют – поёт вьюга за ок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1240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1911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1814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 Это синоним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16256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ый – упо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ый – бесстра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ться – вое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ться - побо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28600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7913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. Это антоним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урок– второ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ь дом – разбирать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мяный малыш – нерумя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ть – забир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реча – прощ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1143000"/>
            <a:ext cx="44197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дн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362320"/>
            <a:ext cx="4267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мать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581280"/>
            <a:ext cx="312408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724280"/>
            <a:ext cx="60199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вать (отдава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791320"/>
            <a:ext cx="36576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ста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3880"/>
            <a:ext cx="883944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мя (города, собаки, ребёнк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52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Назови подходящие по смыслу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7391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90920"/>
            <a:ext cx="88394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грушка (еловая, ёлочна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90920"/>
            <a:ext cx="62485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ёлоч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581280"/>
            <a:ext cx="8839440" cy="16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стрел (пушечный, пушн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ушистый)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657600"/>
            <a:ext cx="5943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уше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562720"/>
            <a:ext cx="88394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ща (осиная, осинова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562720"/>
            <a:ext cx="70106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ино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4:11:32Z</dcterms:created>
  <dc:creator>Oksana</dc:creator>
  <dc:description/>
  <dc:language>en-US</dc:language>
  <cp:lastModifiedBy>Oksana</cp:lastModifiedBy>
  <dcterms:modified xsi:type="dcterms:W3CDTF">2015-03-04T15:40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