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55F-D1F2-4E67-A6C4-FFD4A56F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208-1328-4BEB-A62E-736CA61C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5DB-6A07-4D66-8AA4-7EC8AC3C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C77-2C22-44BC-A0F0-70B00A93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C9F-42F0-4ED7-911C-5A865004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D89-BDEC-4AB9-BA8F-B1BB9013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2C9-03CA-4F61-BAEC-D70FC5E2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ECA-76FB-4E05-82A0-217561C0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542-3989-44D3-8F60-23425EEB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18A-D51D-43B6-B93B-3D0056B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5A1-B3DC-4BBB-9FFE-BD0F8621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8E6-4228-4952-9CA3-52B51B4B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B1D9-4947-4A84-B029-220C23436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1  Запиши слова, котор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ответствуют сх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65724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осквичи, подводный, слезинка, абрикосовый, насто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79040" y="1943280"/>
            <a:ext cx="2907360" cy="2361960"/>
            <a:chOff x="2579040" y="1943280"/>
            <a:chExt cx="2907360" cy="2361960"/>
          </a:xfrm>
        </p:grpSpPr>
        <p:sp>
          <p:nvSpPr>
            <p:cNvPr id="44" name=""/>
            <p:cNvSpPr/>
            <p:nvPr/>
          </p:nvSpPr>
          <p:spPr>
            <a:xfrm rot="19000800">
              <a:off x="2852280" y="2362680"/>
              <a:ext cx="1828080" cy="152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42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42995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495680" y="2209320"/>
              <a:ext cx="533520" cy="381600"/>
              <a:chOff x="4495680" y="2209320"/>
              <a:chExt cx="533520" cy="381600"/>
            </a:xfrm>
          </p:grpSpPr>
          <p:sp>
            <p:nvSpPr>
              <p:cNvPr id="46" name=""/>
              <p:cNvSpPr/>
              <p:nvPr/>
            </p:nvSpPr>
            <p:spPr>
              <a:xfrm flipV="1">
                <a:off x="4495680" y="2209320"/>
                <a:ext cx="3049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800600" y="2209680"/>
                <a:ext cx="22860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5105520" y="2514600"/>
              <a:ext cx="380880" cy="457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76720" y="297180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76720" y="31240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29200" y="297180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верь себ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991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сквич и , слезинк а 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брикосов ый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000800">
            <a:off x="185400" y="2210040"/>
            <a:ext cx="1828080" cy="152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04299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04299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133720" y="2057400"/>
            <a:ext cx="532800" cy="380880"/>
            <a:chOff x="2133720" y="2057400"/>
            <a:chExt cx="532800" cy="380880"/>
          </a:xfrm>
        </p:grpSpPr>
        <p:sp>
          <p:nvSpPr>
            <p:cNvPr id="56" name=""/>
            <p:cNvSpPr/>
            <p:nvPr/>
          </p:nvSpPr>
          <p:spPr>
            <a:xfrm flipV="1">
              <a:off x="2133720" y="2057400"/>
              <a:ext cx="304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38280" y="2057400"/>
              <a:ext cx="22824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19520" y="2514600"/>
            <a:ext cx="53316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2895480"/>
            <a:ext cx="2361960" cy="152280"/>
            <a:chOff x="380880" y="2895480"/>
            <a:chExt cx="2361960" cy="152280"/>
          </a:xfrm>
        </p:grpSpPr>
        <p:sp>
          <p:nvSpPr>
            <p:cNvPr id="60" name=""/>
            <p:cNvSpPr/>
            <p:nvPr/>
          </p:nvSpPr>
          <p:spPr>
            <a:xfrm>
              <a:off x="380880" y="289548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880" y="3047760"/>
              <a:ext cx="2361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2840" y="289548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19000800">
            <a:off x="3356280" y="2417760"/>
            <a:ext cx="18291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86" y="22"/>
                </a:moveTo>
                <a:arcTo wR="10800" hR="10800" stAng="-5181391" swAng="4958211"/>
                <a:lnTo>
                  <a:pt x="10800" y="10800"/>
                </a:lnTo>
                <a:close/>
              </a:path>
              <a:path fill="none" w="21600" h="21600">
                <a:moveTo>
                  <a:pt x="11486" y="22"/>
                </a:moveTo>
                <a:arcTo wR="10800" hR="10800" stAng="-5181391" swAng="4958211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559400">
            <a:off x="635040" y="3426480"/>
            <a:ext cx="1828440" cy="229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84" y="65"/>
                </a:moveTo>
                <a:arcTo wR="10800" hR="10800" stAng="-5022488" swAng="9099250"/>
                <a:lnTo>
                  <a:pt x="10800" y="10800"/>
                </a:lnTo>
                <a:close/>
              </a:path>
              <a:path fill="none" w="21600" h="21600">
                <a:moveTo>
                  <a:pt x="11984" y="65"/>
                </a:moveTo>
                <a:arcTo wR="10800" hR="10800" stAng="-5022488" swAng="909925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181480" y="2133720"/>
            <a:ext cx="685440" cy="380880"/>
            <a:chOff x="5181480" y="2133720"/>
            <a:chExt cx="685440" cy="380880"/>
          </a:xfrm>
        </p:grpSpPr>
        <p:sp>
          <p:nvSpPr>
            <p:cNvPr id="66" name=""/>
            <p:cNvSpPr/>
            <p:nvPr/>
          </p:nvSpPr>
          <p:spPr>
            <a:xfrm flipV="1">
              <a:off x="5181480" y="2133720"/>
              <a:ext cx="3916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3160" y="2133720"/>
              <a:ext cx="2937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743200" y="3886200"/>
            <a:ext cx="533520" cy="380880"/>
            <a:chOff x="2743200" y="3886200"/>
            <a:chExt cx="533520" cy="380880"/>
          </a:xfrm>
        </p:grpSpPr>
        <p:sp>
          <p:nvSpPr>
            <p:cNvPr id="69" name=""/>
            <p:cNvSpPr/>
            <p:nvPr/>
          </p:nvSpPr>
          <p:spPr>
            <a:xfrm flipV="1">
              <a:off x="2743200" y="38862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8120" y="3886200"/>
              <a:ext cx="22860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019920" y="2514600"/>
            <a:ext cx="53316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4191120"/>
            <a:ext cx="83808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733920" y="2971800"/>
            <a:ext cx="2209320" cy="76320"/>
            <a:chOff x="3733920" y="2971800"/>
            <a:chExt cx="2209320" cy="76320"/>
          </a:xfrm>
        </p:grpSpPr>
        <p:sp>
          <p:nvSpPr>
            <p:cNvPr id="74" name=""/>
            <p:cNvSpPr/>
            <p:nvPr/>
          </p:nvSpPr>
          <p:spPr>
            <a:xfrm>
              <a:off x="3733920" y="2971800"/>
              <a:ext cx="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33920" y="3048120"/>
              <a:ext cx="220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240" y="2971800"/>
              <a:ext cx="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80880" y="4648320"/>
            <a:ext cx="2971440" cy="152280"/>
            <a:chOff x="380880" y="4648320"/>
            <a:chExt cx="2971440" cy="152280"/>
          </a:xfrm>
        </p:grpSpPr>
        <p:sp>
          <p:nvSpPr>
            <p:cNvPr id="78" name=""/>
            <p:cNvSpPr/>
            <p:nvPr/>
          </p:nvSpPr>
          <p:spPr>
            <a:xfrm>
              <a:off x="380880" y="46483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0880" y="4800600"/>
              <a:ext cx="297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320" y="46483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2 Разбери слова по состав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ебольшой, крылышко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варих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верь себ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больш ой , крылышк о 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варих а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8415800">
            <a:off x="976680" y="2134800"/>
            <a:ext cx="2133360" cy="171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896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89616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2286000"/>
            <a:ext cx="91440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3048120"/>
            <a:ext cx="2590560" cy="152280"/>
            <a:chOff x="380880" y="3048120"/>
            <a:chExt cx="2590560" cy="152280"/>
          </a:xfrm>
        </p:grpSpPr>
        <p:sp>
          <p:nvSpPr>
            <p:cNvPr id="88" name=""/>
            <p:cNvSpPr/>
            <p:nvPr/>
          </p:nvSpPr>
          <p:spPr>
            <a:xfrm>
              <a:off x="38088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880" y="3200400"/>
              <a:ext cx="2590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44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rot="19000800">
            <a:off x="4042440" y="2342160"/>
            <a:ext cx="182916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86" y="22"/>
                </a:moveTo>
                <a:arcTo wR="10800" hR="10800" stAng="-5181391" swAng="4958211"/>
                <a:lnTo>
                  <a:pt x="10800" y="10800"/>
                </a:lnTo>
                <a:close/>
              </a:path>
              <a:path fill="none" w="21600" h="21600">
                <a:moveTo>
                  <a:pt x="11486" y="22"/>
                </a:moveTo>
                <a:arcTo wR="10800" hR="10800" stAng="-5181391" swAng="4958211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7502600">
            <a:off x="1231560" y="3890160"/>
            <a:ext cx="1362960" cy="209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833" y="1245"/>
                </a:moveTo>
                <a:arcTo wR="10800" hR="10800" stAng="-3733374" swAng="3363882"/>
                <a:lnTo>
                  <a:pt x="10800" y="10800"/>
                </a:lnTo>
                <a:close/>
              </a:path>
              <a:path fill="none" w="21600" h="21600">
                <a:moveTo>
                  <a:pt x="15833" y="1245"/>
                </a:moveTo>
                <a:arcTo wR="10800" hR="10800" stAng="-3733374" swAng="3363882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791320" y="2057400"/>
            <a:ext cx="989640" cy="380880"/>
            <a:chOff x="5791320" y="2057400"/>
            <a:chExt cx="989640" cy="380880"/>
          </a:xfrm>
        </p:grpSpPr>
        <p:sp>
          <p:nvSpPr>
            <p:cNvPr id="94" name=""/>
            <p:cNvSpPr/>
            <p:nvPr/>
          </p:nvSpPr>
          <p:spPr>
            <a:xfrm flipV="1">
              <a:off x="5791320" y="2057400"/>
              <a:ext cx="565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56880" y="2057400"/>
              <a:ext cx="42408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209680" y="3962520"/>
            <a:ext cx="533520" cy="380880"/>
            <a:chOff x="2209680" y="3962520"/>
            <a:chExt cx="533520" cy="380880"/>
          </a:xfrm>
        </p:grpSpPr>
        <p:sp>
          <p:nvSpPr>
            <p:cNvPr id="97" name=""/>
            <p:cNvSpPr/>
            <p:nvPr/>
          </p:nvSpPr>
          <p:spPr>
            <a:xfrm flipV="1">
              <a:off x="2209680" y="396252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4600" y="3962520"/>
              <a:ext cx="22860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010280" y="2514600"/>
            <a:ext cx="60984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4267080"/>
            <a:ext cx="533520" cy="60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19720" y="3048120"/>
            <a:ext cx="2514240" cy="152280"/>
            <a:chOff x="4419720" y="3048120"/>
            <a:chExt cx="2514240" cy="152280"/>
          </a:xfrm>
        </p:grpSpPr>
        <p:sp>
          <p:nvSpPr>
            <p:cNvPr id="102" name=""/>
            <p:cNvSpPr/>
            <p:nvPr/>
          </p:nvSpPr>
          <p:spPr>
            <a:xfrm>
              <a:off x="441972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9720" y="3200400"/>
              <a:ext cx="2514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3396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80880" y="4724280"/>
            <a:ext cx="2438280" cy="152280"/>
            <a:chOff x="380880" y="4724280"/>
            <a:chExt cx="2438280" cy="152280"/>
          </a:xfrm>
        </p:grpSpPr>
        <p:sp>
          <p:nvSpPr>
            <p:cNvPr id="106" name=""/>
            <p:cNvSpPr/>
            <p:nvPr/>
          </p:nvSpPr>
          <p:spPr>
            <a:xfrm>
              <a:off x="380880" y="472428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4876560"/>
              <a:ext cx="24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160" y="472428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2438280"/>
            <a:ext cx="685800" cy="76320"/>
            <a:chOff x="457200" y="2438280"/>
            <a:chExt cx="685800" cy="76320"/>
          </a:xfrm>
        </p:grpSpPr>
        <p:sp>
          <p:nvSpPr>
            <p:cNvPr id="110" name=""/>
            <p:cNvSpPr/>
            <p:nvPr/>
          </p:nvSpPr>
          <p:spPr>
            <a:xfrm>
              <a:off x="457200" y="24382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2438280"/>
              <a:ext cx="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4267080"/>
            <a:ext cx="685800" cy="76320"/>
            <a:chOff x="380880" y="4267080"/>
            <a:chExt cx="685800" cy="76320"/>
          </a:xfrm>
        </p:grpSpPr>
        <p:sp>
          <p:nvSpPr>
            <p:cNvPr id="113" name=""/>
            <p:cNvSpPr/>
            <p:nvPr/>
          </p:nvSpPr>
          <p:spPr>
            <a:xfrm>
              <a:off x="380880" y="42670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4267080"/>
              <a:ext cx="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1828800" cy="71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ш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209680"/>
            <a:ext cx="289584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ё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048120"/>
            <a:ext cx="28954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ла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5638680"/>
            <a:ext cx="32004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пёрс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8954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тади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3733920"/>
            <a:ext cx="28954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уз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289548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аслё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52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Назови слова по их толкован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Назови сочетания слов с переносным значени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0102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ягкий хлеб – мягкий 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28600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514600"/>
            <a:ext cx="86104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вежие фрукты – свежие впечат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581280"/>
            <a:ext cx="83059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елезная ограда – железная в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572000"/>
            <a:ext cx="83059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тицы поют – поёт вьюга за ок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31240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1911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51814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. Это синоним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16256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ый – упо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ый – бесстраш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роться – вое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роться - побо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28600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7913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. Это антоним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й урок– второ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ь дом – разбирать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мяный малыш – нерумя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ть – забир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реча – прощ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1143000"/>
            <a:ext cx="44197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едн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2362320"/>
            <a:ext cx="42670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мать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581280"/>
            <a:ext cx="312408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е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724280"/>
            <a:ext cx="60199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вать (отдава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5791320"/>
            <a:ext cx="36576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ста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523880"/>
            <a:ext cx="883944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мя (города, собаки, ребёнк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52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 Назови подходящие по смыслу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73915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бё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590920"/>
            <a:ext cx="883944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грушка (еловая, ёлочная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590920"/>
            <a:ext cx="62485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ёлоч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581280"/>
            <a:ext cx="8839440" cy="1676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ыстрел (пушечный, пушно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ушистый)                      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3657600"/>
            <a:ext cx="59436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ушеч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5562720"/>
            <a:ext cx="883944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оща (осиная, осиновая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562720"/>
            <a:ext cx="701064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инов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14:11:32Z</dcterms:created>
  <dc:creator>Oksana</dc:creator>
  <dc:description/>
  <dc:language>en-US</dc:language>
  <cp:lastModifiedBy>Oksana</cp:lastModifiedBy>
  <dcterms:modified xsi:type="dcterms:W3CDTF">2015-03-04T15:40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