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432-5800-44C0-838A-1579534B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D74-258E-4158-9022-A9A2A84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D77-7632-4B16-9670-BC0EB9F2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1B6-3456-49D8-A911-1B33608F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1A1-6D8A-4441-A3F8-F0B7299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7AB-7500-46E5-B27D-DE4C193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6EC-CBAB-403A-8F81-9CDD4DF2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EE0-AA60-4B8E-A95B-37AE0A9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C6B-D821-4805-BB2D-54E18FC3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E51-51BE-43B0-ADF1-FBA08D4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2CD-1362-47CF-983F-40C6A52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40D-6699-4CDF-85B7-331BB7F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EA9-C016-4E50-8AB5-B362428C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над ошибкам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класс (3 четвер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48006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У г. Омска «Средняя общеобразовательная школа № 132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онова Окс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3840" y="259092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 Отметь слова, в которых есть приставк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д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752480"/>
            <a:ext cx="4724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ви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пис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го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л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берёзов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9000" y="2710800"/>
            <a:ext cx="451800" cy="416160"/>
            <a:chOff x="279000" y="2710800"/>
            <a:chExt cx="451800" cy="416160"/>
          </a:xfrm>
        </p:grpSpPr>
        <p:sp>
          <p:nvSpPr>
            <p:cNvPr id="176" name=""/>
            <p:cNvSpPr/>
            <p:nvPr/>
          </p:nvSpPr>
          <p:spPr>
            <a:xfrm flipH="1">
              <a:off x="530280" y="27108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79000" y="27799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79000" y="3548880"/>
            <a:ext cx="451800" cy="416520"/>
            <a:chOff x="279000" y="3548880"/>
            <a:chExt cx="451800" cy="416520"/>
          </a:xfrm>
        </p:grpSpPr>
        <p:sp>
          <p:nvSpPr>
            <p:cNvPr id="179" name=""/>
            <p:cNvSpPr/>
            <p:nvPr/>
          </p:nvSpPr>
          <p:spPr>
            <a:xfrm flipH="1">
              <a:off x="530280" y="3548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9000" y="3617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9000" y="5301720"/>
            <a:ext cx="451800" cy="416160"/>
            <a:chOff x="279000" y="5301720"/>
            <a:chExt cx="451800" cy="416160"/>
          </a:xfrm>
        </p:grpSpPr>
        <p:sp>
          <p:nvSpPr>
            <p:cNvPr id="182" name=""/>
            <p:cNvSpPr/>
            <p:nvPr/>
          </p:nvSpPr>
          <p:spPr>
            <a:xfrm flipH="1">
              <a:off x="530280" y="5301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79000" y="5370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05520" y="1828800"/>
            <a:ext cx="4038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кра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бро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ру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солн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31880" y="1872720"/>
            <a:ext cx="451800" cy="416160"/>
            <a:chOff x="5231880" y="1872720"/>
            <a:chExt cx="451800" cy="416160"/>
          </a:xfrm>
        </p:grpSpPr>
        <p:sp>
          <p:nvSpPr>
            <p:cNvPr id="186" name=""/>
            <p:cNvSpPr/>
            <p:nvPr/>
          </p:nvSpPr>
          <p:spPr>
            <a:xfrm flipH="1">
              <a:off x="5483160" y="1872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231880" y="1941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31880" y="2787120"/>
            <a:ext cx="451800" cy="416160"/>
            <a:chOff x="5231880" y="2787120"/>
            <a:chExt cx="451800" cy="416160"/>
          </a:xfrm>
        </p:grpSpPr>
        <p:sp>
          <p:nvSpPr>
            <p:cNvPr id="189" name=""/>
            <p:cNvSpPr/>
            <p:nvPr/>
          </p:nvSpPr>
          <p:spPr>
            <a:xfrm flipH="1">
              <a:off x="5483160" y="2787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231880" y="2856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231880" y="5377680"/>
            <a:ext cx="451800" cy="416520"/>
            <a:chOff x="5231880" y="5377680"/>
            <a:chExt cx="451800" cy="416520"/>
          </a:xfrm>
        </p:grpSpPr>
        <p:sp>
          <p:nvSpPr>
            <p:cNvPr id="192" name=""/>
            <p:cNvSpPr/>
            <p:nvPr/>
          </p:nvSpPr>
          <p:spPr>
            <a:xfrm flipH="1">
              <a:off x="5483160" y="53776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231880" y="54464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 Отметь синонимы к сл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362320"/>
            <a:ext cx="3962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тив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овар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я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07600" y="4158720"/>
            <a:ext cx="451800" cy="416160"/>
            <a:chOff x="507600" y="4158720"/>
            <a:chExt cx="451800" cy="416160"/>
          </a:xfrm>
        </p:grpSpPr>
        <p:sp>
          <p:nvSpPr>
            <p:cNvPr id="197" name=""/>
            <p:cNvSpPr/>
            <p:nvPr/>
          </p:nvSpPr>
          <p:spPr>
            <a:xfrm flipH="1">
              <a:off x="758880" y="4158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07600" y="4227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200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2120" y="1219320"/>
            <a:ext cx="167616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1219320"/>
            <a:ext cx="16765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438280"/>
            <a:ext cx="3962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х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22400" y="2405880"/>
            <a:ext cx="451800" cy="416520"/>
            <a:chOff x="4622400" y="2405880"/>
            <a:chExt cx="451800" cy="416520"/>
          </a:xfrm>
        </p:grpSpPr>
        <p:sp>
          <p:nvSpPr>
            <p:cNvPr id="206" name=""/>
            <p:cNvSpPr/>
            <p:nvPr/>
          </p:nvSpPr>
          <p:spPr>
            <a:xfrm flipH="1">
              <a:off x="4873680" y="2405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622400" y="2474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698360" y="5073120"/>
            <a:ext cx="451800" cy="416160"/>
            <a:chOff x="4698360" y="5073120"/>
            <a:chExt cx="451800" cy="416160"/>
          </a:xfrm>
        </p:grpSpPr>
        <p:sp>
          <p:nvSpPr>
            <p:cNvPr id="209" name=""/>
            <p:cNvSpPr/>
            <p:nvPr/>
          </p:nvSpPr>
          <p:spPr>
            <a:xfrm flipH="1">
              <a:off x="4949640" y="5073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698360" y="5142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 Отметь антоним к сл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3623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ома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лен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54960" y="3320280"/>
            <a:ext cx="451800" cy="416520"/>
            <a:chOff x="354960" y="3320280"/>
            <a:chExt cx="451800" cy="416520"/>
          </a:xfrm>
        </p:grpSpPr>
        <p:sp>
          <p:nvSpPr>
            <p:cNvPr id="214" name=""/>
            <p:cNvSpPr/>
            <p:nvPr/>
          </p:nvSpPr>
          <p:spPr>
            <a:xfrm flipH="1">
              <a:off x="606240" y="3320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54960" y="3389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698360" y="5073120"/>
            <a:ext cx="451800" cy="416160"/>
            <a:chOff x="4698360" y="5073120"/>
            <a:chExt cx="451800" cy="416160"/>
          </a:xfrm>
        </p:grpSpPr>
        <p:sp>
          <p:nvSpPr>
            <p:cNvPr id="217" name=""/>
            <p:cNvSpPr/>
            <p:nvPr/>
          </p:nvSpPr>
          <p:spPr>
            <a:xfrm flipH="1">
              <a:off x="4949640" y="5073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698360" y="5142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62120" y="1219320"/>
            <a:ext cx="3124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гром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1219320"/>
            <a:ext cx="25909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ад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438280"/>
            <a:ext cx="3962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о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д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хар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. Отметь предложения, в которых слова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снуть, идт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употреблены в прямом зна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Уснул малыш в своей крова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На коврике уснул ще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80060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Учитель идёт в кла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6386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Мы идём по лесной дорож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9000" y="2939400"/>
            <a:ext cx="451800" cy="416160"/>
            <a:chOff x="279000" y="2939400"/>
            <a:chExt cx="451800" cy="416160"/>
          </a:xfrm>
        </p:grpSpPr>
        <p:sp>
          <p:nvSpPr>
            <p:cNvPr id="228" name=""/>
            <p:cNvSpPr/>
            <p:nvPr/>
          </p:nvSpPr>
          <p:spPr>
            <a:xfrm flipH="1">
              <a:off x="53028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27900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4960" y="3777480"/>
            <a:ext cx="451800" cy="416520"/>
            <a:chOff x="354960" y="3777480"/>
            <a:chExt cx="451800" cy="416520"/>
          </a:xfrm>
        </p:grpSpPr>
        <p:sp>
          <p:nvSpPr>
            <p:cNvPr id="231" name=""/>
            <p:cNvSpPr/>
            <p:nvPr/>
          </p:nvSpPr>
          <p:spPr>
            <a:xfrm flipH="1">
              <a:off x="606240" y="3777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54960" y="3846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497960" y="4768200"/>
            <a:ext cx="451800" cy="416160"/>
            <a:chOff x="1497960" y="4768200"/>
            <a:chExt cx="451800" cy="416160"/>
          </a:xfrm>
        </p:grpSpPr>
        <p:sp>
          <p:nvSpPr>
            <p:cNvPr id="234" name=""/>
            <p:cNvSpPr/>
            <p:nvPr/>
          </p:nvSpPr>
          <p:spPr>
            <a:xfrm flipH="1">
              <a:off x="1749240" y="4768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1497960" y="4837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497960" y="5606280"/>
            <a:ext cx="451800" cy="416520"/>
            <a:chOff x="1497960" y="5606280"/>
            <a:chExt cx="451800" cy="416520"/>
          </a:xfrm>
        </p:grpSpPr>
        <p:sp>
          <p:nvSpPr>
            <p:cNvPr id="237" name=""/>
            <p:cNvSpPr/>
            <p:nvPr/>
          </p:nvSpPr>
          <p:spPr>
            <a:xfrm flipH="1">
              <a:off x="1749240" y="5606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497960" y="5675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 Отметь слова, которые соответствуют толкован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342900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ж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я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37280" y="4621320"/>
            <a:ext cx="376200" cy="333720"/>
            <a:chOff x="5237280" y="4621320"/>
            <a:chExt cx="376200" cy="333720"/>
          </a:xfrm>
        </p:grpSpPr>
        <p:sp>
          <p:nvSpPr>
            <p:cNvPr id="242" name=""/>
            <p:cNvSpPr/>
            <p:nvPr/>
          </p:nvSpPr>
          <p:spPr>
            <a:xfrm flipH="1">
              <a:off x="5444640" y="4621320"/>
              <a:ext cx="168840" cy="3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237280" y="4678920"/>
              <a:ext cx="207360" cy="27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2280" y="1143000"/>
            <a:ext cx="434340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рево с плодами в виде пучка жёлто-красных ягод, а также сами эти я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42900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143000"/>
            <a:ext cx="434340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екомое с четырьмя покрытыми пыльцой крыльями разнообразной о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41600" y="4011480"/>
            <a:ext cx="376200" cy="334080"/>
            <a:chOff x="741600" y="4011480"/>
            <a:chExt cx="376200" cy="334080"/>
          </a:xfrm>
        </p:grpSpPr>
        <p:sp>
          <p:nvSpPr>
            <p:cNvPr id="248" name=""/>
            <p:cNvSpPr/>
            <p:nvPr/>
          </p:nvSpPr>
          <p:spPr>
            <a:xfrm flipH="1">
              <a:off x="948960" y="4011480"/>
              <a:ext cx="168840" cy="33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741600" y="4068720"/>
              <a:ext cx="207360" cy="276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. Отметь, как называют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23623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огозна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изменя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кор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2680" y="3701520"/>
            <a:ext cx="451800" cy="416160"/>
            <a:chOff x="202680" y="3701520"/>
            <a:chExt cx="451800" cy="416160"/>
          </a:xfrm>
        </p:grpSpPr>
        <p:sp>
          <p:nvSpPr>
            <p:cNvPr id="253" name=""/>
            <p:cNvSpPr/>
            <p:nvPr/>
          </p:nvSpPr>
          <p:spPr>
            <a:xfrm flipH="1">
              <a:off x="453960" y="3701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02680" y="3770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51000" y="4387320"/>
            <a:ext cx="451800" cy="416160"/>
            <a:chOff x="4851000" y="4387320"/>
            <a:chExt cx="451800" cy="416160"/>
          </a:xfrm>
        </p:grpSpPr>
        <p:sp>
          <p:nvSpPr>
            <p:cNvPr id="256" name=""/>
            <p:cNvSpPr/>
            <p:nvPr/>
          </p:nvSpPr>
          <p:spPr>
            <a:xfrm flipH="1">
              <a:off x="5102280" y="4387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851000" y="4456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1219320"/>
            <a:ext cx="4267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ый – стары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219320"/>
            <a:ext cx="45720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льный – слабы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23623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кор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огозна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изменя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. Отметь слова, близкие по значению выделенны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438280"/>
            <a:ext cx="396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и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уб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здни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54960" y="4615920"/>
            <a:ext cx="451800" cy="416160"/>
            <a:chOff x="354960" y="4615920"/>
            <a:chExt cx="451800" cy="416160"/>
          </a:xfrm>
        </p:grpSpPr>
        <p:sp>
          <p:nvSpPr>
            <p:cNvPr id="264" name=""/>
            <p:cNvSpPr/>
            <p:nvPr/>
          </p:nvSpPr>
          <p:spPr>
            <a:xfrm flipH="1">
              <a:off x="606240" y="46159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54960" y="46850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079600" y="4006080"/>
            <a:ext cx="451800" cy="416520"/>
            <a:chOff x="5079600" y="4006080"/>
            <a:chExt cx="451800" cy="416520"/>
          </a:xfrm>
        </p:grpSpPr>
        <p:sp>
          <p:nvSpPr>
            <p:cNvPr id="267" name=""/>
            <p:cNvSpPr/>
            <p:nvPr/>
          </p:nvSpPr>
          <p:spPr>
            <a:xfrm flipH="1">
              <a:off x="5330880" y="4006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079600" y="4074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29200" y="2514600"/>
            <a:ext cx="396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д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хла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ёп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95280"/>
            <a:ext cx="46483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вежа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рубашка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295280"/>
            <a:ext cx="41911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вежи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ветер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 Отметь приставку, которая придаст словам противоположное 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133720"/>
            <a:ext cx="2514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36200" y="4844520"/>
            <a:ext cx="451800" cy="416160"/>
            <a:chOff x="736200" y="4844520"/>
            <a:chExt cx="451800" cy="416160"/>
          </a:xfrm>
        </p:grpSpPr>
        <p:sp>
          <p:nvSpPr>
            <p:cNvPr id="275" name=""/>
            <p:cNvSpPr/>
            <p:nvPr/>
          </p:nvSpPr>
          <p:spPr>
            <a:xfrm flipH="1">
              <a:off x="987480" y="4844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36200" y="4913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2120" y="1219320"/>
            <a:ext cx="236196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л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1219320"/>
            <a:ext cx="25146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кры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2209680"/>
            <a:ext cx="2667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689080" y="5758920"/>
            <a:ext cx="451800" cy="416160"/>
            <a:chOff x="5689080" y="5758920"/>
            <a:chExt cx="451800" cy="416160"/>
          </a:xfrm>
        </p:grpSpPr>
        <p:sp>
          <p:nvSpPr>
            <p:cNvPr id="281" name=""/>
            <p:cNvSpPr/>
            <p:nvPr/>
          </p:nvSpPr>
          <p:spPr>
            <a:xfrm flipH="1">
              <a:off x="5940360" y="57589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689080" y="58280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ь для контрольных работ. Русский язык, 2 класс. В. Ю. Романова, Л. В. Петленко. Издательство «Вентана-Граф», 2019г. (УМК «Начальная шко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Русский язык. 2-4 классы. Оценка достижения планируемых результатов обучения. ФГОС" Л.В. Петленко, В.Ю. Романова, Издательство «Просвещение/ Вентана-Граф», 2018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 Отметь слова, в которых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ть суффикс -к-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19720" y="19807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рой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ост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а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зб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и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07600" y="2025000"/>
            <a:ext cx="451800" cy="416160"/>
            <a:chOff x="507600" y="2025000"/>
            <a:chExt cx="451800" cy="416160"/>
          </a:xfrm>
        </p:grpSpPr>
        <p:sp>
          <p:nvSpPr>
            <p:cNvPr id="48" name=""/>
            <p:cNvSpPr/>
            <p:nvPr/>
          </p:nvSpPr>
          <p:spPr>
            <a:xfrm flipH="1">
              <a:off x="758880" y="20250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507600" y="20941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07600" y="2939400"/>
            <a:ext cx="451800" cy="416160"/>
            <a:chOff x="507600" y="2939400"/>
            <a:chExt cx="451800" cy="416160"/>
          </a:xfrm>
        </p:grpSpPr>
        <p:sp>
          <p:nvSpPr>
            <p:cNvPr id="51" name=""/>
            <p:cNvSpPr/>
            <p:nvPr/>
          </p:nvSpPr>
          <p:spPr>
            <a:xfrm flipH="1">
              <a:off x="75888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0760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07600" y="4691880"/>
            <a:ext cx="451800" cy="416520"/>
            <a:chOff x="507600" y="4691880"/>
            <a:chExt cx="451800" cy="416520"/>
          </a:xfrm>
        </p:grpSpPr>
        <p:sp>
          <p:nvSpPr>
            <p:cNvPr id="54" name=""/>
            <p:cNvSpPr/>
            <p:nvPr/>
          </p:nvSpPr>
          <p:spPr>
            <a:xfrm flipH="1">
              <a:off x="75888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50760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46080" y="2025000"/>
            <a:ext cx="451800" cy="416160"/>
            <a:chOff x="4546080" y="2025000"/>
            <a:chExt cx="451800" cy="416160"/>
          </a:xfrm>
        </p:grpSpPr>
        <p:sp>
          <p:nvSpPr>
            <p:cNvPr id="57" name=""/>
            <p:cNvSpPr/>
            <p:nvPr/>
          </p:nvSpPr>
          <p:spPr>
            <a:xfrm flipH="1">
              <a:off x="4797360" y="20250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546080" y="20941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46080" y="4691880"/>
            <a:ext cx="451800" cy="416520"/>
            <a:chOff x="4546080" y="4691880"/>
            <a:chExt cx="451800" cy="416520"/>
          </a:xfrm>
        </p:grpSpPr>
        <p:sp>
          <p:nvSpPr>
            <p:cNvPr id="60" name=""/>
            <p:cNvSpPr/>
            <p:nvPr/>
          </p:nvSpPr>
          <p:spPr>
            <a:xfrm flipH="1">
              <a:off x="479736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54608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46080" y="5530320"/>
            <a:ext cx="451800" cy="416160"/>
            <a:chOff x="4546080" y="5530320"/>
            <a:chExt cx="451800" cy="416160"/>
          </a:xfrm>
        </p:grpSpPr>
        <p:sp>
          <p:nvSpPr>
            <p:cNvPr id="63" name=""/>
            <p:cNvSpPr/>
            <p:nvPr/>
          </p:nvSpPr>
          <p:spPr>
            <a:xfrm flipH="1">
              <a:off x="47973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5460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меть слова, у которых корень совпадает с основ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ол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о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б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нф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ете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по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р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1280" y="2939400"/>
            <a:ext cx="451800" cy="416160"/>
            <a:chOff x="431280" y="2939400"/>
            <a:chExt cx="451800" cy="416160"/>
          </a:xfrm>
        </p:grpSpPr>
        <p:sp>
          <p:nvSpPr>
            <p:cNvPr id="69" name=""/>
            <p:cNvSpPr/>
            <p:nvPr/>
          </p:nvSpPr>
          <p:spPr>
            <a:xfrm flipH="1">
              <a:off x="68256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128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1280" y="4691880"/>
            <a:ext cx="451800" cy="416520"/>
            <a:chOff x="431280" y="4691880"/>
            <a:chExt cx="451800" cy="416520"/>
          </a:xfrm>
        </p:grpSpPr>
        <p:sp>
          <p:nvSpPr>
            <p:cNvPr id="72" name=""/>
            <p:cNvSpPr/>
            <p:nvPr/>
          </p:nvSpPr>
          <p:spPr>
            <a:xfrm flipH="1">
              <a:off x="68256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3128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1280" y="5530320"/>
            <a:ext cx="451800" cy="416160"/>
            <a:chOff x="431280" y="5530320"/>
            <a:chExt cx="451800" cy="416160"/>
          </a:xfrm>
        </p:grpSpPr>
        <p:sp>
          <p:nvSpPr>
            <p:cNvPr id="75" name=""/>
            <p:cNvSpPr/>
            <p:nvPr/>
          </p:nvSpPr>
          <p:spPr>
            <a:xfrm flipH="1">
              <a:off x="6825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312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74680" y="2939400"/>
            <a:ext cx="451800" cy="416160"/>
            <a:chOff x="4774680" y="2939400"/>
            <a:chExt cx="451800" cy="416160"/>
          </a:xfrm>
        </p:grpSpPr>
        <p:sp>
          <p:nvSpPr>
            <p:cNvPr id="78" name=""/>
            <p:cNvSpPr/>
            <p:nvPr/>
          </p:nvSpPr>
          <p:spPr>
            <a:xfrm flipH="1">
              <a:off x="502596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77468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774680" y="3777480"/>
            <a:ext cx="451800" cy="416520"/>
            <a:chOff x="4774680" y="3777480"/>
            <a:chExt cx="451800" cy="416520"/>
          </a:xfrm>
        </p:grpSpPr>
        <p:sp>
          <p:nvSpPr>
            <p:cNvPr id="81" name=""/>
            <p:cNvSpPr/>
            <p:nvPr/>
          </p:nvSpPr>
          <p:spPr>
            <a:xfrm flipH="1">
              <a:off x="5025960" y="3777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4774680" y="3846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774680" y="5530320"/>
            <a:ext cx="451800" cy="416160"/>
            <a:chOff x="4774680" y="5530320"/>
            <a:chExt cx="451800" cy="416160"/>
          </a:xfrm>
        </p:grpSpPr>
        <p:sp>
          <p:nvSpPr>
            <p:cNvPr id="84" name=""/>
            <p:cNvSpPr/>
            <p:nvPr/>
          </p:nvSpPr>
          <p:spPr>
            <a:xfrm flipH="1">
              <a:off x="50259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7746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52280"/>
            <a:ext cx="8991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1. Отметь часть слова, которая изменяет форму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0"/>
            <a:ext cx="41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7600" y="4920480"/>
            <a:ext cx="451800" cy="416520"/>
            <a:chOff x="507600" y="4920480"/>
            <a:chExt cx="451800" cy="416520"/>
          </a:xfrm>
        </p:grpSpPr>
        <p:sp>
          <p:nvSpPr>
            <p:cNvPr id="89" name=""/>
            <p:cNvSpPr/>
            <p:nvPr/>
          </p:nvSpPr>
          <p:spPr>
            <a:xfrm flipH="1">
              <a:off x="758880" y="4920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7600" y="4989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2. Отметь часть слова, без которой слово не может существов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09680"/>
            <a:ext cx="4800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рфо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7600" y="4844520"/>
            <a:ext cx="451800" cy="416160"/>
            <a:chOff x="507600" y="4844520"/>
            <a:chExt cx="451800" cy="416160"/>
          </a:xfrm>
        </p:grpSpPr>
        <p:sp>
          <p:nvSpPr>
            <p:cNvPr id="94" name=""/>
            <p:cNvSpPr/>
            <p:nvPr/>
          </p:nvSpPr>
          <p:spPr>
            <a:xfrm flipH="1">
              <a:off x="758880" y="4844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07600" y="4913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1. Отметь слова, в которых первая буква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вляется частью кор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362320"/>
            <a:ext cx="4800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мот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вр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лаб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1280" y="2405880"/>
            <a:ext cx="451800" cy="416520"/>
            <a:chOff x="431280" y="2405880"/>
            <a:chExt cx="451800" cy="416520"/>
          </a:xfrm>
        </p:grpSpPr>
        <p:sp>
          <p:nvSpPr>
            <p:cNvPr id="99" name=""/>
            <p:cNvSpPr/>
            <p:nvPr/>
          </p:nvSpPr>
          <p:spPr>
            <a:xfrm flipH="1">
              <a:off x="682560" y="2405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31280" y="2474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7600" y="4158720"/>
            <a:ext cx="451800" cy="416160"/>
            <a:chOff x="507600" y="4158720"/>
            <a:chExt cx="451800" cy="416160"/>
          </a:xfrm>
        </p:grpSpPr>
        <p:sp>
          <p:nvSpPr>
            <p:cNvPr id="102" name=""/>
            <p:cNvSpPr/>
            <p:nvPr/>
          </p:nvSpPr>
          <p:spPr>
            <a:xfrm flipH="1">
              <a:off x="758880" y="4158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07600" y="4227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105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4800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стир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ж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школь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7600" y="3244320"/>
            <a:ext cx="451800" cy="416160"/>
            <a:chOff x="507600" y="3244320"/>
            <a:chExt cx="451800" cy="416160"/>
          </a:xfrm>
        </p:grpSpPr>
        <p:sp>
          <p:nvSpPr>
            <p:cNvPr id="109" name=""/>
            <p:cNvSpPr/>
            <p:nvPr/>
          </p:nvSpPr>
          <p:spPr>
            <a:xfrm flipH="1">
              <a:off x="758880" y="3244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07600" y="3313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228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2. Отметь слова, в которых сочетание букв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вляется частью кор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7600" y="4996800"/>
            <a:ext cx="451800" cy="416160"/>
            <a:chOff x="507600" y="4996800"/>
            <a:chExt cx="451800" cy="416160"/>
          </a:xfrm>
        </p:grpSpPr>
        <p:sp>
          <p:nvSpPr>
            <p:cNvPr id="113" name=""/>
            <p:cNvSpPr/>
            <p:nvPr/>
          </p:nvSpPr>
          <p:spPr>
            <a:xfrm flipH="1">
              <a:off x="758880" y="49968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507600" y="50659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116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5146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во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го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с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им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7600" y="3396600"/>
            <a:ext cx="451800" cy="416160"/>
            <a:chOff x="507600" y="3396600"/>
            <a:chExt cx="451800" cy="416160"/>
          </a:xfrm>
        </p:grpSpPr>
        <p:sp>
          <p:nvSpPr>
            <p:cNvPr id="120" name=""/>
            <p:cNvSpPr/>
            <p:nvPr/>
          </p:nvSpPr>
          <p:spPr>
            <a:xfrm flipH="1">
              <a:off x="758880" y="33966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07600" y="34657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2280" y="2286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Отметь слова, которые соответствуют сх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7600" y="5149080"/>
            <a:ext cx="451800" cy="416520"/>
            <a:chOff x="507600" y="5149080"/>
            <a:chExt cx="451800" cy="416520"/>
          </a:xfrm>
        </p:grpSpPr>
        <p:sp>
          <p:nvSpPr>
            <p:cNvPr id="124" name=""/>
            <p:cNvSpPr/>
            <p:nvPr/>
          </p:nvSpPr>
          <p:spPr>
            <a:xfrm flipH="1">
              <a:off x="758880" y="5149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07600" y="5217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11880" y="1257480"/>
            <a:ext cx="2907360" cy="2361960"/>
            <a:chOff x="-11880" y="1257480"/>
            <a:chExt cx="2907360" cy="2361960"/>
          </a:xfrm>
        </p:grpSpPr>
        <p:sp>
          <p:nvSpPr>
            <p:cNvPr id="127" name=""/>
            <p:cNvSpPr/>
            <p:nvPr/>
          </p:nvSpPr>
          <p:spPr>
            <a:xfrm rot="19000800">
              <a:off x="261360" y="16768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904760" y="1523520"/>
              <a:ext cx="533520" cy="381600"/>
              <a:chOff x="1904760" y="1523520"/>
              <a:chExt cx="533520" cy="38160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1904760" y="152352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09680" y="1523880"/>
                <a:ext cx="22860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514600" y="182880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22860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8280" y="22860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46280" y="1257480"/>
            <a:ext cx="2374920" cy="2361960"/>
            <a:chOff x="5246280" y="1257480"/>
            <a:chExt cx="2374920" cy="2361960"/>
          </a:xfrm>
        </p:grpSpPr>
        <p:sp>
          <p:nvSpPr>
            <p:cNvPr id="136" name=""/>
            <p:cNvSpPr/>
            <p:nvPr/>
          </p:nvSpPr>
          <p:spPr>
            <a:xfrm rot="19000800">
              <a:off x="5519520" y="16768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334120" y="1752840"/>
              <a:ext cx="533520" cy="76320"/>
              <a:chOff x="5334120" y="1752840"/>
              <a:chExt cx="533520" cy="7632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867640" y="1752840"/>
                <a:ext cx="0" cy="7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4120" y="175284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239240" y="182916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410440" y="2210040"/>
              <a:ext cx="1752480" cy="152280"/>
              <a:chOff x="5410440" y="2210040"/>
              <a:chExt cx="1752480" cy="152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0440" y="22100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10440" y="2362320"/>
                <a:ext cx="1752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62920" y="22100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4876920" y="2514600"/>
            <a:ext cx="3809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ыб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ар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ли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хл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03280" y="3396600"/>
            <a:ext cx="451800" cy="416160"/>
            <a:chOff x="5003280" y="3396600"/>
            <a:chExt cx="451800" cy="416160"/>
          </a:xfrm>
        </p:grpSpPr>
        <p:sp>
          <p:nvSpPr>
            <p:cNvPr id="147" name=""/>
            <p:cNvSpPr/>
            <p:nvPr/>
          </p:nvSpPr>
          <p:spPr>
            <a:xfrm flipH="1">
              <a:off x="5254560" y="33966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003280" y="34657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03280" y="6063480"/>
            <a:ext cx="451800" cy="416520"/>
            <a:chOff x="5003280" y="6063480"/>
            <a:chExt cx="451800" cy="416520"/>
          </a:xfrm>
        </p:grpSpPr>
        <p:sp>
          <p:nvSpPr>
            <p:cNvPr id="150" name=""/>
            <p:cNvSpPr/>
            <p:nvPr/>
          </p:nvSpPr>
          <p:spPr>
            <a:xfrm flipH="1">
              <a:off x="5254560" y="6063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003280" y="6132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Отметь однокоренн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752480"/>
            <a:ext cx="3810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д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пр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т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крут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1280" y="1720080"/>
            <a:ext cx="451800" cy="416520"/>
            <a:chOff x="431280" y="1720080"/>
            <a:chExt cx="451800" cy="416520"/>
          </a:xfrm>
        </p:grpSpPr>
        <p:sp>
          <p:nvSpPr>
            <p:cNvPr id="155" name=""/>
            <p:cNvSpPr/>
            <p:nvPr/>
          </p:nvSpPr>
          <p:spPr>
            <a:xfrm flipH="1">
              <a:off x="682560" y="1720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31280" y="1788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7600" y="2634480"/>
            <a:ext cx="451800" cy="416520"/>
            <a:chOff x="507600" y="2634480"/>
            <a:chExt cx="451800" cy="416520"/>
          </a:xfrm>
        </p:grpSpPr>
        <p:sp>
          <p:nvSpPr>
            <p:cNvPr id="158" name=""/>
            <p:cNvSpPr/>
            <p:nvPr/>
          </p:nvSpPr>
          <p:spPr>
            <a:xfrm flipH="1">
              <a:off x="758880" y="2634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07600" y="2703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07600" y="5301720"/>
            <a:ext cx="451800" cy="416160"/>
            <a:chOff x="507600" y="5301720"/>
            <a:chExt cx="451800" cy="416160"/>
          </a:xfrm>
        </p:grpSpPr>
        <p:sp>
          <p:nvSpPr>
            <p:cNvPr id="161" name=""/>
            <p:cNvSpPr/>
            <p:nvPr/>
          </p:nvSpPr>
          <p:spPr>
            <a:xfrm flipH="1">
              <a:off x="758880" y="5301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507600" y="5370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05520" y="1828800"/>
            <a:ext cx="3733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мельч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ме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л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31880" y="1872720"/>
            <a:ext cx="451800" cy="416160"/>
            <a:chOff x="5231880" y="1872720"/>
            <a:chExt cx="451800" cy="416160"/>
          </a:xfrm>
        </p:grpSpPr>
        <p:sp>
          <p:nvSpPr>
            <p:cNvPr id="165" name=""/>
            <p:cNvSpPr/>
            <p:nvPr/>
          </p:nvSpPr>
          <p:spPr>
            <a:xfrm flipH="1">
              <a:off x="5483160" y="1872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231880" y="1941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31880" y="3625200"/>
            <a:ext cx="451800" cy="416160"/>
            <a:chOff x="5231880" y="3625200"/>
            <a:chExt cx="451800" cy="416160"/>
          </a:xfrm>
        </p:grpSpPr>
        <p:sp>
          <p:nvSpPr>
            <p:cNvPr id="168" name=""/>
            <p:cNvSpPr/>
            <p:nvPr/>
          </p:nvSpPr>
          <p:spPr>
            <a:xfrm flipH="1">
              <a:off x="5483160" y="3625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5231880" y="3694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31880" y="4463280"/>
            <a:ext cx="451800" cy="416520"/>
            <a:chOff x="5231880" y="4463280"/>
            <a:chExt cx="451800" cy="416520"/>
          </a:xfrm>
        </p:grpSpPr>
        <p:sp>
          <p:nvSpPr>
            <p:cNvPr id="171" name=""/>
            <p:cNvSpPr/>
            <p:nvPr/>
          </p:nvSpPr>
          <p:spPr>
            <a:xfrm flipH="1">
              <a:off x="5483160" y="4463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231880" y="4532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4:11:32Z</dcterms:created>
  <dc:creator>Oksana</dc:creator>
  <dc:description/>
  <dc:language>en-US</dc:language>
  <cp:lastModifiedBy>Oksana</cp:lastModifiedBy>
  <dcterms:modified xsi:type="dcterms:W3CDTF">2022-02-15T16:31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