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AD83-C058-47CC-8309-288EA2FC5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F527-C722-4EA6-A2A6-82C4CD71F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5724-B3D2-4618-8474-64BBC8167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EA76-1831-4854-9B4D-27D44867A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E7C8-1A7A-4030-95AE-9B8FC29CB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93F3-CFA0-4EDE-B8D4-1C4581055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A47F-28F8-4020-8385-A5885173D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D0EB-FC53-4253-9763-96DD1D3EF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5A21-375C-4B15-8CC8-EBCAB35C7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82FE-DE00-4857-8560-4A358A2E0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0072-016E-4249-AEA0-EE92DE09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B51F-10FB-45A8-A1D9-14422E438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13E19-9B5B-498E-A387-CE106108AB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9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абота над ошибками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ест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 класс (3 четверть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33720" y="4800600"/>
            <a:ext cx="6705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У г. Омска «Средняя общеобразовательная школа № 132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онова Оксана владими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33840" y="2590920"/>
            <a:ext cx="567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МК «Начальная школ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XI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. Отметь слова, в которых есть приставка </a:t>
            </a: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под-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2280" y="1752480"/>
            <a:ext cx="472464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одви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одписа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одгоре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оли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одберёзови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279000" y="2710800"/>
            <a:ext cx="451800" cy="416160"/>
            <a:chOff x="279000" y="2710800"/>
            <a:chExt cx="451800" cy="416160"/>
          </a:xfrm>
        </p:grpSpPr>
        <p:sp>
          <p:nvSpPr>
            <p:cNvPr id="176" name=""/>
            <p:cNvSpPr/>
            <p:nvPr/>
          </p:nvSpPr>
          <p:spPr>
            <a:xfrm flipH="1">
              <a:off x="530280" y="2710800"/>
              <a:ext cx="200520" cy="416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 flipV="1">
              <a:off x="279000" y="2779920"/>
              <a:ext cx="251280" cy="347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279000" y="3548880"/>
            <a:ext cx="451800" cy="416520"/>
            <a:chOff x="279000" y="3548880"/>
            <a:chExt cx="451800" cy="416520"/>
          </a:xfrm>
        </p:grpSpPr>
        <p:sp>
          <p:nvSpPr>
            <p:cNvPr id="179" name=""/>
            <p:cNvSpPr/>
            <p:nvPr/>
          </p:nvSpPr>
          <p:spPr>
            <a:xfrm flipH="1">
              <a:off x="530280" y="3548880"/>
              <a:ext cx="200520" cy="416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 flipV="1">
              <a:off x="279000" y="3617640"/>
              <a:ext cx="251280" cy="347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279000" y="5301720"/>
            <a:ext cx="451800" cy="416160"/>
            <a:chOff x="279000" y="5301720"/>
            <a:chExt cx="451800" cy="416160"/>
          </a:xfrm>
        </p:grpSpPr>
        <p:sp>
          <p:nvSpPr>
            <p:cNvPr id="182" name=""/>
            <p:cNvSpPr/>
            <p:nvPr/>
          </p:nvSpPr>
          <p:spPr>
            <a:xfrm flipH="1">
              <a:off x="530280" y="5301720"/>
              <a:ext cx="200520" cy="416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 flipV="1">
              <a:off x="279000" y="5370840"/>
              <a:ext cx="251280" cy="347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5105520" y="1828800"/>
            <a:ext cx="40384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одкраси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одброси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одаро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одруж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одсолну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231880" y="1872720"/>
            <a:ext cx="451800" cy="416160"/>
            <a:chOff x="5231880" y="1872720"/>
            <a:chExt cx="451800" cy="416160"/>
          </a:xfrm>
        </p:grpSpPr>
        <p:sp>
          <p:nvSpPr>
            <p:cNvPr id="186" name=""/>
            <p:cNvSpPr/>
            <p:nvPr/>
          </p:nvSpPr>
          <p:spPr>
            <a:xfrm flipH="1">
              <a:off x="5483160" y="1872720"/>
              <a:ext cx="200520" cy="416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flipV="1">
              <a:off x="5231880" y="1941840"/>
              <a:ext cx="251280" cy="347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5231880" y="2787120"/>
            <a:ext cx="451800" cy="416160"/>
            <a:chOff x="5231880" y="2787120"/>
            <a:chExt cx="451800" cy="416160"/>
          </a:xfrm>
        </p:grpSpPr>
        <p:sp>
          <p:nvSpPr>
            <p:cNvPr id="189" name=""/>
            <p:cNvSpPr/>
            <p:nvPr/>
          </p:nvSpPr>
          <p:spPr>
            <a:xfrm flipH="1">
              <a:off x="5483160" y="2787120"/>
              <a:ext cx="200520" cy="416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5231880" y="2856240"/>
              <a:ext cx="251280" cy="347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5231880" y="5377680"/>
            <a:ext cx="451800" cy="416520"/>
            <a:chOff x="5231880" y="5377680"/>
            <a:chExt cx="451800" cy="416520"/>
          </a:xfrm>
        </p:grpSpPr>
        <p:sp>
          <p:nvSpPr>
            <p:cNvPr id="192" name=""/>
            <p:cNvSpPr/>
            <p:nvPr/>
          </p:nvSpPr>
          <p:spPr>
            <a:xfrm flipH="1">
              <a:off x="5483160" y="5377680"/>
              <a:ext cx="200520" cy="416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flipV="1">
              <a:off x="5231880" y="5446440"/>
              <a:ext cx="251280" cy="347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8. Отметь синонимы к слов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80880" y="2362320"/>
            <a:ext cx="39625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ротивни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сосе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товари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учени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риятел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507600" y="4158720"/>
            <a:ext cx="451800" cy="416160"/>
            <a:chOff x="507600" y="4158720"/>
            <a:chExt cx="451800" cy="416160"/>
          </a:xfrm>
        </p:grpSpPr>
        <p:sp>
          <p:nvSpPr>
            <p:cNvPr id="197" name=""/>
            <p:cNvSpPr/>
            <p:nvPr/>
          </p:nvSpPr>
          <p:spPr>
            <a:xfrm flipH="1">
              <a:off x="758880" y="4158720"/>
              <a:ext cx="200520" cy="416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 flipV="1">
              <a:off x="507600" y="4227840"/>
              <a:ext cx="251280" cy="347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507600" y="5911200"/>
            <a:ext cx="451800" cy="416160"/>
            <a:chOff x="507600" y="5911200"/>
            <a:chExt cx="451800" cy="416160"/>
          </a:xfrm>
        </p:grpSpPr>
        <p:sp>
          <p:nvSpPr>
            <p:cNvPr id="200" name=""/>
            <p:cNvSpPr/>
            <p:nvPr/>
          </p:nvSpPr>
          <p:spPr>
            <a:xfrm flipH="1">
              <a:off x="758880" y="5911200"/>
              <a:ext cx="200520" cy="416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507600" y="5980320"/>
              <a:ext cx="251280" cy="347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762120" y="1219320"/>
            <a:ext cx="1676160" cy="761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ру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943600" y="1219320"/>
            <a:ext cx="1676520" cy="761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0" y="2438280"/>
            <a:ext cx="396252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зд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теат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клас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жилищ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кухн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4622400" y="2405880"/>
            <a:ext cx="451800" cy="416520"/>
            <a:chOff x="4622400" y="2405880"/>
            <a:chExt cx="451800" cy="416520"/>
          </a:xfrm>
        </p:grpSpPr>
        <p:sp>
          <p:nvSpPr>
            <p:cNvPr id="206" name=""/>
            <p:cNvSpPr/>
            <p:nvPr/>
          </p:nvSpPr>
          <p:spPr>
            <a:xfrm flipH="1">
              <a:off x="4873680" y="2405880"/>
              <a:ext cx="200520" cy="416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 flipV="1">
              <a:off x="4622400" y="2474640"/>
              <a:ext cx="251280" cy="347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4698360" y="5073120"/>
            <a:ext cx="451800" cy="416160"/>
            <a:chOff x="4698360" y="5073120"/>
            <a:chExt cx="451800" cy="416160"/>
          </a:xfrm>
        </p:grpSpPr>
        <p:sp>
          <p:nvSpPr>
            <p:cNvPr id="209" name=""/>
            <p:cNvSpPr/>
            <p:nvPr/>
          </p:nvSpPr>
          <p:spPr>
            <a:xfrm flipH="1">
              <a:off x="4949640" y="5073120"/>
              <a:ext cx="200520" cy="416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 flipV="1">
              <a:off x="4698360" y="5142240"/>
              <a:ext cx="251280" cy="347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9. Отметь антоним к слов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" y="2362320"/>
            <a:ext cx="41148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громадн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маленьк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большо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горн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высок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54960" y="3320280"/>
            <a:ext cx="451800" cy="416520"/>
            <a:chOff x="354960" y="3320280"/>
            <a:chExt cx="451800" cy="416520"/>
          </a:xfrm>
        </p:grpSpPr>
        <p:sp>
          <p:nvSpPr>
            <p:cNvPr id="214" name=""/>
            <p:cNvSpPr/>
            <p:nvPr/>
          </p:nvSpPr>
          <p:spPr>
            <a:xfrm flipH="1">
              <a:off x="606240" y="3320280"/>
              <a:ext cx="200520" cy="416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 flipV="1">
              <a:off x="354960" y="3389040"/>
              <a:ext cx="251280" cy="347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4698360" y="5073120"/>
            <a:ext cx="451800" cy="416160"/>
            <a:chOff x="4698360" y="5073120"/>
            <a:chExt cx="451800" cy="416160"/>
          </a:xfrm>
        </p:grpSpPr>
        <p:sp>
          <p:nvSpPr>
            <p:cNvPr id="217" name=""/>
            <p:cNvSpPr/>
            <p:nvPr/>
          </p:nvSpPr>
          <p:spPr>
            <a:xfrm flipH="1">
              <a:off x="4949640" y="5073120"/>
              <a:ext cx="200520" cy="416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 flipV="1">
              <a:off x="4698360" y="5142240"/>
              <a:ext cx="251280" cy="347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762120" y="1219320"/>
            <a:ext cx="3124080" cy="761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гром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943600" y="1219320"/>
            <a:ext cx="2590920" cy="761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лад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572000" y="2438280"/>
            <a:ext cx="396252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грустн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грозн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медов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горьк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сахарн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0. Отметь предложения, в которых слова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уснуть, идти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употреблены в прямом значен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560" y="2971440"/>
            <a:ext cx="8305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Уснул малыш в своей кроватк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04920" y="3809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 На коврике уснул щено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47920" y="4800600"/>
            <a:ext cx="6248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Учитель идёт в клас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5638680"/>
            <a:ext cx="7467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 Мы идём по лесной дорожк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279000" y="2939400"/>
            <a:ext cx="451800" cy="416160"/>
            <a:chOff x="279000" y="2939400"/>
            <a:chExt cx="451800" cy="416160"/>
          </a:xfrm>
        </p:grpSpPr>
        <p:sp>
          <p:nvSpPr>
            <p:cNvPr id="228" name=""/>
            <p:cNvSpPr/>
            <p:nvPr/>
          </p:nvSpPr>
          <p:spPr>
            <a:xfrm flipH="1">
              <a:off x="530280" y="2939400"/>
              <a:ext cx="200520" cy="416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 flipV="1">
              <a:off x="279000" y="3008520"/>
              <a:ext cx="251280" cy="347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354960" y="3777480"/>
            <a:ext cx="451800" cy="416520"/>
            <a:chOff x="354960" y="3777480"/>
            <a:chExt cx="451800" cy="416520"/>
          </a:xfrm>
        </p:grpSpPr>
        <p:sp>
          <p:nvSpPr>
            <p:cNvPr id="231" name=""/>
            <p:cNvSpPr/>
            <p:nvPr/>
          </p:nvSpPr>
          <p:spPr>
            <a:xfrm flipH="1">
              <a:off x="606240" y="3777480"/>
              <a:ext cx="200520" cy="416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 flipV="1">
              <a:off x="354960" y="3846240"/>
              <a:ext cx="251280" cy="347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1497960" y="4768200"/>
            <a:ext cx="451800" cy="416160"/>
            <a:chOff x="1497960" y="4768200"/>
            <a:chExt cx="451800" cy="416160"/>
          </a:xfrm>
        </p:grpSpPr>
        <p:sp>
          <p:nvSpPr>
            <p:cNvPr id="234" name=""/>
            <p:cNvSpPr/>
            <p:nvPr/>
          </p:nvSpPr>
          <p:spPr>
            <a:xfrm flipH="1">
              <a:off x="1749240" y="4768200"/>
              <a:ext cx="200520" cy="416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 flipV="1">
              <a:off x="1497960" y="4837320"/>
              <a:ext cx="251280" cy="347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1497960" y="5606280"/>
            <a:ext cx="451800" cy="416520"/>
            <a:chOff x="1497960" y="5606280"/>
            <a:chExt cx="451800" cy="416520"/>
          </a:xfrm>
        </p:grpSpPr>
        <p:sp>
          <p:nvSpPr>
            <p:cNvPr id="237" name=""/>
            <p:cNvSpPr/>
            <p:nvPr/>
          </p:nvSpPr>
          <p:spPr>
            <a:xfrm flipH="1">
              <a:off x="1749240" y="5606280"/>
              <a:ext cx="200520" cy="416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 flipV="1">
              <a:off x="1497960" y="5675040"/>
              <a:ext cx="251280" cy="347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52280" y="0"/>
            <a:ext cx="8839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1. Отметь слова, которые соответствуют толкованию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85800" y="3429000"/>
            <a:ext cx="3200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рыжов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яб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ал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мород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5237280" y="4621320"/>
            <a:ext cx="376200" cy="333720"/>
            <a:chOff x="5237280" y="4621320"/>
            <a:chExt cx="376200" cy="333720"/>
          </a:xfrm>
        </p:grpSpPr>
        <p:sp>
          <p:nvSpPr>
            <p:cNvPr id="242" name=""/>
            <p:cNvSpPr/>
            <p:nvPr/>
          </p:nvSpPr>
          <p:spPr>
            <a:xfrm flipH="1">
              <a:off x="5444640" y="4621320"/>
              <a:ext cx="168840" cy="333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flipV="1">
              <a:off x="5237280" y="4678920"/>
              <a:ext cx="207360" cy="276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152280" y="1143000"/>
            <a:ext cx="4343400" cy="2133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ерево с плодами в виде пучка жёлто-красных ягод, а также сами эти яг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181480" y="3429000"/>
            <a:ext cx="3200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реко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бабоч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м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че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00600" y="1143000"/>
            <a:ext cx="4343400" cy="2133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секомое с четырьмя покрытыми пыльцой крыльями разнообразной окрас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741600" y="4011480"/>
            <a:ext cx="376200" cy="334080"/>
            <a:chOff x="741600" y="4011480"/>
            <a:chExt cx="376200" cy="334080"/>
          </a:xfrm>
        </p:grpSpPr>
        <p:sp>
          <p:nvSpPr>
            <p:cNvPr id="248" name=""/>
            <p:cNvSpPr/>
            <p:nvPr/>
          </p:nvSpPr>
          <p:spPr>
            <a:xfrm flipH="1">
              <a:off x="948960" y="4011480"/>
              <a:ext cx="168840" cy="334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 flipV="1">
              <a:off x="741600" y="4068720"/>
              <a:ext cx="207360" cy="276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2. Отметь, как называют слов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52280" y="2362320"/>
            <a:ext cx="4343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ногознач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инони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нтони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еизменяем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днокорен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202680" y="3701520"/>
            <a:ext cx="451800" cy="416160"/>
            <a:chOff x="202680" y="3701520"/>
            <a:chExt cx="451800" cy="416160"/>
          </a:xfrm>
        </p:grpSpPr>
        <p:sp>
          <p:nvSpPr>
            <p:cNvPr id="253" name=""/>
            <p:cNvSpPr/>
            <p:nvPr/>
          </p:nvSpPr>
          <p:spPr>
            <a:xfrm flipH="1">
              <a:off x="453960" y="3701520"/>
              <a:ext cx="200520" cy="416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 flipV="1">
              <a:off x="202680" y="3770640"/>
              <a:ext cx="251280" cy="347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4851000" y="4387320"/>
            <a:ext cx="451800" cy="416160"/>
            <a:chOff x="4851000" y="4387320"/>
            <a:chExt cx="451800" cy="416160"/>
          </a:xfrm>
        </p:grpSpPr>
        <p:sp>
          <p:nvSpPr>
            <p:cNvPr id="256" name=""/>
            <p:cNvSpPr/>
            <p:nvPr/>
          </p:nvSpPr>
          <p:spPr>
            <a:xfrm flipH="1">
              <a:off x="5102280" y="4387320"/>
              <a:ext cx="200520" cy="416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 flipV="1">
              <a:off x="4851000" y="4456440"/>
              <a:ext cx="251280" cy="347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0" y="1219320"/>
            <a:ext cx="4267080" cy="761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овый – старый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572000" y="1219320"/>
            <a:ext cx="4572000" cy="761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ильный – слабый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800600" y="2362320"/>
            <a:ext cx="4343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инони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днокорен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ногознач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нтони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еизменяем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3. Отметь слова, близкие по значению выделенны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04920" y="2438280"/>
            <a:ext cx="3962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юбим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лопков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олуб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ист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аздничн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354960" y="4615920"/>
            <a:ext cx="451800" cy="416160"/>
            <a:chOff x="354960" y="4615920"/>
            <a:chExt cx="451800" cy="416160"/>
          </a:xfrm>
        </p:grpSpPr>
        <p:sp>
          <p:nvSpPr>
            <p:cNvPr id="264" name=""/>
            <p:cNvSpPr/>
            <p:nvPr/>
          </p:nvSpPr>
          <p:spPr>
            <a:xfrm flipH="1">
              <a:off x="606240" y="4615920"/>
              <a:ext cx="200520" cy="416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 flipV="1">
              <a:off x="354960" y="4685040"/>
              <a:ext cx="251280" cy="347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5079600" y="4006080"/>
            <a:ext cx="451800" cy="416520"/>
            <a:chOff x="5079600" y="4006080"/>
            <a:chExt cx="451800" cy="416520"/>
          </a:xfrm>
        </p:grpSpPr>
        <p:sp>
          <p:nvSpPr>
            <p:cNvPr id="267" name=""/>
            <p:cNvSpPr/>
            <p:nvPr/>
          </p:nvSpPr>
          <p:spPr>
            <a:xfrm flipH="1">
              <a:off x="5330880" y="4006080"/>
              <a:ext cx="200520" cy="416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 flipV="1">
              <a:off x="5079600" y="4074840"/>
              <a:ext cx="251280" cy="347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5029200" y="2514600"/>
            <a:ext cx="3962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лаб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бодр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охлад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ёпл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зк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1295280"/>
            <a:ext cx="4648320" cy="762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свежая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(рубашка)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952880" y="1295280"/>
            <a:ext cx="4191120" cy="762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свежий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(ветер)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4. Отметь приставку, которая придаст словам противоположное значе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" y="2133720"/>
            <a:ext cx="25146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од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в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за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вы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ере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736200" y="4844520"/>
            <a:ext cx="451800" cy="416160"/>
            <a:chOff x="736200" y="4844520"/>
            <a:chExt cx="451800" cy="416160"/>
          </a:xfrm>
        </p:grpSpPr>
        <p:sp>
          <p:nvSpPr>
            <p:cNvPr id="275" name=""/>
            <p:cNvSpPr/>
            <p:nvPr/>
          </p:nvSpPr>
          <p:spPr>
            <a:xfrm flipH="1">
              <a:off x="987480" y="4844520"/>
              <a:ext cx="200520" cy="416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36200" y="4913640"/>
              <a:ext cx="251280" cy="347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762120" y="1219320"/>
            <a:ext cx="2361960" cy="761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нали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715000" y="1219320"/>
            <a:ext cx="2514600" cy="761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ткры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638680" y="2209680"/>
            <a:ext cx="266724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ере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о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у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на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за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5689080" y="5758920"/>
            <a:ext cx="451800" cy="416160"/>
            <a:chOff x="5689080" y="5758920"/>
            <a:chExt cx="451800" cy="416160"/>
          </a:xfrm>
        </p:grpSpPr>
        <p:sp>
          <p:nvSpPr>
            <p:cNvPr id="281" name=""/>
            <p:cNvSpPr/>
            <p:nvPr/>
          </p:nvSpPr>
          <p:spPr>
            <a:xfrm flipH="1">
              <a:off x="5940360" y="5758920"/>
              <a:ext cx="200520" cy="416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 flipV="1">
              <a:off x="5689080" y="5828040"/>
              <a:ext cx="251280" cy="347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пользованная ли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традь для контрольных работ. Русский язык, 2 класс. В. Ю. Романова, Л. В. Петленко. Издательство «Вентана-Граф», 2019г. (УМК «Начальная школ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XI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века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"Русский язык. 2-4 классы. Оценка достижения планируемых результатов обучения. ФГОС" Л.В. Петленко, В.Ю. Романова, Издательство «Просвещение/ Вентана-Граф», 2018 г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153280" cy="16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.  Отметь слова, в которых 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есть суффикс -к-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419720" y="1980720"/>
            <a:ext cx="3581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строй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мости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замо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крепк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мыш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81080"/>
            <a:ext cx="36576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лап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гор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избуш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стир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сро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507600" y="2025000"/>
            <a:ext cx="451800" cy="416160"/>
            <a:chOff x="507600" y="2025000"/>
            <a:chExt cx="451800" cy="416160"/>
          </a:xfrm>
        </p:grpSpPr>
        <p:sp>
          <p:nvSpPr>
            <p:cNvPr id="48" name=""/>
            <p:cNvSpPr/>
            <p:nvPr/>
          </p:nvSpPr>
          <p:spPr>
            <a:xfrm flipH="1">
              <a:off x="758880" y="2025000"/>
              <a:ext cx="200520" cy="416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507600" y="2094120"/>
              <a:ext cx="251280" cy="347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507600" y="2939400"/>
            <a:ext cx="451800" cy="416160"/>
            <a:chOff x="507600" y="2939400"/>
            <a:chExt cx="451800" cy="416160"/>
          </a:xfrm>
        </p:grpSpPr>
        <p:sp>
          <p:nvSpPr>
            <p:cNvPr id="51" name=""/>
            <p:cNvSpPr/>
            <p:nvPr/>
          </p:nvSpPr>
          <p:spPr>
            <a:xfrm flipH="1">
              <a:off x="758880" y="2939400"/>
              <a:ext cx="200520" cy="416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507600" y="3008520"/>
              <a:ext cx="251280" cy="347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507600" y="4691880"/>
            <a:ext cx="451800" cy="416520"/>
            <a:chOff x="507600" y="4691880"/>
            <a:chExt cx="451800" cy="416520"/>
          </a:xfrm>
        </p:grpSpPr>
        <p:sp>
          <p:nvSpPr>
            <p:cNvPr id="54" name=""/>
            <p:cNvSpPr/>
            <p:nvPr/>
          </p:nvSpPr>
          <p:spPr>
            <a:xfrm flipH="1">
              <a:off x="758880" y="4691880"/>
              <a:ext cx="200520" cy="416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 flipV="1">
              <a:off x="507600" y="4760640"/>
              <a:ext cx="251280" cy="347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4546080" y="2025000"/>
            <a:ext cx="451800" cy="416160"/>
            <a:chOff x="4546080" y="2025000"/>
            <a:chExt cx="451800" cy="416160"/>
          </a:xfrm>
        </p:grpSpPr>
        <p:sp>
          <p:nvSpPr>
            <p:cNvPr id="57" name=""/>
            <p:cNvSpPr/>
            <p:nvPr/>
          </p:nvSpPr>
          <p:spPr>
            <a:xfrm flipH="1">
              <a:off x="4797360" y="2025000"/>
              <a:ext cx="200520" cy="416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4546080" y="2094120"/>
              <a:ext cx="251280" cy="347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4546080" y="4691880"/>
            <a:ext cx="451800" cy="416520"/>
            <a:chOff x="4546080" y="4691880"/>
            <a:chExt cx="451800" cy="416520"/>
          </a:xfrm>
        </p:grpSpPr>
        <p:sp>
          <p:nvSpPr>
            <p:cNvPr id="60" name=""/>
            <p:cNvSpPr/>
            <p:nvPr/>
          </p:nvSpPr>
          <p:spPr>
            <a:xfrm flipH="1">
              <a:off x="4797360" y="4691880"/>
              <a:ext cx="200520" cy="416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 flipV="1">
              <a:off x="4546080" y="4760640"/>
              <a:ext cx="251280" cy="347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546080" y="5530320"/>
            <a:ext cx="451800" cy="416160"/>
            <a:chOff x="4546080" y="5530320"/>
            <a:chExt cx="451800" cy="416160"/>
          </a:xfrm>
        </p:grpSpPr>
        <p:sp>
          <p:nvSpPr>
            <p:cNvPr id="63" name=""/>
            <p:cNvSpPr/>
            <p:nvPr/>
          </p:nvSpPr>
          <p:spPr>
            <a:xfrm flipH="1">
              <a:off x="4797360" y="5530320"/>
              <a:ext cx="200520" cy="416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flipV="1">
              <a:off x="4546080" y="5599440"/>
              <a:ext cx="251280" cy="347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тметь слова, у которых корень совпадает с осново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981080"/>
            <a:ext cx="36576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столби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соко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загад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забо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конфе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24280" y="1981080"/>
            <a:ext cx="36576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ветеро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вол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ого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ропол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оро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431280" y="2939400"/>
            <a:ext cx="451800" cy="416160"/>
            <a:chOff x="431280" y="2939400"/>
            <a:chExt cx="451800" cy="416160"/>
          </a:xfrm>
        </p:grpSpPr>
        <p:sp>
          <p:nvSpPr>
            <p:cNvPr id="69" name=""/>
            <p:cNvSpPr/>
            <p:nvPr/>
          </p:nvSpPr>
          <p:spPr>
            <a:xfrm flipH="1">
              <a:off x="682560" y="2939400"/>
              <a:ext cx="200520" cy="416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flipV="1">
              <a:off x="431280" y="3008520"/>
              <a:ext cx="251280" cy="347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431280" y="4691880"/>
            <a:ext cx="451800" cy="416520"/>
            <a:chOff x="431280" y="4691880"/>
            <a:chExt cx="451800" cy="416520"/>
          </a:xfrm>
        </p:grpSpPr>
        <p:sp>
          <p:nvSpPr>
            <p:cNvPr id="72" name=""/>
            <p:cNvSpPr/>
            <p:nvPr/>
          </p:nvSpPr>
          <p:spPr>
            <a:xfrm flipH="1">
              <a:off x="682560" y="4691880"/>
              <a:ext cx="200520" cy="416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flipV="1">
              <a:off x="431280" y="4760640"/>
              <a:ext cx="251280" cy="347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431280" y="5530320"/>
            <a:ext cx="451800" cy="416160"/>
            <a:chOff x="431280" y="5530320"/>
            <a:chExt cx="451800" cy="416160"/>
          </a:xfrm>
        </p:grpSpPr>
        <p:sp>
          <p:nvSpPr>
            <p:cNvPr id="75" name=""/>
            <p:cNvSpPr/>
            <p:nvPr/>
          </p:nvSpPr>
          <p:spPr>
            <a:xfrm flipH="1">
              <a:off x="682560" y="5530320"/>
              <a:ext cx="200520" cy="416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31280" y="5599440"/>
              <a:ext cx="251280" cy="347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4774680" y="2939400"/>
            <a:ext cx="451800" cy="416160"/>
            <a:chOff x="4774680" y="2939400"/>
            <a:chExt cx="451800" cy="416160"/>
          </a:xfrm>
        </p:grpSpPr>
        <p:sp>
          <p:nvSpPr>
            <p:cNvPr id="78" name=""/>
            <p:cNvSpPr/>
            <p:nvPr/>
          </p:nvSpPr>
          <p:spPr>
            <a:xfrm flipH="1">
              <a:off x="5025960" y="2939400"/>
              <a:ext cx="200520" cy="416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flipV="1">
              <a:off x="4774680" y="3008520"/>
              <a:ext cx="251280" cy="347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4774680" y="3777480"/>
            <a:ext cx="451800" cy="416520"/>
            <a:chOff x="4774680" y="3777480"/>
            <a:chExt cx="451800" cy="416520"/>
          </a:xfrm>
        </p:grpSpPr>
        <p:sp>
          <p:nvSpPr>
            <p:cNvPr id="81" name=""/>
            <p:cNvSpPr/>
            <p:nvPr/>
          </p:nvSpPr>
          <p:spPr>
            <a:xfrm flipH="1">
              <a:off x="5025960" y="3777480"/>
              <a:ext cx="200520" cy="416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 flipV="1">
              <a:off x="4774680" y="3846240"/>
              <a:ext cx="251280" cy="347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4774680" y="5530320"/>
            <a:ext cx="451800" cy="416160"/>
            <a:chOff x="4774680" y="5530320"/>
            <a:chExt cx="451800" cy="416160"/>
          </a:xfrm>
        </p:grpSpPr>
        <p:sp>
          <p:nvSpPr>
            <p:cNvPr id="84" name=""/>
            <p:cNvSpPr/>
            <p:nvPr/>
          </p:nvSpPr>
          <p:spPr>
            <a:xfrm flipH="1">
              <a:off x="5025960" y="5530320"/>
              <a:ext cx="200520" cy="416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 flipV="1">
              <a:off x="4774680" y="5599440"/>
              <a:ext cx="251280" cy="347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52280" y="152280"/>
            <a:ext cx="89917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.1. Отметь часть слова, которая изменяет форму слов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2286000"/>
            <a:ext cx="41911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суффик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корен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ристав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оконч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основ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507600" y="4920480"/>
            <a:ext cx="451800" cy="416520"/>
            <a:chOff x="507600" y="4920480"/>
            <a:chExt cx="451800" cy="416520"/>
          </a:xfrm>
        </p:grpSpPr>
        <p:sp>
          <p:nvSpPr>
            <p:cNvPr id="89" name=""/>
            <p:cNvSpPr/>
            <p:nvPr/>
          </p:nvSpPr>
          <p:spPr>
            <a:xfrm flipH="1">
              <a:off x="758880" y="4920480"/>
              <a:ext cx="200520" cy="416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flipV="1">
              <a:off x="507600" y="4989240"/>
              <a:ext cx="251280" cy="347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899172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.2. Отметь часть слова, без которой слово не может существоват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2209680"/>
            <a:ext cx="48006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орфограмм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суффик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ристав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корен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оконч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507600" y="4844520"/>
            <a:ext cx="451800" cy="416160"/>
            <a:chOff x="507600" y="4844520"/>
            <a:chExt cx="451800" cy="416160"/>
          </a:xfrm>
        </p:grpSpPr>
        <p:sp>
          <p:nvSpPr>
            <p:cNvPr id="94" name=""/>
            <p:cNvSpPr/>
            <p:nvPr/>
          </p:nvSpPr>
          <p:spPr>
            <a:xfrm flipH="1">
              <a:off x="758880" y="4844520"/>
              <a:ext cx="200520" cy="416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07600" y="4913640"/>
              <a:ext cx="251280" cy="347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91440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.1. Отметь слова, в которых первая буква 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о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является частью корн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2362320"/>
            <a:ext cx="48006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оси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осмотре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овра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ослаби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олен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431280" y="2405880"/>
            <a:ext cx="451800" cy="416520"/>
            <a:chOff x="431280" y="2405880"/>
            <a:chExt cx="451800" cy="416520"/>
          </a:xfrm>
        </p:grpSpPr>
        <p:sp>
          <p:nvSpPr>
            <p:cNvPr id="99" name=""/>
            <p:cNvSpPr/>
            <p:nvPr/>
          </p:nvSpPr>
          <p:spPr>
            <a:xfrm flipH="1">
              <a:off x="682560" y="2405880"/>
              <a:ext cx="200520" cy="416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 flipV="1">
              <a:off x="431280" y="2474640"/>
              <a:ext cx="251280" cy="347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07600" y="4158720"/>
            <a:ext cx="451800" cy="416160"/>
            <a:chOff x="507600" y="4158720"/>
            <a:chExt cx="451800" cy="416160"/>
          </a:xfrm>
        </p:grpSpPr>
        <p:sp>
          <p:nvSpPr>
            <p:cNvPr id="102" name=""/>
            <p:cNvSpPr/>
            <p:nvPr/>
          </p:nvSpPr>
          <p:spPr>
            <a:xfrm flipH="1">
              <a:off x="758880" y="4158720"/>
              <a:ext cx="200520" cy="416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 flipV="1">
              <a:off x="507600" y="4227840"/>
              <a:ext cx="251280" cy="347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507600" y="5911200"/>
            <a:ext cx="451800" cy="416160"/>
            <a:chOff x="507600" y="5911200"/>
            <a:chExt cx="451800" cy="416160"/>
          </a:xfrm>
        </p:grpSpPr>
        <p:sp>
          <p:nvSpPr>
            <p:cNvPr id="105" name=""/>
            <p:cNvSpPr/>
            <p:nvPr/>
          </p:nvSpPr>
          <p:spPr>
            <a:xfrm flipH="1">
              <a:off x="758880" y="5911200"/>
              <a:ext cx="200520" cy="416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 flipV="1">
              <a:off x="507600" y="5980320"/>
              <a:ext cx="251280" cy="347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80880" y="2362320"/>
            <a:ext cx="48006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достира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дожд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дошкольни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дорог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докто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507600" y="3244320"/>
            <a:ext cx="451800" cy="416160"/>
            <a:chOff x="507600" y="3244320"/>
            <a:chExt cx="451800" cy="416160"/>
          </a:xfrm>
        </p:grpSpPr>
        <p:sp>
          <p:nvSpPr>
            <p:cNvPr id="109" name=""/>
            <p:cNvSpPr/>
            <p:nvPr/>
          </p:nvSpPr>
          <p:spPr>
            <a:xfrm flipH="1">
              <a:off x="758880" y="3244320"/>
              <a:ext cx="200520" cy="416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 flipV="1">
              <a:off x="507600" y="3313440"/>
              <a:ext cx="251280" cy="347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152280" y="228600"/>
            <a:ext cx="87631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.2. Отметь слова, в которых сочетание букв </a:t>
            </a: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является частью корн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507600" y="4996800"/>
            <a:ext cx="451800" cy="416160"/>
            <a:chOff x="507600" y="4996800"/>
            <a:chExt cx="451800" cy="416160"/>
          </a:xfrm>
        </p:grpSpPr>
        <p:sp>
          <p:nvSpPr>
            <p:cNvPr id="113" name=""/>
            <p:cNvSpPr/>
            <p:nvPr/>
          </p:nvSpPr>
          <p:spPr>
            <a:xfrm flipH="1">
              <a:off x="758880" y="4996800"/>
              <a:ext cx="200520" cy="416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 flipV="1">
              <a:off x="507600" y="5065920"/>
              <a:ext cx="251280" cy="347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507600" y="5911200"/>
            <a:ext cx="451800" cy="416160"/>
            <a:chOff x="507600" y="5911200"/>
            <a:chExt cx="451800" cy="416160"/>
          </a:xfrm>
        </p:grpSpPr>
        <p:sp>
          <p:nvSpPr>
            <p:cNvPr id="116" name=""/>
            <p:cNvSpPr/>
            <p:nvPr/>
          </p:nvSpPr>
          <p:spPr>
            <a:xfrm flipH="1">
              <a:off x="758880" y="5911200"/>
              <a:ext cx="200520" cy="416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 flipV="1">
              <a:off x="507600" y="5980320"/>
              <a:ext cx="251280" cy="347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80880" y="2514600"/>
            <a:ext cx="35053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хвост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ягод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расса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зимн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обла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507600" y="3396600"/>
            <a:ext cx="451800" cy="416160"/>
            <a:chOff x="507600" y="3396600"/>
            <a:chExt cx="451800" cy="416160"/>
          </a:xfrm>
        </p:grpSpPr>
        <p:sp>
          <p:nvSpPr>
            <p:cNvPr id="120" name=""/>
            <p:cNvSpPr/>
            <p:nvPr/>
          </p:nvSpPr>
          <p:spPr>
            <a:xfrm flipH="1">
              <a:off x="758880" y="3396600"/>
              <a:ext cx="200520" cy="416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 flipV="1">
              <a:off x="507600" y="3465720"/>
              <a:ext cx="251280" cy="347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152280" y="228600"/>
            <a:ext cx="8763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. Отметь слова, которые соответствуют схем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507600" y="5149080"/>
            <a:ext cx="451800" cy="416520"/>
            <a:chOff x="507600" y="5149080"/>
            <a:chExt cx="451800" cy="416520"/>
          </a:xfrm>
        </p:grpSpPr>
        <p:sp>
          <p:nvSpPr>
            <p:cNvPr id="124" name=""/>
            <p:cNvSpPr/>
            <p:nvPr/>
          </p:nvSpPr>
          <p:spPr>
            <a:xfrm flipH="1">
              <a:off x="758880" y="5149080"/>
              <a:ext cx="200520" cy="416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 flipV="1">
              <a:off x="507600" y="5217840"/>
              <a:ext cx="251280" cy="347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-11880" y="1257480"/>
            <a:ext cx="2907360" cy="2361960"/>
            <a:chOff x="-11880" y="1257480"/>
            <a:chExt cx="2907360" cy="2361960"/>
          </a:xfrm>
        </p:grpSpPr>
        <p:sp>
          <p:nvSpPr>
            <p:cNvPr id="127" name=""/>
            <p:cNvSpPr/>
            <p:nvPr/>
          </p:nvSpPr>
          <p:spPr>
            <a:xfrm rot="19000800">
              <a:off x="261360" y="1676880"/>
              <a:ext cx="1828080" cy="152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04299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042995"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1904760" y="1523520"/>
              <a:ext cx="533520" cy="381600"/>
              <a:chOff x="1904760" y="1523520"/>
              <a:chExt cx="533520" cy="381600"/>
            </a:xfrm>
          </p:grpSpPr>
          <p:sp>
            <p:nvSpPr>
              <p:cNvPr id="129" name=""/>
              <p:cNvSpPr/>
              <p:nvPr/>
            </p:nvSpPr>
            <p:spPr>
              <a:xfrm flipV="1">
                <a:off x="1904760" y="1523520"/>
                <a:ext cx="304920" cy="3812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209680" y="1523880"/>
                <a:ext cx="228600" cy="3812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2514600" y="1828800"/>
              <a:ext cx="380880" cy="45720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85800" y="2286000"/>
              <a:ext cx="0" cy="152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85800" y="2438280"/>
              <a:ext cx="17524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38280" y="2286000"/>
              <a:ext cx="0" cy="152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5246280" y="1257480"/>
            <a:ext cx="2374920" cy="2361960"/>
            <a:chOff x="5246280" y="1257480"/>
            <a:chExt cx="2374920" cy="2361960"/>
          </a:xfrm>
        </p:grpSpPr>
        <p:sp>
          <p:nvSpPr>
            <p:cNvPr id="136" name=""/>
            <p:cNvSpPr/>
            <p:nvPr/>
          </p:nvSpPr>
          <p:spPr>
            <a:xfrm rot="19000800">
              <a:off x="5519520" y="1676880"/>
              <a:ext cx="1828080" cy="152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04299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042995"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5334120" y="1752840"/>
              <a:ext cx="533520" cy="76320"/>
              <a:chOff x="5334120" y="1752840"/>
              <a:chExt cx="533520" cy="76320"/>
            </a:xfrm>
          </p:grpSpPr>
          <p:sp>
            <p:nvSpPr>
              <p:cNvPr id="138" name=""/>
              <p:cNvSpPr/>
              <p:nvPr/>
            </p:nvSpPr>
            <p:spPr>
              <a:xfrm flipV="1">
                <a:off x="5867640" y="1752840"/>
                <a:ext cx="0" cy="763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334120" y="1752840"/>
                <a:ext cx="5335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7239240" y="1829160"/>
              <a:ext cx="380880" cy="45720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5410440" y="2210040"/>
              <a:ext cx="1752480" cy="152280"/>
              <a:chOff x="5410440" y="2210040"/>
              <a:chExt cx="1752480" cy="152280"/>
            </a:xfrm>
          </p:grpSpPr>
          <p:sp>
            <p:nvSpPr>
              <p:cNvPr id="142" name=""/>
              <p:cNvSpPr/>
              <p:nvPr/>
            </p:nvSpPr>
            <p:spPr>
              <a:xfrm>
                <a:off x="5410440" y="22100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410440" y="2362320"/>
                <a:ext cx="17524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62920" y="22100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5" name=""/>
          <p:cNvSpPr/>
          <p:nvPr/>
        </p:nvSpPr>
        <p:spPr>
          <a:xfrm>
            <a:off x="4876920" y="2514600"/>
            <a:ext cx="38098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рыба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одруг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одар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олив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рохла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5003280" y="3396600"/>
            <a:ext cx="451800" cy="416160"/>
            <a:chOff x="5003280" y="3396600"/>
            <a:chExt cx="451800" cy="416160"/>
          </a:xfrm>
        </p:grpSpPr>
        <p:sp>
          <p:nvSpPr>
            <p:cNvPr id="147" name=""/>
            <p:cNvSpPr/>
            <p:nvPr/>
          </p:nvSpPr>
          <p:spPr>
            <a:xfrm flipH="1">
              <a:off x="5254560" y="3396600"/>
              <a:ext cx="200520" cy="416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 flipV="1">
              <a:off x="5003280" y="3465720"/>
              <a:ext cx="251280" cy="347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5003280" y="6063480"/>
            <a:ext cx="451800" cy="416520"/>
            <a:chOff x="5003280" y="6063480"/>
            <a:chExt cx="451800" cy="416520"/>
          </a:xfrm>
        </p:grpSpPr>
        <p:sp>
          <p:nvSpPr>
            <p:cNvPr id="150" name=""/>
            <p:cNvSpPr/>
            <p:nvPr/>
          </p:nvSpPr>
          <p:spPr>
            <a:xfrm flipH="1">
              <a:off x="5254560" y="6063480"/>
              <a:ext cx="200520" cy="416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 flipV="1">
              <a:off x="5003280" y="6132240"/>
              <a:ext cx="251280" cy="347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6. Отметь однокоренные слов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1752480"/>
            <a:ext cx="381024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руди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запру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рути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закрути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ру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431280" y="1720080"/>
            <a:ext cx="451800" cy="416520"/>
            <a:chOff x="431280" y="1720080"/>
            <a:chExt cx="451800" cy="416520"/>
          </a:xfrm>
        </p:grpSpPr>
        <p:sp>
          <p:nvSpPr>
            <p:cNvPr id="155" name=""/>
            <p:cNvSpPr/>
            <p:nvPr/>
          </p:nvSpPr>
          <p:spPr>
            <a:xfrm flipH="1">
              <a:off x="682560" y="1720080"/>
              <a:ext cx="200520" cy="416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 flipV="1">
              <a:off x="431280" y="1788840"/>
              <a:ext cx="251280" cy="347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507600" y="2634480"/>
            <a:ext cx="451800" cy="416520"/>
            <a:chOff x="507600" y="2634480"/>
            <a:chExt cx="451800" cy="416520"/>
          </a:xfrm>
        </p:grpSpPr>
        <p:sp>
          <p:nvSpPr>
            <p:cNvPr id="158" name=""/>
            <p:cNvSpPr/>
            <p:nvPr/>
          </p:nvSpPr>
          <p:spPr>
            <a:xfrm flipH="1">
              <a:off x="758880" y="2634480"/>
              <a:ext cx="200520" cy="416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507600" y="2703240"/>
              <a:ext cx="251280" cy="347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507600" y="5301720"/>
            <a:ext cx="451800" cy="416160"/>
            <a:chOff x="507600" y="5301720"/>
            <a:chExt cx="451800" cy="416160"/>
          </a:xfrm>
        </p:grpSpPr>
        <p:sp>
          <p:nvSpPr>
            <p:cNvPr id="161" name=""/>
            <p:cNvSpPr/>
            <p:nvPr/>
          </p:nvSpPr>
          <p:spPr>
            <a:xfrm flipH="1">
              <a:off x="758880" y="5301720"/>
              <a:ext cx="200520" cy="416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507600" y="5370840"/>
              <a:ext cx="251280" cy="347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5105520" y="1828800"/>
            <a:ext cx="37335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смельча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ме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смел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осмеле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мелк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5231880" y="1872720"/>
            <a:ext cx="451800" cy="416160"/>
            <a:chOff x="5231880" y="1872720"/>
            <a:chExt cx="451800" cy="416160"/>
          </a:xfrm>
        </p:grpSpPr>
        <p:sp>
          <p:nvSpPr>
            <p:cNvPr id="165" name=""/>
            <p:cNvSpPr/>
            <p:nvPr/>
          </p:nvSpPr>
          <p:spPr>
            <a:xfrm flipH="1">
              <a:off x="5483160" y="1872720"/>
              <a:ext cx="200520" cy="416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 flipV="1">
              <a:off x="5231880" y="1941840"/>
              <a:ext cx="251280" cy="347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5231880" y="3625200"/>
            <a:ext cx="451800" cy="416160"/>
            <a:chOff x="5231880" y="3625200"/>
            <a:chExt cx="451800" cy="416160"/>
          </a:xfrm>
        </p:grpSpPr>
        <p:sp>
          <p:nvSpPr>
            <p:cNvPr id="168" name=""/>
            <p:cNvSpPr/>
            <p:nvPr/>
          </p:nvSpPr>
          <p:spPr>
            <a:xfrm flipH="1">
              <a:off x="5483160" y="3625200"/>
              <a:ext cx="200520" cy="416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flipV="1">
              <a:off x="5231880" y="3694320"/>
              <a:ext cx="251280" cy="347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5231880" y="4463280"/>
            <a:ext cx="451800" cy="416520"/>
            <a:chOff x="5231880" y="4463280"/>
            <a:chExt cx="451800" cy="416520"/>
          </a:xfrm>
        </p:grpSpPr>
        <p:sp>
          <p:nvSpPr>
            <p:cNvPr id="171" name=""/>
            <p:cNvSpPr/>
            <p:nvPr/>
          </p:nvSpPr>
          <p:spPr>
            <a:xfrm flipH="1">
              <a:off x="5483160" y="4463280"/>
              <a:ext cx="200520" cy="416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flipV="1">
              <a:off x="5231880" y="4532040"/>
              <a:ext cx="251280" cy="347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4T14:11:32Z</dcterms:created>
  <dc:creator>Oksana</dc:creator>
  <dc:description/>
  <dc:language>en-US</dc:language>
  <cp:lastModifiedBy>Oksana</cp:lastModifiedBy>
  <dcterms:modified xsi:type="dcterms:W3CDTF">2022-02-15T16:31:30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