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8442-C7FE-477D-9C9E-5FB7C9296D8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371600" y="1143000"/>
            <a:ext cx="4114800" cy="3086280"/>
          </a:xfrm>
          <a:prstGeom prst="rect">
            <a:avLst/>
          </a:prstGeom>
          <a:ln w="0">
            <a:noFill/>
          </a:ln>
        </p:spPr>
      </p:sp>
      <p:sp>
        <p:nvSpPr>
          <p:cNvPr id="1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E7FC-D9A2-4159-B538-503AFDAF714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B7F0F-DEC5-400D-8F40-87856969C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3687D-A69C-4A74-9C70-7EA512E9D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B2E3A-5F44-47C2-8243-C852DA3CC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24B66-A443-4E38-A533-25A996F8E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24D9AF-022F-49AC-850E-4CED0C096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24BC5-039A-427E-BFEC-C6BC51148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A7840-8720-4A0E-A245-A1DE04E31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B59E3-D7E6-4D8A-9285-112258967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7DD0C-710F-4DD1-947C-FC46A6BE4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D5251-4824-4E2C-A91D-7AB40DB43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1D743-7C91-4159-B687-691CC4C60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B899A-18A3-4B72-9E33-A07BA3EBC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A7ED7-7649-4817-BB57-A8DB36BA7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A7B93-97B5-4FBE-8E5A-FAC0CB207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9F6BA-E436-4178-9518-8723E770F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62937-7AE4-4A86-8605-D7123D1A0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FB811-D20E-44B6-AF1F-36740E348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A4BB5-237D-4E71-AD8C-5387F0B85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E7140-E224-420F-A99E-0B4739E5D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1B720-6DBC-4FCD-B9E6-AA5AB72FE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7AF34-B27E-4A7B-832F-445EBC7C6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F532A-4BE2-47C4-AE95-939E40AB0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18341-9D02-438C-9666-3F74473EB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E37CA-B111-4145-BE12-33FD56041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0798-838F-421A-A09B-2DFD48AFE40E}"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B96C-800C-41A8-8AC5-EFE5A61C065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ichmother.ru/statya/knigi-dla-detey-dvuh-treh-let.html"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63280" y="2130120"/>
            <a:ext cx="61930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0000"/>
                </a:solidFill>
                <a:latin typeface="Times New Roman"/>
                <a:ea typeface="Times New Roman"/>
              </a:rPr>
              <a:t>Роль сказки в развитии речи детей</a:t>
            </a:r>
            <a:endParaRPr b="0" lang="en-US" sz="40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ea typeface="Times New Roman"/>
              </a:rPr>
              <a:t>Учитель-логопед: Богданова М.В</a:t>
            </a:r>
            <a:r>
              <a:rPr b="0" lang="ru-RU" sz="2800" spc="-1" strike="noStrike">
                <a:solidFill>
                  <a:srgbClr val="ff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2"/>
          <p:cNvSpPr/>
          <p:nvPr/>
        </p:nvSpPr>
        <p:spPr>
          <a:xfrm>
            <a:off x="395280" y="404640"/>
            <a:ext cx="8424720" cy="63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Сказки для детей от 3-4 лет.</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ниги для ребенка в 3 года и 4 года - это книги о других детях, различных животных, явлениях природы, правилах жизни, всяческих бытовых или игровых ситуациях. Ребенок в этом возрасте очень эмоционален. Он ярко переживает все перипетии и события из книжки, с неослабевающим волнением и вниманием следит за развитием сюжет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Список книг от 3-4</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усские народные сказки: Колобок. Курочка Ряба. Морозко. Царевна-лягушка. Василиса Прекрасная. Крошечка-Хаврошечка. По щучьему веленью (и другие)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усские народные сказки о животных и волшебные сказки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усские народные сказки из сборника Афанасьева А. Жар-птица и Василиса-царевна. Морской царь и Василиса Премудрая (и другие)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лстой Л. Три медведя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ршов П. Конек-Горбунок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ушкин А. Сказка о царе Салтане, о сыне его славном и могучем богатыре Гвидоне Салтановиче и о прекрасной царевне Лебеди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арто А. Собрание сочинений в 3 т.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спенский Э. Крокодил Гена и его друзья. Каникулы в Простоквашино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уковский К. Айболит. Бармалей. Бибигон. Мойдодыр. Муха-Цокотуха. Путаница. Загадки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казки народов мир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250920" y="404640"/>
            <a:ext cx="8642160" cy="642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окмакова И. Стихи. Счастливо, Ивушкин. В стране «Нигде и никуд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ихалков С. Дядя Степа. Рассказ о неизвестном герое. Песенка друзей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ршак С. Вот какой рассеянный. Двенадцать месяцев. Усатый-полосатый. Веселый счет до десяти. Сказка о глупом мышонке. Что такое перед нами (и другие стих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иссет Д. Сказк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ллада Г. Фридолин — нахальный барсучок. Геометрия для малышей. Шагал один чудак. Настоящий тигр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Цыферов Г. Сказки старинного города. Дневник медвежонка. Про чудака лягушон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ур Л. Крошка Енот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ихи русских поэтов (Жуковский В., Фет А., Плещеев В., Баратынский Е., Тютчев Ф. и други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ро Ш. Спящая красавица. Мальчик-с-пальчик. Кот в сапогах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ндерсен Г. X. Гадкий утенок. Дюймовочка. Огниво. Стойкий оловянный солдатик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ратья Гримм. Госпожа Метелиц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мин-Сибиряк В. Серая Шейка. Аленушкины сказк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ксаков А. Аленький цветочек</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доевский Ф. Мороз Иванович. Городок в табакерк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аль В. Сказк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Житков Б. Что я видел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антелеев Л. Веселый трамвай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стер Г. Котенок по имени Гав. Сказки про мартышку, слоненка и удав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сов Н. Незнайка и его друзья. Рассказы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ранс А. Пчел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рушин Е. Про Томку и про всех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олстой А. Золотой ключик, или Приключения Буратино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ходер Б. Мохнатая азбука. Ванька-Встанька </a:t>
            </a:r>
            <a:endParaRPr b="0" lang="en-US" sz="1600" spc="-1" strike="noStrike">
              <a:solidFill>
                <a:srgbClr val="000000"/>
              </a:solidFill>
              <a:latin typeface="Arial"/>
            </a:endParaRPr>
          </a:p>
        </p:txBody>
      </p:sp>
      <p:pic>
        <p:nvPicPr>
          <p:cNvPr id="112" name="Рисунок 1" descr=""/>
          <p:cNvPicPr/>
          <p:nvPr/>
        </p:nvPicPr>
        <p:blipFill>
          <a:blip r:embed="rId1"/>
          <a:stretch/>
        </p:blipFill>
        <p:spPr>
          <a:xfrm>
            <a:off x="7093080" y="4076640"/>
            <a:ext cx="1955520" cy="270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108000" y="117360"/>
            <a:ext cx="9217080" cy="667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тепанов В. Скороговорки. Радуга. Соломенное лето. Свинки на тропинке. Замечательное платье. Подскажи словечко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ерестов В. Выводок. Мы ссорились, мирились. Юл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риц Ю. Попрыгать-поиграть</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еф Р. Лиловое стихотворение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шковская Э. Шарик. Я — машина. Мальчик в зеркале. Кругом — снег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Хармс Д. Удивительная кошка. Странная лошадь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Яснов М. Вот как я семью нарисовал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ергеев В. Волшебные краск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Алдонина Р. Играем в фигуры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азнин И. Муха-сластен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ляцковский М. Букашка, которая хотела стать большой. Непонятливый львенок. Помощник. Как щенок Тявка учился кукарекать. Конкурс красоты. Длинная шея. Как утенок Крячик свою тень потерял. Ромашки в январе. Трудное задание. Босолапки на кожаном ходу (и другие рассказы)</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 </a:t>
            </a:r>
            <a:r>
              <a:rPr b="0" lang="ru-RU" sz="1800" spc="-1" strike="noStrike">
                <a:solidFill>
                  <a:srgbClr val="000000"/>
                </a:solidFill>
                <a:latin typeface="Arial"/>
                <a:ea typeface="Arial"/>
              </a:rPr>
              <a:t>Экхольм Я. Тутта Карлссон первая и единственная. Людвиг Четырнадцатый (и другие)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ианки В. Рассказы о животных (Мышонок Пик. Парад животных. Первая охота и другие)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Киплинг Р. Слоненок. Просьба кенгуру. Рикки-Тикки-Тав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Линдгрен А. Малыш и Карлсон, который живет на крыше. Карлсон вернулся. Карлсон опять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спенский Э. Про мальчика Яшу Усачев А. Оранжевый верблюд. Умная собачка Со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2"/>
          <p:cNvSpPr/>
          <p:nvPr/>
        </p:nvSpPr>
        <p:spPr>
          <a:xfrm>
            <a:off x="0" y="260280"/>
            <a:ext cx="9144000" cy="669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Сказки для детей от 4-5 лет.</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ниги для детей 4 и 5 лет уже достаточно сложны по сюжету. Ребенок уже способен прогнозировать, домысливать содержание читаемой книги, комментировать прочитанное, давать оценку описываемым событиям, выбирать книгу для чтения самостоятельно, обосновывая свои литературные предпочтени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Список книг от 4-5</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ушкин А. Сказка о царе Салтане. Сказка о золотом петушке. Сказка о мертвой царевне и о семи богатырях. Сказка о рыбаке и рыбке. Сказка о медведихе. Сказка о попе и работнике его Балде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яковский В. Что такое хорошо и что такое плохо?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рький М. Воробьишко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ощенко М. Елка. Показательный ребенок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ршак С. Великан. Хороший день. Про все на свете. Азбука в стихах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ихалков С. Лесная академия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Цыферов Г. Цыпленок. Сказки старинного город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апгир Г. Алфавитные считалки. Сегодня, завтра и вчера. Людоед и Принцесса, или Всё наоборот. Раки и рыбы. Веселая математика Кубарика и Томатик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еф Р. Муравей. Час рассвета. Чудо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им Э. Сорока и Медвежонок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ходер Б. Жили-были два соседа... Приятная встреч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ивоварова И. Вежливый ослик. Жил да был. Разговор с сорокой. Тайн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усские народные сказки: Журавль и цапля. Петушок — золотой гребешок и чудо-меленка. По щучьему веленью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арто А. Вот так ребенок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уковский К. Тараканище. Барабек. Ежики смеются. Слониха читает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епанов В. Три синицы на кормушке... Куда глядит ворона? Угадай сказку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ладков Н. Кто как спит. Сорока и медведь. Сорока и мышь. Сорока и заяц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1"/>
          <p:cNvSpPr/>
          <p:nvPr/>
        </p:nvSpPr>
        <p:spPr>
          <a:xfrm>
            <a:off x="611280" y="333360"/>
            <a:ext cx="7848360" cy="667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ерестов В. Воробушк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нявский П. Про грустное и вкусное. Про сердитого шмеля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ригорьев О. Стук. Пальто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лександрова Т. Домовенок Кузь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снов М. Вот был бы большим... Я взрослею. Когда я стану школьником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ошковская Э. Канатом привязали огромного слон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тер Г. Эхо. Где лучше бояться?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ужков Г. Рррры!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рагунский В. Тайное становится явным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сачев А. Солидная дама. Как Соня устроила рыбалку</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знин И. Почему киты молчат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р Э. Чики-Рики-воробей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унин В. Я — поезд. Утреннее настроение. Даю вам слово!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ким Я. Яблоко. Мой брат Миш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витко Л. Моя бабуш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кмакова И. Жду. Аля, Кляксич и буква 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рро Ш. Красная Шапоч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аррис Д. Сказки дядюшки Римуса</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ратья Гримм. Беляночка и Розоч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ндерсен Г. X. Снежная королев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гданов М. Мышь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швин М. Этажи лес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альмонт К. Детский мир. Стихи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Рисунок 2" descr=""/>
          <p:cNvPicPr/>
          <p:nvPr/>
        </p:nvPicPr>
        <p:blipFill>
          <a:blip r:embed="rId1"/>
          <a:stretch/>
        </p:blipFill>
        <p:spPr>
          <a:xfrm>
            <a:off x="6757920" y="2720880"/>
            <a:ext cx="2367000" cy="413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
          <p:cNvSpPr/>
          <p:nvPr/>
        </p:nvSpPr>
        <p:spPr>
          <a:xfrm>
            <a:off x="324000" y="404640"/>
            <a:ext cx="856908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кребицкий Г. Лесной голосок. Пушок. Вориш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ианки В. Кто чем поет? Чьи это ног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Жуковский В. Стих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лок А. Ворона. Зайчик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адков Н. Загадочный зверь. Выеденное яйцо. Отчего у лисы длинный хвост?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харнов С. Олень и черепаха. Откуда у тигра на боках черные полосы. Далеко и близко. Почему у кита большой рот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рюсов В. Стих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уров В. Хрюшка-парашютист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аустовский К. Степан и Фунтик. Кот-ворюг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ет А. Бабоч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лстой А. Воробей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арушин Е. Тюпа, Томка и сорока.</a:t>
            </a:r>
            <a:endParaRPr b="0" lang="en-US" sz="1800" spc="-1" strike="noStrike">
              <a:solidFill>
                <a:srgbClr val="000000"/>
              </a:solidFill>
              <a:latin typeface="Arial"/>
            </a:endParaRPr>
          </a:p>
        </p:txBody>
      </p:sp>
      <p:pic>
        <p:nvPicPr>
          <p:cNvPr id="118" name="Рисунок 1" descr=""/>
          <p:cNvPicPr/>
          <p:nvPr/>
        </p:nvPicPr>
        <p:blipFill>
          <a:blip r:embed="rId1"/>
          <a:stretch/>
        </p:blipFill>
        <p:spPr>
          <a:xfrm>
            <a:off x="5435640" y="2803680"/>
            <a:ext cx="3673440" cy="405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1"/>
          <p:cNvSpPr/>
          <p:nvPr/>
        </p:nvSpPr>
        <p:spPr>
          <a:xfrm>
            <a:off x="755640" y="189000"/>
            <a:ext cx="77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Сказки для детей от 5-6 лет</a:t>
            </a:r>
            <a:endParaRPr b="0" lang="en-US" sz="3200" spc="-1" strike="noStrike">
              <a:solidFill>
                <a:srgbClr val="000000"/>
              </a:solidFill>
              <a:latin typeface="Arial"/>
            </a:endParaRPr>
          </a:p>
        </p:txBody>
      </p:sp>
      <p:sp>
        <p:nvSpPr>
          <p:cNvPr id="120" name="TextBox 2"/>
          <p:cNvSpPr/>
          <p:nvPr/>
        </p:nvSpPr>
        <p:spPr>
          <a:xfrm>
            <a:off x="108000" y="692280"/>
            <a:ext cx="8928000" cy="603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ти в 5 лет и 6 лет с огромным удовольствием слушают и обсуждают произведения разных жанров на темы нравственности, жизни своих сверстников, окружающей природы и героических событий, описанных в книгах. Они начинают проявлять большой интерес к научно-познавательной и исследовательской литератур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Список книг от 5-6</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гадки, небылицы, дразнилки, считалки, докучные сказки, пословицы и поговорки, сказки народов мира</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Толстой Л. Акула. Пожарные собаки. Филипок. Булька. Мильтон и Булька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ушкин А. Сказки: Сказка о царе Салтане. Сказка о мертвой царевне и о семи богатырях. Сказка о золотом петушке. Сказка о рыбаке и рыбке</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Андерсен Г. X. Гадкий утенок. Снежная королева. Стойкий оловянный солдатик. Волшебный холм. Новый наряд короля. Дорожный товарищ. Принцесса на горошине. Дочь болотного царя. Калоши счастья. Маленький Клаус и Большой Клаус. Русалочка. Огниво. Сундук-самолет. Старый дом. Суп из колбасной палочки. Дюймовочка. Штопальная игла. Дикие лебеди (и другие)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ршов П. Конек-Горбунок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яковский В. Тучкины штучки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ихалков С. Непоседы. А что у вас? Если. Фома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ршак С. Цирк. Баллада о королевском бутерброде. Веселые чижи. Багаж. Старушка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иплинг Р. Сказки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ксаков С. Аленький цветочек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таев В. Цветик-семицветик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Яснов М. Утренняя песенка. Пейзаж с луной. Подходящий угол. Спасибо! Хомячок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розовский М. Сурок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валенков А. Почему медведь зимою спит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ивоварова И. Мой храбрый лев. Волшебная палочка. Про шляпу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апгир Г. Шел садовник. Туча. Моя семья. Ночные страшилки. Месяц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ляцковский М. Как ослик Алфавит учился старших уважать. Мамина песенка. Как попался кот на удочку </a:t>
            </a: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2"/>
          <p:cNvSpPr/>
          <p:nvPr/>
        </p:nvSpPr>
        <p:spPr>
          <a:xfrm>
            <a:off x="395280" y="189000"/>
            <a:ext cx="8569440" cy="667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Лунин В. Когда я взрослым стану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сачев А. Веселая мышка. Сколько ног у осьминог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Харрис Д. Сказки дядюшки Римуса (Как оживить сказку. Братец Лис и Братец Кролик и другие)</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 </a:t>
            </a:r>
            <a:r>
              <a:rPr b="0" lang="ru-RU" sz="1800" spc="-1" strike="noStrike">
                <a:solidFill>
                  <a:srgbClr val="000000"/>
                </a:solidFill>
                <a:latin typeface="Arial"/>
                <a:ea typeface="Arial"/>
              </a:rPr>
              <a:t>Драгунский В. Друг детства. Заколдованная буква. Он живой и светится...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шковская Э. Я пою. Ботиночный врач. Ну и что, ну и что... Какие бывают подарк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Цыферов Г. Большой одуванчик. Град. Одинокий ослик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Остер Г. Вредные советы. Бабушка удава. Ненаглядное пособие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ианки В. Лесные были и небылицы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тепанов В. Что за птица. Маленький рост. Кто хозяин? Рыжий пес. Снегирь. Пеликанские остров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ерестов В. Знакомый. Заячий след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арто А. Бестолковый Рыжик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Иванов А. Про Фому и сусли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ратья Гримм. Бременские музыканты. Волк и семеро козлят. Горшочек каши. Бабушка Метелица. Король-лягушонок, или Железный Генрих. Мальчик-с-пальчик. Белоснежка и семь гномов. Синяя Бород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Родари Д. Приключения Чиполлино. Путешествие Голубой Стрелы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Хармс Д. Стихи для детей. Плих и Плюх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улычев К. Приключения Алисы (Путешествие Алисы. Заповедник сказок. Миллион приключений. Конец Атлантиды. Подземная лодка. Алиса и крестоносцы. Война с лилипутам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Линдгрен А. Пеппи Длинныйчулок. Эмиль из Лённеберг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1"/>
          <p:cNvSpPr/>
          <p:nvPr/>
        </p:nvSpPr>
        <p:spPr>
          <a:xfrm>
            <a:off x="179280" y="260280"/>
            <a:ext cx="8496360" cy="642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стли А. Мама, папа, восемь детей и грузовик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илн А. Винни Пух и все-все-все. Баллада о королевском бутерброд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лков А. Волшебник Изумрудного города. Урфин Джюс и его деревянные солдаты. Семь подземных королей. Огненный бог Марранов. Желтый туман.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казки тысячи и одной ночи (Семь путешествий Синдбада-морехода. Повесть о скитаниях принца, ставшего нищенствующим дервишем. История о Медном городе. Абдаллах Земной и Абдаллах Морской. Абу Кир и Абу Сир. Рассказ про Ала ад-Дина и волшебный светильник. Истории о яйце птицы Рух и сокровищах пирамид и други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фман Э. Щелкунчик и мышиный король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варц Е. Сказка о потерянном времен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ро Ш. Кот в сапогах. Спящая красавица. Золушка, или Хрустальная туфель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агерлёф С. Чудесное путешествие Нильса с дикими гусям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алинт А. Гном Гномыч и Изюм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антелеев Л. Буква «ты». Фенька. Две лягушки (и други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Житков Б. Что я видел. Рассказы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плина В. Вайгач. Питомцы зоопар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абич И. Мои знакомые звер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лявкин В. Тетрадки под дождем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лешковский Ю. Кыш и Двапортфеля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сов Н. Фантазеры. Затейники. Приключения Незнайки и его друзей. Незнайка в Солнечном городе. Незнайка на Луне. Приключения Коли и Миш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лоди К. Приключения Пиноккио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олстой А. Золотой ключик, или Приключения Буратино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убарев В. Королевство кривых зеркал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ит А. Приключения кота Леопольда </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 name="Рисунок 3" descr=""/>
          <p:cNvPicPr/>
          <p:nvPr/>
        </p:nvPicPr>
        <p:blipFill>
          <a:blip r:embed="rId1"/>
          <a:stretch/>
        </p:blipFill>
        <p:spPr>
          <a:xfrm>
            <a:off x="7596360" y="5164200"/>
            <a:ext cx="1542960" cy="1693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
          <p:cNvSpPr/>
          <p:nvPr/>
        </p:nvSpPr>
        <p:spPr>
          <a:xfrm>
            <a:off x="611280" y="333360"/>
            <a:ext cx="669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Сказки для детей от 6-7 лет</a:t>
            </a:r>
            <a:endParaRPr b="0" lang="en-US" sz="3200" spc="-1" strike="noStrike">
              <a:solidFill>
                <a:srgbClr val="000000"/>
              </a:solidFill>
              <a:latin typeface="Arial"/>
            </a:endParaRPr>
          </a:p>
        </p:txBody>
      </p:sp>
      <p:sp>
        <p:nvSpPr>
          <p:cNvPr id="125" name="TextBox 2"/>
          <p:cNvSpPr/>
          <p:nvPr/>
        </p:nvSpPr>
        <p:spPr>
          <a:xfrm>
            <a:off x="108000" y="884160"/>
            <a:ext cx="9001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ти в возрасте 6 и 7 лет с удовольствием слушают и обсуждают книги разных жанров на нравственные темы. Их интересуют произведения о природе, животных, своих сверстниках. </a:t>
            </a:r>
            <a:endParaRPr b="0" lang="en-US" sz="1600" spc="-1" strike="noStrike">
              <a:solidFill>
                <a:srgbClr val="000000"/>
              </a:solidFill>
              <a:latin typeface="Arial"/>
            </a:endParaRPr>
          </a:p>
        </p:txBody>
      </p:sp>
      <p:sp>
        <p:nvSpPr>
          <p:cNvPr id="126" name="TextBox 3"/>
          <p:cNvSpPr/>
          <p:nvPr/>
        </p:nvSpPr>
        <p:spPr>
          <a:xfrm>
            <a:off x="108000" y="1459080"/>
            <a:ext cx="9001080" cy="544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Список книг от 6-7</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юхтяевы И. и Л. Зоки и Бад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олстой Л. Старик сажал яблони. Прыжок. Лев и собачка. Рассказы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мяк Е. Самое страшное. Для чего руки нужны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итта А. Шарик в окошке</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сов Н. На горке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унич Д. Четыре девочки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ким Я. Неумейка. Стихи для детей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увим Ю. Про пана Трулялинского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Цыферов Г. Как цыпленок впервые сочинил сказку. Пугало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брамцева Н, Грустная история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усские народные сказки: Петушок и бобовое зернышко. Каша из топор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уковский К. Путаница. Доктор Айболит (в прозе). Бибигон. Загадки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ро Ш. Красная Шапочк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рис Д. Как Братец Кролик хвоста лишился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ратья Гримм. Боб, Соломинка и Уголек. Бременские музыканты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арто А. Стихи из цикла «Вовка — добрая душа». Мама или я? Две бабушки. Я выросла. Не одна. В школу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иссет Д. Под ковром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ихалков С. Мой щенок. Смех и слезы. Зайка-зазнайк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рлов В. Что нельзя купить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мс Д. Храбрый еж.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Рисунок 2" descr=""/>
          <p:cNvPicPr/>
          <p:nvPr/>
        </p:nvPicPr>
        <p:blipFill>
          <a:blip r:embed="rId1"/>
          <a:stretch/>
        </p:blipFill>
        <p:spPr>
          <a:xfrm>
            <a:off x="396720" y="3718080"/>
            <a:ext cx="2303640" cy="2616120"/>
          </a:xfrm>
          <a:prstGeom prst="rect">
            <a:avLst/>
          </a:prstGeom>
          <a:ln w="0">
            <a:noFill/>
          </a:ln>
        </p:spPr>
      </p:pic>
      <p:sp>
        <p:nvSpPr>
          <p:cNvPr id="92" name="TextBox 1"/>
          <p:cNvSpPr/>
          <p:nvPr/>
        </p:nvSpPr>
        <p:spPr>
          <a:xfrm>
            <a:off x="324000" y="0"/>
            <a:ext cx="799308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казка в жизни ребенка имеет колоссальное воспитательное значение. Она становится средством развития и воспитания буквально с первого дня жизни чада и сопровождает его вплоть до подросткового возраст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оль сказки в воспитании детей дошкольного возраста велика. Она пробуждает все доброе, что есть в душе ребенка, формирует крепкие нравственные ценности и любовь к чтению, учит правильному общению, развивает эмоциональную сферу и речь. Совместное чтение сказок помогает родителям и детям сблизиться, лучше понять друг друга, доставляет удовольствие от общения.</a:t>
            </a:r>
            <a:endParaRPr b="0" lang="en-US" sz="2000" spc="-1" strike="noStrike">
              <a:solidFill>
                <a:srgbClr val="000000"/>
              </a:solidFill>
              <a:latin typeface="Arial"/>
            </a:endParaRPr>
          </a:p>
        </p:txBody>
      </p:sp>
      <p:pic>
        <p:nvPicPr>
          <p:cNvPr id="93" name="Рисунок 3" descr=""/>
          <p:cNvPicPr/>
          <p:nvPr/>
        </p:nvPicPr>
        <p:blipFill>
          <a:blip r:embed="rId2"/>
          <a:stretch/>
        </p:blipFill>
        <p:spPr>
          <a:xfrm>
            <a:off x="6012000" y="3716280"/>
            <a:ext cx="2535120" cy="261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250920" y="189000"/>
            <a:ext cx="8642160" cy="5934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рушин Е. Томка. Томка испугался. Тюпа. Сорока. Медвежат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епанов В. Осторожный снег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ужков Г. Хорошая погода. Откуда взялись пятерки у старушки. Как шарики мир спасл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швин М. Лисичкин хлеб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валь Ю. Букет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сачев А. Ботинок. Живая книга. Мы играли в паповоз. Умная собачка Соня, или Правила хорошего тона для маленьких собачек. О чтении. Что такое лето. По тропинке жарким летом. Как сороконожку за лекарем посылали. Пустынная песня. Кого принимают в школу?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лександрова Г. Домовенок Кузька и волшебные вещи (с продолжениям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ндерсен Г. X. Дикие лебед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сбьернсен П. К. Норвежские сказк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лагинина Е. Стихи для детей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ерестов В. Читалочка. У меня в портфеле. Песенка весенних минут. Рыжик. Первое сентября. Первоклассниц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унин И. Листопад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веденский А. Дядя Боря говорит. Ганина М. Тяпкин и Леш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рький М. Случай с Евсейкой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еоргиев С. Елки-палки, или Фельдмаршал Пулькин. Один мальчик, одна девочка. Кошачье заклинание. Похищение бриллианта. Нуф-Нуф. Пузявочки</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ерасимова Д. У окн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линина Н. Мой капитан. Лембой. Чуча. Как тесен мир. Мы с Сережкой близнецы. Потерялась девоч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рагунский В. Пожар во флигеле, или Подвиг во льдах. Кот в сапогах. Мотогонки по отвесной стене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1"/>
          <p:cNvSpPr/>
          <p:nvPr/>
        </p:nvSpPr>
        <p:spPr>
          <a:xfrm>
            <a:off x="324000" y="115920"/>
            <a:ext cx="8712000" cy="6177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ружков Ю. Приключения Карандаша и Самоделкин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Ежикова 3. Крот и его друзья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Житков Б. Что я видел. Рассказы о животных. Про Пудю. Как я ловил человечков. Что бывало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Журавлева Е. Фунтик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ходер Б. Собачкины огорчения. Моя Вообразилия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ощенко М. Смешные истории. Рассказы о Леле и Миньк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ванов А. Приключения Хомы и Сусли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злов С. Трям! Здравствуйт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дратьев А. Стихи для детей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ылов И. Басн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иплинг Р. Откуда у кита такая глотка</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югер М. Голубая бусинка. Привет, Каролин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евин В. Глупая лошадь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ермонтов М. Парус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индгрен М. Зайчишка-пушиш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укашкина М. Кораблекрушени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ршак С. Детки в клетке. Декабрь, Пожелания друзьям. Мельник, мальчик и осел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яковский В. Эта книжечка моя про моря и про маяк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хотин С., Дождевая боч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риц Ю. Букет котов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шковская Э. Выясняются странные вещи. Я гребу в страну Марабу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стайко В. В стране солнечных зайчиков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красов И. Зеленый шум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лейников Н. Я послал на базар чудаков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стер Г. Петька-микроб </a:t>
            </a:r>
            <a:endParaRPr b="0" lang="en-US" sz="1600" spc="-1" strike="noStrike">
              <a:solidFill>
                <a:srgbClr val="000000"/>
              </a:solidFill>
              <a:latin typeface="Arial"/>
            </a:endParaRPr>
          </a:p>
        </p:txBody>
      </p:sp>
      <p:pic>
        <p:nvPicPr>
          <p:cNvPr id="129" name="Рисунок 2" descr=""/>
          <p:cNvPicPr/>
          <p:nvPr/>
        </p:nvPicPr>
        <p:blipFill>
          <a:blip r:embed="rId1"/>
          <a:stretch/>
        </p:blipFill>
        <p:spPr>
          <a:xfrm>
            <a:off x="4992840" y="1628640"/>
            <a:ext cx="4043160" cy="2409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1"/>
          <p:cNvSpPr/>
          <p:nvPr/>
        </p:nvSpPr>
        <p:spPr>
          <a:xfrm>
            <a:off x="250920" y="115920"/>
            <a:ext cx="8893080" cy="4474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доевский В. Городок в табакерк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аустовский К, Кот-ворюга, Барсучий нос. Резиновая лодка. Стальное колечко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трушевская Л. Детские пьесы. Сборник рассказов «Пуськи бятые». Сказк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ивоварова И. Сочинени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ляцковский М. Приключения кузнечика Кузи. Как утенок Крячик свою тень потерял. Настоящий друг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кофьева С. Лоскутик и облако. Остров капитанов. Приключения желтого чемоданчика. Астрель, принцесса Сумерки. Оставь окно открытым. Машины сказки. Какая бывает зим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ушкин А. Зимняя дорога. Унылая пора! Очей очаровань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амойлов Д. Слоненок пошел учиться. Слоненок-турист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ладков Н. Сказки лес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теев В. Петя и Красная Шапоч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казки народов мир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окмакова И. Сентябрь. Голубая страна. Скоро в школу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спенский Э, Чебурашка и Крокодил Гена. Дядя Федор, пес и кот, 25 профессий Маши Филиппенко, Гарантийные человечки. Про мальчика Яшу. Про Веру и Анфису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ет А. Мама! Глянь-ка из окош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Яснов М. В последний раз, Я учусь писать слова. Когда я стану школьником.</a:t>
            </a:r>
            <a:endParaRPr b="0" lang="en-US" sz="1600" spc="-1" strike="noStrike">
              <a:solidFill>
                <a:srgbClr val="000000"/>
              </a:solidFill>
              <a:latin typeface="Arial"/>
            </a:endParaRPr>
          </a:p>
        </p:txBody>
      </p:sp>
      <p:pic>
        <p:nvPicPr>
          <p:cNvPr id="131" name="Рисунок 2" descr=""/>
          <p:cNvPicPr/>
          <p:nvPr/>
        </p:nvPicPr>
        <p:blipFill>
          <a:blip r:embed="rId1"/>
          <a:stretch/>
        </p:blipFill>
        <p:spPr>
          <a:xfrm>
            <a:off x="5257800" y="4546440"/>
            <a:ext cx="3886200" cy="2276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1"/>
          <p:cNvSpPr/>
          <p:nvPr/>
        </p:nvSpPr>
        <p:spPr>
          <a:xfrm>
            <a:off x="324000" y="333360"/>
            <a:ext cx="8712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оль сказки в развитии и воспитании ребенка настолько велика, что без нее трудно представить себе взросление современного дошкольника. Добрые и злые, щедрые и скупые, хитрые и простодушные герои сказочного произведения всегда должны быть рядом с малышом. Именно они дают ему необходимую опору в жизни, учат отличать плохое от хорошего, развивают фантазию и интеллект.</a:t>
            </a:r>
            <a:endParaRPr b="0" lang="en-US" sz="1800" spc="-1" strike="noStrike">
              <a:solidFill>
                <a:srgbClr val="000000"/>
              </a:solidFill>
              <a:latin typeface="Arial"/>
            </a:endParaRPr>
          </a:p>
        </p:txBody>
      </p:sp>
      <p:pic>
        <p:nvPicPr>
          <p:cNvPr id="133" name="Рисунок 2" descr=""/>
          <p:cNvPicPr/>
          <p:nvPr/>
        </p:nvPicPr>
        <p:blipFill>
          <a:blip r:embed="rId1"/>
          <a:stretch/>
        </p:blipFill>
        <p:spPr>
          <a:xfrm>
            <a:off x="324000" y="2133720"/>
            <a:ext cx="842472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539640" y="549360"/>
            <a:ext cx="80647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каза формирует основы правильного поведения, навыки общения, то есть имеет важнейшее социальное значение. Для формирования нравственных ценностей ребенка очень важны комментарии, которые родители дают во время совместного чтения. Не менее важным воспитательным моментом является обязательная победа добра над злом. Хорошие герои всегда трудолюбивы, смелы, красивы, смекалисты, честны. Идентифицируя себя с ними, ребенок перенимает высокие нравственные качества, учится находить правильные решения, думать позитивно.</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т искренний, жгучий интерес, который вызывает сказочное произведение у ребенка, объясняет развивающее значение сказки.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Рисунок 2" descr=""/>
          <p:cNvPicPr/>
          <p:nvPr/>
        </p:nvPicPr>
        <p:blipFill>
          <a:blip r:embed="rId1"/>
          <a:stretch/>
        </p:blipFill>
        <p:spPr>
          <a:xfrm rot="21093000">
            <a:off x="6516720" y="3645000"/>
            <a:ext cx="2376360" cy="3024000"/>
          </a:xfrm>
          <a:prstGeom prst="rect">
            <a:avLst/>
          </a:prstGeom>
          <a:ln w="0">
            <a:noFill/>
          </a:ln>
        </p:spPr>
      </p:pic>
      <p:pic>
        <p:nvPicPr>
          <p:cNvPr id="96" name="Рисунок 3" descr=""/>
          <p:cNvPicPr/>
          <p:nvPr/>
        </p:nvPicPr>
        <p:blipFill>
          <a:blip r:embed="rId2"/>
          <a:stretch/>
        </p:blipFill>
        <p:spPr>
          <a:xfrm rot="813600">
            <a:off x="439200" y="3908520"/>
            <a:ext cx="309744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1068480" y="115920"/>
            <a:ext cx="7488000" cy="301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53735"/>
                </a:solidFill>
                <a:latin typeface="Times New Roman"/>
                <a:ea typeface="Times New Roman"/>
              </a:rPr>
              <a:t>Сказочное произведение развивает важнейшие коммуникативные и интеллектуальные навыки:</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Схема 3" descr=""/>
          <p:cNvPicPr/>
          <p:nvPr/>
        </p:nvPicPr>
        <p:blipFill>
          <a:blip r:embed="rId1"/>
          <a:stretch/>
        </p:blipFill>
        <p:spPr>
          <a:xfrm>
            <a:off x="1463760" y="1395360"/>
            <a:ext cx="6699240" cy="520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TextBox 1"/>
          <p:cNvGrpSpPr/>
          <p:nvPr/>
        </p:nvGrpSpPr>
        <p:grpSpPr>
          <a:xfrm>
            <a:off x="36360" y="-96840"/>
            <a:ext cx="8570880" cy="6240600"/>
            <a:chOff x="36360" y="-96840"/>
            <a:chExt cx="8570880" cy="6240600"/>
          </a:xfrm>
        </p:grpSpPr>
        <p:pic>
          <p:nvPicPr>
            <p:cNvPr id="100" name="TextBox 1" descr=""/>
            <p:cNvPicPr/>
            <p:nvPr/>
          </p:nvPicPr>
          <p:blipFill>
            <a:blip r:embed="rId1"/>
            <a:stretch/>
          </p:blipFill>
          <p:spPr>
            <a:xfrm>
              <a:off x="37440" y="-93600"/>
              <a:ext cx="8569800" cy="6237360"/>
            </a:xfrm>
            <a:prstGeom prst="rect">
              <a:avLst/>
            </a:prstGeom>
            <a:ln w="0">
              <a:noFill/>
            </a:ln>
          </p:spPr>
        </p:pic>
        <p:sp>
          <p:nvSpPr>
            <p:cNvPr id="101" name=""/>
            <p:cNvSpPr/>
            <p:nvPr/>
          </p:nvSpPr>
          <p:spPr>
            <a:xfrm>
              <a:off x="36360" y="-96840"/>
              <a:ext cx="8568000" cy="61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плики персонажей тренируют артикуляционный аппарат и обогащают словарный запас. Развивается культура речи, формируется навык правильного произношения малоупотребительных слов. Если сказка русская народная, то в речь ребенка органично входят пословицы и поговорки. Так благодаря фольклору малыш вовлекается в пространство народной культур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ажнейшее значение сказки еще и в том, что она позволяет ребенку видеть мир в его целостности. Проживая сказочный сюжет, он учиться сопоставлять, анализировать, делать выводы, используя не скучный дидактический материал, а погружаясь в мир удивительных персонажей, мир красочный, живой, наполненный звуками и краскам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казка вносит разнообразие в жизнь ребёнка, дарит ему радость и является одним из самых эффективных способов развития речи, в котором наиболее ярко проявляется принцип обучения: учит игра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собенность сказки состоит в том, что развитие личности дошкольника происходит в гармонии согласованности с успешным овладением грамотной и связной речью. Сказка - интегративная деятельность, в которой действия воображаемой ситуации связаны с реальным общением, направленным на активность, самостоятельность, творчество, регулирование ребёнком собственных эмоциональных состояни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 сожалению, сегодня у многих детей к пяти годам уровень речевого развития ниже положенной нормы. Уровень передачи эмоциональных состояний недоразвит, артистические способности, интонирование, восприятие различных оттенков речи не соответствует взрослому.</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 сказка является отличным средством устранить все эти проблемы.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395280" y="333360"/>
            <a:ext cx="81374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504d"/>
                </a:solidFill>
                <a:latin typeface="Times New Roman"/>
                <a:ea typeface="Times New Roman"/>
              </a:rPr>
              <a:t>Сказка способствует активизации разных сторон речи детей:</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3" name="Схема 2" descr=""/>
          <p:cNvPicPr/>
          <p:nvPr/>
        </p:nvPicPr>
        <p:blipFill>
          <a:blip r:embed="rId1"/>
          <a:stretch/>
        </p:blipFill>
        <p:spPr>
          <a:xfrm>
            <a:off x="1511280" y="1395360"/>
            <a:ext cx="6151680" cy="543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250920" y="260280"/>
            <a:ext cx="8785080" cy="692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Сказки для детей от 0-3 лет.</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ти в возрасте до двух-трех лет обожают так называемые малые фольклорные формы: потешки, песенки, прибаутки, которые обычно сопровождаются соответствующими движениями. Например: «Маленькие ножки шли по дорожке, большие ножки бежали по дорожке». Когда малыш уже будет хорошо помнить сказку или стихотворение, поощряйте его к самостоятельному рассказу или сопровождению знакомого текста какими-то действиями. Например, он может стучать кулачком о стол при словах «Баба била-била — не разбил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Список книг от 0-3</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сские народные сказки: Репка. Курочка-Ряба. Теремок. Колобок Ладушк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сские народные сказки, песенки, потешки Петушок и бобовое зернышко.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сские народные сказки Сутеев В. Сказки и картинки. Времена года: рассказы Чудо чудное.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сские сказки от «А» до «Я»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йсен А., Кипнис И. Про козленка, который умел считать до десят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мянцева И., Баллод И. Про маленького поросенка Плюха: по мотивам сказок Э. Аттл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яцковский М. Разноцветные зверята. Солнышко на память. Как утенок Крячик свою тень потерял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ыферов Г. Слоненок: сказки. Сказки старинного города. Веселые истори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уберт И., Шуберт Д. Бобренок и его друзья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дэр дАриа П., Курони П. Заботливая мама курица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ибачев Н. Заяц Коська и его друзья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395280" y="333360"/>
            <a:ext cx="8353440" cy="56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ттер Б. Питер-кролик и другие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злов С. Я на солнышке лежу. Ежик в тумане (и другие сказк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ачев А. Жили-были ежики. Тигр в клеточку: сказки. Мы играли в паповоз. Шуршащая песня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ль В. Старик-годовик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рюкова Т. Автомобильчик Бип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тер Г, Приключения Пифа. Котенок по имени Гав. Обезьянки младшего возраста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пенский Э. Про мальчика Яшу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ходер Б. Стихи и сказк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лстой Л. Три медведя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орький М. Жил-был самовар: рассказы и сказк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шинский К. Детям: рассказы и сказк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мин-Сибиряк Д. Аленушкины сказк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швин М. Берестяная трубочка. Рассказы о животных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негурочка. Зимняя книжка: стихи, песенки, загадки, сказк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рынцы-брынцы-бубенцы: русские народные потешки, прибаутк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тянушечки-порастушечки: пестушки, потешк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ихи и песенки Матушки Гусыни: стих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арто А. Собрание сочинений в 3 т.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уковский К. Чудо-дерево (и другие сказки). </a:t>
            </a:r>
            <a:endParaRPr b="0" lang="en-US" sz="16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уха-цокотуха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ршак С. Усатый-полосатый, Английские народные песенки. Шалтай-Болтай </a:t>
            </a:r>
            <a:endParaRPr b="0" lang="en-US" sz="1600" spc="-1" strike="noStrike">
              <a:solidFill>
                <a:srgbClr val="000000"/>
              </a:solidFill>
              <a:latin typeface="Arial"/>
            </a:endParaRPr>
          </a:p>
        </p:txBody>
      </p:sp>
      <p:pic>
        <p:nvPicPr>
          <p:cNvPr id="106" name="Рисунок 2" descr=""/>
          <p:cNvPicPr/>
          <p:nvPr/>
        </p:nvPicPr>
        <p:blipFill>
          <a:blip r:embed="rId1"/>
          <a:stretch/>
        </p:blipFill>
        <p:spPr>
          <a:xfrm rot="21214200">
            <a:off x="7908840" y="39240"/>
            <a:ext cx="1293840" cy="1811520"/>
          </a:xfrm>
          <a:prstGeom prst="rect">
            <a:avLst/>
          </a:prstGeom>
          <a:ln w="0">
            <a:noFill/>
          </a:ln>
        </p:spPr>
      </p:pic>
      <p:pic>
        <p:nvPicPr>
          <p:cNvPr id="107" name="Рисунок 3" descr=""/>
          <p:cNvPicPr/>
          <p:nvPr/>
        </p:nvPicPr>
        <p:blipFill>
          <a:blip r:embed="rId2"/>
          <a:stretch/>
        </p:blipFill>
        <p:spPr>
          <a:xfrm>
            <a:off x="6929280" y="2852640"/>
            <a:ext cx="2214720" cy="22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1"/>
          <p:cNvSpPr/>
          <p:nvPr/>
        </p:nvSpPr>
        <p:spPr>
          <a:xfrm>
            <a:off x="468360" y="404640"/>
            <a:ext cx="7416720" cy="5854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есенки: чешские и английские песенки и прибаутк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ерхом на облаке (Малышкина книж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еги, жучок: стихи для самых маленьких (Малышкина книж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лагинина Е. Аленушка. Подарок: стихи (Малышкина книж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Хармс Д. Очень страшная история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Юдин Г. Вытри лапы и вход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Токмакова И. Тили-тил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апгир Г. Великан и великанчик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шковская Э. Я был таким хорошим. Какие бывают подарк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Лаптев А. Футы-нуты: веселые истории в стихах и картинках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риц Ю. Двигайте ушами. Собака бывает кусачей. Большой секрет для маленькой компани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Левин В. Куда уехал цирк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арденга Г. Стихи для детей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Аким Я. Мой верный чиж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ерестов. В. Книга для чтения в детском саду</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 </a:t>
            </a:r>
            <a:r>
              <a:rPr b="0" lang="ru-RU" sz="1800" spc="-1" strike="noStrike">
                <a:solidFill>
                  <a:srgbClr val="000000"/>
                </a:solidFill>
                <a:latin typeface="Arial"/>
                <a:ea typeface="Arial"/>
              </a:rPr>
              <a:t>Дриз О. Моя песен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Родные поэты: стихи русских поэтов-классиков XIX-XX вв.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илсон К. Рождество медведика. Когда медведик спит. Когда медведик просыпается. Новый друг медведи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Кузьмин Л. Добрый день: стихи и сказки </a:t>
            </a:r>
            <a:r>
              <a:rPr b="0" lang="ru-RU" sz="1800" spc="-1" strike="noStrike" u="sng">
                <a:solidFill>
                  <a:srgbClr val="0000ff"/>
                </a:solidFill>
                <a:uFillTx/>
                <a:latin typeface="Arial"/>
                <a:ea typeface="Arial"/>
                <a:hlinkClick r:id="rId1"/>
              </a:rPr>
              <a:t>.</a:t>
            </a:r>
            <a:endParaRPr b="0" lang="en-US" sz="1800" spc="-1" strike="noStrike">
              <a:solidFill>
                <a:srgbClr val="000000"/>
              </a:solidFill>
              <a:latin typeface="Arial"/>
            </a:endParaRPr>
          </a:p>
        </p:txBody>
      </p:sp>
      <p:pic>
        <p:nvPicPr>
          <p:cNvPr id="109" name="Рисунок 1" descr=""/>
          <p:cNvPicPr/>
          <p:nvPr/>
        </p:nvPicPr>
        <p:blipFill>
          <a:blip r:embed="rId2"/>
          <a:stretch/>
        </p:blipFill>
        <p:spPr>
          <a:xfrm>
            <a:off x="7524720" y="3716280"/>
            <a:ext cx="1523880" cy="300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1T02:50:04Z</dcterms:created>
  <dc:creator>Helen</dc:creator>
  <dc:description/>
  <dc:language>en-US</dc:language>
  <cp:lastModifiedBy>Андрей Орехов</cp:lastModifiedBy>
  <dcterms:modified xsi:type="dcterms:W3CDTF">2022-02-20T17:57:42Z</dcterms:modified>
  <cp:revision>18</cp:revision>
  <dc:subject/>
  <dc:title>Слайд 1</dc:title>
</cp:coreProperties>
</file>