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17A-D195-4E9C-A0D9-37EA73E6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592-05EB-4D48-ABA3-E789CF6F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739AA-C68B-4FE2-AE4D-45D4384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665A0-A4E9-4B04-B9D5-28AD227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3EF3-3847-4068-B38D-6BADFF6C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9BB8B-6EBF-46E4-A0EC-B4D4E86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E1985-69AD-449E-85C9-4C6DA2B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E195-4916-44F7-BBC5-26AE237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762B-066B-4ABA-ACD9-D22E8A0D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F86EE-B066-4A72-B488-A7AEDA7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2C42D-B38A-43C8-893A-FC44D730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A5260-AF70-48D6-B255-53ADB2CC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60C-EBFF-4544-95F2-FD39210F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4CC9C-1BD7-4CEA-8C08-30A8F63B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CA95E-828C-4526-A705-FC752A8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48D57-5C8F-4C8B-98FB-AB21920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E341C-96E5-4CCB-9031-463A0F8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31DA3-25DE-4E1F-A5E3-9710E81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AF498-8E59-45C0-9803-AEFBF3D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3F3E-430D-48FF-BB3B-8B187ED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33E4-7F31-4201-A62A-8B57BB8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DEA9C-9BA3-47E4-B1DC-AF994274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AA07C-5324-4DFA-B30C-33203A3C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B87-9015-4C44-94A0-CE1F08E8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EE607-9625-4EDC-A0F5-CD82D6D4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58E45-A7D8-4102-BC3F-D6BBBB9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9D5CD-146E-41D8-9F9B-0C401DA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33EE4-BE8D-48ED-9302-2C76AE2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46649-8581-429D-B1F2-29FF6611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E241-08C3-470F-B1CC-49142C6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880DB-7AB2-43C0-B661-C89D0D0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104AD-876B-49DF-A5F5-A4302F0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2AD6-6FE7-441D-9613-272625DB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D5A23-057A-42A3-97E6-E861AFA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8640-D185-47EB-9E30-8B2FBED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02BD8-5253-4898-A0B1-FC623D8C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8D340-B649-4826-9CE5-96A5A8E9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CBCDD-E4A7-4F08-A290-13C8A989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F24F5-2F88-4CEB-89C4-B13F81A2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10EC1-21F7-496F-894C-AD0AEAF4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31DC9-A3B5-4782-81BD-1F452A0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0E2D8-00F5-405E-B263-5EEAA6A0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2A28C-41F7-4A9D-8BC0-D6941CB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2F220-1560-4E00-B281-0CA79F9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A2D58-7417-4C16-B4CE-E09E86F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FC8D-35F4-4FC6-873A-6BF382FC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908F4-52DF-4BF2-AD12-F7FFA60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A1E6F-3B93-4061-B086-E279B17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5DF4D-164C-4E27-B88A-53BEA73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5670F-2152-413C-8EF8-619A8D70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6E0D-4190-418E-9BB0-C409D93F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7BFE0-6B5B-4273-8786-F263EE46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BF93C-99DA-4E9A-98A0-6CF616F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67A08-5351-4A33-87A0-3A0208D7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B2D1A-C880-49A1-B12F-EB12FD5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2E1E7-8E68-4744-8A92-F3A31B3D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93EB-B7F6-4B19-9459-7F80814F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8BE44-CD36-4A98-BC01-60521A87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46291-E281-40D9-A9D5-FD785BB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136D2-9CF3-4FBD-86EB-ED4A35B0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E74B5-5085-4C69-801C-79B9E7F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7C9E6-95B6-4F19-B5BE-3751121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8C9A6-C261-41EA-AF4E-4BA4B26C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C41A7-2DC7-4DF6-A0CF-02B56AF0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A74-BB0A-43B9-A67D-34777079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FC9-6E45-4F27-BBD6-C4C5A33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8805-615B-4D16-93E4-C07D1356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1F2-3CF1-4A81-8118-A797697C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471-8AEE-47FE-88C7-C7BD3697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98AE-548F-42EF-B42A-6FCB035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6F8-07AB-4C70-A377-813B8BD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A30E-BAE7-46C8-AA4A-C040FC34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F5A-5D2C-4D1B-A229-E761B0E4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2147-15D8-4C97-B55E-924953F1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2D4A-A432-4398-AEB2-5FDA3935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A4F1-2C93-404B-A5B4-2872B91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5D2F-1BEA-48B0-83E2-53BACE5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9BCE-17AC-4CDC-9129-8EAF2CF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797E-A7ED-4AFD-9994-8D3D488A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430-1B27-4866-884A-7AD3C764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2C75-171F-462C-AD2B-A0A70CF1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9117-2067-4C96-B1EB-E2048B2F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EBAF-B7F3-49EC-9180-987B1C0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7705-E816-47E0-9882-7671019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485D-0C01-48B2-A548-C051797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8D5D-EC09-46A8-B98B-3E6CDCBE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2CCE-F2CF-4181-8FEF-14826F1F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7AC9-1723-47CA-8C75-EEEE9595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9E42-1C09-492E-8118-40E369A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20E8-42E0-4E24-92EC-5D58FCE3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9F9-CFE5-4D1A-BE85-0CB45DD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598B-0442-40A2-A541-433E72ED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9632-EEA2-452A-AFF8-13FFAED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D14E-E93C-42A2-8909-AE8E523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B230-8CC8-4265-AA63-35A02C5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A54B-B569-456C-9223-8624F35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FD8C-41CF-4810-88B7-F0EEC0C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2D98-8CF3-46CC-AFA7-8534103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E24D-9630-4E0C-A776-A36FD586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32D8-1DCA-4F57-86E1-0E29408C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1A6C-93BF-449B-B7A6-18F6EB66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E70-8D17-4AB7-B410-7B1105B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8B44-CD7F-47DF-8321-1C89622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CF2E-8CB0-4456-88A1-E618D25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5A8A-6A07-4675-90B8-D8650B4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955B-ABD4-4FC3-8FA0-FFE5B2AC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C9C35-2A63-4BC5-B6AF-9D0815E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57F3-0D7A-4DEC-879F-BC0330A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12A43-5C1B-4CE4-B4AE-4579CE0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8A40-35BB-483F-B72D-862321D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6873-D0D0-4905-B75B-EF416B9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164E-6843-4F7A-97EE-A87A9247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671-5941-453D-88D2-1F14C79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63CF-8009-4145-AEA4-7372FF90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F915C-D768-4719-A760-117F622D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22E4-0740-45B3-9787-7905F9F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5A12-6D06-4CE9-8CDB-0DE8DA8D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675B-E2A0-4573-8144-FEB37ED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C0AE5-C918-4AB7-A262-97A30646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83A0-77B7-4883-A778-45ECE804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8DD63-D40B-439E-9A86-D631779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3BAB-71FA-4D23-B60B-4F3E8467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6447-6F91-44C7-91E1-FC5E8B8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980-B389-4416-8AE5-07A9DCF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A6E9-E91A-4A2E-95EA-94678D5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293E2-91B7-4370-8DB6-F3DBAF5D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EC45-E5E4-4951-B8F8-8D204338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2505-1592-4F40-BD76-F1F8E6CF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4CD9-5A4D-4D35-B06D-3B045899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4FBC-FD46-4C2F-87AE-7BC0052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4F1AD-249B-4398-B1A5-EF88DB6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8037-C7FB-4795-BDB5-EEC3FD79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0A496-5596-4CC4-89B0-A4A5330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895F-76E5-49E3-A606-90D5B529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993-1632-4EB2-9E06-3E9D513A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CF2B-E886-44AD-A9FF-EFFB636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F4A10-990E-44E2-B514-DBFF37FE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6106-8AEE-4DE3-B36E-16225A2A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1B84-5703-4F83-A01E-6C5562AB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A4D38-24AB-4904-A8BA-35859BC9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43BD-91EE-4989-AA6E-6F8FF847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8C21-6049-4143-A688-786B209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997D-BDCC-42DA-AC98-E2D2D38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BC43-3BF5-4AA3-8E7A-9E75BFD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4353-FDA8-4AF5-88AA-F3F96356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43D-875E-43AF-BE3D-5B7211A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BA0B-1BC6-48DA-8C58-E1851F3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04DCA-128F-4B97-9ED1-37C42EE0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EADCE-ADBE-4C87-AD50-B26661C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0FB2-72D5-40AA-A749-E33830B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F72EE-5641-417F-840E-A124DF72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F282E-C753-4813-9299-AFC957CD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E062-C8C0-4D99-B040-F58BDB59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06493-E373-49CA-8CB3-0C25D41D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2B4A1-65D0-41A2-AF22-3B963F1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6943C-228E-4270-A0AC-A59C5DA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D31C-DAA5-44A0-A87C-AEDDBC2099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004-6072-419F-825F-21ADE28B9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D60-C9FC-4F44-88A9-4968846F66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5DA3-C81D-45AF-921A-2266913D2A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0470-F193-4EB7-AB0D-7A5D5BBA31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B860-BFDD-4BB1-9826-6C24327B9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5D2-5106-44DA-8560-D8B4A7FAEF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CAC-314D-428A-8D0E-9D47632947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2952-24B8-4D60-8C85-82D4A33A21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8FB-0B64-4B28-AEDC-35BEB1EB0A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143-EBCB-457B-BB67-D58D2BB864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E8F-5E18-478B-B0B5-2214833DA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3EB-F4CC-4CAC-B363-590B54BC51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«СОШ №12 г. Нижнеудинск»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потребление глаголов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разговорной речи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исследовательский проект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211640" y="4508280"/>
            <a:ext cx="4392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анов Петр, ученик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Б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: Бращунова И.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стра: вязать, убирать, вымыть, помог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4" name="Picture 4" descr="F:\ВСЕ ПРЕЗЕНТАЦИИ\ФОТО БАРАНоВ\ТАНЯ.JPG"/>
          <p:cNvPicPr/>
          <p:nvPr/>
        </p:nvPicPr>
        <p:blipFill>
          <a:blip r:embed="rId1"/>
          <a:stretch/>
        </p:blipFill>
        <p:spPr>
          <a:xfrm>
            <a:off x="2700360" y="2441520"/>
            <a:ext cx="439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539640" y="1484280"/>
            <a:ext cx="820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19120" y="1518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ат Саша: играть, тренироваться, заниматься спортом, учиться, помогать, побед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Picture 5" descr="F:\ВСЕ ПРЕЗЕНТАЦИИ\ФОТО БАРАНоВ\САША.jpg"/>
          <p:cNvPicPr/>
          <p:nvPr/>
        </p:nvPicPr>
        <p:blipFill>
          <a:blip r:embed="rId1"/>
          <a:stretch/>
        </p:blipFill>
        <p:spPr>
          <a:xfrm>
            <a:off x="2808360" y="2565360"/>
            <a:ext cx="3924360" cy="40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539640" y="1484280"/>
            <a:ext cx="820908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рать  в мяч, веселиться, отдыхать, учиться, получать оценки, задавать, дружить, прийти, гулять на улице, заниматься спортом, выполнять, помогать, выручать, ждать, читать, готовиться к урокам, прощать, счит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наиболее употребительные слова-глаголы  в разговорной  речи моих дру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их друз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095640" y="32446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голы в речи моих дру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2124000" y="104760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Прямоугольник 9"/>
          <p:cNvSpPr/>
          <p:nvPr/>
        </p:nvSpPr>
        <p:spPr>
          <a:xfrm>
            <a:off x="2227680" y="549360"/>
            <a:ext cx="43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Мои исследовани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457200" y="184464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Лексическое значение глаголов семьи  Пометов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Лексическое значение глаголов друз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6161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Физическое состояние ( помогать, тренироватьс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1.Физическое состояние(отдых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2. Конкретные действия(вяз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2.Конкретные действия (читать, получ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3. Изменение и проявление признака(поним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3.Изменение и проявление признака( жд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4. Отношение к  родным (люби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4.Отношение к  друзьям (прощать, помог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5. Положение в пространстве(поех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6.Речевая и умствен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(дум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5.Положение в пространстве(гулять на улиц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6.Речевая и умствен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(счит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684360" y="1514520"/>
            <a:ext cx="82087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им образом, в разговорной речи моей семьи, моих друзей   наблюдается наличие глаголов с разным лексическим  значением, что доказывает мою гипотезу. Однако отсутствуют глаголы со значением  деятельности органов чувств и глаголы,   обозначающие  действия, связанные с происходящим в природе. Считаю, что речь свою необходимо развивать всем: читать книги, журналы, газеты, писать письма, работать с энциклопедиями  и словарями, одним словом, ОБОГАЩАТЬ СВОЙ СЛОВАРНЫЙ ЗАПА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1357200" y="523800"/>
            <a:ext cx="58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Результаты исследовани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ктическая значим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и используют в своей речи  те слова-глаголы, которые показывают род их занятий в быту, в непринужденной обстановке. Но следует всем помнить о том, что слово имеет огромную силу, поэтому в  даже в разговоре с друзьями, одноклассниками, родными нужно помнить о правилах общения. Ведь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6"/>
          <p:cNvSpPr/>
          <p:nvPr/>
        </p:nvSpPr>
        <p:spPr>
          <a:xfrm>
            <a:off x="684360" y="1461960"/>
            <a:ext cx="82087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не воробей: вылетит -не поймае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ую речь приятно слуш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в ум-такова и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вори лишь о том, что знае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чшее лекарство-всегда говорить прав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 еще о важном самом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ак, разговорная речь легка, прекрасна, порою скучна и очень  опасна. Людям  должно всем это  быть яс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1,-16,94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1,-16,94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вед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Для всего , что существует в природе ,в русском языке есть великое множество хороших слов и названий» (К.Г.Паустовский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зык состоит из множества  отдельных слов, каждое из которых употребляется в речи как самостоятельное цел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их слов состоит разговорная речь? Ответ прост – из  обычных.  Но  каждое слово-это часть речи: существительное, прилагательное, глагол. Какие глаголы употребляют мои родные и друзья в разговоре? С каким лексическим значением?  Эти вопросы особенно заинтересовали меня и попытался найти ответ на н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5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: изучить глаголы разговорной речи моей семьи и моих дру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Задач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объяснить лексическое значение глаголов в разговорной речи  семьи и друзей и определить,  какие из глаголов  наиболее употребительны 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в речи моих друзей и моей семьи встречаются глаголы с разным лексическим значе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ы решения задач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Прямоугольник 2"/>
          <p:cNvSpPr/>
          <p:nvPr/>
        </p:nvSpPr>
        <p:spPr>
          <a:xfrm>
            <a:off x="539640" y="2349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ение литературы по теме          Наблюдение за речью моей семьи и моих дру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разговорная реч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говорная речь- это устная, диалогическая, непринужденная речь, персонально адресованная , неофициальная речь С.И.Ожегов « Словарь русского язы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1"/>
          <a:stretch/>
        </p:blipFill>
        <p:spPr>
          <a:xfrm>
            <a:off x="2687760" y="3789360"/>
            <a:ext cx="39607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ексическое значение глаголов разговорной реч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ение и перемещение в пространстве ( сидеть, лежать, плы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Физическое состояние (радоваться, сп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Деятельность органов чувств ( смотреть ,дыш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онкретные действия (рисовать, чит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мственная и речевая деятельность (думать, реш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Происходящее в природе(светать, подморажив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Проявление и изменение признака ( понять, желте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Отношение к кому-либо ( уважать, восхищатьс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ма : приготовить, купить, работать, убирать, принести, любить, понимать, отдыхать, радова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8" name="Picture 4" descr="F:\ВСЕ ПРЕЗЕНТАЦИИ\ФОТО БАРАНоВ\МАМА.jpg"/>
          <p:cNvPicPr/>
          <p:nvPr/>
        </p:nvPicPr>
        <p:blipFill>
          <a:blip r:embed="rId1"/>
          <a:stretch/>
        </p:blipFill>
        <p:spPr>
          <a:xfrm>
            <a:off x="4643280" y="3141720"/>
            <a:ext cx="3816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па : трудиться, поехать, помогать, принести, привезти, купить , любить, смеяться, дум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4" descr="F:\ВСЕ ПРЕЗЕНТАЦИИ\ФОТО БАРАНоВ\ПАПА.JPG"/>
          <p:cNvPicPr/>
          <p:nvPr/>
        </p:nvPicPr>
        <p:blipFill>
          <a:blip r:embed="rId1"/>
          <a:stretch/>
        </p:blipFill>
        <p:spPr>
          <a:xfrm>
            <a:off x="4140360" y="2708280"/>
            <a:ext cx="446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38:31Z</dcterms:created>
  <dc:creator>Katekin</dc:creator>
  <dc:description/>
  <dc:language>en-US</dc:language>
  <cp:lastModifiedBy>home</cp:lastModifiedBy>
  <dcterms:modified xsi:type="dcterms:W3CDTF">2016-04-17T15:34:34Z</dcterms:modified>
  <cp:revision>79</cp:revision>
  <dc:subject/>
  <dc:title>            ЧТО В СЕБЕ ТАИТ ЛЕСНАЯ ЯГОДА ?   (исследовательский  проект)  автор  КАТЕКИНА  ЛАДА         </dc:title>
</cp:coreProperties>
</file>