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6F0-D9B6-4903-B947-D7599B3D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E89-0758-48E8-9575-FFC6FE76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F13D5-BB9F-48D9-94AE-9DF36D5E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F5293-AA17-4ABA-B705-ED73BE8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A8C45-4C5D-4CE6-813E-64282A3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4BD03-19ED-4F99-B676-721BD37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1945B-501F-4E3B-B757-13F64A0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E00F-2314-4691-8078-5A572EAF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9525E-6D5B-41AF-A324-FC12B97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188E8-8FE8-470C-A88E-4A4E6F4D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56EAD-404B-48D9-9F4A-2CDD89C9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F2DD-C616-4321-9DF8-CC87A8EC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7D6-4CB7-4EE1-8914-2AB534BB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530CF-6C65-4F1F-9F51-5217088D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8DECE-D2D3-49FD-ACC9-65632F8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CB094-9D80-4E85-8368-33DFD943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705BB-98D6-4FD7-B615-05AC4706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2341C-D2EC-4767-ABD0-9B1DFC0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6987-76F4-4B16-A6E4-2EF02BD6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E98C1-E59D-4DCD-AF40-216BAF0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34DB9-600E-416F-AF36-03278FB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20915-7DEA-4B21-8E13-AF1B965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6096C-83ED-4C85-A9DF-8B1ACB48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CBB-12F5-4A00-AF53-4A757152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DB8C1-91AC-408A-8252-86BD08D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137FF-3E3E-438A-9D3C-5DA84690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8C7A6-ADA1-448D-95F0-39BE6C50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E8D02-E7B3-4E45-9FF7-F80596D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DE45-10DB-4B7E-9CFC-627DD551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A631F-76FC-40CA-91BC-02AC6506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D718-E029-4AAC-B54C-2F9E6D5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AEA1-6ACE-43F5-83C4-F87386F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C9BE6-A417-49D4-B7FD-29B36451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CD6E-58E9-4EA9-8E33-9EB19D4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6322-DC0D-4783-AA43-98C43AE0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BA13-71BB-4EA0-8462-6F90D93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32E9-AA1C-4C28-A85D-5E740E4D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1D7F-A220-4CB8-9302-F3EF4940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AC675-AAAB-432F-BB1E-92ACFB6B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BF78-1F50-4B73-AD04-31CD1CBE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E1315-E5E1-49E0-819D-7474C99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BAC9B-E8E4-4CB2-93F1-2A03694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4DE0E-28EA-4027-B443-FC3728B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B30E7-6B26-4BDB-8A46-6477CFD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FBED8-B28C-4CD0-B72D-9CB7A0C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E3F-AE3F-4947-9417-F29582A8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4D1F-97E5-4A6B-A894-B0BC5B8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52F05-7EDD-4A44-A6AD-6034FA1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8B5CC-7BAD-45A2-96D8-CC3BB8B0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D96AC-3174-441F-838D-940C2BAF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F9739-A931-4D3A-B773-0F95D53A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42758-B90C-4A9C-894E-801AE0D0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56893-61A2-4DA1-A0AA-807D120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D4CB3-E259-4B3A-AE41-DBC4A36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4C332-25F9-4C36-9B68-981FBD7E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8964C-D08E-4AC5-BF75-3671528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935-45D1-4AF5-9B04-09ED1843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2B52F-7FD6-4B23-8FC0-A1D251C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45EAB-4CC6-4578-8DBE-9105ABAD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7609-15C6-4DA6-9033-E88D6D45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4FCEF-DB6D-41D8-9C3E-84011AA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FFCFA-3CE2-4312-9B27-EE8C234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09774-8EA4-4968-A65D-C7F8D435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925E7-598C-4F56-9B2C-39F5982B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DD21-63F5-4922-98D7-B1462DF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CE41-70AC-4310-B9CA-0EF1E32E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41B-4CB9-408F-A9E5-24B8FAA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54AF-2EC8-494A-B5E9-2A680E1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F38-8A79-4D4D-B7F1-0EB316A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C8BA-48D0-4B4D-B65B-5C9508F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A93-89E1-48BA-AD44-62A46C7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55C-F9F3-4558-902B-AF043A81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CCE0-59A2-4858-B55A-91A4DBFA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848-2630-4754-A09B-3DE2233E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5C8A-251F-455D-932E-47C06943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F21A-DF8A-4007-9E0C-FC369CE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BD92-E278-46FD-926C-9B4DCF4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F480-B33D-48B7-948B-3EE4D4B7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8F3D-D81A-4058-B0AA-CAB3C8D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F76-7058-4530-929B-58D2A9D0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46FC-FD55-4AA5-9F08-FA90977B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7F8F-4CFB-4BD1-9BF7-4EC2F38B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1F65-0585-4212-A7DB-99493D8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2EDD-9459-46F9-9321-DE93D47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5424-A30D-4E03-BBFD-FEE4199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2123-28AE-40D3-BA78-B6A66EBA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A8EE-A025-40F8-A7C5-7627BA75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8CAA-3F91-4039-808D-99FD270B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9E29-E939-480D-B7ED-65621C42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C815-E1FD-449E-911C-29C6299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551-9A75-4E7D-8DF1-F7A409E4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2DF2-E2AD-447F-802A-8F341E5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0586-F592-43CB-973B-8B3BC234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FF0A-81A7-457D-938A-7B17C936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60F2-8511-4796-80EF-7FC8A3D9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F868-87D2-464A-9A2A-E5BB9D1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597A-0590-4831-9071-1C207CD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7FAEB-A472-4306-BBF7-FA197D59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60A4-F4F4-4D1A-B495-A3426792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30FD-22D2-4889-AB5C-363643E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2CC6-FBA1-45AB-AEFA-A44D718B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769-27D6-418F-8D4E-3E099B1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E860-7542-4515-AF8D-6FC84F1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8818-3E97-4447-9A33-304746E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1D2F-18EE-46CC-BAE8-43043F69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DC56-96EA-44E6-A131-E1AA613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EA7E-878D-46DD-9820-5B6D2537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20CD-2CBA-485A-830F-32667C9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F188-AB3E-4BE2-9B52-1B62132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D5053-5585-47DD-8EA0-0AB900C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0E3A5-7441-4EBD-ACB7-1B479C88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72F6-F50C-4DF3-B02F-9EC53D02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0C8-6ABB-4B94-A373-6E24A6F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E2C11-3595-4205-9866-14AADABE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26A6-3E3D-4005-9AF0-358EFEA8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CE630-EBE0-46EF-B933-FBDF2C2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9778-28F1-4BAA-A6DA-F19720CA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5F30-E0A7-45C5-9DCA-AF38D119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64C6C-BD8B-4569-9D55-E83328AD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F2DC-76CE-4CE7-8CE1-11D2DD44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9C59-A35F-4773-84ED-86BCAEAE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26FB2-B1A0-4A38-A992-FB9BFFD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E5F4-37A9-416A-A97A-CFFFE2D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613-7D42-467F-83C3-8A99A7B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DED3-526A-43AD-9C20-CB3592DA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6E5C-09F6-4CD3-9A6B-F701B4E8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149D-FDA8-445B-8CE3-01CE2297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E5D0D-D406-458D-807F-A6E3C175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8FA0-3E42-47F9-88C5-525C3D24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C0AE-0C37-406E-95D3-08F694BA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E0C5-3A97-44CF-BD58-180721F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96BF-A710-4C8E-B398-18A28C44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68F1-85B1-4DF7-A68F-CB26735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EEDB-40E8-4753-871D-B6F81E3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20B-F606-413F-8612-51F37ED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3F54-BABB-440F-8F99-EBD9521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E66DA-FEF9-44BE-B727-EDD8B62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3ED3-F7CA-4C1F-BF54-F9E43CDA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DC15-E16C-4653-BB7A-062421A6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1E93-47BA-434E-AD81-137610D9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C19D3-7EAF-4682-9631-BAA4E4FB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65D2C-A202-45C6-9F39-2764918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B370-8B9E-4C8A-835F-5E51DE3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3280-3DCF-414E-8CE6-3D659D8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6C73B-7BC1-4270-BE77-1FA5517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EE0-FB8A-40B6-898D-134136F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2FEBA-7F15-472C-A1D6-56037FC7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178F5-936E-4A09-BCD3-6A82C97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51E34-5C02-40A8-904A-0E43589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BB51-1BBA-469B-8CA3-397AF96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5A5E0-4FC7-4F45-BB1F-383EBF35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61747-9F7D-4CAC-A42F-5F340785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C71EB-013E-4EF6-8628-63A883DF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67F6-C4EA-40EC-BD87-B4A36EB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CF38B-E747-4C59-A728-D1CEDE4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E147C-6508-437F-B51A-B0ABE715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2066-9284-4B76-837D-EB22F4D6E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E047-5C0D-4B73-82B8-0EBA08B14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92B-F5F5-4334-AB3C-C4D60818C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682-97CF-41B9-A36E-28C8B2A47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791-29AE-40FF-9EC0-C803854310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2BA8-CC40-4D72-8E40-919DC17418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2D6-216D-4A9D-9F67-BA5C46718B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613-E14E-4843-91B5-B5236CC1FE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C52-4B1F-465A-8B98-4A075F131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BC20-48B8-444B-9370-661A90C95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8DC-6990-4172-8FEA-33405490C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A4C-0DB3-48EE-BB90-90BFE7AB13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48D1-8C78-4BF9-B395-1C34A2B335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«СОШ №12 г. Нижнеудинск»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потребление глаголов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разговорной речи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исследовательский проект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211640" y="4508280"/>
            <a:ext cx="4392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анов Петр, ученик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Б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Бращунова И.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стра: вязать, убирать, вымыть, помог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4" name="Picture 4" descr="F:\ВСЕ ПРЕЗЕНТАЦИИ\ФОТО БАРАНоВ\ТАНЯ.JPG"/>
          <p:cNvPicPr/>
          <p:nvPr/>
        </p:nvPicPr>
        <p:blipFill>
          <a:blip r:embed="rId1"/>
          <a:stretch/>
        </p:blipFill>
        <p:spPr>
          <a:xfrm>
            <a:off x="2700360" y="2441520"/>
            <a:ext cx="439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539640" y="1484280"/>
            <a:ext cx="820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19120" y="1518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ат Саша: играть, тренироваться, заниматься спортом, учиться, помогать, побед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Picture 5" descr="F:\ВСЕ ПРЕЗЕНТАЦИИ\ФОТО БАРАНоВ\САША.jpg"/>
          <p:cNvPicPr/>
          <p:nvPr/>
        </p:nvPicPr>
        <p:blipFill>
          <a:blip r:embed="rId1"/>
          <a:stretch/>
        </p:blipFill>
        <p:spPr>
          <a:xfrm>
            <a:off x="2808360" y="2565360"/>
            <a:ext cx="3924360" cy="40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539640" y="1484280"/>
            <a:ext cx="82090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грать  в мяч, веселиться, отдыхать, учиться, получать оценки, задавать, дружить, прийти, гулять на улице, заниматься спортом, выполнять, помогать, выручать, ждать, читать, готовиться к урокам, прощать, счит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наиболее употребительные слова-глаголы  в разговорной  речи моих дру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их друз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095640" y="32446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голы в речи моих дру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2124000" y="104760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Прямоугольник 9"/>
          <p:cNvSpPr/>
          <p:nvPr/>
        </p:nvSpPr>
        <p:spPr>
          <a:xfrm>
            <a:off x="2227680" y="549360"/>
            <a:ext cx="43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Мои исследован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457200" y="184464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Лексическое значение глаголов семьи  Пометов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Лексическое значение глаголов друз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6161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Физическое состояние ( помогать, тренироватьс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1.Физическое состояние(отдых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2. Конкретные действия(вяз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2.Конкретные действия (читать, получ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3. Изменение и проявление признака(поним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3.Изменение и проявление признака( жд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4. Отношение к  родным (люби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4.Отношение к  друзьям (прощать, помог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5. Положение в пространстве(поех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Речевая и умстве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(дум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5.Положение в пространстве(гулять на улиц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6.Речевая и умстве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(счита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684360" y="1514520"/>
            <a:ext cx="8208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 образом, в разговорной речи моей семьи, моих друзей   наблюдается наличие глаголов с разным лексическим  значением, что доказывает мою гипотезу. Однако отсутствуют глаголы со значением  деятельности органов чувств и глаголы,   обозначающие  действия, связанные с происходящим в природе. Считаю, что речь свою необходимо развивать всем: читать книги, журналы, газеты, писать письма, работать с энциклопедиями  и словарями, одним словом, ОБОГАЩАТЬ СВОЙ СЛОВАРНЫЙ ЗАПА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1357200" y="523800"/>
            <a:ext cx="58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Результаты исследован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ктическая значим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и используют в своей речи  те слова-глаголы, которые показывают род их занятий в быту, в непринужденной обстановке. Но следует всем помнить о том, что слово имеет огромную силу, поэтому в  даже в разговоре с друзьями, одноклассниками, родными нужно помнить о правилах общения. Ведь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684360" y="1461960"/>
            <a:ext cx="82087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не воробей: вылетит -не поймае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шую речь приятно слуш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в ум-такова и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вори лишь о том, что знае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е лекарство-всегда говорить прав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 еще о важном самом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ак, разговорная речь легка, прекрасна, порою скучна и очень  опасна. Людям  должно всем это  быть яс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1,-16,94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1,-16,94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Для всего , что существует в природе ,в русском языке есть великое множество хороших слов и названий» (К.Г.Паустовский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зык состоит из множества  отдельных слов, каждое из которых употребляется в речи как самостоятельное цел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их слов состоит разговорная речь? Ответ прост – из  обычных.  Но  каждое слово-это часть речи: существительное, прилагательное, глагол. Какие глаголы употребляют мои родные и друзья в разговоре? С каким лексическим значением?  Эти вопросы особенно заинтересовали меня и попытался найти ответ на н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5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: изучить глаголы разговорной речи моей семьи и моих друз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Зада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объяснить лексическое значение глаголов в разговорной речи  семьи и друзей и определить,  какие из глаголов  наиболее употребительны 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в речи моих друзей и моей семьи встречаются глаголы с разным лексическим знач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ы решения задач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Прямоугольник 2"/>
          <p:cNvSpPr/>
          <p:nvPr/>
        </p:nvSpPr>
        <p:spPr>
          <a:xfrm>
            <a:off x="539640" y="2349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учение литературы по теме          Наблюдение за речью моей семьи и моих дру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разговорная реч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говорная речь- это устная, диалогическая, непринужденная речь, персонально адресованная , неофициальная речь С.И.Ожегов « Словарь русского язы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1"/>
          <a:stretch/>
        </p:blipFill>
        <p:spPr>
          <a:xfrm>
            <a:off x="2687760" y="3789360"/>
            <a:ext cx="3960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ексическое значение глаголов разговорной реч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ение и перемещение в пространстве ( сидеть, лежать, плы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Физическое состояние (радоваться, сп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Деятельность органов чувств ( смотреть ,дыш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онкретные действия (рисовать, чит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мственная и речевая деятельность (думать, реш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Происходящее в природе(светать, подморажива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Проявление и изменение признака ( понять, желтет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Отношение к кому-либо ( уважать, восхищатьс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ма : приготовить, купить, работать, убирать, принести, любить, понимать, отдыхать, радовать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8" name="Picture 4" descr="F:\ВСЕ ПРЕЗЕНТАЦИИ\ФОТО БАРАНоВ\МАМА.jpg"/>
          <p:cNvPicPr/>
          <p:nvPr/>
        </p:nvPicPr>
        <p:blipFill>
          <a:blip r:embed="rId1"/>
          <a:stretch/>
        </p:blipFill>
        <p:spPr>
          <a:xfrm>
            <a:off x="4643280" y="3141720"/>
            <a:ext cx="3816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голы в речи моей семь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па : трудиться, поехать, помогать, принести, привезти, купить , любить, смеяться, дум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4" descr="F:\ВСЕ ПРЕЗЕНТАЦИИ\ФОТО БАРАНоВ\ПАПА.JPG"/>
          <p:cNvPicPr/>
          <p:nvPr/>
        </p:nvPicPr>
        <p:blipFill>
          <a:blip r:embed="rId1"/>
          <a:stretch/>
        </p:blipFill>
        <p:spPr>
          <a:xfrm>
            <a:off x="4140360" y="2708280"/>
            <a:ext cx="446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8:31Z</dcterms:created>
  <dc:creator>Katekin</dc:creator>
  <dc:description/>
  <dc:language>en-US</dc:language>
  <cp:lastModifiedBy>home</cp:lastModifiedBy>
  <dcterms:modified xsi:type="dcterms:W3CDTF">2016-04-17T15:34:34Z</dcterms:modified>
  <cp:revision>79</cp:revision>
  <dc:subject/>
  <dc:title>            ЧТО В СЕБЕ ТАИТ ЛЕСНАЯ ЯГОДА ?   (исследовательский  проект)  автор  КАТЕКИНА  ЛАДА         </dc:title>
</cp:coreProperties>
</file>