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8.wmf" ContentType="image/x-wmf"/>
  <Override PartName="/ppt/media/image10.jpeg" ContentType="image/jpeg"/>
  <Override PartName="/ppt/media/image6.gif" ContentType="image/gif"/>
  <Override PartName="/ppt/media/image5.gif" ContentType="image/gif"/>
  <Override PartName="/ppt/media/image20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2.png" ContentType="image/png"/>
  <Override PartName="/ppt/media/image1.jpeg" ContentType="image/jpeg"/>
  <Override PartName="/ppt/media/image4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5C4-23F9-492F-B15C-C2FBE7DC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5C1-4C94-4124-B540-3CD9F23B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2CE-0EDF-416B-8AB1-7F73EE9E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9D6-A844-4EC5-BC1F-49BB807C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203-01C9-40DE-8D1F-BC6C210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859-7EC1-4DAC-A08C-F6CDA30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734-80E1-4E31-915B-75ECEA0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581-57B7-478E-82D7-3E36C7D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9E6-B693-4BB1-8645-BACF80C6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BB8-3870-4146-8220-F818B7F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869-20E1-4D08-B31C-5034B577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012-3DF1-4722-906F-101C6AF7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9BFC-50BD-4E52-A600-CE3B4AC0A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33360"/>
            <a:ext cx="6696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Д А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30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344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" y="260280"/>
            <a:ext cx="90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очти всё живое  на земле не может обойтись без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Звериные тропы в лесу ведут к водопою. Птицы ле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к рекам, озё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59280" y="119700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59280" y="227664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67640" y="1052640"/>
            <a:ext cx="131436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4724280"/>
            <a:ext cx="1485720" cy="189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500720" y="1052640"/>
            <a:ext cx="242856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381640" y="1989000"/>
            <a:ext cx="3419640" cy="455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450864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4067280" y="2924280"/>
            <a:ext cx="13143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321080" cy="3414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88000" y="3468600"/>
            <a:ext cx="4103640" cy="31892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572000" y="189000"/>
            <a:ext cx="4427640" cy="29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ля многих живых организмов вода – дом род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3672000" cy="27133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081080"/>
            <a:ext cx="6481800" cy="5183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48760" y="189000"/>
            <a:ext cx="85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Человеческое тело «наполнено водой». Например,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еле человека  весом 70 кг вода составляет 49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2339640" y="630828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под микроско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83280" y="47628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вокруг нас всю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836640"/>
            <a:ext cx="4075200" cy="450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692280"/>
            <a:ext cx="4635360" cy="401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3457800" cy="3249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500720" y="4941720"/>
            <a:ext cx="1249200" cy="1249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516720" y="3860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859280" y="35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59280" y="5589720"/>
            <a:ext cx="388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05360"/>
            <a:ext cx="396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628640"/>
            <a:ext cx="3168720" cy="57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84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о й с т в а       в о д ы</a:t>
            </a:r>
            <a:endParaRPr b="0" i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259280" y="17002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Вода  прозра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2781360"/>
            <a:ext cx="316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Вода бесцвет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0160" y="407664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.Вода не имеет за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589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.Вода – раствор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rot="89400">
            <a:off x="4716000" y="1557360"/>
            <a:ext cx="863640" cy="122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080 h 1223640"/>
              <a:gd name="textAreaBottom" fmla="*/ 8715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0" stAng="-5400000" swAng="-5400000"/>
                <a:lnTo>
                  <a:pt x="0" y="11550"/>
                </a:lnTo>
                <a:arcTo wR="21600" hR="7670" stAng="10800000" swAng="-2707467"/>
                <a:lnTo>
                  <a:pt x="14400" y="21161"/>
                </a:lnTo>
                <a:lnTo>
                  <a:pt x="21600" y="17280"/>
                </a:lnTo>
                <a:lnTo>
                  <a:pt x="14400" y="12521"/>
                </a:lnTo>
                <a:lnTo>
                  <a:pt x="14400" y="14901"/>
                </a:lnTo>
                <a:arcTo wR="21600" hR="7670" stAng="8092533" swAng="2389241"/>
                <a:lnTo>
                  <a:pt x="702" y="9610"/>
                </a:lnTo>
                <a:arcTo wR="21600" hR="7670" stAng="-10481774" swAng="5081774"/>
                <a:close/>
              </a:path>
              <a:path fill="darkenLess" w="21600" h="21600">
                <a:moveTo>
                  <a:pt x="21600" y="0"/>
                </a:moveTo>
                <a:arcTo wR="21600" hR="7670" stAng="-5400000" swAng="-5400000"/>
                <a:lnTo>
                  <a:pt x="0" y="7670"/>
                </a:lnTo>
                <a:arcTo wR="21600" hR="7670" stAng="10800000" swAng="-318226"/>
                <a:lnTo>
                  <a:pt x="702" y="9610"/>
                </a:lnTo>
                <a:arcTo wR="21600" hR="7670" stAng="-10481774" swAng="508177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rot="1769400">
            <a:off x="4787280" y="3428640"/>
            <a:ext cx="898560" cy="1584360"/>
          </a:xfrm>
          <a:custGeom>
            <a:avLst/>
            <a:gdLst>
              <a:gd name="textAreaLeft" fmla="*/ 120240 w 898560"/>
              <a:gd name="textAreaRight" fmla="*/ 778320 w 8985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667800">
            <a:off x="3345480" y="4654800"/>
            <a:ext cx="577800" cy="2014560"/>
          </a:xfrm>
          <a:custGeom>
            <a:avLst/>
            <a:gdLst>
              <a:gd name="textAreaLeft" fmla="*/ 77400 w 577800"/>
              <a:gd name="textAreaRight" fmla="*/ 500400 w 577800"/>
              <a:gd name="textAreaTop" fmla="*/ 352440 h 2014560"/>
              <a:gd name="textAreaBottom" fmla="*/ 1460520 h 20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1008000" cy="164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10080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4292640"/>
            <a:ext cx="3887640" cy="9349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4292640"/>
            <a:ext cx="3816360" cy="9367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720" y="4365720"/>
            <a:ext cx="35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ри нагревани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расши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720" y="429264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При охлаждении в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сжим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3084480" cy="33112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59280" y="765000"/>
            <a:ext cx="3816360" cy="2851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24720" cy="491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24000" y="189000"/>
            <a:ext cx="86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660066"/>
                  </a:outerShdw>
                </a:effectLst>
                <a:latin typeface="Impact"/>
              </a:rPr>
              <a:t>Круговорот   воды   в природе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660066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476280"/>
            <a:ext cx="79200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80000" y="4941720"/>
            <a:ext cx="1622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9:16:16Z</dcterms:created>
  <dc:creator>Сергей</dc:creator>
  <dc:description/>
  <dc:language>en-US</dc:language>
  <cp:lastModifiedBy>Сергей</cp:lastModifiedBy>
  <dcterms:modified xsi:type="dcterms:W3CDTF">2009-09-14T03:21:46Z</dcterms:modified>
  <cp:revision>4</cp:revision>
  <dc:subject/>
  <dc:title>Слайд 1</dc:title>
</cp:coreProperties>
</file>