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4.png" ContentType="image/png"/>
  <Override PartName="/ppt/media/image13.jpeg" ContentType="image/jpeg"/>
  <Override PartName="/ppt/media/image1.gif" ContentType="image/gif"/>
  <Override PartName="/ppt/media/image2.wmf" ContentType="image/x-wmf"/>
  <Override PartName="/ppt/media/image3.wmf" ContentType="image/x-wmf"/>
  <Override PartName="/ppt/media/image15.jpeg" ContentType="image/jpeg"/>
  <Override PartName="/ppt/media/audio1.wav" ContentType="audio/x-wav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EF83-5638-4A4E-B82A-177A4449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A875-62CE-426F-9D21-3F208220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6888-442D-42C1-B680-C8EA8547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ED9-1AC7-4FB6-AA26-D149AB35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1099-7B5A-4E97-8C0B-06E0E031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BA5B-96D1-414D-905C-1911A893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DD7E-D5FE-437F-9042-E0F7C1D6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23D0-E296-47D6-939D-5A0584D5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2F52-FFAE-40CE-BD31-C8B8F040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0088-661D-46BD-B639-60394620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8E90-7A44-459A-8196-B08D4555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26A-8D2B-4676-B104-24F114EC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5EA5-D206-41A3-AD2E-67DB289E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A204-DB20-4844-9CFC-6634CE15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1ACA-D517-4C2A-9135-9A9B724A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B8F7-1B06-4352-809C-2D83AA71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FC56-831F-47B4-BFE0-1E8A8E48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EA32-2415-4C77-8F2F-5C1663E1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8659-BCB3-47B1-B9B4-53324C2E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E99A-4960-402A-A5ED-72674AA4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E241-53E6-4886-89A4-AA0A6947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614-0A08-4CC1-9A6C-F112DC5D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B5DB-7CE2-4EC7-82C7-08653108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713-EDA2-4481-AE34-6D26D629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484AFC-F4BB-4690-886E-8BE87BFC6B8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2571CC-D03B-41AA-83A0-4DA8A7C2D37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7" descr="animashka-12.gif"/>
          <p:cNvPicPr/>
          <p:nvPr/>
        </p:nvPicPr>
        <p:blipFill>
          <a:blip r:embed="rId1"/>
          <a:stretch/>
        </p:blipFill>
        <p:spPr>
          <a:xfrm>
            <a:off x="1000080" y="2071800"/>
            <a:ext cx="6571800" cy="3857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1246680"/>
            <a:ext cx="757224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 Black"/>
              </a:rPr>
              <a:t>ЗИМА .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14760" y="5517360"/>
            <a:ext cx="6428880" cy="13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А.В</a:t>
            </a:r>
            <a:r>
              <a:rPr b="0" lang="ru-RU" sz="2400" spc="-1" strike="noStrike">
                <a:solidFill>
                  <a:srgbClr val="8b8b8b"/>
                </a:solidFill>
                <a:latin typeface="Arial Black"/>
              </a:rPr>
              <a:t>.</a:t>
            </a:r>
            <a:r>
              <a:rPr b="0" lang="ru-RU" sz="2400" spc="-1" strike="noStrike">
                <a:solidFill>
                  <a:srgbClr val="0d0d0d"/>
                </a:solidFill>
                <a:latin typeface="Arial Black"/>
              </a:rPr>
              <a:t> Автор:  воспитатель МКДОУ детский сад №5 «Родничок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 Black"/>
              </a:rPr>
              <a:t>Пучинская А.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7" descr="C:\Program Files (x86)\Microsoft Office\MEDIA\CAGCAT10\j0299587.wmf"/>
          <p:cNvPicPr/>
          <p:nvPr/>
        </p:nvPicPr>
        <p:blipFill>
          <a:blip r:embed="rId2"/>
          <a:stretch/>
        </p:blipFill>
        <p:spPr>
          <a:xfrm>
            <a:off x="3714840" y="285840"/>
            <a:ext cx="1071360" cy="96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6786720" y="357120"/>
            <a:ext cx="1213920" cy="928440"/>
          </a:xfrm>
          <a:prstGeom prst="rect">
            <a:avLst/>
          </a:prstGeom>
          <a:ln w="9525">
            <a:noFill/>
          </a:ln>
        </p:spPr>
      </p:pic>
      <p:pic>
        <p:nvPicPr>
          <p:cNvPr id="87" name="Picture 7" descr="C:\Program Files (x86)\Microsoft Office\MEDIA\CAGCAT10\j0299587.wmf"/>
          <p:cNvPicPr/>
          <p:nvPr/>
        </p:nvPicPr>
        <p:blipFill>
          <a:blip r:embed="rId4"/>
          <a:stretch/>
        </p:blipFill>
        <p:spPr>
          <a:xfrm>
            <a:off x="642960" y="285840"/>
            <a:ext cx="1071360" cy="928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4360" y="620640"/>
            <a:ext cx="14288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  <p:sndAc>
      <p:stSnd>
        <p:snd r:embed="rId5" name="audio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одержимое 13" descr="ngo-7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Зимой бывает веселый праздник Новый год. Его любят и дети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и взрослые. А Дед Мороз дарит всем подарки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x_ba89149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17375e"/>
                </a:solidFill>
                <a:latin typeface="Arial Black"/>
              </a:rPr>
              <a:t>Нам нравится зима!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240" cy="34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1000"/>
          </a:bodyPr>
          <a:p>
            <a:pPr indent="0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КОНЕЦ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700" spc="-1" strike="noStrike">
                <a:solidFill>
                  <a:srgbClr val="ffffff"/>
                </a:solidFill>
                <a:latin typeface="Arial Black"/>
              </a:rPr>
              <a:t>http://www.mamuski.ru/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Arial Black"/>
              </a:rPr>
              <a:t>http://shkoladetei.ru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Arial Black"/>
              </a:rPr>
              <a:t>http://fanparty.ru/fanclubs/ded-moroz/pictures/423965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Arial Black"/>
              </a:rPr>
              <a:t>http://kz.narod.ru/2007.html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Arial Black"/>
              </a:rPr>
              <a:t>http://ua.redtram.com/go/286515443/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Arial Black"/>
              </a:rPr>
              <a:t>http://www.hqfon.ru/pics/categories/prazdniki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9" descr="0_502e9_a08484cd_XL.jpg"/>
          <p:cNvPicPr/>
          <p:nvPr/>
        </p:nvPicPr>
        <p:blipFill>
          <a:blip r:embed="rId1"/>
          <a:stretch/>
        </p:blipFill>
        <p:spPr>
          <a:xfrm>
            <a:off x="0" y="1357200"/>
            <a:ext cx="9143640" cy="5928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Зима  длится три месяца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3"/>
          <p:cNvSpPr/>
          <p:nvPr/>
        </p:nvSpPr>
        <p:spPr>
          <a:xfrm flipH="1" flipV="1" rot="10800000">
            <a:off x="3357000" y="2285640"/>
            <a:ext cx="2214360" cy="13568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Arial Black"/>
              </a:rPr>
              <a:t>Янв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6"/>
          <p:cNvSpPr/>
          <p:nvPr/>
        </p:nvSpPr>
        <p:spPr>
          <a:xfrm>
            <a:off x="285840" y="5214960"/>
            <a:ext cx="2571480" cy="107136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Arial Black"/>
              </a:rPr>
              <a:t>Декаб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8"/>
          <p:cNvSpPr/>
          <p:nvPr/>
        </p:nvSpPr>
        <p:spPr>
          <a:xfrm>
            <a:off x="6429240" y="5286240"/>
            <a:ext cx="2499840" cy="11282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Arial Black"/>
              </a:rPr>
              <a:t>Фев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3" descr="11december_signs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ни зимой еще короче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чем осенью. Солнце редко выглядывает из- за туч и греет землю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bf2a0d0a1064.jpg"/>
          <p:cNvPicPr/>
          <p:nvPr/>
        </p:nvPicPr>
        <p:blipFill>
          <a:blip r:embed="rId1"/>
          <a:stretch/>
        </p:blipFill>
        <p:spPr>
          <a:xfrm>
            <a:off x="0" y="-500040"/>
            <a:ext cx="9143640" cy="7357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5286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d0d0d"/>
                </a:solidFill>
                <a:latin typeface="Arial Black"/>
              </a:rPr>
              <a:t>Снег покрыл землю пушистым покрывалом. Деревья и кустарники  тоже в снегу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35711052_962.jpg"/>
          <p:cNvPicPr/>
          <p:nvPr/>
        </p:nvPicPr>
        <p:blipFill>
          <a:blip r:embed="rId1"/>
          <a:stretch/>
        </p:blipFill>
        <p:spPr>
          <a:xfrm>
            <a:off x="0" y="-71280"/>
            <a:ext cx="9143640" cy="6928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d0d0d"/>
                </a:solidFill>
                <a:latin typeface="Arial Black"/>
              </a:rPr>
              <a:t>Лес похож на сказочный терем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3" descr="4201_Loxiacurvirostracurvirostra02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5000" y="4071960"/>
            <a:ext cx="342864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тиц в </a:t>
            </a:r>
            <a:r>
              <a:rPr b="0" lang="ru-RU" sz="2700" spc="-1" strike="noStrike">
                <a:solidFill>
                  <a:srgbClr val="000000"/>
                </a:solidFill>
                <a:latin typeface="Arial Black"/>
              </a:rPr>
              <a:t>лесу осталось мало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Лесные звери укрываются от холода в дуплах и норах или зарываются в глубокий снег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3" descr="Животные-Германии.jpg"/>
          <p:cNvPicPr/>
          <p:nvPr/>
        </p:nvPicPr>
        <p:blipFill>
          <a:blip r:embed="rId1"/>
          <a:stretch/>
        </p:blipFill>
        <p:spPr>
          <a:xfrm>
            <a:off x="214200" y="1428840"/>
            <a:ext cx="3928680" cy="32857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020.jpg"/>
          <p:cNvPicPr/>
          <p:nvPr/>
        </p:nvPicPr>
        <p:blipFill>
          <a:blip r:embed="rId2"/>
          <a:stretch/>
        </p:blipFill>
        <p:spPr>
          <a:xfrm>
            <a:off x="4286160" y="3071880"/>
            <a:ext cx="46432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ети зимой катаются на санках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лыжах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коньках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8" descr="x_197a57b6.jpg"/>
          <p:cNvPicPr/>
          <p:nvPr/>
        </p:nvPicPr>
        <p:blipFill>
          <a:blip r:embed="rId1"/>
          <a:stretch/>
        </p:blipFill>
        <p:spPr>
          <a:xfrm>
            <a:off x="214200" y="1143000"/>
            <a:ext cx="4357440" cy="37144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9" descr="4423842-sister-and-brother-on-sledge-winter-friendship.jpg"/>
          <p:cNvPicPr/>
          <p:nvPr/>
        </p:nvPicPr>
        <p:blipFill>
          <a:blip r:embed="rId2"/>
          <a:stretch/>
        </p:blipFill>
        <p:spPr>
          <a:xfrm>
            <a:off x="4929120" y="2786040"/>
            <a:ext cx="4000320" cy="37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Ребята играют в снежки и лепят снежную бабу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3" descr="2090108-happy-kid-having-fun-in-the-snow.jpg"/>
          <p:cNvPicPr/>
          <p:nvPr/>
        </p:nvPicPr>
        <p:blipFill>
          <a:blip r:embed="rId1"/>
          <a:stretch/>
        </p:blipFill>
        <p:spPr>
          <a:xfrm>
            <a:off x="214200" y="1571760"/>
            <a:ext cx="3428640" cy="50004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f0bb8bbf68733b1b70ce70f2a73a1f48.png"/>
          <p:cNvPicPr/>
          <p:nvPr/>
        </p:nvPicPr>
        <p:blipFill>
          <a:blip r:embed="rId2"/>
          <a:stretch/>
        </p:blipFill>
        <p:spPr>
          <a:xfrm>
            <a:off x="3714840" y="2500200"/>
            <a:ext cx="5214600" cy="4357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  <Words>129</Words>
  <Paragraphs>1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6:23:40Z</dcterms:created>
  <dc:creator>user</dc:creator>
  <dc:description/>
  <dc:language>en-US</dc:language>
  <cp:lastModifiedBy>м</cp:lastModifiedBy>
  <dcterms:modified xsi:type="dcterms:W3CDTF">2012-12-20T14:55:01Z</dcterms:modified>
  <cp:revision>41</cp:revision>
  <dc:subject/>
  <dc:title>З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