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4.png" ContentType="image/png"/>
  <Override PartName="/ppt/media/image13.jpeg" ContentType="image/jpeg"/>
  <Override PartName="/ppt/media/image1.gif" ContentType="image/gif"/>
  <Override PartName="/ppt/media/image2.wmf" ContentType="image/x-wmf"/>
  <Override PartName="/ppt/media/image3.wmf" ContentType="image/x-wmf"/>
  <Override PartName="/ppt/media/image15.jpeg" ContentType="image/jpeg"/>
  <Override PartName="/ppt/media/audio1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9D1-CACB-44C4-B8C4-1E0C27EC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F59-7CC0-444D-97FD-D91035FC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E81-C5FB-4FE5-8F2E-85E7A98E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A19-8092-4AF2-8914-D34C818F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725F-7799-40CF-A08F-427712E7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4499-E79E-4AEC-A780-F5B69BC2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8B66-46EF-452A-8297-488106F5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FA59-EBAD-490A-BD25-2FF50EC2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3992-758E-4B8B-9B20-89458B3C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F9E3-1203-4B16-B19C-71873B5C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6F52-467B-4557-AE3B-B6CDE12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275-869B-4919-AA63-BA8249EA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F3E3-6046-4ABB-B24D-66708A9B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CB00-9AC1-467A-AA10-6FF56B9A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6682-FB21-44B0-853F-5AB588B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1EAB-4231-408A-BFF6-43A3B5DF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79C6-A073-43AD-8C65-0F099091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065-5628-4197-BB81-A03E85E7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7BF-E9CE-4016-9AB6-93A2BDF4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9BF-6D79-4DA9-BDFB-F085AD7A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6EA-C834-4090-8CD8-C3B6F2A9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618-15EB-4BC6-8CA6-4E920FF8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2D6-85C1-40D9-AB5F-DA17D011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6B7-3B74-40DB-AA15-463C1D7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DB89F0-1A76-4623-86CF-9637D36F657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10B2E9-7AE4-4C55-B48F-218006AC3EA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7" descr="animashka-12.gif"/>
          <p:cNvPicPr/>
          <p:nvPr/>
        </p:nvPicPr>
        <p:blipFill>
          <a:blip r:embed="rId1"/>
          <a:stretch/>
        </p:blipFill>
        <p:spPr>
          <a:xfrm>
            <a:off x="1000080" y="2071800"/>
            <a:ext cx="6571800" cy="385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1246680"/>
            <a:ext cx="757224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 Black"/>
              </a:rPr>
              <a:t>ЗИМА 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14760" y="5517360"/>
            <a:ext cx="6428880" cy="13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А.В</a:t>
            </a:r>
            <a:r>
              <a:rPr b="0" lang="ru-RU" sz="2400" spc="-1" strike="noStrike">
                <a:solidFill>
                  <a:srgbClr val="8b8b8b"/>
                </a:solidFill>
                <a:latin typeface="Arial Black"/>
              </a:rPr>
              <a:t>.</a:t>
            </a: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 Автор:  воспитатель МКДОУ детский сад №5 «Родничок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Пучинская А.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7" descr="C:\Program Files (x86)\Microsoft Office\MEDIA\CAGCAT10\j0299587.wmf"/>
          <p:cNvPicPr/>
          <p:nvPr/>
        </p:nvPicPr>
        <p:blipFill>
          <a:blip r:embed="rId2"/>
          <a:stretch/>
        </p:blipFill>
        <p:spPr>
          <a:xfrm>
            <a:off x="3714840" y="285840"/>
            <a:ext cx="1071360" cy="96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6786720" y="357120"/>
            <a:ext cx="1213920" cy="92844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7" descr="C:\Program Files (x86)\Microsoft Office\MEDIA\CAGCAT10\j0299587.wmf"/>
          <p:cNvPicPr/>
          <p:nvPr/>
        </p:nvPicPr>
        <p:blipFill>
          <a:blip r:embed="rId4"/>
          <a:stretch/>
        </p:blipFill>
        <p:spPr>
          <a:xfrm>
            <a:off x="642960" y="285840"/>
            <a:ext cx="1071360" cy="928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360" y="620640"/>
            <a:ext cx="14288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  <p:sndAc>
      <p:stSnd>
        <p:snd r:embed="rId5" name="audio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13" descr="ngo-7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имой бывает веселый праздник Новый год. Его любят и дети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и взрослые. А Дед Мороз дарит всем подарк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x_ba89149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17375e"/>
                </a:solidFill>
                <a:latin typeface="Arial Black"/>
              </a:rPr>
              <a:t>Нам нравится зима!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24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1000"/>
          </a:bodyPr>
          <a:p>
            <a:pPr indent="0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КОНЕЦ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www.mamuski.ru/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shkoladetei.ru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fanparty.ru/fanclubs/ded-moroz/pictures/423965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kz.narod.ru/2007.html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ua.redtram.com/go/286515443/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 Black"/>
              </a:rPr>
              <a:t>http://www.hqfon.ru/pics/categories/prazdniki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9" descr="0_502e9_a08484cd_XL.jpg"/>
          <p:cNvPicPr/>
          <p:nvPr/>
        </p:nvPicPr>
        <p:blipFill>
          <a:blip r:embed="rId1"/>
          <a:stretch/>
        </p:blipFill>
        <p:spPr>
          <a:xfrm>
            <a:off x="0" y="135720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има  длится три месяца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3"/>
          <p:cNvSpPr/>
          <p:nvPr/>
        </p:nvSpPr>
        <p:spPr>
          <a:xfrm flipH="1" flipV="1" rot="10800000">
            <a:off x="3357000" y="2285640"/>
            <a:ext cx="2214360" cy="13568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Arial Black"/>
              </a:rPr>
              <a:t>Ян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6"/>
          <p:cNvSpPr/>
          <p:nvPr/>
        </p:nvSpPr>
        <p:spPr>
          <a:xfrm>
            <a:off x="285840" y="5214960"/>
            <a:ext cx="2571480" cy="107136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Arial Black"/>
              </a:rPr>
              <a:t>Дека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429240" y="5286240"/>
            <a:ext cx="2499840" cy="11282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Arial Black"/>
              </a:rPr>
              <a:t>Фев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11december_signs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ни зимой еще короче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чем осенью. Солнце редко выглядывает из- за туч и греет землю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bf2a0d0a1064.jpg"/>
          <p:cNvPicPr/>
          <p:nvPr/>
        </p:nvPicPr>
        <p:blipFill>
          <a:blip r:embed="rId1"/>
          <a:stretch/>
        </p:blipFill>
        <p:spPr>
          <a:xfrm>
            <a:off x="0" y="-500040"/>
            <a:ext cx="9143640" cy="735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5286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d0d0d"/>
                </a:solidFill>
                <a:latin typeface="Arial Black"/>
              </a:rPr>
              <a:t>Снег покрыл землю пушистым покрывалом. Деревья и кустарники  тоже в снег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35711052_962.jpg"/>
          <p:cNvPicPr/>
          <p:nvPr/>
        </p:nvPicPr>
        <p:blipFill>
          <a:blip r:embed="rId1"/>
          <a:stretch/>
        </p:blipFill>
        <p:spPr>
          <a:xfrm>
            <a:off x="0" y="-71280"/>
            <a:ext cx="9143640" cy="6928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d0d0d"/>
                </a:solidFill>
                <a:latin typeface="Arial Black"/>
              </a:rPr>
              <a:t>Лес похож на сказочный терем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4201_Loxiacurvirostracurvirostra02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5000" y="4071960"/>
            <a:ext cx="342864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тиц в </a:t>
            </a:r>
            <a:r>
              <a:rPr b="0" lang="ru-RU" sz="2700" spc="-1" strike="noStrike">
                <a:solidFill>
                  <a:srgbClr val="000000"/>
                </a:solidFill>
                <a:latin typeface="Arial Black"/>
              </a:rPr>
              <a:t>лесу осталось мало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Лесные звери укрываются от холода в дуплах и норах или зарываются в глубокий сне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Животные-Германии.jpg"/>
          <p:cNvPicPr/>
          <p:nvPr/>
        </p:nvPicPr>
        <p:blipFill>
          <a:blip r:embed="rId1"/>
          <a:stretch/>
        </p:blipFill>
        <p:spPr>
          <a:xfrm>
            <a:off x="214200" y="1428840"/>
            <a:ext cx="3928680" cy="3285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020.jpg"/>
          <p:cNvPicPr/>
          <p:nvPr/>
        </p:nvPicPr>
        <p:blipFill>
          <a:blip r:embed="rId2"/>
          <a:stretch/>
        </p:blipFill>
        <p:spPr>
          <a:xfrm>
            <a:off x="4286160" y="3071880"/>
            <a:ext cx="4643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ти зимой катаются на санках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лыжах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оньках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8" descr="x_197a57b6.jpg"/>
          <p:cNvPicPr/>
          <p:nvPr/>
        </p:nvPicPr>
        <p:blipFill>
          <a:blip r:embed="rId1"/>
          <a:stretch/>
        </p:blipFill>
        <p:spPr>
          <a:xfrm>
            <a:off x="214200" y="1143000"/>
            <a:ext cx="4357440" cy="37144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9" descr="4423842-sister-and-brother-on-sledge-winter-friendship.jpg"/>
          <p:cNvPicPr/>
          <p:nvPr/>
        </p:nvPicPr>
        <p:blipFill>
          <a:blip r:embed="rId2"/>
          <a:stretch/>
        </p:blipFill>
        <p:spPr>
          <a:xfrm>
            <a:off x="4929120" y="2786040"/>
            <a:ext cx="4000320" cy="37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бята играют в снежки и лепят снежную баб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2090108-happy-kid-having-fun-in-the-snow.jpg"/>
          <p:cNvPicPr/>
          <p:nvPr/>
        </p:nvPicPr>
        <p:blipFill>
          <a:blip r:embed="rId1"/>
          <a:stretch/>
        </p:blipFill>
        <p:spPr>
          <a:xfrm>
            <a:off x="214200" y="1571760"/>
            <a:ext cx="3428640" cy="5000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f0bb8bbf68733b1b70ce70f2a73a1f48.png"/>
          <p:cNvPicPr/>
          <p:nvPr/>
        </p:nvPicPr>
        <p:blipFill>
          <a:blip r:embed="rId2"/>
          <a:stretch/>
        </p:blipFill>
        <p:spPr>
          <a:xfrm>
            <a:off x="3714840" y="2500200"/>
            <a:ext cx="521460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  <Words>129</Words>
  <Paragraphs>1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6:23:40Z</dcterms:created>
  <dc:creator>user</dc:creator>
  <dc:description/>
  <dc:language>en-US</dc:language>
  <cp:lastModifiedBy>м</cp:lastModifiedBy>
  <dcterms:modified xsi:type="dcterms:W3CDTF">2012-12-20T14:55:01Z</dcterms:modified>
  <cp:revision>41</cp:revision>
  <dc:subject/>
  <dc:title>З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