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62A-E9F1-4CB8-BEF2-E0BBFCC52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DB3-347B-45C2-A90D-D0D767D85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1C65-D913-4620-A47C-0A359F7CF4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C29F-E1DE-4EF5-9D7F-17CCA29537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C31-05B5-4A0F-8984-313692E0C0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F0D-6BF6-44B5-A64E-86E01AAF08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32E-35B4-4344-B2B9-00845F4020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C35-B412-468D-9495-2DCF46FED6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B5F-7EE1-4343-A0F9-838F3F55C2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6C2-7A81-447B-89E2-6029E8041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5E2-64D7-426A-8D29-9F8AEA0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913-AEB1-4093-A990-B951C633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2A2-67F2-4BAA-A6AA-D1A5D62A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8D3-61E1-4624-A724-FF18AB07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6F3-017E-48E6-81DF-A62CFC0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B43-E855-49F9-B6BB-45E8A6A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A3B-5568-4557-8616-35247D6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7E1-0C1A-4236-A1C6-D7DE0DF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189-84BD-49BC-B699-1213EAA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29D-3F3D-429E-B87C-AEAC428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80F-A307-4C1F-99E3-0F2EF2C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4FF-1E77-4F97-8678-DA0078D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3EC2-2C60-48A9-92FF-ACA72BC2F0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853416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ccff"/>
                </a:solidFill>
                <a:latin typeface="Tahoma"/>
              </a:rPr>
              <a:t>Ich kann das machen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3657600" y="6248520"/>
            <a:ext cx="1924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130560" cy="542916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914400" y="190512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d fahr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06360" y="0"/>
            <a:ext cx="565956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5029200" y="4724280"/>
            <a:ext cx="3429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ng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419640" y="152280"/>
            <a:ext cx="5533920" cy="632484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380880" y="3886200"/>
            <a:ext cx="3124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l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0"/>
            <a:ext cx="40258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066680" y="3733920"/>
            <a:ext cx="351468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pring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4469040" cy="653904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886200" y="2819520"/>
            <a:ext cx="4743360" cy="11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hreib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667400" cy="59245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533520" y="1371600"/>
            <a:ext cx="321948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rn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442120" cy="601956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4648320" y="4495680"/>
            <a:ext cx="34812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nz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4924440" cy="6705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1066680" y="3505320"/>
            <a:ext cx="29718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sen</a:t>
            </a:r>
            <a:endParaRPr b="0" lang="en-US" sz="1800" spc="1" strike="noStrike">
              <a:ln w="0">
                <a:noFill/>
              </a:ln>
              <a:solidFill>
                <a:srgbClr val="66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2-03T07:15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