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55F-8A14-4D64-ACEC-C1DA72B8F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F444-A462-4E8E-8C38-0C8F05A554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062E-ABD1-4A39-9B01-8737B4B330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45AB-C9CB-41B3-8892-B0FB5B6DC4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983-921C-4EC2-B3CA-A03FF7376C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F4AB-BABE-4D1C-8A0C-C3176D8B75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D753-531B-4F01-A4B3-A2515E8616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3B1-FD48-4F8E-A352-819C80723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4602-7774-43DF-8D34-FB441B3C87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568E-E8E6-406D-8743-F07B1B9474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EFD-2C5A-445A-8E2F-11568807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903-9680-421B-952D-C7363FCA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D70-A380-45D3-8FD9-E5E1600F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FEB-D9C2-48E1-86ED-27386AF0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C53-7C3C-4353-B396-F81DC2A7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E16-593B-4332-B634-DB1DE29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951-B2B2-4AFB-BBD6-5A5F9C7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5B8-C67D-4585-AE02-C2FB82FD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D26-9BE4-4496-860C-9AABBA72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672-0C0B-4FF4-B132-978C9AF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515-5832-4CE6-A459-670395D1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C6D-72F2-4BB4-8ECD-A1384C1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731-6953-4E86-A56E-EA37452B75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853416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ccff"/>
                </a:solidFill>
                <a:latin typeface="Tahoma"/>
              </a:rPr>
              <a:t>Ich kann das machen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3657600" y="6248520"/>
            <a:ext cx="1924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130560" cy="54291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914400" y="190512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d fahr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06360" y="0"/>
            <a:ext cx="565956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5029200" y="4724280"/>
            <a:ext cx="34290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ng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419640" y="152280"/>
            <a:ext cx="5533920" cy="632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380880" y="3886200"/>
            <a:ext cx="3124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l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0"/>
            <a:ext cx="40258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066680" y="3733920"/>
            <a:ext cx="35146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pring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4469040" cy="653904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3886200" y="2819520"/>
            <a:ext cx="474336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hreib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667400" cy="592452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533520" y="1371600"/>
            <a:ext cx="321948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rn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442120" cy="601956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4648320" y="4495680"/>
            <a:ext cx="34812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nz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492444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WordArt 7"/>
          <p:cNvSpPr txBox="1"/>
          <p:nvPr/>
        </p:nvSpPr>
        <p:spPr>
          <a:xfrm>
            <a:off x="1066680" y="3505320"/>
            <a:ext cx="29718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s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2-03T07:15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