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4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7146-FD46-4F0C-A074-DFD0D0C5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131-B733-4FF3-949A-6D7898C1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902-8327-4A57-B0B0-AB232575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47E-9CD1-4CD6-919A-C4A77F45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FE128-7D88-4371-B224-0FB1F547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8FD82-FAD8-40B0-AB77-305D19E0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BFFBF-62FB-4EC0-AD07-22B0FC30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A6D46-A626-4F74-B7BC-66186F64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954A3-B0A0-492D-9608-A0BCA3C5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C35BA-57B9-456C-A7F8-61C9443E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A9C4F-7D99-49E1-A5AB-4D8DC185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DA1-E807-488F-9EEC-E11E6883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DC700-3B09-45E4-95A6-10588A50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83B24-AAEC-4877-A605-B9DE18AA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EDBEA-7656-4FB2-86F4-CE50970B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36329-D5BE-4C43-8EC4-9876AE01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2B173-65FE-4329-935C-023BD749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9EA-4753-4BE6-94D8-A4189627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E25-B620-4DE1-BE45-DC3BDD2E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E54C-CA61-422B-B2A1-774BF239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5B5C-26FC-40AE-9A82-6322D5C1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235-3D0B-435E-8F5E-6759015F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83D-F25F-4823-89FC-91DA6D9B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B05-039C-457F-9E2B-FF97B417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38FD-42BD-4865-97D1-DEA14B9AF5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0377-E58B-43B2-91BC-197446E2C5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6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приложение-1"/>
          <p:cNvPicPr/>
          <p:nvPr/>
        </p:nvPicPr>
        <p:blipFill>
          <a:blip r:embed="rId1"/>
          <a:stretch/>
        </p:blipFill>
        <p:spPr>
          <a:xfrm>
            <a:off x="0" y="1125360"/>
            <a:ext cx="6948360" cy="5732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 rot="5400000">
            <a:off x="7980480" y="107964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6804000" y="221940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6944040" y="1892160"/>
            <a:ext cx="1893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ruh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mm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erb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1332000" y="18900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Heute  ist  der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. M</a:t>
            </a:r>
            <a:r>
              <a:rPr b="1" lang="de-DE" sz="4000" spc="-1" strike="noStrike">
                <a:solidFill>
                  <a:srgbClr val="000000"/>
                </a:solidFill>
                <a:latin typeface="Tahoma"/>
              </a:rPr>
              <a:t>ärz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cc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00039732"/>
          <p:cNvPicPr/>
          <p:nvPr/>
        </p:nvPicPr>
        <p:blipFill>
          <a:blip r:embed="rId1"/>
          <a:stretch/>
        </p:blipFill>
        <p:spPr>
          <a:xfrm>
            <a:off x="6227640" y="5613480"/>
            <a:ext cx="1727280" cy="1244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34" name="Picture 6" descr="00038101"/>
          <p:cNvPicPr/>
          <p:nvPr/>
        </p:nvPicPr>
        <p:blipFill>
          <a:blip r:embed="rId2"/>
          <a:stretch/>
        </p:blipFill>
        <p:spPr>
          <a:xfrm>
            <a:off x="2124000" y="1341360"/>
            <a:ext cx="2162160" cy="145260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pic>
        <p:nvPicPr>
          <p:cNvPr id="135" name="Picture 8" descr="00041009"/>
          <p:cNvPicPr/>
          <p:nvPr/>
        </p:nvPicPr>
        <p:blipFill>
          <a:blip r:embed="rId3"/>
          <a:stretch/>
        </p:blipFill>
        <p:spPr>
          <a:xfrm>
            <a:off x="4356000" y="1173240"/>
            <a:ext cx="2376720" cy="158256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pic>
        <p:nvPicPr>
          <p:cNvPr id="136" name="Picture 11" descr="00043866"/>
          <p:cNvPicPr/>
          <p:nvPr/>
        </p:nvPicPr>
        <p:blipFill>
          <a:blip r:embed="rId4"/>
          <a:stretch/>
        </p:blipFill>
        <p:spPr>
          <a:xfrm>
            <a:off x="6300720" y="2421000"/>
            <a:ext cx="2664000" cy="1998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37" name="Picture 13" descr="00040052"/>
          <p:cNvPicPr/>
          <p:nvPr/>
        </p:nvPicPr>
        <p:blipFill>
          <a:blip r:embed="rId5"/>
          <a:stretch/>
        </p:blipFill>
        <p:spPr>
          <a:xfrm>
            <a:off x="250920" y="2492280"/>
            <a:ext cx="2879640" cy="1920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38" name="Text Box 15"/>
          <p:cNvSpPr/>
          <p:nvPr/>
        </p:nvSpPr>
        <p:spPr>
          <a:xfrm>
            <a:off x="3132000" y="2781360"/>
            <a:ext cx="3024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Black"/>
              </a:rPr>
              <a:t>Die Menschen sammeln P... und B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Black"/>
              </a:rPr>
              <a:t>Im Garten sammeln sie Äp… und Bi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5940360" y="4869000"/>
            <a:ext cx="2987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Black"/>
              </a:rPr>
              <a:t>Im Herbst gehen die Kinder in die 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17" descr="CCD69C71"/>
          <p:cNvPicPr/>
          <p:nvPr/>
        </p:nvPicPr>
        <p:blipFill>
          <a:blip r:embed="rId6"/>
          <a:stretch/>
        </p:blipFill>
        <p:spPr>
          <a:xfrm>
            <a:off x="324000" y="4697280"/>
            <a:ext cx="2598480" cy="175896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pic>
        <p:nvPicPr>
          <p:cNvPr id="141" name="Picture 18" descr="P9150006"/>
          <p:cNvPicPr/>
          <p:nvPr/>
        </p:nvPicPr>
        <p:blipFill>
          <a:blip r:embed="rId7"/>
          <a:stretch/>
        </p:blipFill>
        <p:spPr>
          <a:xfrm>
            <a:off x="3276720" y="4724280"/>
            <a:ext cx="2311200" cy="173376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000099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6"/>
          <p:cNvSpPr/>
          <p:nvPr/>
        </p:nvSpPr>
        <p:spPr>
          <a:xfrm>
            <a:off x="179280" y="1197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 Black"/>
              </a:rPr>
              <a:t>Wie sieht deine Stadt  zu verschiedenen Jahreszeiten au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1692360" y="1268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179280" y="2068560"/>
            <a:ext cx="633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ist W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Meine Stadt  sieht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... ... a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Im Winter ist es k…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sch…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ie Schneeflocken fallen auf die 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Alles ist w…: die Parks, die Häuser, die Höfe, die Str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ie K... laufen Schi und Schl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Sie machen Schnee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Ich habe den W... ger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20" descr="00039617"/>
          <p:cNvPicPr/>
          <p:nvPr/>
        </p:nvPicPr>
        <p:blipFill>
          <a:blip r:embed="rId1"/>
          <a:stretch/>
        </p:blipFill>
        <p:spPr>
          <a:xfrm>
            <a:off x="6659640" y="2565360"/>
            <a:ext cx="2305080" cy="410544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000099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0" y="1641600"/>
            <a:ext cx="6589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ist Fr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Meine Stadt sieht ... ... a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ist nicht mehr so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ist w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ie Sonne scheint h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er Himmel ist b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er Schnee t…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Wir sehen die ersten Bl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ie Kinder pflanzen Bäu... und Bl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Ich habe den Fr... ger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00039815"/>
          <p:cNvPicPr/>
          <p:nvPr/>
        </p:nvPicPr>
        <p:blipFill>
          <a:blip r:embed="rId1"/>
          <a:stretch/>
        </p:blipFill>
        <p:spPr>
          <a:xfrm>
            <a:off x="5724360" y="1844640"/>
            <a:ext cx="3132360" cy="288144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000099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179280" y="1484280"/>
            <a:ext cx="5472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ist S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Meine Stadt sieht ... ... a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ie Sonne scheint h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ist son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ist hei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as Wetter ist sch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Alles blüht und gr…n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ie Kinder b..., schw..., spielen B..., Fuβ…, 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Sie fahren auch R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Ich habe den S... ger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00040318"/>
          <p:cNvPicPr/>
          <p:nvPr/>
        </p:nvPicPr>
        <p:blipFill>
          <a:blip r:embed="rId1"/>
          <a:stretch/>
        </p:blipFill>
        <p:spPr>
          <a:xfrm>
            <a:off x="5796000" y="2133720"/>
            <a:ext cx="2727360" cy="424800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0" y="787320"/>
            <a:ext cx="8172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ist H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ist win…  . Es ist bew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er Himmel ist gr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r... oft. Es ist Un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gibt Gew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Aber manchmal ist das Wetter sch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Es ist h... und s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ie Natur ist sehr sch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ie Bäume sind r… und g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ie Menschen sammeln P... und B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Im Garten sammeln sie Äp… und Bi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Im Herbst gehen die Kinder in die 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Im Herbst sieht mei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 Stadt</a:t>
            </a: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 ... a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Ich habe den H... ger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00038139"/>
          <p:cNvPicPr/>
          <p:nvPr/>
        </p:nvPicPr>
        <p:blipFill>
          <a:blip r:embed="rId2"/>
          <a:stretch/>
        </p:blipFill>
        <p:spPr>
          <a:xfrm>
            <a:off x="7093080" y="1052640"/>
            <a:ext cx="2050920" cy="4176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22"/>
          <p:cNvSpPr/>
          <p:nvPr/>
        </p:nvSpPr>
        <p:spPr>
          <a:xfrm>
            <a:off x="2535120" y="-260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332000" y="476280"/>
          <a:ext cx="6095880" cy="574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696960"/>
                <a:gridCol w="82728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 w="1872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635280" y="3068640"/>
          <a:ext cx="762120" cy="3159000"/>
        </p:xfrm>
        <a:graphic>
          <a:graphicData uri="http://schemas.openxmlformats.org/drawingml/2006/table">
            <a:tbl>
              <a:tblPr/>
              <a:tblGrid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076720" y="2565360"/>
          <a:ext cx="827280" cy="3159000"/>
        </p:xfrm>
        <a:graphic>
          <a:graphicData uri="http://schemas.openxmlformats.org/drawingml/2006/table">
            <a:tbl>
              <a:tblPr/>
              <a:tblGrid>
                <a:gridCol w="8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124000" y="476280"/>
          <a:ext cx="762120" cy="3108240"/>
        </p:xfrm>
        <a:graphic>
          <a:graphicData uri="http://schemas.openxmlformats.org/drawingml/2006/table">
            <a:tbl>
              <a:tblPr/>
              <a:tblGrid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332000" y="3068640"/>
          <a:ext cx="6095880" cy="10303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696960"/>
                <a:gridCol w="827280"/>
                <a:gridCol w="761760"/>
                <a:gridCol w="762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2" descr="00043151"/>
          <p:cNvPicPr/>
          <p:nvPr/>
        </p:nvPicPr>
        <p:blipFill>
          <a:blip r:embed="rId1"/>
          <a:stretch/>
        </p:blipFill>
        <p:spPr>
          <a:xfrm>
            <a:off x="3492360" y="1413000"/>
            <a:ext cx="1719360" cy="2576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89" name="Picture 6" descr="00039739"/>
          <p:cNvPicPr/>
          <p:nvPr/>
        </p:nvPicPr>
        <p:blipFill>
          <a:blip r:embed="rId2"/>
          <a:stretch/>
        </p:blipFill>
        <p:spPr>
          <a:xfrm>
            <a:off x="468360" y="1341360"/>
            <a:ext cx="2800440" cy="349884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pic>
        <p:nvPicPr>
          <p:cNvPr id="90" name="Picture 5" descr="'Rundkirche' in Seiffen"/>
          <p:cNvPicPr/>
          <p:nvPr/>
        </p:nvPicPr>
        <p:blipFill>
          <a:blip r:embed="rId3"/>
          <a:stretch/>
        </p:blipFill>
        <p:spPr>
          <a:xfrm>
            <a:off x="5508720" y="1700280"/>
            <a:ext cx="3112920" cy="4724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1" name="Picture 4" descr="Kurhaus"/>
          <p:cNvPicPr/>
          <p:nvPr/>
        </p:nvPicPr>
        <p:blipFill>
          <a:blip r:embed="rId4"/>
          <a:stretch/>
        </p:blipFill>
        <p:spPr>
          <a:xfrm>
            <a:off x="1476360" y="3716280"/>
            <a:ext cx="3816360" cy="2664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92" name="WordArt 13"/>
          <p:cNvSpPr txBox="1"/>
          <p:nvPr/>
        </p:nvSpPr>
        <p:spPr>
          <a:xfrm>
            <a:off x="358920" y="549360"/>
            <a:ext cx="83167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86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86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Gabis  Stadt  ist  zu  verschiedenen  Jahreszeiten.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86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00039617"/>
          <p:cNvPicPr/>
          <p:nvPr/>
        </p:nvPicPr>
        <p:blipFill>
          <a:blip r:embed="rId1"/>
          <a:stretch/>
        </p:blipFill>
        <p:spPr>
          <a:xfrm>
            <a:off x="0" y="4325760"/>
            <a:ext cx="3384720" cy="25322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4" name="Picture 7" descr="00039437"/>
          <p:cNvPicPr/>
          <p:nvPr/>
        </p:nvPicPr>
        <p:blipFill>
          <a:blip r:embed="rId2"/>
          <a:stretch/>
        </p:blipFill>
        <p:spPr>
          <a:xfrm>
            <a:off x="1619280" y="2852640"/>
            <a:ext cx="3600360" cy="2624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5" name="Picture 10" descr="DSC05063"/>
          <p:cNvPicPr/>
          <p:nvPr/>
        </p:nvPicPr>
        <p:blipFill>
          <a:blip r:embed="rId3"/>
          <a:stretch/>
        </p:blipFill>
        <p:spPr>
          <a:xfrm>
            <a:off x="0" y="1197000"/>
            <a:ext cx="3598920" cy="2408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96" name="Text Box 12"/>
          <p:cNvSpPr/>
          <p:nvPr/>
        </p:nvSpPr>
        <p:spPr>
          <a:xfrm>
            <a:off x="5364000" y="1058760"/>
            <a:ext cx="34578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Die Stadt ist in allen Jahreszeiten sehr sch</a:t>
            </a: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Arial"/>
              </a:rPr>
              <a:t>ö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Arial"/>
              </a:rPr>
              <a:t>Im Winter ist es k…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Arial"/>
              </a:rPr>
              <a:t>Es sch…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Arial"/>
              </a:rPr>
              <a:t>Die Schneeflocken fallen auf die E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  <a:ea typeface="Arial"/>
              </a:rPr>
              <a:t>Alles ist w…: die Parks, die Häuser, die Höfe, die Str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00039113"/>
          <p:cNvPicPr/>
          <p:nvPr/>
        </p:nvPicPr>
        <p:blipFill>
          <a:blip r:embed="rId1"/>
          <a:stretch/>
        </p:blipFill>
        <p:spPr>
          <a:xfrm>
            <a:off x="5076720" y="1773360"/>
            <a:ext cx="3745080" cy="29955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8" name="Picture 6" descr="00039079"/>
          <p:cNvPicPr/>
          <p:nvPr/>
        </p:nvPicPr>
        <p:blipFill>
          <a:blip r:embed="rId2"/>
          <a:stretch/>
        </p:blipFill>
        <p:spPr>
          <a:xfrm>
            <a:off x="324000" y="1700280"/>
            <a:ext cx="3816360" cy="30528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9" name="Picture 10" descr="00046684"/>
          <p:cNvPicPr/>
          <p:nvPr/>
        </p:nvPicPr>
        <p:blipFill>
          <a:blip r:embed="rId3"/>
          <a:stretch/>
        </p:blipFill>
        <p:spPr>
          <a:xfrm>
            <a:off x="1763640" y="3789360"/>
            <a:ext cx="4248360" cy="2820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0" name="Text Box 11"/>
          <p:cNvSpPr/>
          <p:nvPr/>
        </p:nvSpPr>
        <p:spPr>
          <a:xfrm>
            <a:off x="1692360" y="105264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Die K... laufen Schi und Schl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Sie machen Schneeball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2" descr="зарница, юбилей 013"/>
          <p:cNvPicPr/>
          <p:nvPr/>
        </p:nvPicPr>
        <p:blipFill>
          <a:blip r:embed="rId4"/>
          <a:stretch/>
        </p:blipFill>
        <p:spPr>
          <a:xfrm>
            <a:off x="6227640" y="4869000"/>
            <a:ext cx="2313000" cy="17348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1" descr="00040918"/>
          <p:cNvPicPr/>
          <p:nvPr/>
        </p:nvPicPr>
        <p:blipFill>
          <a:blip r:embed="rId1"/>
          <a:stretch/>
        </p:blipFill>
        <p:spPr>
          <a:xfrm>
            <a:off x="3780000" y="2637000"/>
            <a:ext cx="1893600" cy="151596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pic>
        <p:nvPicPr>
          <p:cNvPr id="103" name="Picture 4" descr="00041079"/>
          <p:cNvPicPr/>
          <p:nvPr/>
        </p:nvPicPr>
        <p:blipFill>
          <a:blip r:embed="rId2"/>
          <a:stretch/>
        </p:blipFill>
        <p:spPr>
          <a:xfrm>
            <a:off x="5365800" y="1484280"/>
            <a:ext cx="3778200" cy="25178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4" name="Picture 6" descr="00039815"/>
          <p:cNvPicPr/>
          <p:nvPr/>
        </p:nvPicPr>
        <p:blipFill>
          <a:blip r:embed="rId3"/>
          <a:stretch/>
        </p:blipFill>
        <p:spPr>
          <a:xfrm>
            <a:off x="395280" y="4365720"/>
            <a:ext cx="3816360" cy="2492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5" name="Picture 7" descr="00042077"/>
          <p:cNvPicPr/>
          <p:nvPr/>
        </p:nvPicPr>
        <p:blipFill>
          <a:blip r:embed="rId4"/>
          <a:stretch/>
        </p:blipFill>
        <p:spPr>
          <a:xfrm>
            <a:off x="4859280" y="4149720"/>
            <a:ext cx="3745080" cy="2495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6" name="Text Box 8"/>
          <p:cNvSpPr/>
          <p:nvPr/>
        </p:nvSpPr>
        <p:spPr>
          <a:xfrm>
            <a:off x="468360" y="1268280"/>
            <a:ext cx="4032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Es ist Frühl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Es ist nicht mehr so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Es ist w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Die Sonne scheint h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Der Himmel ist b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Der Schnee t…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москва 005"/>
          <p:cNvPicPr/>
          <p:nvPr/>
        </p:nvPicPr>
        <p:blipFill>
          <a:blip r:embed="rId1"/>
          <a:stretch/>
        </p:blipFill>
        <p:spPr>
          <a:xfrm>
            <a:off x="4643280" y="3500280"/>
            <a:ext cx="4148280" cy="3105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8" name="Picture 8" descr="рекина 034"/>
          <p:cNvPicPr/>
          <p:nvPr/>
        </p:nvPicPr>
        <p:blipFill>
          <a:blip r:embed="rId2"/>
          <a:stretch/>
        </p:blipFill>
        <p:spPr>
          <a:xfrm>
            <a:off x="684360" y="4098960"/>
            <a:ext cx="3679560" cy="2759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9" name="Picture 4" descr="москва 003"/>
          <p:cNvPicPr/>
          <p:nvPr/>
        </p:nvPicPr>
        <p:blipFill>
          <a:blip r:embed="rId3"/>
          <a:stretch/>
        </p:blipFill>
        <p:spPr>
          <a:xfrm>
            <a:off x="684360" y="1268280"/>
            <a:ext cx="3671640" cy="2743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0" name="Text Box 9"/>
          <p:cNvSpPr/>
          <p:nvPr/>
        </p:nvSpPr>
        <p:spPr>
          <a:xfrm>
            <a:off x="4572000" y="119700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Wir sehen die ersten Bl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Die Kinder pflanzen Bäu... und Blu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0" descr="00043151"/>
          <p:cNvPicPr/>
          <p:nvPr/>
        </p:nvPicPr>
        <p:blipFill>
          <a:blip r:embed="rId4"/>
          <a:stretch/>
        </p:blipFill>
        <p:spPr>
          <a:xfrm>
            <a:off x="3924360" y="2565360"/>
            <a:ext cx="2343240" cy="35114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0000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8" descr="00039412"/>
          <p:cNvPicPr/>
          <p:nvPr/>
        </p:nvPicPr>
        <p:blipFill>
          <a:blip r:embed="rId1"/>
          <a:stretch/>
        </p:blipFill>
        <p:spPr>
          <a:xfrm>
            <a:off x="4716360" y="3860640"/>
            <a:ext cx="2282760" cy="2997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3" name="Picture 11" descr="Средневековая ратуша в Бремене"/>
          <p:cNvPicPr/>
          <p:nvPr/>
        </p:nvPicPr>
        <p:blipFill>
          <a:blip r:embed="rId2"/>
          <a:stretch/>
        </p:blipFill>
        <p:spPr>
          <a:xfrm>
            <a:off x="324000" y="1197000"/>
            <a:ext cx="4176720" cy="2633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4" name="Picture 12" descr="Kurhaus"/>
          <p:cNvPicPr/>
          <p:nvPr/>
        </p:nvPicPr>
        <p:blipFill>
          <a:blip r:embed="rId3"/>
          <a:stretch/>
        </p:blipFill>
        <p:spPr>
          <a:xfrm>
            <a:off x="250920" y="3867120"/>
            <a:ext cx="4284720" cy="2990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5" name="Picture 4" descr="00040318"/>
          <p:cNvPicPr/>
          <p:nvPr/>
        </p:nvPicPr>
        <p:blipFill>
          <a:blip r:embed="rId4"/>
          <a:stretch/>
        </p:blipFill>
        <p:spPr>
          <a:xfrm>
            <a:off x="7164360" y="4402080"/>
            <a:ext cx="1719360" cy="2455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6" name="Text Box 13"/>
          <p:cNvSpPr/>
          <p:nvPr/>
        </p:nvSpPr>
        <p:spPr>
          <a:xfrm>
            <a:off x="5580000" y="76500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5219640" y="1125360"/>
            <a:ext cx="33116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Black"/>
              </a:rPr>
              <a:t>Es ist S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Black"/>
              </a:rPr>
              <a:t>Die Sonne scheint h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Black"/>
              </a:rPr>
              <a:t>Es ist son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Black"/>
              </a:rPr>
              <a:t>Es ist hei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Black"/>
              </a:rPr>
              <a:t>Das Wetter ist sch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Black"/>
              </a:rPr>
              <a:t>Alles blüht und gr…nt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0000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поход 2007 007"/>
          <p:cNvPicPr/>
          <p:nvPr/>
        </p:nvPicPr>
        <p:blipFill>
          <a:blip r:embed="rId1"/>
          <a:stretch/>
        </p:blipFill>
        <p:spPr>
          <a:xfrm>
            <a:off x="324000" y="1844640"/>
            <a:ext cx="3346200" cy="25146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9" name="Picture 13" descr="поход 2007 028"/>
          <p:cNvPicPr/>
          <p:nvPr/>
        </p:nvPicPr>
        <p:blipFill>
          <a:blip r:embed="rId2"/>
          <a:stretch/>
        </p:blipFill>
        <p:spPr>
          <a:xfrm>
            <a:off x="324000" y="4005360"/>
            <a:ext cx="2665440" cy="20271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0" name="Picture 10" descr="00046647"/>
          <p:cNvPicPr/>
          <p:nvPr/>
        </p:nvPicPr>
        <p:blipFill>
          <a:blip r:embed="rId3"/>
          <a:stretch/>
        </p:blipFill>
        <p:spPr>
          <a:xfrm>
            <a:off x="2124000" y="5013360"/>
            <a:ext cx="2038320" cy="16304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1" name="Picture 8" descr="00046672"/>
          <p:cNvPicPr/>
          <p:nvPr/>
        </p:nvPicPr>
        <p:blipFill>
          <a:blip r:embed="rId4"/>
          <a:stretch/>
        </p:blipFill>
        <p:spPr>
          <a:xfrm>
            <a:off x="3924360" y="5302080"/>
            <a:ext cx="1944720" cy="1555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2" name="Picture 9" descr="00046670"/>
          <p:cNvPicPr/>
          <p:nvPr/>
        </p:nvPicPr>
        <p:blipFill>
          <a:blip r:embed="rId5"/>
          <a:stretch/>
        </p:blipFill>
        <p:spPr>
          <a:xfrm>
            <a:off x="6012000" y="4797360"/>
            <a:ext cx="2182680" cy="17445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3" name="Picture 11" descr="00046505"/>
          <p:cNvPicPr/>
          <p:nvPr/>
        </p:nvPicPr>
        <p:blipFill>
          <a:blip r:embed="rId6"/>
          <a:stretch/>
        </p:blipFill>
        <p:spPr>
          <a:xfrm>
            <a:off x="6659640" y="3141720"/>
            <a:ext cx="2195280" cy="17571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4" name="Picture 14" descr="00019082"/>
          <p:cNvPicPr/>
          <p:nvPr/>
        </p:nvPicPr>
        <p:blipFill>
          <a:blip r:embed="rId7"/>
          <a:stretch/>
        </p:blipFill>
        <p:spPr>
          <a:xfrm>
            <a:off x="4500720" y="3068640"/>
            <a:ext cx="1873080" cy="187308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sp>
        <p:nvSpPr>
          <p:cNvPr id="125" name="Text Box 12"/>
          <p:cNvSpPr/>
          <p:nvPr/>
        </p:nvSpPr>
        <p:spPr>
          <a:xfrm>
            <a:off x="3780000" y="1484280"/>
            <a:ext cx="5545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Die Kinder b..., schw..., spielen B..., Fuβ…, T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Black"/>
              </a:rPr>
              <a:t>Sie fahren auch R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00038164"/>
          <p:cNvPicPr/>
          <p:nvPr/>
        </p:nvPicPr>
        <p:blipFill>
          <a:blip r:embed="rId1"/>
          <a:stretch/>
        </p:blipFill>
        <p:spPr>
          <a:xfrm>
            <a:off x="4968720" y="1268280"/>
            <a:ext cx="4175280" cy="2484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7" name="Picture 4" descr="00038140"/>
          <p:cNvPicPr/>
          <p:nvPr/>
        </p:nvPicPr>
        <p:blipFill>
          <a:blip r:embed="rId2"/>
          <a:stretch/>
        </p:blipFill>
        <p:spPr>
          <a:xfrm>
            <a:off x="2771640" y="1268280"/>
            <a:ext cx="3168720" cy="2119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8" name="Picture 7" descr="00038326"/>
          <p:cNvPicPr/>
          <p:nvPr/>
        </p:nvPicPr>
        <p:blipFill>
          <a:blip r:embed="rId3"/>
          <a:stretch/>
        </p:blipFill>
        <p:spPr>
          <a:xfrm>
            <a:off x="6948360" y="2349360"/>
            <a:ext cx="1830600" cy="1871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29" name="Picture 21" descr="00041048"/>
          <p:cNvPicPr/>
          <p:nvPr/>
        </p:nvPicPr>
        <p:blipFill>
          <a:blip r:embed="rId4"/>
          <a:stretch/>
        </p:blipFill>
        <p:spPr>
          <a:xfrm>
            <a:off x="395280" y="5013360"/>
            <a:ext cx="2789280" cy="1844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30" name="Text Box 23"/>
          <p:cNvSpPr/>
          <p:nvPr/>
        </p:nvSpPr>
        <p:spPr>
          <a:xfrm>
            <a:off x="0" y="1557360"/>
            <a:ext cx="29527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Es ist H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Es ist win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Es ist bew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Der Himmel ist gr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Es r... of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Es ist Un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Es gibt Gew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5364000" y="4292640"/>
            <a:ext cx="37800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Aber manchmal ist das Wetter sch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Es ist h... und s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Die Natur ist sehr sch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Die Bäume sind r… und g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17" descr="00041054"/>
          <p:cNvPicPr/>
          <p:nvPr/>
        </p:nvPicPr>
        <p:blipFill>
          <a:blip r:embed="rId5"/>
          <a:stretch/>
        </p:blipFill>
        <p:spPr>
          <a:xfrm>
            <a:off x="2195640" y="3429000"/>
            <a:ext cx="3240000" cy="2736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7:41:57Z</dcterms:created>
  <dc:creator>1</dc:creator>
  <dc:description/>
  <dc:language>en-US</dc:language>
  <cp:lastModifiedBy>MolotkovaSV</cp:lastModifiedBy>
  <dcterms:modified xsi:type="dcterms:W3CDTF">2016-01-15T06:12:46Z</dcterms:modified>
  <cp:revision>28</cp:revision>
  <dc:subject/>
  <dc:title>Gabis Stadt in verschiedene Jahreszeiten</dc:title>
</cp:coreProperties>
</file>