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999-E482-4AE7-A845-A6A19358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0E9-6D42-4DE7-B55F-CF740D67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BD9-DE72-4823-8C99-6511DB5F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97F-FC88-4787-91E2-AB3F237A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923F-DD22-45CF-B874-BC17ECF4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D83F-9671-4804-A182-AF557F4D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0294-3FDB-4E50-84B9-F632E86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712-3F6F-4375-A04D-C3A102E0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ED7-8526-449B-9207-E65737E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C267-B0D4-4758-A36F-B31BD41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CE63-5E34-447E-BFF0-5EB9E2C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020-833A-4D7F-A273-032675D5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53D6-5D54-4E88-BA2F-A6E618B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A92B-5D95-4EE1-886B-6E9E727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5374-96B8-4AE8-AD88-D753DA28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C1F0-906E-4F29-A7D8-9A7425A9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8C8-0989-476E-A760-BD145877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B89-8E6B-4ADC-B06A-D19EDF6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A31-37A7-4C39-A8D0-2EE9FF8C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226-E54E-42B9-ACD4-362818F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A86-6C52-4A46-B532-966C033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60B-DD11-46D5-9380-FC1AC12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132-EA8B-44F2-898F-72DB1F1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C69-A227-4FCE-9A26-7296FE9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ECB-5E77-4FC2-80E2-96CF482CE5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F0E-4991-4618-9E5A-EDED2D1EE90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Аня"/>
          <p:cNvPicPr/>
          <p:nvPr/>
        </p:nvPicPr>
        <p:blipFill>
          <a:blip r:embed="rId1"/>
          <a:stretch/>
        </p:blipFill>
        <p:spPr>
          <a:xfrm>
            <a:off x="4114800" y="304920"/>
            <a:ext cx="4419720" cy="5314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43400" y="372600"/>
            <a:ext cx="44956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3657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Guten Tag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Ich heiße Anna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Турагентство &quot;Сириус&quot; - Очарование Санкт-Петербурга 5дней/4н…"/>
          <p:cNvPicPr/>
          <p:nvPr/>
        </p:nvPicPr>
        <p:blipFill>
          <a:blip r:embed="rId1"/>
          <a:stretch/>
        </p:blipFill>
        <p:spPr>
          <a:xfrm>
            <a:off x="1066680" y="0"/>
            <a:ext cx="698184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Verdana"/>
              </a:rPr>
              <a:t>Ich habe meine Sommerferien in der Stadt verbracht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Ich habe Computer gespielt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5" descr="Идеи для мам и малюток &quot; Правила общения с компьютером для детей дошкольного возраста"/>
          <p:cNvPicPr/>
          <p:nvPr/>
        </p:nvPicPr>
        <p:blipFill>
          <a:blip r:embed="rId1"/>
          <a:stretch/>
        </p:blipFill>
        <p:spPr>
          <a:xfrm>
            <a:off x="1295280" y="0"/>
            <a:ext cx="6658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Ich habe das Buch gelesen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5" descr="КАРТИНКИ Старый конь gif анимация смайлик аватар скачать рисунок фото бесплатно Старый конь Лошади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Verdana"/>
              </a:rPr>
              <a:t>Mein Lieblingstier ist eine Katze.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5" descr="Сонник. Кошка, кот, котята Сонники для жизни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Die Katze lebt in der Wohnung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2" descr="C:\Documents and Settings\MolotkovaSV\Рабочий стол\дом.jpg"/>
          <p:cNvPicPr/>
          <p:nvPr/>
        </p:nvPicPr>
        <p:blipFill>
          <a:blip r:embed="rId1"/>
          <a:stretch/>
        </p:blipFill>
        <p:spPr>
          <a:xfrm>
            <a:off x="2970360" y="1600200"/>
            <a:ext cx="3203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Sie frisst Wurst und Fisch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2" descr="C:\Documents and Settings\MolotkovaSV\Рабочий стол\киса.jpg"/>
          <p:cNvPicPr/>
          <p:nvPr/>
        </p:nvPicPr>
        <p:blipFill>
          <a:blip r:embed="rId1"/>
          <a:stretch/>
        </p:blipFill>
        <p:spPr>
          <a:xfrm>
            <a:off x="3122640" y="1600200"/>
            <a:ext cx="289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Ich habe meine Sommerferien sehr schön verbracht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2" descr="C:\Documents and Settings\MolotkovaSV\Рабочий стол\довольная.jpeg"/>
          <p:cNvPicPr/>
          <p:nvPr/>
        </p:nvPicPr>
        <p:blipFill>
          <a:blip r:embed="rId1"/>
          <a:stretch/>
        </p:blipFill>
        <p:spPr>
          <a:xfrm>
            <a:off x="1130400" y="1828800"/>
            <a:ext cx="68832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6:48:44Z</dcterms:created>
  <dc:creator>Кристина</dc:creator>
  <dc:description/>
  <dc:language>en-US</dc:language>
  <cp:lastModifiedBy>MolotkovaSV</cp:lastModifiedBy>
  <dcterms:modified xsi:type="dcterms:W3CDTF">2014-11-14T06:20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