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9725-A7DF-460C-97E2-14230225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DD9-D26F-4F2B-886B-9327EFBB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90C8-7A39-43EA-8095-2FA6C440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1E4E-BE9A-4053-AAC6-063D55FF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37C1-FDC2-4FAA-8619-4A7CAC62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E079-248A-4F47-BBA3-41B30800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344F-8D53-477C-8DAB-C4B54AE5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8D52-97D3-453E-B648-844C8216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C6D4-C9FB-4234-9393-CC00164C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921F-CF85-422F-B45C-0C3F2525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6B06-843B-46A2-9AE3-10C43C1B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0766-4295-4026-AC6A-4F425315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FED3-3608-4941-92F9-3C9E165C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3727-B22F-4C02-A28F-30CA5F38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4B7F-5771-4C0E-8981-36966A1F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3E6F-F2D6-4B59-BDED-2734EFAD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1CD7-F01E-4A21-B602-870649D4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CF06-904E-4354-A1A2-7BB33430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D8EB-E80C-4904-A011-0819DFCA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858A-3281-4E7C-A3F9-3271F2D6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586A-F8E7-4E06-A019-59A7F13F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422E-704E-4E7D-BF55-73D9A384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1C4C-3EB6-49CD-8DC2-FAC79132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074A-F7FF-4C4F-91DC-4CB70A5A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3470-E222-46EF-8B46-BC236940A8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FB13-680F-4F72-8A1E-B00563F9A88C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Аня"/>
          <p:cNvPicPr/>
          <p:nvPr/>
        </p:nvPicPr>
        <p:blipFill>
          <a:blip r:embed="rId1"/>
          <a:stretch/>
        </p:blipFill>
        <p:spPr>
          <a:xfrm>
            <a:off x="4114800" y="304920"/>
            <a:ext cx="4419720" cy="53146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43400" y="372600"/>
            <a:ext cx="44956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3657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Guten Tag!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Ich heiße Anna!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Турагентство &quot;Сириус&quot; - Очарование Санкт-Петербурга 5дней/4н…"/>
          <p:cNvPicPr/>
          <p:nvPr/>
        </p:nvPicPr>
        <p:blipFill>
          <a:blip r:embed="rId1"/>
          <a:stretch/>
        </p:blipFill>
        <p:spPr>
          <a:xfrm>
            <a:off x="1066680" y="0"/>
            <a:ext cx="6981840" cy="5029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4572000"/>
            <a:ext cx="822960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Verdana"/>
              </a:rPr>
              <a:t>Ich habe meine Sommerferien in der Stadt verbracht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4572000"/>
            <a:ext cx="822960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Ich habe Computer gespielt.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Picture 5" descr="Идеи для мам и малюток &quot; Правила общения с компьютером для детей дошкольного возраста"/>
          <p:cNvPicPr/>
          <p:nvPr/>
        </p:nvPicPr>
        <p:blipFill>
          <a:blip r:embed="rId1"/>
          <a:stretch/>
        </p:blipFill>
        <p:spPr>
          <a:xfrm>
            <a:off x="1295280" y="0"/>
            <a:ext cx="66582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4648320"/>
            <a:ext cx="8229600" cy="148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Ich habe das Buch gelesen.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Picture 5" descr="КАРТИНКИ Старый конь gif анимация смайлик аватар скачать рисунок фото бесплатно Старый конь Лошади"/>
          <p:cNvPicPr/>
          <p:nvPr/>
        </p:nvPicPr>
        <p:blipFill>
          <a:blip r:embed="rId1"/>
          <a:stretch/>
        </p:blipFill>
        <p:spPr>
          <a:xfrm>
            <a:off x="1295280" y="0"/>
            <a:ext cx="6705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572000"/>
            <a:ext cx="822960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Mein Lieblingstier ist eine Katze.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5" descr="Сонник. Кошка, кот, котята Сонники для жизни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Black"/>
              </a:rPr>
              <a:t>Die Katze lebt in der Wohnung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Picture 2" descr="C:\Documents and Settings\MolotkovaSV\Рабочий стол\дом.jpg"/>
          <p:cNvPicPr/>
          <p:nvPr/>
        </p:nvPicPr>
        <p:blipFill>
          <a:blip r:embed="rId1"/>
          <a:stretch/>
        </p:blipFill>
        <p:spPr>
          <a:xfrm>
            <a:off x="2970360" y="1600200"/>
            <a:ext cx="32032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Black"/>
              </a:rPr>
              <a:t>Sie frisst Wurst und Fisch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Picture 2" descr="C:\Documents and Settings\MolotkovaSV\Рабочий стол\киса.jpg"/>
          <p:cNvPicPr/>
          <p:nvPr/>
        </p:nvPicPr>
        <p:blipFill>
          <a:blip r:embed="rId1"/>
          <a:stretch/>
        </p:blipFill>
        <p:spPr>
          <a:xfrm>
            <a:off x="3122640" y="1600200"/>
            <a:ext cx="28987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Black"/>
              </a:rPr>
              <a:t>Ich habe meine Sommerferien sehr schön verbracht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Picture 2" descr="C:\Documents and Settings\MolotkovaSV\Рабочий стол\довольная.jpeg"/>
          <p:cNvPicPr/>
          <p:nvPr/>
        </p:nvPicPr>
        <p:blipFill>
          <a:blip r:embed="rId1"/>
          <a:stretch/>
        </p:blipFill>
        <p:spPr>
          <a:xfrm>
            <a:off x="1130400" y="1828800"/>
            <a:ext cx="688320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5T16:48:44Z</dcterms:created>
  <dc:creator>Кристина</dc:creator>
  <dc:description/>
  <dc:language>en-US</dc:language>
  <cp:lastModifiedBy>MolotkovaSV</cp:lastModifiedBy>
  <dcterms:modified xsi:type="dcterms:W3CDTF">2014-11-14T06:20:4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