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A01-ADB3-4141-8180-88945630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BA5-674C-4DE4-9547-63247D8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559-904A-4F83-9F39-CF2FB0A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724-8A1C-4462-AEA2-B4A17BDD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9C9-140F-46FB-A681-696E071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444-AB7B-4788-AAE6-2DDA93EC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2C4-16CD-47D2-AF7A-E814CC4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12A-306A-4826-A280-1013592F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D03-C4D5-400A-8159-BAD316FD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984-F1CE-45E5-BEB6-44314C8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941-A3D1-4203-950D-7C003BA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168-0065-470B-BF5A-80D4D31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647-B6B5-4E8D-BF3F-9A6E6271C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ТЕМА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 </a:t>
            </a: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Wer ist das? 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 </a:t>
            </a:r>
            <a:r>
              <a:rPr b="0" lang="ru-RU" sz="6600" spc="-1" strike="noStrike">
                <a:solidFill>
                  <a:srgbClr val="9900ff"/>
                </a:solidFill>
                <a:latin typeface="GungsuhChe"/>
              </a:rPr>
              <a:t>Кто это ? </a:t>
            </a: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Das ist Heidi.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Ist das Otto?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Das sind Anna und Hugo.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Sind das Susi und Toni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1.  Ist das Uli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0481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971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2971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00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800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971800"/>
            <a:ext cx="1057320" cy="914400"/>
          </a:xfrm>
          <a:prstGeom prst="triangle">
            <a:avLst>
              <a:gd name="adj" fmla="val 489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800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160020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77480" y="159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9280" y="317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9640" y="495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2. Sind das Hugo und Iren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2952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0574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02800" y="1905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053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5053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505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505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92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257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5638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257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9640" y="5486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257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Arial"/>
              </a:rPr>
              <a:t>3. Das ist Uli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2960" y="5181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352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352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3320" y="3505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7524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17524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2960" y="1981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4. Das sind Hugo und Ire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276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276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2767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657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5080" y="3560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574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981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9051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82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6840" y="51055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14600" y="38088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38088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808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752480"/>
            <a:ext cx="9144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3600" y="53352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(+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38088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808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38088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8800" y="457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44792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7080" y="14479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(-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1447920"/>
            <a:ext cx="6094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48800" y="1371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362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5000" y="2438280"/>
            <a:ext cx="10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62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60000" y="243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5812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3000" y="365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50532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505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886200"/>
            <a:ext cx="10670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505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6600" y="4724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648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648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4648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540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33:51Z</dcterms:created>
  <dc:creator>Кристина</dc:creator>
  <dc:description/>
  <dc:language>en-US</dc:language>
  <cp:lastModifiedBy>Кристина</cp:lastModifiedBy>
  <dcterms:modified xsi:type="dcterms:W3CDTF">2013-10-22T18:01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