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03F-B0B6-4FFD-B2D6-BBEEF6DF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365-40BD-4893-8B25-0C56E094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839-225F-4D49-9DD7-B33EABD2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602-FF77-448F-9939-76FFE0FB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395D-D7A1-4773-8639-205333FD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563-69AF-4106-98D1-851F32F9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421-83D3-485D-9F47-FE11584C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DF6-0523-40F8-AA94-4CB70872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F81-9EDE-4C74-B908-B5C6EEB2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96D-9261-4749-B19E-E946E452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89B-1B3E-4163-9B8B-2B56285D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2BF-1EFB-4327-85C5-1BD1831D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595B-EFE2-495B-9100-FCF2D2792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ТЕМА УРО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2856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ff"/>
                </a:solidFill>
                <a:latin typeface="GungsuhChe"/>
              </a:rPr>
              <a:t>“ </a:t>
            </a:r>
            <a:r>
              <a:rPr b="0" lang="en-US" sz="6600" spc="-1" strike="noStrike">
                <a:solidFill>
                  <a:srgbClr val="9900ff"/>
                </a:solidFill>
                <a:latin typeface="GungsuhChe"/>
              </a:rPr>
              <a:t>Wer ist das? 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ff"/>
                </a:solidFill>
                <a:latin typeface="GungsuhChe"/>
              </a:rPr>
              <a:t>“ </a:t>
            </a:r>
            <a:r>
              <a:rPr b="0" lang="ru-RU" sz="6600" spc="-1" strike="noStrike">
                <a:solidFill>
                  <a:srgbClr val="9900ff"/>
                </a:solidFill>
                <a:latin typeface="GungsuhChe"/>
              </a:rPr>
              <a:t>Кто это ? </a:t>
            </a:r>
            <a:r>
              <a:rPr b="0" lang="en-US" sz="6600" spc="-1" strike="noStrike">
                <a:solidFill>
                  <a:srgbClr val="9900ff"/>
                </a:solidFill>
                <a:latin typeface="GungsuhChe"/>
              </a:rPr>
              <a:t>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Gungsuh"/>
              </a:rPr>
              <a:t>Das ist Heidi.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Gungsuh"/>
              </a:rPr>
              <a:t>Ist das Otto?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Gungsuh"/>
              </a:rPr>
              <a:t>Das sind Anna und Hugo.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Gungsuh"/>
              </a:rPr>
              <a:t>Sind das Susi und Toni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1.  Ist das Uli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b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6002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16002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16002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6002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30481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16002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16002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29718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6002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29718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8006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48006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2971800"/>
            <a:ext cx="1057320" cy="914400"/>
          </a:xfrm>
          <a:prstGeom prst="triangle">
            <a:avLst>
              <a:gd name="adj" fmla="val 48949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800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160020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77480" y="1593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69280" y="3179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69640" y="49593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6002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2. Sind das Hugo und Iren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295280"/>
            <a:ext cx="8229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1676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676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16765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20574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16765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02800" y="1905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5053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35053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35053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35053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69280" y="3809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52578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563868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52578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2578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69640" y="5486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52578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00"/>
                </a:solidFill>
                <a:latin typeface="Arial"/>
              </a:rPr>
              <a:t>3. Das ist Uli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8769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48769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876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92960" y="51814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3526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33526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48769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35268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335268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93320" y="3505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75248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175248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1676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2960" y="19810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4. Das sind Hugo und Ire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b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3276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3276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32767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6576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55080" y="35607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16765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05740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19810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19051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9824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876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4876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48769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4876920"/>
            <a:ext cx="1371600" cy="914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926840" y="51055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14600" y="38088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38088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3808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1752480"/>
            <a:ext cx="9144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685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457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63600" y="533520"/>
            <a:ext cx="114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(+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380880"/>
            <a:ext cx="106704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3808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380880"/>
            <a:ext cx="106704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8800" y="4572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1447920"/>
            <a:ext cx="60984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447920"/>
            <a:ext cx="914400" cy="5331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1447920"/>
            <a:ext cx="914400" cy="5331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7080" y="14479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(-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48720" y="1447920"/>
            <a:ext cx="914400" cy="5331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1447920"/>
            <a:ext cx="914400" cy="5331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1447920"/>
            <a:ext cx="6094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848800" y="13716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36232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236232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236232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5000" y="2438280"/>
            <a:ext cx="10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36232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2362320"/>
            <a:ext cx="83844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236232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460000" y="2438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5812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3000" y="3657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3505320"/>
            <a:ext cx="106704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350532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3886200"/>
            <a:ext cx="10670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350532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6600" y="4724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464832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64832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4648320"/>
            <a:ext cx="1066680" cy="685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5400" y="3809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16:33:51Z</dcterms:created>
  <dc:creator>Кристина</dc:creator>
  <dc:description/>
  <dc:language>en-US</dc:language>
  <cp:lastModifiedBy>Кристина</cp:lastModifiedBy>
  <dcterms:modified xsi:type="dcterms:W3CDTF">2013-10-22T18:01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