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F91-3705-42FD-83D0-3F77D36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FFD-7BAE-4F82-A4F8-9447D46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D38-2856-4103-8FDF-482DA24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34B-4D45-4117-8C07-115A5217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42A-D185-44AE-B30C-ED6BE2A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D5F-0FA0-4788-BE7E-57D62F80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CBC-7748-4DA7-A7FB-8373159D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C3F-BCBE-4946-8BAC-610FB1E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65E-1A24-4594-B6FD-215C95E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BA4-0A8B-4DA5-A220-901C531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291-5348-4877-B8D6-BF7208F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F89-A95E-47A7-91FE-BAA2DBD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027-3018-4966-A03F-EAB7B03BF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ir besprechen unsere Sommerferi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e hast du dich erhol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Gedicht von Heine”Lorele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43040" y="1413000"/>
            <a:ext cx="40579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 Dor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m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8207280" cy="303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ntwortet die Fra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2ee6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 warst du in den Sommerfer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viel Wochen hast du dort verbrac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 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l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h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rie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a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wom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pie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Somm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ffmann von Fallersl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 Sommer ist die s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ste Ze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s kann wohl s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r 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 steht das Feld in goldnem Kl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sch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t mit Blumen f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sen bil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400720"/>
          </a:xfrm>
          <a:prstGeom prst="rect">
            <a:avLst/>
          </a:prstGeom>
          <a:solidFill>
            <a:srgbClr val="2ee6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ilden” he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“Bildung bekomm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nn man viel reist, erlebt man viel und man wird k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erkennt besser Land und Le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isen kostet Geld, doch man sieht die W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 wandert und reist vo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nach N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rkennt die Welt von Ort zu 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h war im Sommer …(wo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e war es d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wem warst d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t du viel Interessantes erleb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hast du dort gemac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st du mit deinen Sommerferien zufrie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4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5508720" y="-2116080"/>
            <a:ext cx="1950732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der Ost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 Flu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 Strand…             Am Uf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35:14Z</dcterms:created>
  <dc:creator>Admin</dc:creator>
  <dc:description/>
  <dc:language>en-US</dc:language>
  <cp:lastModifiedBy>Admin</cp:lastModifiedBy>
  <dcterms:modified xsi:type="dcterms:W3CDTF">2008-11-04T18:13:37Z</dcterms:modified>
  <cp:revision>4</cp:revision>
  <dc:subject/>
  <dc:title>Слайд 1</dc:title>
</cp:coreProperties>
</file>