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5C1-347A-4158-B692-38EAFF16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3EE-6338-45B9-ABF1-B1123CB5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6A88-3D6C-4AA6-98FA-A7A6965E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4AE0-C198-4557-B5AD-C1096102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BA61-46FC-484A-8AB6-7474692B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C75-0FDF-46DF-B57A-B3399CA4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47B-3917-43E9-BDF6-68007502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736E-08AD-42C7-8352-93F3F695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71B-30B2-4E35-B9C5-4D55C8FF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7835-D5C8-4F09-A6FF-99F96CFB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603-5FA1-4C60-9268-37E7F311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16F-6788-42A8-B173-CCE9D618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E0FC-1803-47A7-9BD5-55B5A1140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612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ir besprechen unsere Sommerferie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ie hast du dich erhol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Gedicht von Heine”Lorelei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43040" y="1413000"/>
            <a:ext cx="40579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 Dorf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fahre m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8207280" cy="3039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ntwortet die Fra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2ee6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 warst du in den Sommerfer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viel Wochen hast du dort verbrac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t d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ne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l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oh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r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rie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ad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chwom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fah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piel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r Sommer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ffmann von Fallersleb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r Sommer ist die s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ste Zei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s kann wohl s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r se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 steht das Feld in goldnem Kl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schm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kt mit Blumen fe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isen bild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507520" cy="5400720"/>
          </a:xfrm>
          <a:prstGeom prst="rect">
            <a:avLst/>
          </a:prstGeom>
          <a:solidFill>
            <a:srgbClr val="2ee6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Bilden” hei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“Bildung bekomm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nn man viel reist, erlebt man viel und man wird k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®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 erkennt besser Land und Leu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isen kostet Geld, doch man sieht die We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r wandert und reist von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nach N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rkennt die Welt von Ort zu 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6337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h war im Sommer …(wo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e war es d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t wem warst d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st du viel Interessantes erleb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 hast du dort gemac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st du mit deinen Sommerferien zufried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5472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08360" y="59500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5508720" y="-2116080"/>
            <a:ext cx="1950732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der Osts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 Flu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 Strand…             Am Uf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9:35:14Z</dcterms:created>
  <dc:creator>Admin</dc:creator>
  <dc:description/>
  <dc:language>en-US</dc:language>
  <cp:lastModifiedBy>Admin</cp:lastModifiedBy>
  <dcterms:modified xsi:type="dcterms:W3CDTF">2008-11-04T18:13:37Z</dcterms:modified>
  <cp:revision>4</cp:revision>
  <dc:subject/>
  <dc:title>Слайд 1</dc:title>
</cp:coreProperties>
</file>