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4E2DA-9C70-4D51-9303-B217D72D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B9E0-4B1E-4E62-B12B-DDCD6451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7A921-11B5-49BE-9BF8-90A91661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FB267-B951-40D2-BA09-B69A13E7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7D53-28FA-45B2-884D-C1900002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F92C-700A-444C-ACF0-6A6D5E9E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D377-6B66-4590-9BDB-1223138B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4A9E-8AB0-48C7-BC08-60F11E2E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A322-8953-4E91-BE2D-F92312F2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DF83-F018-4C32-84C4-44E4AEF1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BD7A-8DC1-4AB1-B6B7-98DEB730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63025-A57B-4236-879F-A2E94800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88E4-B403-4C19-B862-AB6A9DB7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2F2E-2C13-4F9E-9CB3-37BD3140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D917-F9C7-4505-BC5E-D03ECE4B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AD7E-C752-41DA-AF24-B68F12A9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4758-EBE8-4F85-8E14-6A9CBEA6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0A86D-3A88-4024-BF35-735AB898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CF34C-FA37-45A0-BA2C-09E1E7F4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692B-962A-433B-BDCA-14B33BE6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58804-3249-4780-B709-6623B18A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095AE-3C9F-42CD-9447-917D4B08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D0ACF-6346-4A7C-88B3-051CB1EC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73EF3-40E7-4420-9D84-9D8BD72C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27D1-6946-4C74-85A2-30BD90FA847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CEB6-4B1B-464B-9506-A17BDD9974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оя Родина - </a:t>
            </a:r>
            <a:r>
              <a:rPr b="1" i="1" lang="ru-RU" sz="5000" spc="-1" strike="noStrike">
                <a:solidFill>
                  <a:srgbClr val="ffffff"/>
                </a:solidFill>
                <a:latin typeface="Arial"/>
              </a:rPr>
              <a:t>Росс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097320" y="4647960"/>
            <a:ext cx="28940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дреева Е.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асная площ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red-square_2692602k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д Победы на Красной площ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img2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9144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5535fc98b1e9c_1429601432"/>
          <p:cNvPicPr/>
          <p:nvPr/>
        </p:nvPicPr>
        <p:blipFill>
          <a:blip r:embed="rId1"/>
          <a:stretch/>
        </p:blipFill>
        <p:spPr>
          <a:xfrm>
            <a:off x="685800" y="15238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0" y="533520"/>
            <a:ext cx="3733920" cy="32004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идент Российской Федерации – Владимир Владимирович Пу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d7715b-9"/>
          <p:cNvPicPr/>
          <p:nvPr/>
        </p:nvPicPr>
        <p:blipFill>
          <a:blip r:embed="rId1"/>
          <a:stretch/>
        </p:blipFill>
        <p:spPr>
          <a:xfrm>
            <a:off x="533520" y="457200"/>
            <a:ext cx="4343400" cy="6095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71df7e6668daa8854f3de67d2d84f309_XL"/>
          <p:cNvPicPr/>
          <p:nvPr/>
        </p:nvPicPr>
        <p:blipFill>
          <a:blip r:embed="rId2"/>
          <a:stretch/>
        </p:blipFill>
        <p:spPr>
          <a:xfrm>
            <a:off x="4991040" y="4191120"/>
            <a:ext cx="38480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 – 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7"/>
          <p:cNvSpPr/>
          <p:nvPr/>
        </p:nvSpPr>
        <p:spPr>
          <a:xfrm>
            <a:off x="5694480" y="5067360"/>
            <a:ext cx="74772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6"/>
          <p:cNvSpPr/>
          <p:nvPr/>
        </p:nvSpPr>
        <p:spPr>
          <a:xfrm>
            <a:off x="4946760" y="5067360"/>
            <a:ext cx="74772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5"/>
          <p:cNvSpPr/>
          <p:nvPr/>
        </p:nvSpPr>
        <p:spPr>
          <a:xfrm>
            <a:off x="4197240" y="5067360"/>
            <a:ext cx="74952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4"/>
          <p:cNvSpPr/>
          <p:nvPr/>
        </p:nvSpPr>
        <p:spPr>
          <a:xfrm>
            <a:off x="3449520" y="5067360"/>
            <a:ext cx="74772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3"/>
          <p:cNvSpPr/>
          <p:nvPr/>
        </p:nvSpPr>
        <p:spPr>
          <a:xfrm>
            <a:off x="2701800" y="5067360"/>
            <a:ext cx="747720" cy="79992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2"/>
          <p:cNvSpPr/>
          <p:nvPr/>
        </p:nvSpPr>
        <p:spPr>
          <a:xfrm>
            <a:off x="1954080" y="5067360"/>
            <a:ext cx="747720" cy="799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4"/>
          <p:cNvSpPr/>
          <p:nvPr/>
        </p:nvSpPr>
        <p:spPr>
          <a:xfrm>
            <a:off x="4197240" y="4267080"/>
            <a:ext cx="7495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3"/>
          <p:cNvSpPr/>
          <p:nvPr/>
        </p:nvSpPr>
        <p:spPr>
          <a:xfrm>
            <a:off x="3449520" y="4267080"/>
            <a:ext cx="7477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2701800" y="4267080"/>
            <a:ext cx="747720" cy="80028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1"/>
          <p:cNvSpPr/>
          <p:nvPr/>
        </p:nvSpPr>
        <p:spPr>
          <a:xfrm>
            <a:off x="1954080" y="4267080"/>
            <a:ext cx="7477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0"/>
          <p:cNvSpPr/>
          <p:nvPr/>
        </p:nvSpPr>
        <p:spPr>
          <a:xfrm>
            <a:off x="1204920" y="4267080"/>
            <a:ext cx="74916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9"/>
          <p:cNvSpPr/>
          <p:nvPr/>
        </p:nvSpPr>
        <p:spPr>
          <a:xfrm>
            <a:off x="457200" y="4267080"/>
            <a:ext cx="747720" cy="800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2"/>
          <p:cNvSpPr/>
          <p:nvPr/>
        </p:nvSpPr>
        <p:spPr>
          <a:xfrm>
            <a:off x="3449520" y="3467160"/>
            <a:ext cx="74772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>
            <a:off x="2701800" y="3467160"/>
            <a:ext cx="747720" cy="79992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0"/>
          <p:cNvSpPr/>
          <p:nvPr/>
        </p:nvSpPr>
        <p:spPr>
          <a:xfrm>
            <a:off x="1954080" y="3467160"/>
            <a:ext cx="74772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9"/>
          <p:cNvSpPr/>
          <p:nvPr/>
        </p:nvSpPr>
        <p:spPr>
          <a:xfrm>
            <a:off x="1204920" y="3467160"/>
            <a:ext cx="74916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8"/>
          <p:cNvSpPr/>
          <p:nvPr/>
        </p:nvSpPr>
        <p:spPr>
          <a:xfrm>
            <a:off x="457200" y="3467160"/>
            <a:ext cx="747720" cy="799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7939080" y="2666880"/>
            <a:ext cx="7477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>
            <a:off x="7189920" y="2666880"/>
            <a:ext cx="74916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6442200" y="2666880"/>
            <a:ext cx="7477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4"/>
          <p:cNvSpPr/>
          <p:nvPr/>
        </p:nvSpPr>
        <p:spPr>
          <a:xfrm>
            <a:off x="5694480" y="2666880"/>
            <a:ext cx="7477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3"/>
          <p:cNvSpPr/>
          <p:nvPr/>
        </p:nvSpPr>
        <p:spPr>
          <a:xfrm>
            <a:off x="4946760" y="2666880"/>
            <a:ext cx="7477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197240" y="2666880"/>
            <a:ext cx="7495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1"/>
          <p:cNvSpPr/>
          <p:nvPr/>
        </p:nvSpPr>
        <p:spPr>
          <a:xfrm>
            <a:off x="3449520" y="2666880"/>
            <a:ext cx="7477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0"/>
          <p:cNvSpPr/>
          <p:nvPr/>
        </p:nvSpPr>
        <p:spPr>
          <a:xfrm>
            <a:off x="2701800" y="2666880"/>
            <a:ext cx="747720" cy="80028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9"/>
          <p:cNvSpPr/>
          <p:nvPr/>
        </p:nvSpPr>
        <p:spPr>
          <a:xfrm>
            <a:off x="1954080" y="2666880"/>
            <a:ext cx="747720" cy="800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4946760" y="1866960"/>
            <a:ext cx="74772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4197240" y="1866960"/>
            <a:ext cx="74952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3449520" y="1866960"/>
            <a:ext cx="74772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2701800" y="1866960"/>
            <a:ext cx="747720" cy="79992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1954080" y="1866960"/>
            <a:ext cx="74772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1204920" y="1866960"/>
            <a:ext cx="74916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457200" y="1866960"/>
            <a:ext cx="747720" cy="799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4946760" y="1066680"/>
            <a:ext cx="7477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4197240" y="1066680"/>
            <a:ext cx="7495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449520" y="1066680"/>
            <a:ext cx="7477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2701800" y="1066680"/>
            <a:ext cx="747720" cy="80028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981080" y="1066680"/>
            <a:ext cx="747720" cy="800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2"/>
          <p:cNvSpPr/>
          <p:nvPr/>
        </p:nvSpPr>
        <p:spPr>
          <a:xfrm>
            <a:off x="457200" y="1866960"/>
            <a:ext cx="523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3"/>
          <p:cNvSpPr/>
          <p:nvPr/>
        </p:nvSpPr>
        <p:spPr>
          <a:xfrm>
            <a:off x="457200" y="26668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4"/>
          <p:cNvSpPr/>
          <p:nvPr/>
        </p:nvSpPr>
        <p:spPr>
          <a:xfrm>
            <a:off x="457200" y="346716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5"/>
          <p:cNvSpPr/>
          <p:nvPr/>
        </p:nvSpPr>
        <p:spPr>
          <a:xfrm>
            <a:off x="457200" y="4267080"/>
            <a:ext cx="4489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6"/>
          <p:cNvSpPr/>
          <p:nvPr/>
        </p:nvSpPr>
        <p:spPr>
          <a:xfrm>
            <a:off x="457200" y="5067360"/>
            <a:ext cx="598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7"/>
          <p:cNvSpPr/>
          <p:nvPr/>
        </p:nvSpPr>
        <p:spPr>
          <a:xfrm>
            <a:off x="1981080" y="5867280"/>
            <a:ext cx="449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0"/>
          <p:cNvSpPr/>
          <p:nvPr/>
        </p:nvSpPr>
        <p:spPr>
          <a:xfrm>
            <a:off x="1954080" y="106668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1"/>
          <p:cNvSpPr/>
          <p:nvPr/>
        </p:nvSpPr>
        <p:spPr>
          <a:xfrm>
            <a:off x="2701800" y="106668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82"/>
          <p:cNvSpPr/>
          <p:nvPr/>
        </p:nvSpPr>
        <p:spPr>
          <a:xfrm>
            <a:off x="3449520" y="106668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3"/>
          <p:cNvSpPr/>
          <p:nvPr/>
        </p:nvSpPr>
        <p:spPr>
          <a:xfrm>
            <a:off x="4197240" y="106668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4"/>
          <p:cNvSpPr/>
          <p:nvPr/>
        </p:nvSpPr>
        <p:spPr>
          <a:xfrm>
            <a:off x="4952880" y="1066680"/>
            <a:ext cx="0" cy="2362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5"/>
          <p:cNvSpPr/>
          <p:nvPr/>
        </p:nvSpPr>
        <p:spPr>
          <a:xfrm>
            <a:off x="5694480" y="1066680"/>
            <a:ext cx="0" cy="240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9"/>
          <p:cNvSpPr/>
          <p:nvPr/>
        </p:nvSpPr>
        <p:spPr>
          <a:xfrm>
            <a:off x="8686800" y="26668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4"/>
          <p:cNvSpPr/>
          <p:nvPr/>
        </p:nvSpPr>
        <p:spPr>
          <a:xfrm>
            <a:off x="7189920" y="2666880"/>
            <a:ext cx="0" cy="8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5"/>
          <p:cNvSpPr/>
          <p:nvPr/>
        </p:nvSpPr>
        <p:spPr>
          <a:xfrm>
            <a:off x="7939080" y="2666880"/>
            <a:ext cx="0" cy="8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3"/>
          <p:cNvSpPr/>
          <p:nvPr/>
        </p:nvSpPr>
        <p:spPr>
          <a:xfrm>
            <a:off x="5694480" y="5067360"/>
            <a:ext cx="0" cy="79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6"/>
          <p:cNvSpPr/>
          <p:nvPr/>
        </p:nvSpPr>
        <p:spPr>
          <a:xfrm>
            <a:off x="1204920" y="1866960"/>
            <a:ext cx="0" cy="79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8"/>
          <p:cNvSpPr/>
          <p:nvPr/>
        </p:nvSpPr>
        <p:spPr>
          <a:xfrm>
            <a:off x="1204920" y="346716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6"/>
          <p:cNvSpPr/>
          <p:nvPr/>
        </p:nvSpPr>
        <p:spPr>
          <a:xfrm>
            <a:off x="4952880" y="426708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7"/>
          <p:cNvSpPr/>
          <p:nvPr/>
        </p:nvSpPr>
        <p:spPr>
          <a:xfrm>
            <a:off x="2666880" y="1066680"/>
            <a:ext cx="3048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28"/>
          <p:cNvSpPr/>
          <p:nvPr/>
        </p:nvSpPr>
        <p:spPr>
          <a:xfrm>
            <a:off x="5715000" y="50292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9"/>
          <p:cNvSpPr/>
          <p:nvPr/>
        </p:nvSpPr>
        <p:spPr>
          <a:xfrm>
            <a:off x="8686800" y="26668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30"/>
          <p:cNvSpPr/>
          <p:nvPr/>
        </p:nvSpPr>
        <p:spPr>
          <a:xfrm>
            <a:off x="6477120" y="50292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31"/>
          <p:cNvSpPr/>
          <p:nvPr/>
        </p:nvSpPr>
        <p:spPr>
          <a:xfrm>
            <a:off x="7924680" y="26668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32"/>
          <p:cNvSpPr/>
          <p:nvPr/>
        </p:nvSpPr>
        <p:spPr>
          <a:xfrm>
            <a:off x="7162920" y="26668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6400800" y="26668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3581280" cy="13716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ша Родина - 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581280" cy="45720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ясные зори, умытые рос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русское поле с колосьями рослы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реки разливные в пламени син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бя по-славянски назвали - Рос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1"/>
          <p:cNvPicPr/>
          <p:nvPr/>
        </p:nvPicPr>
        <p:blipFill>
          <a:blip r:embed="rId1"/>
          <a:stretch/>
        </p:blipFill>
        <p:spPr>
          <a:xfrm>
            <a:off x="4191120" y="533520"/>
            <a:ext cx="4705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00240" y="609480"/>
            <a:ext cx="3886200" cy="13716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мы Родиной зов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800240" y="2133720"/>
            <a:ext cx="3886200" cy="45720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мы Родиной зовём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, где мы с тобой растё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берёзки, вдоль которы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вшись за руки ид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мы Родиной зовём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це в небе голуб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ушистый, золотисты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леб за праздничным сто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мы Родиной зовём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й, где мы с тобой живё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кворцов весенних песн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аспахнутым ок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, что мы Родиной зовё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, что любимой мы зов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1265293578_2"/>
          <p:cNvPicPr/>
          <p:nvPr/>
        </p:nvPicPr>
        <p:blipFill>
          <a:blip r:embed="rId1"/>
          <a:srcRect l="0" t="0" r="50452" b="0"/>
          <a:stretch/>
        </p:blipFill>
        <p:spPr>
          <a:xfrm>
            <a:off x="457200" y="609480"/>
            <a:ext cx="419112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105160" y="609120"/>
            <a:ext cx="3733560" cy="586764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полоски флага – это неспрос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ая полоска – мир и чист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яя полоска – это цвет неб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полов нарядных, радости, чуд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ная полоска – подвиги солд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свою отчизну от врагов хран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страны великой самый главный зна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лестный трехцветный наш российский флаг!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b1638357"/>
          <p:cNvPicPr/>
          <p:nvPr/>
        </p:nvPicPr>
        <p:blipFill>
          <a:blip r:embed="rId1"/>
          <a:stretch/>
        </p:blipFill>
        <p:spPr>
          <a:xfrm>
            <a:off x="304920" y="533520"/>
            <a:ext cx="4647960" cy="3019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rossia"/>
          <p:cNvPicPr/>
          <p:nvPr/>
        </p:nvPicPr>
        <p:blipFill>
          <a:blip r:embed="rId2"/>
          <a:stretch/>
        </p:blipFill>
        <p:spPr>
          <a:xfrm>
            <a:off x="228600" y="3733920"/>
            <a:ext cx="48006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лаг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getImage?photoId=550708499908&amp;photoType=0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7" descr="460326241000485108"/>
          <p:cNvPicPr/>
          <p:nvPr/>
        </p:nvPicPr>
        <p:blipFill>
          <a:blip r:embed="rId1"/>
          <a:stretch/>
        </p:blipFill>
        <p:spPr>
          <a:xfrm>
            <a:off x="457200" y="457200"/>
            <a:ext cx="4800600" cy="6248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460326241000485108"/>
          <p:cNvPicPr/>
          <p:nvPr/>
        </p:nvPicPr>
        <p:blipFill>
          <a:blip r:embed="rId2"/>
          <a:srcRect l="41272" t="54880" r="40713" b="30489"/>
          <a:stretch/>
        </p:blipFill>
        <p:spPr>
          <a:xfrm>
            <a:off x="5410080" y="2590920"/>
            <a:ext cx="3429000" cy="4038480"/>
          </a:xfrm>
          <a:prstGeom prst="rect">
            <a:avLst/>
          </a:prstGeom>
          <a:ln w="0">
            <a:noFill/>
          </a:ln>
        </p:spPr>
      </p:pic>
      <p:sp>
        <p:nvSpPr>
          <p:cNvPr id="185" name="Line 12"/>
          <p:cNvSpPr/>
          <p:nvPr/>
        </p:nvSpPr>
        <p:spPr>
          <a:xfrm flipV="1">
            <a:off x="3200400" y="3962520"/>
            <a:ext cx="259092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409720" y="533160"/>
            <a:ext cx="3429000" cy="1904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России величавой на гербе орёл двуглавый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 на запад, на восток он смотреть бы сразу мог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, мудрый он и горды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России дух свободны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сударственный гимн 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5720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1 купле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оссия — священная наша держав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я — любимая наша стран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чая воля, великая слава 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ё достоянье на все времена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рипе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авься, Отечество наше свободно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тских народов союз веково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ками данная мудрость народная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вься, страна! Мы гордимся тобой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5720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2 купле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южных морей до полярного кр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инулись наши леса и пол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 ты на свете! Одна ты такая 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анимая Богом родная земля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3 купле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Широкий простор для мечты и для жизн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ядущие нам открывают год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м силу даёт наша верность Отчизн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было, так есть и так будет всегд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99f8d3c21d037bf1289be47f945292f4.mp3" descr=""/>
          <p:cNvPicPr/>
          <p:nvPr/>
        </p:nvPicPr>
        <p:blipFill>
          <a:blip r:embed="rId1"/>
          <a:stretch/>
        </p:blipFill>
        <p:spPr>
          <a:xfrm>
            <a:off x="822960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223574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505320" cy="16002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сква – столица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3505320" cy="43434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 - это Красная площад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 - это башни Кр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 – это сердце Росс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ое люб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0" descr="6"/>
          <p:cNvPicPr/>
          <p:nvPr/>
        </p:nvPicPr>
        <p:blipFill>
          <a:blip r:embed="rId1"/>
          <a:stretch/>
        </p:blipFill>
        <p:spPr>
          <a:xfrm>
            <a:off x="4191120" y="533520"/>
            <a:ext cx="4705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7T05:21:32Z</dcterms:created>
  <dc:creator>User</dc:creator>
  <dc:description/>
  <dc:language>en-US</dc:language>
  <cp:lastModifiedBy>andreevaea240484@outlook.com</cp:lastModifiedBy>
  <dcterms:modified xsi:type="dcterms:W3CDTF">2022-02-08T13:31:0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