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673D-8153-4DED-BFAC-3A05D9DD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56C7-D00D-423F-9FA7-E663319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1AC2-4F90-4C46-ABAD-6C36E7E0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234F-E086-4CCB-AF37-B05E17D4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BE5F-DBC8-45B0-AF10-99072DCF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32D7-1A06-453A-9339-B7DA3592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09EA-A2A5-477F-8577-49845F40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8865-36EF-4C0B-AB9C-E0309A57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0FB7-7559-44DB-AF75-5499AFD8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EE6D-7013-4DF9-84D5-A746BF86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FA4F-A6B6-48A6-96A2-DD1B26BF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8BE7-A8D7-49FD-81C8-A47F0753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E210-7DFC-4382-A0CF-D8942CD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B726-ABDE-4611-924A-750E2F7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B45-DA43-4466-80C2-7B8610DF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8E91-6A0E-4B05-BD89-9128ABD7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43C8-614C-47FB-9AFB-48F5C178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0A60-0EAC-4EE5-8E1D-B6E1E4A9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9035-39F9-4E3C-98F1-4BAD547E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9425-FAAE-41CA-8420-907ECA94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2B63-186E-41CA-95CA-217A452E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8D94-2881-44CC-AC35-6FAB469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31F9-FF5A-4A7E-85D0-BC7ACB58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A673-090F-4623-971C-078CE377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2D61-C9A6-4143-AF5D-AFDCEFA19F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688-DB05-404E-BF4F-0601FA8156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я Родина - </a:t>
            </a:r>
            <a:r>
              <a:rPr b="1" i="1" lang="ru-RU" sz="50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97320" y="4647960"/>
            <a:ext cx="28940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дреева Е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асная 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red-square_2692602k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д Победы на Красной площ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img2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14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5535fc98b1e9c_1429601432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0" y="533520"/>
            <a:ext cx="3733920" cy="3200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 Российской Федерации – Владимир Владимирович Пу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d7715b-9"/>
          <p:cNvPicPr/>
          <p:nvPr/>
        </p:nvPicPr>
        <p:blipFill>
          <a:blip r:embed="rId1"/>
          <a:stretch/>
        </p:blipFill>
        <p:spPr>
          <a:xfrm>
            <a:off x="533520" y="457200"/>
            <a:ext cx="4343400" cy="6095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71df7e6668daa8854f3de67d2d84f309_XL"/>
          <p:cNvPicPr/>
          <p:nvPr/>
        </p:nvPicPr>
        <p:blipFill>
          <a:blip r:embed="rId2"/>
          <a:stretch/>
        </p:blipFill>
        <p:spPr>
          <a:xfrm>
            <a:off x="4991040" y="4191120"/>
            <a:ext cx="3848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 – 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7"/>
          <p:cNvSpPr/>
          <p:nvPr/>
        </p:nvSpPr>
        <p:spPr>
          <a:xfrm>
            <a:off x="5694480" y="50673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6"/>
          <p:cNvSpPr/>
          <p:nvPr/>
        </p:nvSpPr>
        <p:spPr>
          <a:xfrm>
            <a:off x="4946760" y="50673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5"/>
          <p:cNvSpPr/>
          <p:nvPr/>
        </p:nvSpPr>
        <p:spPr>
          <a:xfrm>
            <a:off x="4197240" y="5067360"/>
            <a:ext cx="7495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3449520" y="50673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3"/>
          <p:cNvSpPr/>
          <p:nvPr/>
        </p:nvSpPr>
        <p:spPr>
          <a:xfrm>
            <a:off x="2701800" y="5067360"/>
            <a:ext cx="747720" cy="79992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2"/>
          <p:cNvSpPr/>
          <p:nvPr/>
        </p:nvSpPr>
        <p:spPr>
          <a:xfrm>
            <a:off x="1954080" y="5067360"/>
            <a:ext cx="747720" cy="799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4"/>
          <p:cNvSpPr/>
          <p:nvPr/>
        </p:nvSpPr>
        <p:spPr>
          <a:xfrm>
            <a:off x="4197240" y="4267080"/>
            <a:ext cx="7495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3"/>
          <p:cNvSpPr/>
          <p:nvPr/>
        </p:nvSpPr>
        <p:spPr>
          <a:xfrm>
            <a:off x="3449520" y="42670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2701800" y="4267080"/>
            <a:ext cx="747720" cy="800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1954080" y="42670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0"/>
          <p:cNvSpPr/>
          <p:nvPr/>
        </p:nvSpPr>
        <p:spPr>
          <a:xfrm>
            <a:off x="1204920" y="4267080"/>
            <a:ext cx="74916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457200" y="4267080"/>
            <a:ext cx="747720" cy="800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3449520" y="34671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2701800" y="3467160"/>
            <a:ext cx="747720" cy="79992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1954080" y="34671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9"/>
          <p:cNvSpPr/>
          <p:nvPr/>
        </p:nvSpPr>
        <p:spPr>
          <a:xfrm>
            <a:off x="1204920" y="3467160"/>
            <a:ext cx="74916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8"/>
          <p:cNvSpPr/>
          <p:nvPr/>
        </p:nvSpPr>
        <p:spPr>
          <a:xfrm>
            <a:off x="457200" y="3467160"/>
            <a:ext cx="747720" cy="799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793908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7189920" y="2666880"/>
            <a:ext cx="74916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644220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4"/>
          <p:cNvSpPr/>
          <p:nvPr/>
        </p:nvSpPr>
        <p:spPr>
          <a:xfrm>
            <a:off x="569448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494676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197240" y="2666880"/>
            <a:ext cx="7495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3449520" y="26668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2701800" y="2666880"/>
            <a:ext cx="747720" cy="800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954080" y="2666880"/>
            <a:ext cx="747720" cy="800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4946760" y="18669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197240" y="1866960"/>
            <a:ext cx="7495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3449520" y="18669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701800" y="1866960"/>
            <a:ext cx="747720" cy="79992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1954080" y="1866960"/>
            <a:ext cx="74772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204920" y="1866960"/>
            <a:ext cx="749160" cy="79992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457200" y="1866960"/>
            <a:ext cx="747720" cy="799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4946760" y="10666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197240" y="1066680"/>
            <a:ext cx="7495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449520" y="1066680"/>
            <a:ext cx="747720" cy="800280"/>
          </a:xfrm>
          <a:prstGeom prst="rect">
            <a:avLst/>
          </a:prstGeom>
          <a:solidFill>
            <a:srgbClr val="cccc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701800" y="1066680"/>
            <a:ext cx="747720" cy="800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981080" y="1066680"/>
            <a:ext cx="747720" cy="800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2"/>
          <p:cNvSpPr/>
          <p:nvPr/>
        </p:nvSpPr>
        <p:spPr>
          <a:xfrm>
            <a:off x="457200" y="1866960"/>
            <a:ext cx="523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3"/>
          <p:cNvSpPr/>
          <p:nvPr/>
        </p:nvSpPr>
        <p:spPr>
          <a:xfrm>
            <a:off x="457200" y="2666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4"/>
          <p:cNvSpPr/>
          <p:nvPr/>
        </p:nvSpPr>
        <p:spPr>
          <a:xfrm>
            <a:off x="457200" y="346716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5"/>
          <p:cNvSpPr/>
          <p:nvPr/>
        </p:nvSpPr>
        <p:spPr>
          <a:xfrm>
            <a:off x="457200" y="4267080"/>
            <a:ext cx="448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6"/>
          <p:cNvSpPr/>
          <p:nvPr/>
        </p:nvSpPr>
        <p:spPr>
          <a:xfrm>
            <a:off x="457200" y="5067360"/>
            <a:ext cx="598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7"/>
          <p:cNvSpPr/>
          <p:nvPr/>
        </p:nvSpPr>
        <p:spPr>
          <a:xfrm>
            <a:off x="1981080" y="5867280"/>
            <a:ext cx="449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0"/>
          <p:cNvSpPr/>
          <p:nvPr/>
        </p:nvSpPr>
        <p:spPr>
          <a:xfrm>
            <a:off x="1954080" y="106668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1"/>
          <p:cNvSpPr/>
          <p:nvPr/>
        </p:nvSpPr>
        <p:spPr>
          <a:xfrm>
            <a:off x="2701800" y="106668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2"/>
          <p:cNvSpPr/>
          <p:nvPr/>
        </p:nvSpPr>
        <p:spPr>
          <a:xfrm>
            <a:off x="3449520" y="106668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3"/>
          <p:cNvSpPr/>
          <p:nvPr/>
        </p:nvSpPr>
        <p:spPr>
          <a:xfrm>
            <a:off x="4197240" y="106668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4"/>
          <p:cNvSpPr/>
          <p:nvPr/>
        </p:nvSpPr>
        <p:spPr>
          <a:xfrm>
            <a:off x="4952880" y="1066680"/>
            <a:ext cx="0" cy="236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5"/>
          <p:cNvSpPr/>
          <p:nvPr/>
        </p:nvSpPr>
        <p:spPr>
          <a:xfrm>
            <a:off x="5694480" y="1066680"/>
            <a:ext cx="0" cy="240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9"/>
          <p:cNvSpPr/>
          <p:nvPr/>
        </p:nvSpPr>
        <p:spPr>
          <a:xfrm>
            <a:off x="8686800" y="26668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4"/>
          <p:cNvSpPr/>
          <p:nvPr/>
        </p:nvSpPr>
        <p:spPr>
          <a:xfrm>
            <a:off x="7189920" y="2666880"/>
            <a:ext cx="0" cy="8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5"/>
          <p:cNvSpPr/>
          <p:nvPr/>
        </p:nvSpPr>
        <p:spPr>
          <a:xfrm>
            <a:off x="7939080" y="2666880"/>
            <a:ext cx="0" cy="8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3"/>
          <p:cNvSpPr/>
          <p:nvPr/>
        </p:nvSpPr>
        <p:spPr>
          <a:xfrm>
            <a:off x="5694480" y="5067360"/>
            <a:ext cx="0" cy="79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6"/>
          <p:cNvSpPr/>
          <p:nvPr/>
        </p:nvSpPr>
        <p:spPr>
          <a:xfrm>
            <a:off x="1204920" y="1866960"/>
            <a:ext cx="0" cy="79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8"/>
          <p:cNvSpPr/>
          <p:nvPr/>
        </p:nvSpPr>
        <p:spPr>
          <a:xfrm>
            <a:off x="1204920" y="346716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6"/>
          <p:cNvSpPr/>
          <p:nvPr/>
        </p:nvSpPr>
        <p:spPr>
          <a:xfrm>
            <a:off x="4952880" y="42670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7"/>
          <p:cNvSpPr/>
          <p:nvPr/>
        </p:nvSpPr>
        <p:spPr>
          <a:xfrm>
            <a:off x="2666880" y="1066680"/>
            <a:ext cx="3048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8"/>
          <p:cNvSpPr/>
          <p:nvPr/>
        </p:nvSpPr>
        <p:spPr>
          <a:xfrm>
            <a:off x="5715000" y="5029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9"/>
          <p:cNvSpPr/>
          <p:nvPr/>
        </p:nvSpPr>
        <p:spPr>
          <a:xfrm>
            <a:off x="8686800" y="26668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0"/>
          <p:cNvSpPr/>
          <p:nvPr/>
        </p:nvSpPr>
        <p:spPr>
          <a:xfrm>
            <a:off x="6477120" y="5029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1"/>
          <p:cNvSpPr/>
          <p:nvPr/>
        </p:nvSpPr>
        <p:spPr>
          <a:xfrm>
            <a:off x="7924680" y="26668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32"/>
          <p:cNvSpPr/>
          <p:nvPr/>
        </p:nvSpPr>
        <p:spPr>
          <a:xfrm>
            <a:off x="7162920" y="26668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6400800" y="26668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58128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ша Родина - 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81280" cy="4572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ясные зори, умытые рос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русское поле с колосьями росл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реки разливные в пламени си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бя по-славянски назвали - Ро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"/>
          <p:cNvPicPr/>
          <p:nvPr/>
        </p:nvPicPr>
        <p:blipFill>
          <a:blip r:embed="rId1"/>
          <a:stretch/>
        </p:blipFill>
        <p:spPr>
          <a:xfrm>
            <a:off x="4191120" y="533520"/>
            <a:ext cx="4705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00240" y="609480"/>
            <a:ext cx="38862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мы Родиной зов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886200" cy="4572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ы Родиной зовё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, где мы с тобой растё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ерёзки, вдоль которы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вшись за руки ид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ы Родиной зовё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е в небе голуб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ушистый, золотист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еб за праздничным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ы Родиной зовё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й, где мы с тобой живё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кворцов весенних пес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спахнутым ок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, что мы Родиной зовё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, что любимой мы зов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265293578_2"/>
          <p:cNvPicPr/>
          <p:nvPr/>
        </p:nvPicPr>
        <p:blipFill>
          <a:blip r:embed="rId1"/>
          <a:srcRect l="0" t="0" r="50452" b="0"/>
          <a:stretch/>
        </p:blipFill>
        <p:spPr>
          <a:xfrm>
            <a:off x="457200" y="609480"/>
            <a:ext cx="419112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105160" y="609120"/>
            <a:ext cx="3733560" cy="5867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полоски флага – это неспро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ая полоска – мир и чист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яя полоска – это цвет неб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олов нарядных, радости, чуд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ая полоска – подвиги солд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вою отчизну от врагов хран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страны великой самый главный зна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лестный трехцветный наш российский флаг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b1638357"/>
          <p:cNvPicPr/>
          <p:nvPr/>
        </p:nvPicPr>
        <p:blipFill>
          <a:blip r:embed="rId1"/>
          <a:stretch/>
        </p:blipFill>
        <p:spPr>
          <a:xfrm>
            <a:off x="304920" y="533520"/>
            <a:ext cx="4647960" cy="30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rossia"/>
          <p:cNvPicPr/>
          <p:nvPr/>
        </p:nvPicPr>
        <p:blipFill>
          <a:blip r:embed="rId2"/>
          <a:stretch/>
        </p:blipFill>
        <p:spPr>
          <a:xfrm>
            <a:off x="228600" y="3733920"/>
            <a:ext cx="4800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getImage?photoId=550708499908&amp;photoType=0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460326241000485108"/>
          <p:cNvPicPr/>
          <p:nvPr/>
        </p:nvPicPr>
        <p:blipFill>
          <a:blip r:embed="rId1"/>
          <a:stretch/>
        </p:blipFill>
        <p:spPr>
          <a:xfrm>
            <a:off x="457200" y="457200"/>
            <a:ext cx="4800600" cy="6248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60326241000485108"/>
          <p:cNvPicPr/>
          <p:nvPr/>
        </p:nvPicPr>
        <p:blipFill>
          <a:blip r:embed="rId2"/>
          <a:srcRect l="41272" t="54880" r="40713" b="30489"/>
          <a:stretch/>
        </p:blipFill>
        <p:spPr>
          <a:xfrm>
            <a:off x="5410080" y="2590920"/>
            <a:ext cx="3429000" cy="4038480"/>
          </a:xfrm>
          <a:prstGeom prst="rect">
            <a:avLst/>
          </a:prstGeom>
          <a:ln w="0">
            <a:noFill/>
          </a:ln>
        </p:spPr>
      </p:pic>
      <p:sp>
        <p:nvSpPr>
          <p:cNvPr id="185" name="Line 12"/>
          <p:cNvSpPr/>
          <p:nvPr/>
        </p:nvSpPr>
        <p:spPr>
          <a:xfrm flipV="1">
            <a:off x="3200400" y="3962520"/>
            <a:ext cx="25909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409720" y="533160"/>
            <a:ext cx="3429000" cy="1904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России величавой на гербе орёл двуглавый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на запад, на восток он смотреть бы сразу мог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, мудрый он и горд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России дух свободн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енный гимн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72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1 купле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ссия — священная наша держав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 — любимая наша стра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чая воля, великая слава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ё достоянье на все времена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рипе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авься, Отечество наше свободно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72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2 купле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южных морей до полярного кр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инулись наши леса и пол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ты на свете! Одна ты такая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имая Богом родная земля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3 купле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Широкий простор для мечты и для жиз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ядущие нам открывают го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силу даёт наша верность Отчиз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было, так есть и так будет всег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99f8d3c21d037bf1289be47f945292f4.mp3" descr=""/>
          <p:cNvPicPr/>
          <p:nvPr/>
        </p:nvPicPr>
        <p:blipFill>
          <a:blip r:embed="rId1"/>
          <a:stretch/>
        </p:blipFill>
        <p:spPr>
          <a:xfrm>
            <a:off x="822960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223574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сква – столиц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3505320" cy="4343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 - это Красная площ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 - это башни Кр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 – это сердце Росс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ое люб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6"/>
          <p:cNvPicPr/>
          <p:nvPr/>
        </p:nvPicPr>
        <p:blipFill>
          <a:blip r:embed="rId1"/>
          <a:stretch/>
        </p:blipFill>
        <p:spPr>
          <a:xfrm>
            <a:off x="4191120" y="533520"/>
            <a:ext cx="4705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05:21:32Z</dcterms:created>
  <dc:creator>User</dc:creator>
  <dc:description/>
  <dc:language>en-US</dc:language>
  <cp:lastModifiedBy>andreevaea240484@outlook.com</cp:lastModifiedBy>
  <dcterms:modified xsi:type="dcterms:W3CDTF">2022-02-08T13:31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